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11.jpeg" ContentType="image/jpeg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26B5-9FBC-4E06-AECD-7D32D914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B882-FEAF-40D9-B641-2635C92F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3EF2-FBB0-4FEF-A807-D74C9A66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2FA5-0F23-4B42-B2BD-17AFDB0B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5115-390B-47DE-8CCD-18226717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2DEE-6385-4E01-89CD-70096CF3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C552-F401-4681-BF34-20CE05E6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1E16-1DA6-43DD-A125-B7237609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47DC-54DA-49E9-9F25-C790F449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2D0-7263-4D26-9F96-781601CC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6B3E-F646-423B-AE96-7E31A4B3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D1CC-D15E-47FA-960F-73EE9B76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958D-06CC-4DAF-AE2E-24338FBC2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1752480"/>
            <a:ext cx="6410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 нас дома – 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ссии интерес к фехтованию возник в начале 17 века. Считалось, что этот вид спорта воспитывает воинский дух и ловкость. Петр I сделал фехтование непременным занятием для придворных и ввел его в военных и гражданских учебных заведениях. В 1816 году в Петербурге открылась первая фехтовальная школа. Такие школы открывались и в других городах России. Но российские спортсмены начали показывать хорошие результаты только с начала 1960-х гг. Выдающихся результатов добились рапиристы Виктор Жданович и Марк Мид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1430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пи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3505320"/>
            <a:ext cx="838080" cy="8380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971800" y="2133720"/>
            <a:ext cx="272412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1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Фехтова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мпио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мандных соревнованиях олимпийскими чемпионами по фехтованию на саблях становились Григорий Кириенко, Станислав Поздняков и Сергей Шариков (1996 год), чемпионками на шпагах — Татьяна Логунова, Оксана Ермакова, Карина Азнавурян, Анна Сивкова (2004 го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и других титулованных фехтовальщиков: Марк Ракита, Виктор Кровопусков. У женщин высоких результатов добились Галина Горохова и Елена Бе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457200"/>
            <a:ext cx="762120" cy="6858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тоаль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14600" y="2286000"/>
            <a:ext cx="4038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0736"/>
                <a:gd name="adj2" fmla="val 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ехтова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1295280" cy="988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мпионы на сабл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92360" y="1600200"/>
            <a:ext cx="1566720" cy="21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5880" y="1600200"/>
            <a:ext cx="1509840" cy="218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962520" y="3809880"/>
            <a:ext cx="1523880" cy="2133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95280" y="3809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игорий Кири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8862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нислав Поздня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6019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гей  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мпионы на шпаг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1524240" cy="203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86200" y="2286000"/>
            <a:ext cx="1266840" cy="190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91320" y="1295280"/>
            <a:ext cx="153828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581280" y="4724280"/>
            <a:ext cx="2019600" cy="139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47920" y="34290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тьяна Логу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42670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сана Ерма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3352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ина Азнавур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а Сив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угие титулованные фехтовальщ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1509480" cy="2044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819520" y="419112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876920" y="4191120"/>
            <a:ext cx="1373040" cy="182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0020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рк Рак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3581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тор Кровопу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6019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алина Горох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6019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ена Бе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bd985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спор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 истории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пионы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тоальбом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680" y="457200"/>
            <a:ext cx="411480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452520" cy="4381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80880" y="312408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429000"/>
            <a:ext cx="45720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505320"/>
            <a:ext cx="1522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809880"/>
            <a:ext cx="380880" cy="3812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662040" cy="39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04920" y="4419720"/>
            <a:ext cx="533160" cy="407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спо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51" idx="0"/>
            <a:endCxn id="51" idx="0"/>
          </p:cNvCxnSpPr>
          <p:nvPr/>
        </p:nvCxnSpPr>
        <p:spPr>
          <a:xfrm>
            <a:off x="4571640" y="3885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90920" y="4343400"/>
            <a:ext cx="1476360" cy="879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048120" y="2590920"/>
            <a:ext cx="2724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 спор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то не любит фильмы и книги о храбрых и отважных мушкетерах? Все ребята хотят так же ловко владеть шпагой, как знаменитые Атос, Портос, Арамис и Д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ртаньян.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ехтование – это огромный интересный мир. Открывая его, понимаешь, что он тебя полностью поглощает, с ним уже невозможно расстаться - и он остаётся с тобой навсегда.</a:t>
            </a:r>
            <a:br>
              <a:rPr sz="1600"/>
            </a:br>
            <a:br>
              <a:rPr sz="900"/>
            </a:b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 спор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хтование принято считать спортом, искусством, военной наукой, средством воспитания. Как вид спорта, он выделяется среди прочих своей эстетикой, романтизмом и богатством истории, уходящей в далёкие тысячелетия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хтование – это умение наносить уколы, посредством атак и защит в определённые моменты боя, используя свой интеллект. Фехтовальный поединок очень похож на сражение: в нем присутствуют маневрирование, разведка и маскировка, наступление и оборон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56080" y="1600200"/>
            <a:ext cx="262116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ис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15000" y="3733920"/>
            <a:ext cx="909720" cy="8809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63" name=""/>
          <p:cNvSpPr txBox="1"/>
          <p:nvPr/>
        </p:nvSpPr>
        <p:spPr>
          <a:xfrm>
            <a:off x="2971800" y="2514600"/>
            <a:ext cx="297180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глубь истор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кусству наносить удары, самому не получая их, можно научиться, занимаясь спортивным фехтованием. История фехтования уходит вглубь веков, это один из самых древних видов спорта. Упражнения с оружием были распространены в древней Индии, Японии, Китае, Древнем Египте. Фехтование как зрелищное искусство было популярно в Древней Греции и Древнем Риме. В средние века отличное владение мечом и шпагой служило гарантией сохранения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ещё немножко об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ехтование как искусство владения шпагой и рапирой зародилось в Испании в 15 веке. В это время оно существовало в основном в форме дуэлей. К 19 веку фехтование сформировалось как вид спорта. Наиболее активно оно развивалось во Франции, Италии, Австро-Венгрии и Германии. Соревнования по фехтованию в современном понимании впервые были проведены в 1896 году в Будапеште. В этом же году фехтование было включено в программу Олимпийских игр. До середины 20 века лидировали фехтовальщики из Венгрии, Италии и Франции. Среди них легендарный итальянский мастер Недо Нади, многократный олимпийский чемпион, венгерские спортсмены Аладар Геревич, ставший семикратным олимпийским чемпионом, Рудольф Карпати — завоевавший пять золотых олимпийский медалей, Пал Шмитт — дважды становившийся золотым призером Олимпийских игр. Небывалого успеха добился кубинский спортсмен Рамон Фонст, который завоевал 4 золотые медали на двух Олимпиадах (1900, 190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3886200"/>
            <a:ext cx="6094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15000" y="327672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3962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76720" y="1981080"/>
            <a:ext cx="2895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12-20T18:00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