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1.jpeg" ContentType="image/jpeg"/>
  <Override PartName="/ppt/media/image40.png" ContentType="image/png"/>
  <Override PartName="/ppt/media/image45.jpeg" ContentType="image/jpe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2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B761-82FA-488C-A214-3E5645AA82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F0B1-29F2-4027-B014-6328DE2641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87B2-C06D-4CC8-849F-6586FCC079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C962-6580-4083-A189-D17BB4524D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DE85-FD3A-46AE-B656-156A16A399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BE59-7B11-4CE6-87D2-35BA3C0175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507C-2966-4BF8-BB85-EB48569EC1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23C4-3917-41D1-A4FE-4170DA84BF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4BF7-6583-4E14-97BA-3560C41922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AA75-4E9B-4D79-97CC-16BACE808C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2D2B-EC4A-4036-A6CA-4D8AE10694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0FB8-1619-44FA-9187-C89CFEF8E5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1D9F-5B0B-496C-8335-8D7CF8A169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2F1F-6799-44A3-8E43-E1CB4F2C80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AA1C-0F79-4CB4-AADE-114D93A78A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2025-0156-4D78-AF58-471C256E14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8105-3009-4E92-B62D-60107F876D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C611-7DE9-4173-85EF-EA4FF25C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8B1-21E8-4169-929C-9C9D2F3C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AAB-949B-4384-8F9F-C0BF0078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D7C-F6EB-439A-9D1D-262D0FB6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222-1FEF-4C43-92FB-64D828D4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1AE-5927-4AB3-8C47-D3F58CC3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9D59-A733-490D-A980-D828B8B8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953E-EF09-4BAF-A691-E555A75C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3B0-2DD0-4E2C-95A7-6D5350E1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E77-9673-41D3-A119-85F316FB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D8B9-30C7-4AE8-A571-216238B4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BBB-338E-4D7C-A7E2-15326672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6633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A184-E813-413B-BA9A-2C61D0F7E93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8E83-7FA9-4FF0-BA4C-025C782F1B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6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image" Target="../media/image4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5.png"/><Relationship Id="rId10" Type="http://schemas.openxmlformats.org/officeDocument/2006/relationships/image" Target="../media/image13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38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1" name="Полилиния 29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Хорда 32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Хорда 33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Заголовок 54" descr=""/>
          <p:cNvPicPr/>
          <p:nvPr/>
        </p:nvPicPr>
        <p:blipFill>
          <a:blip r:embed="rId2"/>
          <a:stretch/>
        </p:blipFill>
        <p:spPr>
          <a:xfrm>
            <a:off x="353880" y="3524400"/>
            <a:ext cx="8436240" cy="1955520"/>
          </a:xfrm>
          <a:prstGeom prst="rect">
            <a:avLst/>
          </a:prstGeom>
          <a:ln w="0">
            <a:noFill/>
          </a:ln>
        </p:spPr>
      </p:pic>
      <p:pic>
        <p:nvPicPr>
          <p:cNvPr id="56" name="Подзаголовок 55" descr=""/>
          <p:cNvPicPr/>
          <p:nvPr/>
        </p:nvPicPr>
        <p:blipFill>
          <a:blip r:embed="rId3"/>
          <a:stretch/>
        </p:blipFill>
        <p:spPr>
          <a:xfrm>
            <a:off x="1352520" y="5340240"/>
            <a:ext cx="6413400" cy="663840"/>
          </a:xfrm>
          <a:prstGeom prst="rect">
            <a:avLst/>
          </a:prstGeom>
          <a:ln w="0">
            <a:noFill/>
          </a:ln>
        </p:spPr>
      </p:pic>
      <p:pic>
        <p:nvPicPr>
          <p:cNvPr id="57" name="Номер слайда 36" descr=""/>
          <p:cNvPicPr/>
          <p:nvPr/>
        </p:nvPicPr>
        <p:blipFill>
          <a:blip r:embed="rId4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58" name="Группа 47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9" name="Полилиния 48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Группа 31" descr=""/>
            <p:cNvPicPr/>
            <p:nvPr/>
          </p:nvPicPr>
          <p:blipFill>
            <a:blip r:embed="rId5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Хорда 50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Хорда 51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4" name="Полилиния 57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6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7" name="Овал 62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8" name="Овал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1" name="Овал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" name="Хорда 60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Хорда 61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6" name="Полилиния 65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8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9" name="Овал 70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80" name="Овал 7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1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Овал 71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83" name="Овал 7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" name="Хорда 68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Хорда 69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88" name="Полилиния 73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90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91" name="Овал 78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92" name="Овал 7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Овал 79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95" name="Овал 7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" name="Хорда 76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Хорда 77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9" name="Рисунок 44" descr="338.jpg"/>
          <p:cNvPicPr/>
          <p:nvPr/>
        </p:nvPicPr>
        <p:blipFill>
          <a:blip r:embed="rId12"/>
          <a:stretch/>
        </p:blipFill>
        <p:spPr>
          <a:xfrm>
            <a:off x="2071800" y="428760"/>
            <a:ext cx="49608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11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857240" y="5000760"/>
            <a:ext cx="53438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Сороконож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518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519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521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522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523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526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7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8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531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533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534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535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6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538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9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0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543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545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546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547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8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550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1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2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55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9" name="Picture 2" descr="E:\Мои документы\ФОТО\5 марта 2010 г\Весёлые старты\IMGP6172.JPG"/>
          <p:cNvPicPr/>
          <p:nvPr/>
        </p:nvPicPr>
        <p:blipFill>
          <a:blip r:embed="rId10"/>
          <a:stretch/>
        </p:blipFill>
        <p:spPr>
          <a:xfrm>
            <a:off x="2000160" y="1071720"/>
            <a:ext cx="506592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62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ой подушк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569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570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572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573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574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5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577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8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9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582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584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585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586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7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589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0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1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594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596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597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598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9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601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02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3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606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7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0" name="Picture 2" descr="E:\Мои документы\ФОТО\5 марта 2010 г\Весёлые старты\IMGP6180.JPG"/>
          <p:cNvPicPr/>
          <p:nvPr/>
        </p:nvPicPr>
        <p:blipFill>
          <a:blip r:embed="rId10"/>
          <a:stretch/>
        </p:blipFill>
        <p:spPr>
          <a:xfrm>
            <a:off x="2143080" y="116856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613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4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ег с коромысл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620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21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2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24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25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62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9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0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2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633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63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636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637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3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640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41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2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645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64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648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649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652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3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4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6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657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1" name="Picture 2" descr="E:\Мои документы\ФОТО\5 марта 2010 г\Весёлые старты\IMGP6186.JPG"/>
          <p:cNvPicPr/>
          <p:nvPr/>
        </p:nvPicPr>
        <p:blipFill>
          <a:blip r:embed="rId10"/>
          <a:stretch/>
        </p:blipFill>
        <p:spPr>
          <a:xfrm>
            <a:off x="2143080" y="1143000"/>
            <a:ext cx="48499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664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1714680" y="5000760"/>
            <a:ext cx="555768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След в след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0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671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72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74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75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76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77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679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0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1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684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5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686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687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688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9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691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2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3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5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696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698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699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700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1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2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703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4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5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708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2" name="Picture 2" descr="E:\Мои документы\ФОТО\5 марта 2010 г\Весёлые старты\IMGP6191.JPG"/>
          <p:cNvPicPr/>
          <p:nvPr/>
        </p:nvPicPr>
        <p:blipFill>
          <a:blip r:embed="rId10"/>
          <a:stretch/>
        </p:blipFill>
        <p:spPr>
          <a:xfrm>
            <a:off x="2000160" y="1071720"/>
            <a:ext cx="487548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715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6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1499760" y="5000760"/>
            <a:ext cx="57150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ег в мешках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722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723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72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726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727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30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31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2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35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3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38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739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742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3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4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747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74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750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751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754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6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8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759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3" name="Picture 2" descr="E:\Мои документы\ФОТО\5 марта 2010 г\Весёлые старты\IMGP6197.JPG"/>
          <p:cNvPicPr/>
          <p:nvPr/>
        </p:nvPicPr>
        <p:blipFill>
          <a:blip r:embed="rId10"/>
          <a:stretch/>
        </p:blipFill>
        <p:spPr>
          <a:xfrm>
            <a:off x="1890720" y="107172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766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7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еретягивание канат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2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773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774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776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777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778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79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81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82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3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86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88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89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790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1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793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4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5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798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800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801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802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3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805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6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07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9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810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1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4" name="Picture 2" descr="E:\Мои документы\ФОТО\5 марта 2010 г\Весёлые старты\IMGP6205.JPG"/>
          <p:cNvPicPr/>
          <p:nvPr/>
        </p:nvPicPr>
        <p:blipFill>
          <a:blip r:embed="rId10"/>
          <a:stretch/>
        </p:blipFill>
        <p:spPr>
          <a:xfrm>
            <a:off x="2071800" y="1071720"/>
            <a:ext cx="49226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817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1499760" y="5214600"/>
            <a:ext cx="5929560" cy="85716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Награжд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824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825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827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828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829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0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832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3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4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6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837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839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840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841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2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3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844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5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6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8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849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851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852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853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4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856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7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8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0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861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2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5" name="Picture 2" descr="E:\Мои документы\ФОТО\5 марта 2010 г\Весёлые старты\IMGP6215.JPG"/>
          <p:cNvPicPr/>
          <p:nvPr/>
        </p:nvPicPr>
        <p:blipFill>
          <a:blip r:embed="rId10"/>
          <a:stretch/>
        </p:blipFill>
        <p:spPr>
          <a:xfrm>
            <a:off x="357120" y="7142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" descr="E:\Мои документы\ФОТО\5 марта 2010 г\Весёлые старты\IMGP6216.JPG"/>
          <p:cNvPicPr/>
          <p:nvPr/>
        </p:nvPicPr>
        <p:blipFill>
          <a:blip r:embed="rId11"/>
          <a:stretch/>
        </p:blipFill>
        <p:spPr>
          <a:xfrm>
            <a:off x="6215040" y="78588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4" descr="E:\Мои документы\ФОТО\5 марта 2010 г\Весёлые старты\IMGP6217.JPG"/>
          <p:cNvPicPr/>
          <p:nvPr/>
        </p:nvPicPr>
        <p:blipFill>
          <a:blip r:embed="rId12"/>
          <a:stretch/>
        </p:blipFill>
        <p:spPr>
          <a:xfrm>
            <a:off x="3048120" y="27860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Группа 92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02" name="Полилиния 93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Хорда 95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Хорда 96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08" name="Полилиния 49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1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11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12" name="Овал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115" name="Овал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20" name="Полилиния 63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2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23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24" name="Овал 6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Овал 69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127" name="Овал 6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8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32" name="Полилиния 71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3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35" name="Овал 76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36" name="Овал 7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Овал 77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139" name="Овал 7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" name="Хорда 74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Хорда 75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Номер слайда 36" descr=""/>
          <p:cNvPicPr/>
          <p:nvPr/>
        </p:nvPicPr>
        <p:blipFill>
          <a:blip r:embed="rId8"/>
          <a:stretch/>
        </p:blipFill>
        <p:spPr>
          <a:xfrm>
            <a:off x="8424720" y="133200"/>
            <a:ext cx="433440" cy="379440"/>
          </a:xfrm>
          <a:prstGeom prst="rect">
            <a:avLst/>
          </a:prstGeom>
          <a:ln w="0">
            <a:noFill/>
          </a:ln>
        </p:spPr>
      </p:pic>
      <p:grpSp>
        <p:nvGrpSpPr>
          <p:cNvPr id="144" name="Группа 99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45" name="Полилиния 100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Хорда 102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Хорда 103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Прямоугольник 44" descr=""/>
          <p:cNvPicPr/>
          <p:nvPr/>
        </p:nvPicPr>
        <p:blipFill>
          <a:blip r:embed="rId10"/>
          <a:stretch/>
        </p:blipFill>
        <p:spPr>
          <a:xfrm>
            <a:off x="384120" y="438120"/>
            <a:ext cx="8363160" cy="11890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1" descr="IMGP6118.JPG"/>
          <p:cNvPicPr/>
          <p:nvPr/>
        </p:nvPicPr>
        <p:blipFill>
          <a:blip r:embed="rId11"/>
          <a:stretch/>
        </p:blipFill>
        <p:spPr>
          <a:xfrm>
            <a:off x="1857240" y="1714680"/>
            <a:ext cx="542952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53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28840" y="4571640"/>
            <a:ext cx="5843520" cy="130500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Весёлые стар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4 классы – 5 март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160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61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6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64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65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16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0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73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7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76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77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180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1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2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85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8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88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89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192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3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4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97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Рисунок 48" descr="IMGP6119.JPG"/>
          <p:cNvPicPr/>
          <p:nvPr/>
        </p:nvPicPr>
        <p:blipFill>
          <a:blip r:embed="rId10"/>
          <a:stretch/>
        </p:blipFill>
        <p:spPr>
          <a:xfrm>
            <a:off x="2143080" y="928800"/>
            <a:ext cx="46436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204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лоса препятстви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211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212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214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215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216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7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219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0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1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224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226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227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228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9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231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2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3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236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238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239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240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1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243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4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248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icture 2" descr="E:\Мои документы\ФОТО\5 марта 2010 г\Весёлые старты\IMGP6126.JPG"/>
          <p:cNvPicPr/>
          <p:nvPr/>
        </p:nvPicPr>
        <p:blipFill>
          <a:blip r:embed="rId10"/>
          <a:stretch/>
        </p:blipFill>
        <p:spPr>
          <a:xfrm>
            <a:off x="2000160" y="1000080"/>
            <a:ext cx="5048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255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285560" y="5000760"/>
            <a:ext cx="59864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грузка арбузов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262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263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26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266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267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270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1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2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275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27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278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279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282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3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4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287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28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290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291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294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5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6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299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3" name="Picture 2" descr="E:\Мои документы\ФОТО\5 марта 2010 г\Весёлые старты\IMGP6133.JPG"/>
          <p:cNvPicPr/>
          <p:nvPr/>
        </p:nvPicPr>
        <p:blipFill>
          <a:blip r:embed="rId10"/>
          <a:stretch/>
        </p:blipFill>
        <p:spPr>
          <a:xfrm>
            <a:off x="642960" y="15001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E:\Мои документы\ФОТО\5 марта 2010 г\Весёлые старты\IMGP6136.JPG"/>
          <p:cNvPicPr/>
          <p:nvPr/>
        </p:nvPicPr>
        <p:blipFill>
          <a:blip r:embed="rId11"/>
          <a:stretch/>
        </p:blipFill>
        <p:spPr>
          <a:xfrm>
            <a:off x="4786200" y="150012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307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285560" y="5000760"/>
            <a:ext cx="59864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садка картош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314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315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317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318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319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0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322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3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4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327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329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330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331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2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334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5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6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339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341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342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343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4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346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7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8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351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Picture 2" descr="E:\Мои документы\ФОТО\5 марта 2010 г\Весёлые старты\IMGP6139.JPG"/>
          <p:cNvPicPr/>
          <p:nvPr/>
        </p:nvPicPr>
        <p:blipFill>
          <a:blip r:embed="rId10"/>
          <a:stretch/>
        </p:blipFill>
        <p:spPr>
          <a:xfrm>
            <a:off x="1785960" y="1000080"/>
            <a:ext cx="506556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358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Нарисуй солнышко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365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366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368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369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370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1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373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4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5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378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380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381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382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3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385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6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7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390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392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393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394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5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397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8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9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402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" descr="E:\Мои документы\ФОТО\5 марта 2010 г\Весёлые старты\IMGP6150.JPG"/>
          <p:cNvPicPr/>
          <p:nvPr/>
        </p:nvPicPr>
        <p:blipFill>
          <a:blip r:embed="rId10"/>
          <a:stretch/>
        </p:blipFill>
        <p:spPr>
          <a:xfrm>
            <a:off x="2000160" y="1025640"/>
            <a:ext cx="4929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409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0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642680" y="5000760"/>
            <a:ext cx="562932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ймай рыбку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416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417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419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420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421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2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424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5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6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429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431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432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433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4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436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7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8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441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443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444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445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6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448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9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0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453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Picture 2" descr="E:\Мои документы\ФОТО\5 марта 2010 г\Весёлые старты\IMGP6154.JPG"/>
          <p:cNvPicPr/>
          <p:nvPr/>
        </p:nvPicPr>
        <p:blipFill>
          <a:blip r:embed="rId10"/>
          <a:stretch/>
        </p:blipFill>
        <p:spPr>
          <a:xfrm>
            <a:off x="1857240" y="1000080"/>
            <a:ext cx="506592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460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1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ередача мяче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467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468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47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471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472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475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6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7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480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48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483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484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487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8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9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492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49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495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496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499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0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04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Picture 2" descr="E:\Мои документы\ФОТО\5 марта 2010 г\Весёлые старты\IMGP6161.JPG"/>
          <p:cNvPicPr/>
          <p:nvPr/>
        </p:nvPicPr>
        <p:blipFill>
          <a:blip r:embed="rId10"/>
          <a:stretch/>
        </p:blipFill>
        <p:spPr>
          <a:xfrm>
            <a:off x="1857240" y="928800"/>
            <a:ext cx="520884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3:52:39Z</dcterms:created>
  <dc:creator>Ирина Петровна</dc:creator>
  <dc:description/>
  <dc:language>en-US</dc:language>
  <cp:lastModifiedBy>Ирина Петровна</cp:lastModifiedBy>
  <dcterms:modified xsi:type="dcterms:W3CDTF">2010-03-08T06:01:49Z</dcterms:modified>
  <cp:revision>9</cp:revision>
  <dc:subject/>
  <dc:title>METAL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3361049</vt:lpwstr>
  </property>
</Properties>
</file>