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1.jpeg" ContentType="image/jpeg"/>
  <Override PartName="/ppt/media/image40.png" ContentType="image/png"/>
  <Override PartName="/ppt/media/image45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3344-4B68-4A11-A376-F31B3315F0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4646-1090-48C8-AE9A-6F8BE0B64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C3A-1F5C-4164-A9FF-3D4D5CA743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41B3-1E53-4C79-80F2-E76A306784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CF0D-D9B7-402E-9998-8F08688F36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68FC-2F00-413D-9E50-2E93597AE0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F470-B6F1-4E7B-933B-4E1E984FF7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F2FA-A6CB-477D-81A1-AFB553EFCB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A510-5048-4AB4-8104-F9B9CBF8A2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9E97-C66F-4E62-9D6C-BAEA90B8B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F4F8-2633-4115-A88A-968539A184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15CB-F9C0-49E7-9721-1F5CAF6DFA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8E76-0B77-46BF-9825-7B74C94B6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92AE-B8BD-4668-BDEF-3D41BEA61D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B3B2-A698-4F37-A3BE-356184E746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E692-2B04-4BCB-A196-274628808B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85B-AFD4-4611-8600-03F0008FD5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73C-A4E4-444C-AB04-3A9BB1A7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96B-1ACC-4826-A207-6A435BB0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B6E-2521-4E46-845D-CB3E76FB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818-4344-4393-B6A2-C2EF2067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7A5-0D1C-4F3E-8BD1-330B638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BFD-735A-4DE3-96EE-D08ACC65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579-CF69-4292-B109-3F54A089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5B8-EA3B-43A5-B7B1-3CACECB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B8B-E070-4286-BE32-F1C6F7B5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0DF-62EB-4A25-99CF-2CEC1F7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242-CD26-4868-9609-2C9B9078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82F-1AF4-4138-A264-98E2EAE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6633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4D79-6711-42B1-8521-E427CC78F8C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3F02-A592-4F03-B01B-E5C120F01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Хорда 32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Хорда 33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головок 54" descr=""/>
          <p:cNvPicPr/>
          <p:nvPr/>
        </p:nvPicPr>
        <p:blipFill>
          <a:blip r:embed="rId2"/>
          <a:stretch/>
        </p:blipFill>
        <p:spPr>
          <a:xfrm>
            <a:off x="353880" y="3524400"/>
            <a:ext cx="843624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Подзаголовок 55" descr=""/>
          <p:cNvPicPr/>
          <p:nvPr/>
        </p:nvPicPr>
        <p:blipFill>
          <a:blip r:embed="rId3"/>
          <a:stretch/>
        </p:blipFill>
        <p:spPr>
          <a:xfrm>
            <a:off x="1352520" y="5340240"/>
            <a:ext cx="6413400" cy="663840"/>
          </a:xfrm>
          <a:prstGeom prst="rect">
            <a:avLst/>
          </a:prstGeom>
          <a:ln w="0">
            <a:noFill/>
          </a:ln>
        </p:spPr>
      </p:pic>
      <p:pic>
        <p:nvPicPr>
          <p:cNvPr id="57" name="Номер слайда 36" descr=""/>
          <p:cNvPicPr/>
          <p:nvPr/>
        </p:nvPicPr>
        <p:blipFill>
          <a:blip r:embed="rId4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9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" name="Полилиния 57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" name="Овал 62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8" name="Овал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1" name="Овал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" name="Хорда 60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Хорда 61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" name="Полилиния 65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9" name="Овал 70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0" name="Овал 7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Овал 71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3" name="Овал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Хорда 68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Хорда 69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8" name="Полилиния 73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1" name="Овал 78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2" name="Овал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Овал 79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95" name="Овал 7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Хорда 76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Хорда 77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Рисунок 44" descr="338.jpg"/>
          <p:cNvPicPr/>
          <p:nvPr/>
        </p:nvPicPr>
        <p:blipFill>
          <a:blip r:embed="rId12"/>
          <a:stretch/>
        </p:blipFill>
        <p:spPr>
          <a:xfrm>
            <a:off x="2071800" y="428760"/>
            <a:ext cx="4960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1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857240" y="5000760"/>
            <a:ext cx="53438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ороконож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18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19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22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23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2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7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31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3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34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35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38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43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4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46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47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550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55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" descr="E:\Мои документы\ФОТО\5 марта 2010 г\Весёлые старты\IMGP6172.JPG"/>
          <p:cNvPicPr/>
          <p:nvPr/>
        </p:nvPicPr>
        <p:blipFill>
          <a:blip r:embed="rId10"/>
          <a:stretch/>
        </p:blipFill>
        <p:spPr>
          <a:xfrm>
            <a:off x="2000160" y="1071720"/>
            <a:ext cx="5065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62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ой подуш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6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70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7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73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74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77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8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82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8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85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86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89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0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1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94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9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97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98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01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06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2" descr="E:\Мои документы\ФОТО\5 марта 2010 г\Весёлые старты\IMGP6180.JPG"/>
          <p:cNvPicPr/>
          <p:nvPr/>
        </p:nvPicPr>
        <p:blipFill>
          <a:blip r:embed="rId10"/>
          <a:stretch/>
        </p:blipFill>
        <p:spPr>
          <a:xfrm>
            <a:off x="2143080" y="116856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1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с коромысл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2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2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2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2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2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2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3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3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3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3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4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4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4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4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4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5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5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Picture 2" descr="E:\Мои документы\ФОТО\5 марта 2010 г\Весёлые старты\IMGP6186.JPG"/>
          <p:cNvPicPr/>
          <p:nvPr/>
        </p:nvPicPr>
        <p:blipFill>
          <a:blip r:embed="rId10"/>
          <a:stretch/>
        </p:blipFill>
        <p:spPr>
          <a:xfrm>
            <a:off x="2143080" y="1143000"/>
            <a:ext cx="4849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6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714680" y="5000760"/>
            <a:ext cx="555768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лед в сле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7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7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7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7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7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8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8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8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8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9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9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9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9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0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0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0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Picture 2" descr="E:\Мои документы\ФОТО\5 марта 2010 г\Весёлые старты\IMGP6191.JPG"/>
          <p:cNvPicPr/>
          <p:nvPr/>
        </p:nvPicPr>
        <p:blipFill>
          <a:blip r:embed="rId10"/>
          <a:stretch/>
        </p:blipFill>
        <p:spPr>
          <a:xfrm>
            <a:off x="2000160" y="1071720"/>
            <a:ext cx="4875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1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1499760" y="5000760"/>
            <a:ext cx="57150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в меш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2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2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2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2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3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3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3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3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3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4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4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4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5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5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5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5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Picture 2" descr="E:\Мои документы\ФОТО\5 марта 2010 г\Весёлые старты\IMGP6197.JPG"/>
          <p:cNvPicPr/>
          <p:nvPr/>
        </p:nvPicPr>
        <p:blipFill>
          <a:blip r:embed="rId10"/>
          <a:stretch/>
        </p:blipFill>
        <p:spPr>
          <a:xfrm>
            <a:off x="1890720" y="10717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66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тягивание кана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7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74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7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77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78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8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86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89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90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93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98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0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01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02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05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7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10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2" descr="E:\Мои документы\ФОТО\5 марта 2010 г\Весёлые старты\IMGP6205.JPG"/>
          <p:cNvPicPr/>
          <p:nvPr/>
        </p:nvPicPr>
        <p:blipFill>
          <a:blip r:embed="rId10"/>
          <a:stretch/>
        </p:blipFill>
        <p:spPr>
          <a:xfrm>
            <a:off x="2071800" y="1071720"/>
            <a:ext cx="4922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1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499760" y="5214600"/>
            <a:ext cx="5929560" cy="857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граж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82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2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2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2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2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83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3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3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4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4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4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4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5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5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5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5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6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" descr="E:\Мои документы\ФОТО\5 марта 2010 г\Весёлые старты\IMGP6215.JPG"/>
          <p:cNvPicPr/>
          <p:nvPr/>
        </p:nvPicPr>
        <p:blipFill>
          <a:blip r:embed="rId10"/>
          <a:stretch/>
        </p:blipFill>
        <p:spPr>
          <a:xfrm>
            <a:off x="357120" y="714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E:\Мои документы\ФОТО\5 марта 2010 г\Весёлые старты\IMGP6216.JPG"/>
          <p:cNvPicPr/>
          <p:nvPr/>
        </p:nvPicPr>
        <p:blipFill>
          <a:blip r:embed="rId11"/>
          <a:stretch/>
        </p:blipFill>
        <p:spPr>
          <a:xfrm>
            <a:off x="6215040" y="78588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E:\Мои документы\ФОТО\5 марта 2010 г\Весёлые старты\IMGP6217.JPG"/>
          <p:cNvPicPr/>
          <p:nvPr/>
        </p:nvPicPr>
        <p:blipFill>
          <a:blip r:embed="rId12"/>
          <a:stretch/>
        </p:blipFill>
        <p:spPr>
          <a:xfrm>
            <a:off x="3048120" y="2786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92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2" name="Полилиния 93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Хорда 95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Хорда 96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1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76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77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39" name="Овал 7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74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75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Номер слайда 36" descr=""/>
          <p:cNvPicPr/>
          <p:nvPr/>
        </p:nvPicPr>
        <p:blipFill>
          <a:blip r:embed="rId8"/>
          <a:stretch/>
        </p:blipFill>
        <p:spPr>
          <a:xfrm>
            <a:off x="8424720" y="133200"/>
            <a:ext cx="4334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99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5" name="Полилиния 100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Хорда 102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Хорда 103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384120" y="438120"/>
            <a:ext cx="836316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1" descr="IMGP6118.JPG"/>
          <p:cNvPicPr/>
          <p:nvPr/>
        </p:nvPicPr>
        <p:blipFill>
          <a:blip r:embed="rId11"/>
          <a:stretch/>
        </p:blipFill>
        <p:spPr>
          <a:xfrm>
            <a:off x="1857240" y="1714680"/>
            <a:ext cx="54295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4571640"/>
            <a:ext cx="5843520" cy="1305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Весёлые стар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4 классы – 5 ма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6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8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9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48" descr="IMGP6119.JPG"/>
          <p:cNvPicPr/>
          <p:nvPr/>
        </p:nvPicPr>
        <p:blipFill>
          <a:blip r:embed="rId10"/>
          <a:stretch/>
        </p:blipFill>
        <p:spPr>
          <a:xfrm>
            <a:off x="2143080" y="9288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лоса препятств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1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3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4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4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E:\Мои документы\ФОТО\5 марта 2010 г\Весёлые старты\IMGP6126.JPG"/>
          <p:cNvPicPr/>
          <p:nvPr/>
        </p:nvPicPr>
        <p:blipFill>
          <a:blip r:embed="rId10"/>
          <a:stretch/>
        </p:blipFill>
        <p:spPr>
          <a:xfrm>
            <a:off x="2000160" y="10000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5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грузка арбуз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6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6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6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6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7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7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7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8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8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9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9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9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9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E:\Мои документы\ФОТО\5 марта 2010 г\Весёлые старты\IMGP6133.JPG"/>
          <p:cNvPicPr/>
          <p:nvPr/>
        </p:nvPicPr>
        <p:blipFill>
          <a:blip r:embed="rId10"/>
          <a:stretch/>
        </p:blipFill>
        <p:spPr>
          <a:xfrm>
            <a:off x="642960" y="1500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E:\Мои документы\ФОТО\5 марта 2010 г\Весёлые старты\IMGP6136.JPG"/>
          <p:cNvPicPr/>
          <p:nvPr/>
        </p:nvPicPr>
        <p:blipFill>
          <a:blip r:embed="rId11"/>
          <a:stretch/>
        </p:blipFill>
        <p:spPr>
          <a:xfrm>
            <a:off x="4786200" y="1500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0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1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1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1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1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1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2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2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2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3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3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3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3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4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4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4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4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5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E:\Мои документы\ФОТО\5 марта 2010 г\Весёлые старты\IMGP6139.JPG"/>
          <p:cNvPicPr/>
          <p:nvPr/>
        </p:nvPicPr>
        <p:blipFill>
          <a:blip r:embed="rId10"/>
          <a:stretch/>
        </p:blipFill>
        <p:spPr>
          <a:xfrm>
            <a:off x="1785960" y="1000080"/>
            <a:ext cx="50655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58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Нарисуй солнышк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66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6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69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70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7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78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8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81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82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85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90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9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93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94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97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8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9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02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" descr="E:\Мои документы\ФОТО\5 марта 2010 г\Весёлые старты\IMGP6150.JPG"/>
          <p:cNvPicPr/>
          <p:nvPr/>
        </p:nvPicPr>
        <p:blipFill>
          <a:blip r:embed="rId10"/>
          <a:stretch/>
        </p:blipFill>
        <p:spPr>
          <a:xfrm>
            <a:off x="2000160" y="1025640"/>
            <a:ext cx="492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09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642680" y="5000760"/>
            <a:ext cx="562932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ймай рыб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17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1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20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21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2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29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3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32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33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36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41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4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44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45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48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53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" descr="E:\Мои документы\ФОТО\5 марта 2010 г\Весёлые старты\IMGP6154.JPG"/>
          <p:cNvPicPr/>
          <p:nvPr/>
        </p:nvPicPr>
        <p:blipFill>
          <a:blip r:embed="rId10"/>
          <a:stretch/>
        </p:blipFill>
        <p:spPr>
          <a:xfrm>
            <a:off x="1857240" y="1000080"/>
            <a:ext cx="50659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60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дача мяч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68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7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71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72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7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80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8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83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84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87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92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9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95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96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99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04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" descr="E:\Мои документы\ФОТО\5 марта 2010 г\Весёлые старты\IMGP6161.JPG"/>
          <p:cNvPicPr/>
          <p:nvPr/>
        </p:nvPicPr>
        <p:blipFill>
          <a:blip r:embed="rId10"/>
          <a:stretch/>
        </p:blipFill>
        <p:spPr>
          <a:xfrm>
            <a:off x="1857240" y="9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2:39Z</dcterms:created>
  <dc:creator>Ирина Петровна</dc:creator>
  <dc:description/>
  <dc:language>en-US</dc:language>
  <cp:lastModifiedBy>Ирина Петровна</cp:lastModifiedBy>
  <dcterms:modified xsi:type="dcterms:W3CDTF">2010-03-08T06:01:49Z</dcterms:modified>
  <cp:revision>9</cp:revision>
  <dc:subject/>
  <dc:title>ME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361049</vt:lpwstr>
  </property>
</Properties>
</file>