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1.jpeg" ContentType="image/jpeg"/>
  <Override PartName="/ppt/media/image40.png" ContentType="image/png"/>
  <Override PartName="/ppt/media/image45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87C5-D831-4ADB-8C96-1A28877204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17A9-6B7C-44F5-99C4-C7C912D8E0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B417-FF95-42CF-8AA5-7480758823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E605-D03C-4816-8AE5-2B6F61273A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6BF4-BE3A-4002-AF67-9C1619C4C4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8065-0075-4397-9D24-1D667B68C2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0602-5D94-4115-A569-D860BDF26E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B1F5-4FE1-4CB3-89BF-F51ED1863F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EFA1-B5F3-403E-9017-BF2AA9C144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F739-622E-4F8B-B035-1C7BF9873E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EC77-C01A-40A1-B172-EA834A9390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C198-BD80-490C-B194-52E8721826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BD9F-4DBB-48A2-95C4-15E1412C67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2DDC-6795-4996-9D5E-B373CBCBF2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CABB-AB1B-441C-9D09-AE08922CB2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43DB-1AB7-4B2A-9A8D-C926DD4077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2062-48D6-4472-9C2A-78A941B093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27F-36AE-43F6-9EB6-8F9E198F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137-3DA1-4592-98B9-9451EE75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CDF-032F-48F6-8DBF-A0040FC5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ABA-46CE-422C-98AE-4C6C8647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5B6-A05C-4C03-80E9-66BF6946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88E-D23F-4F9A-9088-F8B83CF3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8A1-AC55-4952-860C-D3B5B024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834-B92A-412F-93B8-19DC8DD6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F01-8F82-414A-AA88-79C72A1D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538-BDE6-4FC5-A9EF-EDA4AC18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3E0-7F96-44CC-BEDD-4F17B3BC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F8A-1F2D-4C67-AB43-E6330EF7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6633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0BD1-3CEC-4A74-B916-A9F64FAA8C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CB10-A0F9-42E7-BA61-7EDE24ADF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5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38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" name="Полилиния 29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Хорда 32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Хорда 33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Заголовок 54" descr=""/>
          <p:cNvPicPr/>
          <p:nvPr/>
        </p:nvPicPr>
        <p:blipFill>
          <a:blip r:embed="rId2"/>
          <a:stretch/>
        </p:blipFill>
        <p:spPr>
          <a:xfrm>
            <a:off x="353880" y="3524400"/>
            <a:ext cx="8436240" cy="1955520"/>
          </a:xfrm>
          <a:prstGeom prst="rect">
            <a:avLst/>
          </a:prstGeom>
          <a:ln w="0">
            <a:noFill/>
          </a:ln>
        </p:spPr>
      </p:pic>
      <p:pic>
        <p:nvPicPr>
          <p:cNvPr id="56" name="Подзаголовок 55" descr=""/>
          <p:cNvPicPr/>
          <p:nvPr/>
        </p:nvPicPr>
        <p:blipFill>
          <a:blip r:embed="rId3"/>
          <a:stretch/>
        </p:blipFill>
        <p:spPr>
          <a:xfrm>
            <a:off x="1352520" y="5340240"/>
            <a:ext cx="6413400" cy="663840"/>
          </a:xfrm>
          <a:prstGeom prst="rect">
            <a:avLst/>
          </a:prstGeom>
          <a:ln w="0">
            <a:noFill/>
          </a:ln>
        </p:spPr>
      </p:pic>
      <p:pic>
        <p:nvPicPr>
          <p:cNvPr id="57" name="Номер слайда 36" descr=""/>
          <p:cNvPicPr/>
          <p:nvPr/>
        </p:nvPicPr>
        <p:blipFill>
          <a:blip r:embed="rId4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47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9" name="Полилиния 48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Группа 31" descr=""/>
            <p:cNvPicPr/>
            <p:nvPr/>
          </p:nvPicPr>
          <p:blipFill>
            <a:blip r:embed="rId5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Хорда 50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Хорда 51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4" name="Полилиния 57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" name="Овал 62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8" name="Овал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1" name="Овал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" name="Хорда 60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Хорда 61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6" name="Полилиния 65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9" name="Овал 70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0" name="Овал 7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Овал 71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3" name="Овал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Хорда 68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Хорда 69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8" name="Полилиния 73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9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91" name="Овал 78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92" name="Овал 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Овал 79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95" name="Овал 7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" name="Хорда 76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Хорда 77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Рисунок 44" descr="338.jpg"/>
          <p:cNvPicPr/>
          <p:nvPr/>
        </p:nvPicPr>
        <p:blipFill>
          <a:blip r:embed="rId12"/>
          <a:stretch/>
        </p:blipFill>
        <p:spPr>
          <a:xfrm>
            <a:off x="2071800" y="428760"/>
            <a:ext cx="4960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1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857240" y="5000760"/>
            <a:ext cx="53438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ороконож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18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19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2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22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23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2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7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31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3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34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35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38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9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43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4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46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47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550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55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2" descr="E:\Мои документы\ФОТО\5 марта 2010 г\Весёлые старты\IMGP6172.JPG"/>
          <p:cNvPicPr/>
          <p:nvPr/>
        </p:nvPicPr>
        <p:blipFill>
          <a:blip r:embed="rId10"/>
          <a:stretch/>
        </p:blipFill>
        <p:spPr>
          <a:xfrm>
            <a:off x="2000160" y="1071720"/>
            <a:ext cx="50659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62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ой подуш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69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70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72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73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74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5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77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8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82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84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85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86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7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89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0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1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94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96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97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98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9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01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2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3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06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2" descr="E:\Мои документы\ФОТО\5 марта 2010 г\Весёлые старты\IMGP6180.JPG"/>
          <p:cNvPicPr/>
          <p:nvPr/>
        </p:nvPicPr>
        <p:blipFill>
          <a:blip r:embed="rId10"/>
          <a:stretch/>
        </p:blipFill>
        <p:spPr>
          <a:xfrm>
            <a:off x="2143080" y="116856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1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с коромысл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2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2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2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2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2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2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3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3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3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3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4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4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4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4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64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5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5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Picture 2" descr="E:\Мои документы\ФОТО\5 марта 2010 г\Весёлые старты\IMGP6186.JPG"/>
          <p:cNvPicPr/>
          <p:nvPr/>
        </p:nvPicPr>
        <p:blipFill>
          <a:blip r:embed="rId10"/>
          <a:stretch/>
        </p:blipFill>
        <p:spPr>
          <a:xfrm>
            <a:off x="2143080" y="1143000"/>
            <a:ext cx="48499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6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1714680" y="5000760"/>
            <a:ext cx="555768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лед в след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7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7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7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7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7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8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8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8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8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9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9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9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9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0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0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0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2" name="Picture 2" descr="E:\Мои документы\ФОТО\5 марта 2010 г\Весёлые старты\IMGP6191.JPG"/>
          <p:cNvPicPr/>
          <p:nvPr/>
        </p:nvPicPr>
        <p:blipFill>
          <a:blip r:embed="rId10"/>
          <a:stretch/>
        </p:blipFill>
        <p:spPr>
          <a:xfrm>
            <a:off x="2000160" y="1071720"/>
            <a:ext cx="487548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1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1499760" y="5000760"/>
            <a:ext cx="57150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в мешка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2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2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2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2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2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3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3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3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3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3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3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4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4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74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75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5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5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5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3" name="Picture 2" descr="E:\Мои документы\ФОТО\5 марта 2010 г\Весёлые старты\IMGP6197.JPG"/>
          <p:cNvPicPr/>
          <p:nvPr/>
        </p:nvPicPr>
        <p:blipFill>
          <a:blip r:embed="rId10"/>
          <a:stretch/>
        </p:blipFill>
        <p:spPr>
          <a:xfrm>
            <a:off x="1890720" y="10717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66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тягивание кана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7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74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7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77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78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81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3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86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89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90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93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5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98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0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01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02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05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7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10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4" name="Picture 2" descr="E:\Мои документы\ФОТО\5 марта 2010 г\Весёлые старты\IMGP6205.JPG"/>
          <p:cNvPicPr/>
          <p:nvPr/>
        </p:nvPicPr>
        <p:blipFill>
          <a:blip r:embed="rId10"/>
          <a:stretch/>
        </p:blipFill>
        <p:spPr>
          <a:xfrm>
            <a:off x="2071800" y="1071720"/>
            <a:ext cx="4922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81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499760" y="5214600"/>
            <a:ext cx="5929560" cy="857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Награжд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82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82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82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82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82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83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83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83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84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4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4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4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5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5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5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5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6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Picture 2" descr="E:\Мои документы\ФОТО\5 марта 2010 г\Весёлые старты\IMGP6215.JPG"/>
          <p:cNvPicPr/>
          <p:nvPr/>
        </p:nvPicPr>
        <p:blipFill>
          <a:blip r:embed="rId10"/>
          <a:stretch/>
        </p:blipFill>
        <p:spPr>
          <a:xfrm>
            <a:off x="357120" y="714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E:\Мои документы\ФОТО\5 марта 2010 г\Весёлые старты\IMGP6216.JPG"/>
          <p:cNvPicPr/>
          <p:nvPr/>
        </p:nvPicPr>
        <p:blipFill>
          <a:blip r:embed="rId11"/>
          <a:stretch/>
        </p:blipFill>
        <p:spPr>
          <a:xfrm>
            <a:off x="6215040" y="78588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E:\Мои документы\ФОТО\5 марта 2010 г\Весёлые старты\IMGP6217.JPG"/>
          <p:cNvPicPr/>
          <p:nvPr/>
        </p:nvPicPr>
        <p:blipFill>
          <a:blip r:embed="rId12"/>
          <a:stretch/>
        </p:blipFill>
        <p:spPr>
          <a:xfrm>
            <a:off x="3048120" y="2786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Группа 92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02" name="Полилиния 93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Хорда 95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Хорда 96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08" name="Полилиния 49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1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1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12" name="Овал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15" name="Овал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20" name="Полилиния 63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2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2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24" name="Ова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Овал 69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27" name="Овал 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32" name="Полилиния 71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3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35" name="Овал 76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36" name="Овал 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Овал 77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39" name="Овал 7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Хорда 74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Хорда 75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Номер слайда 36" descr=""/>
          <p:cNvPicPr/>
          <p:nvPr/>
        </p:nvPicPr>
        <p:blipFill>
          <a:blip r:embed="rId8"/>
          <a:stretch/>
        </p:blipFill>
        <p:spPr>
          <a:xfrm>
            <a:off x="8424720" y="133200"/>
            <a:ext cx="4334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99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45" name="Полилиния 100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Хорда 102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Хорда 103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Прямоугольник 44" descr=""/>
          <p:cNvPicPr/>
          <p:nvPr/>
        </p:nvPicPr>
        <p:blipFill>
          <a:blip r:embed="rId10"/>
          <a:stretch/>
        </p:blipFill>
        <p:spPr>
          <a:xfrm>
            <a:off x="384120" y="438120"/>
            <a:ext cx="8363160" cy="11890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1" descr="IMGP6118.JPG"/>
          <p:cNvPicPr/>
          <p:nvPr/>
        </p:nvPicPr>
        <p:blipFill>
          <a:blip r:embed="rId11"/>
          <a:stretch/>
        </p:blipFill>
        <p:spPr>
          <a:xfrm>
            <a:off x="1857240" y="1714680"/>
            <a:ext cx="542952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5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8840" y="4571640"/>
            <a:ext cx="5843520" cy="1305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Весёлые стар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4 классы – 5 мар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6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6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6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6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6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6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7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7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7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7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8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8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8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8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8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9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9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Рисунок 48" descr="IMGP6119.JPG"/>
          <p:cNvPicPr/>
          <p:nvPr/>
        </p:nvPicPr>
        <p:blipFill>
          <a:blip r:embed="rId10"/>
          <a:stretch/>
        </p:blipFill>
        <p:spPr>
          <a:xfrm>
            <a:off x="2143080" y="92880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0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лоса препятстви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1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1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1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1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1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2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2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2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2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3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3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3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3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4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4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4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E:\Мои документы\ФОТО\5 марта 2010 г\Весёлые старты\IMGP6126.JPG"/>
          <p:cNvPicPr/>
          <p:nvPr/>
        </p:nvPicPr>
        <p:blipFill>
          <a:blip r:embed="rId10"/>
          <a:stretch/>
        </p:blipFill>
        <p:spPr>
          <a:xfrm>
            <a:off x="2000160" y="100008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5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грузка арбуз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6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6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6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6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6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7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7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7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7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7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8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8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8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9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9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9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9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Picture 2" descr="E:\Мои документы\ФОТО\5 марта 2010 г\Весёлые старты\IMGP6133.JPG"/>
          <p:cNvPicPr/>
          <p:nvPr/>
        </p:nvPicPr>
        <p:blipFill>
          <a:blip r:embed="rId10"/>
          <a:stretch/>
        </p:blipFill>
        <p:spPr>
          <a:xfrm>
            <a:off x="642960" y="1500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E:\Мои документы\ФОТО\5 марта 2010 г\Весёлые старты\IMGP6136.JPG"/>
          <p:cNvPicPr/>
          <p:nvPr/>
        </p:nvPicPr>
        <p:blipFill>
          <a:blip r:embed="rId11"/>
          <a:stretch/>
        </p:blipFill>
        <p:spPr>
          <a:xfrm>
            <a:off x="4786200" y="1500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0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1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1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1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1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1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2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2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2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3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3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3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3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4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4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4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4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35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2" descr="E:\Мои документы\ФОТО\5 марта 2010 г\Весёлые старты\IMGP6139.JPG"/>
          <p:cNvPicPr/>
          <p:nvPr/>
        </p:nvPicPr>
        <p:blipFill>
          <a:blip r:embed="rId10"/>
          <a:stretch/>
        </p:blipFill>
        <p:spPr>
          <a:xfrm>
            <a:off x="1785960" y="1000080"/>
            <a:ext cx="50655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58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Нарисуй солнышк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65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66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6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69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70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7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5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78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8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81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82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85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7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90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9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93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94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97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8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9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02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" descr="E:\Мои документы\ФОТО\5 марта 2010 г\Весёлые старты\IMGP6150.JPG"/>
          <p:cNvPicPr/>
          <p:nvPr/>
        </p:nvPicPr>
        <p:blipFill>
          <a:blip r:embed="rId10"/>
          <a:stretch/>
        </p:blipFill>
        <p:spPr>
          <a:xfrm>
            <a:off x="2000160" y="1025640"/>
            <a:ext cx="4929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09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642680" y="5000760"/>
            <a:ext cx="562932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ймай рыб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16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17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19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20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21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2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24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5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29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31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32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33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4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36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7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41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43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44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45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6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48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9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53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Picture 2" descr="E:\Мои документы\ФОТО\5 марта 2010 г\Весёлые старты\IMGP6154.JPG"/>
          <p:cNvPicPr/>
          <p:nvPr/>
        </p:nvPicPr>
        <p:blipFill>
          <a:blip r:embed="rId10"/>
          <a:stretch/>
        </p:blipFill>
        <p:spPr>
          <a:xfrm>
            <a:off x="1857240" y="1000080"/>
            <a:ext cx="50659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60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дача мяче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6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68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7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71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72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7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7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80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8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83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84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87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92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9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95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96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99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04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2" descr="E:\Мои документы\ФОТО\5 марта 2010 г\Весёлые старты\IMGP6161.JPG"/>
          <p:cNvPicPr/>
          <p:nvPr/>
        </p:nvPicPr>
        <p:blipFill>
          <a:blip r:embed="rId10"/>
          <a:stretch/>
        </p:blipFill>
        <p:spPr>
          <a:xfrm>
            <a:off x="1857240" y="928800"/>
            <a:ext cx="52088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2:39Z</dcterms:created>
  <dc:creator>Ирина Петровна</dc:creator>
  <dc:description/>
  <dc:language>en-US</dc:language>
  <cp:lastModifiedBy>Ирина Петровна</cp:lastModifiedBy>
  <dcterms:modified xsi:type="dcterms:W3CDTF">2010-03-08T06:01:49Z</dcterms:modified>
  <cp:revision>9</cp:revision>
  <dc:subject/>
  <dc:title>MET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3361049</vt:lpwstr>
  </property>
</Properties>
</file>