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1.jpeg" ContentType="image/jpeg"/>
  <Override PartName="/ppt/media/image40.png" ContentType="image/png"/>
  <Override PartName="/ppt/media/image45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C65E-B4B5-4C23-A151-2AC35CF97A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3F32-FEF1-4247-BEE8-D6A63C6DA7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80F1-E41F-44A6-BAC1-26ACB8F722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646C-87F0-473D-B12E-7EA957421D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95CB-87D9-451F-9C8F-FE3BC92861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2668-DAAB-44C8-8450-AAA3664FFB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E198-F41E-45EA-9758-8FC768EA4F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4F72-7E09-4EDE-B974-6254C0FA4E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6F0C-B98F-4A3F-9F7C-9F78FFF845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876E-F6E2-40DD-9040-B3A68A208E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93F7-CC64-4AAC-8830-C2B88DAAA9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B434-7146-439B-9336-3040D63772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AD1F-AD57-470F-9DAA-3982FDCFFA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61D8-889A-4C4E-B6AC-4EC5EFDBD9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BEC2-3CB6-4479-B323-5D3BBFC12B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E0BC-1A87-472F-A091-57D3C7C9D3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BF37-0377-45FA-912D-DB9719229B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165-DAD7-472D-B3B0-5D6BE3BD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6556-3C8E-477B-A375-994B73C0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A25-4593-4D30-8EF9-FE9C94E2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8CE-D8E0-4660-BA6F-1BF3A774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644-548D-4239-A560-4FF604CE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73B-68D4-45B7-A3F6-B1D70935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C08-A6F6-450A-83C1-9DC0E96D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941-FD8C-43E0-8C26-7DC73A9B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DAC-A60C-4926-81B4-2BE8A03B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F74-E9D0-4AD5-9D3F-146C7F1B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D8A-1505-44E4-85ED-F58FB641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A4D-34C1-41B8-BD1B-622BD13F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6633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47EB-E0AD-4E4D-90EC-F2E48D4F01A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AA8F-7443-4416-8162-3588BC71FB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6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5.pn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38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1" name="Полилиния 29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Хорда 32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Хорда 33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Заголовок 54" descr=""/>
          <p:cNvPicPr/>
          <p:nvPr/>
        </p:nvPicPr>
        <p:blipFill>
          <a:blip r:embed="rId2"/>
          <a:stretch/>
        </p:blipFill>
        <p:spPr>
          <a:xfrm>
            <a:off x="353880" y="3524400"/>
            <a:ext cx="8436240" cy="1955520"/>
          </a:xfrm>
          <a:prstGeom prst="rect">
            <a:avLst/>
          </a:prstGeom>
          <a:ln w="0">
            <a:noFill/>
          </a:ln>
        </p:spPr>
      </p:pic>
      <p:pic>
        <p:nvPicPr>
          <p:cNvPr id="56" name="Подзаголовок 55" descr=""/>
          <p:cNvPicPr/>
          <p:nvPr/>
        </p:nvPicPr>
        <p:blipFill>
          <a:blip r:embed="rId3"/>
          <a:stretch/>
        </p:blipFill>
        <p:spPr>
          <a:xfrm>
            <a:off x="1352520" y="5340240"/>
            <a:ext cx="6413400" cy="663840"/>
          </a:xfrm>
          <a:prstGeom prst="rect">
            <a:avLst/>
          </a:prstGeom>
          <a:ln w="0">
            <a:noFill/>
          </a:ln>
        </p:spPr>
      </p:pic>
      <p:pic>
        <p:nvPicPr>
          <p:cNvPr id="57" name="Номер слайда 36" descr=""/>
          <p:cNvPicPr/>
          <p:nvPr/>
        </p:nvPicPr>
        <p:blipFill>
          <a:blip r:embed="rId4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58" name="Группа 47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9" name="Полилиния 48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Группа 31" descr=""/>
            <p:cNvPicPr/>
            <p:nvPr/>
          </p:nvPicPr>
          <p:blipFill>
            <a:blip r:embed="rId5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Хорда 50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Хорда 51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4" name="Полилиния 57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7" name="Овал 62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8" name="Овал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1" name="Овал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" name="Хорда 60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Хорда 61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6" name="Полилиния 65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9" name="Овал 70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0" name="Овал 7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Овал 71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83" name="Овал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" name="Хорда 68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Хорда 69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8" name="Полилиния 73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9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91" name="Овал 78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92" name="Овал 7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Овал 79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95" name="Овал 7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" name="Хорда 76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Хорда 77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" name="Рисунок 44" descr="338.jpg"/>
          <p:cNvPicPr/>
          <p:nvPr/>
        </p:nvPicPr>
        <p:blipFill>
          <a:blip r:embed="rId12"/>
          <a:stretch/>
        </p:blipFill>
        <p:spPr>
          <a:xfrm>
            <a:off x="2071800" y="428760"/>
            <a:ext cx="49608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11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857240" y="5000760"/>
            <a:ext cx="53438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Сороконож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518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19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21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22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23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526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7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8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31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33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34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35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6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538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9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0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43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45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46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47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8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550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1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2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55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9" name="Picture 2" descr="E:\Мои документы\ФОТО\5 марта 2010 г\Весёлые старты\IMGP6172.JPG"/>
          <p:cNvPicPr/>
          <p:nvPr/>
        </p:nvPicPr>
        <p:blipFill>
          <a:blip r:embed="rId10"/>
          <a:stretch/>
        </p:blipFill>
        <p:spPr>
          <a:xfrm>
            <a:off x="2000160" y="1071720"/>
            <a:ext cx="506592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62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ой подуш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569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70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72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73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74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5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577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8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82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84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85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86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7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589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0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1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94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96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97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98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9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601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2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3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06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7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0" name="Picture 2" descr="E:\Мои документы\ФОТО\5 марта 2010 г\Весёлые старты\IMGP6180.JPG"/>
          <p:cNvPicPr/>
          <p:nvPr/>
        </p:nvPicPr>
        <p:blipFill>
          <a:blip r:embed="rId10"/>
          <a:stretch/>
        </p:blipFill>
        <p:spPr>
          <a:xfrm>
            <a:off x="2143080" y="116856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13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ег с коромысл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620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21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2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24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25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62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9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0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2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33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3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36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37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3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640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41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2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45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4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48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649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652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3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4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57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1" name="Picture 2" descr="E:\Мои документы\ФОТО\5 марта 2010 г\Весёлые старты\IMGP6186.JPG"/>
          <p:cNvPicPr/>
          <p:nvPr/>
        </p:nvPicPr>
        <p:blipFill>
          <a:blip r:embed="rId10"/>
          <a:stretch/>
        </p:blipFill>
        <p:spPr>
          <a:xfrm>
            <a:off x="2143080" y="1143000"/>
            <a:ext cx="48499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64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1714680" y="5000760"/>
            <a:ext cx="555768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След в след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671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72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7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75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76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67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0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1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84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8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87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88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691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2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3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5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96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9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99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00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703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4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5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08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2" name="Picture 2" descr="E:\Мои документы\ФОТО\5 марта 2010 г\Весёлые старты\IMGP6191.JPG"/>
          <p:cNvPicPr/>
          <p:nvPr/>
        </p:nvPicPr>
        <p:blipFill>
          <a:blip r:embed="rId10"/>
          <a:stretch/>
        </p:blipFill>
        <p:spPr>
          <a:xfrm>
            <a:off x="2000160" y="1071720"/>
            <a:ext cx="487548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15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1499760" y="5000760"/>
            <a:ext cx="57150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ег в мешка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722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23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2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26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27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3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31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2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35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3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38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39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742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3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4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47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74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750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51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754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6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8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59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3" name="Picture 2" descr="E:\Мои документы\ФОТО\5 марта 2010 г\Весёлые старты\IMGP6197.JPG"/>
          <p:cNvPicPr/>
          <p:nvPr/>
        </p:nvPicPr>
        <p:blipFill>
          <a:blip r:embed="rId10"/>
          <a:stretch/>
        </p:blipFill>
        <p:spPr>
          <a:xfrm>
            <a:off x="1890720" y="10717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66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7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еретягивание канат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2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773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74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7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77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78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81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82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3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86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8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89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90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793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4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5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98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0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01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02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805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6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07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9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10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1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4" name="Picture 2" descr="E:\Мои документы\ФОТО\5 марта 2010 г\Весёлые старты\IMGP6205.JPG"/>
          <p:cNvPicPr/>
          <p:nvPr/>
        </p:nvPicPr>
        <p:blipFill>
          <a:blip r:embed="rId10"/>
          <a:stretch/>
        </p:blipFill>
        <p:spPr>
          <a:xfrm>
            <a:off x="2071800" y="1071720"/>
            <a:ext cx="4922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817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1499760" y="5214600"/>
            <a:ext cx="5929560" cy="85716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Награжд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824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825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82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828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829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83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3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4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837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83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840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41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3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844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5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6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8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49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5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52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53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856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7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8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61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5" name="Picture 2" descr="E:\Мои документы\ФОТО\5 марта 2010 г\Весёлые старты\IMGP6215.JPG"/>
          <p:cNvPicPr/>
          <p:nvPr/>
        </p:nvPicPr>
        <p:blipFill>
          <a:blip r:embed="rId10"/>
          <a:stretch/>
        </p:blipFill>
        <p:spPr>
          <a:xfrm>
            <a:off x="357120" y="7142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E:\Мои документы\ФОТО\5 марта 2010 г\Весёлые старты\IMGP6216.JPG"/>
          <p:cNvPicPr/>
          <p:nvPr/>
        </p:nvPicPr>
        <p:blipFill>
          <a:blip r:embed="rId11"/>
          <a:stretch/>
        </p:blipFill>
        <p:spPr>
          <a:xfrm>
            <a:off x="6215040" y="78588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" descr="E:\Мои документы\ФОТО\5 марта 2010 г\Весёлые старты\IMGP6217.JPG"/>
          <p:cNvPicPr/>
          <p:nvPr/>
        </p:nvPicPr>
        <p:blipFill>
          <a:blip r:embed="rId12"/>
          <a:stretch/>
        </p:blipFill>
        <p:spPr>
          <a:xfrm>
            <a:off x="3048120" y="2786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Группа 92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02" name="Полилиния 93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Хорда 95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Хорда 96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08" name="Полилиния 49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1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11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12" name="Овал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115" name="Овал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20" name="Полилиния 63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2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23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24" name="Овал 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Овал 69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127" name="Овал 6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32" name="Полилиния 71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3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35" name="Овал 76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36" name="Овал 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Овал 77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139" name="Овал 7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Хорда 74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Хорда 75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Номер слайда 36" descr=""/>
          <p:cNvPicPr/>
          <p:nvPr/>
        </p:nvPicPr>
        <p:blipFill>
          <a:blip r:embed="rId8"/>
          <a:stretch/>
        </p:blipFill>
        <p:spPr>
          <a:xfrm>
            <a:off x="8424720" y="133200"/>
            <a:ext cx="4334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44" name="Группа 99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45" name="Полилиния 100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Хорда 102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Хорда 103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Прямоугольник 44" descr=""/>
          <p:cNvPicPr/>
          <p:nvPr/>
        </p:nvPicPr>
        <p:blipFill>
          <a:blip r:embed="rId10"/>
          <a:stretch/>
        </p:blipFill>
        <p:spPr>
          <a:xfrm>
            <a:off x="384120" y="438120"/>
            <a:ext cx="8363160" cy="11890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1" descr="IMGP6118.JPG"/>
          <p:cNvPicPr/>
          <p:nvPr/>
        </p:nvPicPr>
        <p:blipFill>
          <a:blip r:embed="rId11"/>
          <a:stretch/>
        </p:blipFill>
        <p:spPr>
          <a:xfrm>
            <a:off x="1857240" y="1714680"/>
            <a:ext cx="542952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53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8840" y="4571640"/>
            <a:ext cx="5843520" cy="130500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Весёлые стар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4 классы – 5 март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60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61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6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64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65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16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0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73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7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76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77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180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1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2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85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8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88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89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192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3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4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97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Рисунок 48" descr="IMGP6119.JPG"/>
          <p:cNvPicPr/>
          <p:nvPr/>
        </p:nvPicPr>
        <p:blipFill>
          <a:blip r:embed="rId10"/>
          <a:stretch/>
        </p:blipFill>
        <p:spPr>
          <a:xfrm>
            <a:off x="2143080" y="928800"/>
            <a:ext cx="46436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04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лоса препятстви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211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12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1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15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16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21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0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1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24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2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27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28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231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2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3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36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3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39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40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243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4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48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2" descr="E:\Мои документы\ФОТО\5 марта 2010 г\Весёлые старты\IMGP6126.JPG"/>
          <p:cNvPicPr/>
          <p:nvPr/>
        </p:nvPicPr>
        <p:blipFill>
          <a:blip r:embed="rId10"/>
          <a:stretch/>
        </p:blipFill>
        <p:spPr>
          <a:xfrm>
            <a:off x="2000160" y="100008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55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285560" y="5000760"/>
            <a:ext cx="59864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грузка арбузов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262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63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6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66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67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27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1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75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7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78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79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282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3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4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87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8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90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91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294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6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99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Picture 2" descr="E:\Мои документы\ФОТО\5 марта 2010 г\Весёлые старты\IMGP6133.JPG"/>
          <p:cNvPicPr/>
          <p:nvPr/>
        </p:nvPicPr>
        <p:blipFill>
          <a:blip r:embed="rId10"/>
          <a:stretch/>
        </p:blipFill>
        <p:spPr>
          <a:xfrm>
            <a:off x="642960" y="15001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E:\Мои документы\ФОТО\5 марта 2010 г\Весёлые старты\IMGP6136.JPG"/>
          <p:cNvPicPr/>
          <p:nvPr/>
        </p:nvPicPr>
        <p:blipFill>
          <a:blip r:embed="rId11"/>
          <a:stretch/>
        </p:blipFill>
        <p:spPr>
          <a:xfrm>
            <a:off x="4786200" y="150012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07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285560" y="5000760"/>
            <a:ext cx="59864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садка картош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314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15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1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18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19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32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27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2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30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31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334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5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6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39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4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42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43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346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7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8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351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Picture 2" descr="E:\Мои документы\ФОТО\5 марта 2010 г\Весёлые старты\IMGP6139.JPG"/>
          <p:cNvPicPr/>
          <p:nvPr/>
        </p:nvPicPr>
        <p:blipFill>
          <a:blip r:embed="rId10"/>
          <a:stretch/>
        </p:blipFill>
        <p:spPr>
          <a:xfrm>
            <a:off x="1785960" y="1000080"/>
            <a:ext cx="506556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58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Нарисуй солнышк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365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66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68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69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70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1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373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4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5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78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80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81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82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3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385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6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7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90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92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93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94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5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397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8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9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02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" descr="E:\Мои документы\ФОТО\5 марта 2010 г\Весёлые старты\IMGP6150.JPG"/>
          <p:cNvPicPr/>
          <p:nvPr/>
        </p:nvPicPr>
        <p:blipFill>
          <a:blip r:embed="rId10"/>
          <a:stretch/>
        </p:blipFill>
        <p:spPr>
          <a:xfrm>
            <a:off x="2000160" y="1025640"/>
            <a:ext cx="4929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09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0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642680" y="5000760"/>
            <a:ext cx="562932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ймай рыбк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416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17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19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20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21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2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424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5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29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31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32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33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4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436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7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8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41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43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44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45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6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448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9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0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53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Picture 2" descr="E:\Мои документы\ФОТО\5 марта 2010 г\Весёлые старты\IMGP6154.JPG"/>
          <p:cNvPicPr/>
          <p:nvPr/>
        </p:nvPicPr>
        <p:blipFill>
          <a:blip r:embed="rId10"/>
          <a:stretch/>
        </p:blipFill>
        <p:spPr>
          <a:xfrm>
            <a:off x="1857240" y="1000080"/>
            <a:ext cx="506592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60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ередача мяче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467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68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7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71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72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475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6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7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80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8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83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84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487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8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92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9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95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96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499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0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04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Picture 2" descr="E:\Мои документы\ФОТО\5 марта 2010 г\Весёлые старты\IMGP6161.JPG"/>
          <p:cNvPicPr/>
          <p:nvPr/>
        </p:nvPicPr>
        <p:blipFill>
          <a:blip r:embed="rId10"/>
          <a:stretch/>
        </p:blipFill>
        <p:spPr>
          <a:xfrm>
            <a:off x="1857240" y="928800"/>
            <a:ext cx="520884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52:39Z</dcterms:created>
  <dc:creator>Ирина Петровна</dc:creator>
  <dc:description/>
  <dc:language>en-US</dc:language>
  <cp:lastModifiedBy>Ирина Петровна</cp:lastModifiedBy>
  <dcterms:modified xsi:type="dcterms:W3CDTF">2010-03-08T06:01:49Z</dcterms:modified>
  <cp:revision>9</cp:revision>
  <dc:subject/>
  <dc:title>MET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3361049</vt:lpwstr>
  </property>
</Properties>
</file>