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31.jpeg" ContentType="image/jpeg"/>
  <Override PartName="/ppt/media/image40.png" ContentType="image/png"/>
  <Override PartName="/ppt/media/image45.jpeg" ContentType="image/jpeg"/>
  <Override PartName="/ppt/media/image9.png" ContentType="image/png"/>
  <Override PartName="/ppt/media/image44.jpeg" ContentType="image/jpeg"/>
  <Override PartName="/ppt/media/image33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29.jpeg" ContentType="image/jpeg"/>
  <Override PartName="/ppt/media/image30.png" ContentType="image/png"/>
  <Override PartName="/ppt/media/image37.jpeg" ContentType="image/jpeg"/>
  <Override PartName="/ppt/media/image13.png" ContentType="image/png"/>
  <Override PartName="/ppt/media/image42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7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2880-0395-4C9C-BC9D-583876DBDC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6F937-DB4A-4107-B5C0-74C2321E78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F02F-447A-4E87-9334-1AC715DB7E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B3F7-90A7-48EC-BB09-79ECE3674A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0F19-8D74-4345-851A-49540A5DAA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16313-1A99-46F0-B12F-90F112E9CC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501F-8232-40B2-8E03-7FC0C07F3C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88EA-6BB2-4A3A-A064-41AA1B1E5F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E56E-AA93-448E-BBBD-8EBEEC7D45A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897D-9C51-4172-885B-547D3F0DB4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D0C96-6D03-4604-8197-118CD028ED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BB13-DCAC-4A28-81FD-24649A6C40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596D-0F29-42C5-8804-35007A7433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A091-687A-43CC-9E32-A7914A49B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11719-C08F-44A8-987E-663DAAB464C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5E55-08A2-4630-A82C-9E24321DE7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AEB8-0B5F-4204-9D0D-1D13500624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D85C-C608-4557-9D53-9357FD725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E04B-1326-42CF-ADF5-30CE0A36A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6EF0-A15B-451E-9954-7FCE1A7F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F7D-B6BA-4AB6-9D39-26FEED6B4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C20-4EBA-428E-81D5-09D8E530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2B34-C044-4BF3-9EC2-3172D82A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F71C-6A66-40AB-A557-AE601854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A57A-0072-45FB-8CF9-74F7B433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BFF0-1EBB-4D22-ABD4-7C861D35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F3F0-84F3-4EFB-AFE1-CD2A8EF0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AA16-5CAB-48D5-8C9E-249C6AA9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A4A-B325-4485-A808-602CE0A3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663300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D6D5-693B-48C8-BB65-5AC26BCBC13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4129-E0CF-4B2F-9F24-C94D76A06A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6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3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6.png"/><Relationship Id="rId7" Type="http://schemas.openxmlformats.org/officeDocument/2006/relationships/image" Target="../media/image10.png"/><Relationship Id="rId8" Type="http://schemas.openxmlformats.org/officeDocument/2006/relationships/image" Target="../media/image12.png"/><Relationship Id="rId9" Type="http://schemas.openxmlformats.org/officeDocument/2006/relationships/image" Target="../media/image5.png"/><Relationship Id="rId10" Type="http://schemas.openxmlformats.org/officeDocument/2006/relationships/image" Target="../media/image13.png"/><Relationship Id="rId11" Type="http://schemas.openxmlformats.org/officeDocument/2006/relationships/image" Target="../media/image14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Группа 38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" name="Полилиния 29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Хорда 32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Хорда 33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" name="Заголовок 54" descr=""/>
          <p:cNvPicPr/>
          <p:nvPr/>
        </p:nvPicPr>
        <p:blipFill>
          <a:blip r:embed="rId2"/>
          <a:stretch/>
        </p:blipFill>
        <p:spPr>
          <a:xfrm>
            <a:off x="353880" y="3524400"/>
            <a:ext cx="8436240" cy="1955520"/>
          </a:xfrm>
          <a:prstGeom prst="rect">
            <a:avLst/>
          </a:prstGeom>
          <a:ln w="0">
            <a:noFill/>
          </a:ln>
        </p:spPr>
      </p:pic>
      <p:pic>
        <p:nvPicPr>
          <p:cNvPr id="56" name="Подзаголовок 55" descr=""/>
          <p:cNvPicPr/>
          <p:nvPr/>
        </p:nvPicPr>
        <p:blipFill>
          <a:blip r:embed="rId3"/>
          <a:stretch/>
        </p:blipFill>
        <p:spPr>
          <a:xfrm>
            <a:off x="1352520" y="5340240"/>
            <a:ext cx="6413400" cy="663840"/>
          </a:xfrm>
          <a:prstGeom prst="rect">
            <a:avLst/>
          </a:prstGeom>
          <a:ln w="0">
            <a:noFill/>
          </a:ln>
        </p:spPr>
      </p:pic>
      <p:pic>
        <p:nvPicPr>
          <p:cNvPr id="57" name="Номер слайда 36" descr=""/>
          <p:cNvPicPr/>
          <p:nvPr/>
        </p:nvPicPr>
        <p:blipFill>
          <a:blip r:embed="rId4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58" name="Группа 47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9" name="Полилиния 48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Группа 31" descr=""/>
            <p:cNvPicPr/>
            <p:nvPr/>
          </p:nvPicPr>
          <p:blipFill>
            <a:blip r:embed="rId5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Хорда 50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Хорда 51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4" name="Полилиния 57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" name="Овал 62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8" name="Овал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1" name="Овал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" name="Хорда 60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Хорда 61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6" name="Полилиния 65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9" name="Овал 70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0" name="Овал 7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" name="Овал 71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3" name="Овал 7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" name="Хорда 68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Хорда 69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8" name="Полилиния 73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9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91" name="Овал 78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92" name="Овал 7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4" name="Овал 79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95" name="Овал 7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97" name="Хорда 76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Хорда 77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9" name="Рисунок 44" descr="338.jpg"/>
          <p:cNvPicPr/>
          <p:nvPr/>
        </p:nvPicPr>
        <p:blipFill>
          <a:blip r:embed="rId12"/>
          <a:stretch/>
        </p:blipFill>
        <p:spPr>
          <a:xfrm>
            <a:off x="2071800" y="428760"/>
            <a:ext cx="49608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11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1857240" y="5000760"/>
            <a:ext cx="53438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ороконожк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7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18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19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21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22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23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4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5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26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27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8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0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31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33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34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35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6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7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38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39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40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2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43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45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46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47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48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9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550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2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55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59" name="Picture 2" descr="E:\Мои документы\ФОТО\5 марта 2010 г\Весёлые старты\IMGP6172.JPG"/>
          <p:cNvPicPr/>
          <p:nvPr/>
        </p:nvPicPr>
        <p:blipFill>
          <a:blip r:embed="rId10"/>
          <a:stretch/>
        </p:blipFill>
        <p:spPr>
          <a:xfrm>
            <a:off x="2000160" y="1071720"/>
            <a:ext cx="5065920" cy="37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1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562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ой подушкам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569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570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572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573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574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5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6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577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78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79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1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582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584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585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586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7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8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589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0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91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3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594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5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596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597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598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99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0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01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02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03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5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06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7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2" descr="E:\Мои документы\ФОТО\5 марта 2010 г\Весёлые старты\IMGP6180.JPG"/>
          <p:cNvPicPr/>
          <p:nvPr/>
        </p:nvPicPr>
        <p:blipFill>
          <a:blip r:embed="rId10"/>
          <a:stretch/>
        </p:blipFill>
        <p:spPr>
          <a:xfrm>
            <a:off x="2143080" y="1168560"/>
            <a:ext cx="47862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1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с коромыслом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2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2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2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2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2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2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2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3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3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3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3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3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3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4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4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4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4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4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4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64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65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5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5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65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61" name="Picture 2" descr="E:\Мои документы\ФОТО\5 марта 2010 г\Весёлые старты\IMGP6186.JPG"/>
          <p:cNvPicPr/>
          <p:nvPr/>
        </p:nvPicPr>
        <p:blipFill>
          <a:blip r:embed="rId10"/>
          <a:stretch/>
        </p:blipFill>
        <p:spPr>
          <a:xfrm>
            <a:off x="2143080" y="1143000"/>
            <a:ext cx="484992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66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/>
          </p:nvPr>
        </p:nvSpPr>
        <p:spPr>
          <a:xfrm>
            <a:off x="1714680" y="5000760"/>
            <a:ext cx="555768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След в след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67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67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67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67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67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7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67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8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8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68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68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68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68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8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69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69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69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69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69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69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0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0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0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0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0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2" name="Picture 2" descr="E:\Мои документы\ФОТО\5 марта 2010 г\Весёлые старты\IMGP6191.JPG"/>
          <p:cNvPicPr/>
          <p:nvPr/>
        </p:nvPicPr>
        <p:blipFill>
          <a:blip r:embed="rId10"/>
          <a:stretch/>
        </p:blipFill>
        <p:spPr>
          <a:xfrm>
            <a:off x="2000160" y="1071720"/>
            <a:ext cx="4875480" cy="36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1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/>
          </p:nvPr>
        </p:nvSpPr>
        <p:spPr>
          <a:xfrm>
            <a:off x="1499760" y="5000760"/>
            <a:ext cx="57150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Бег в мешках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2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2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2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2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2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3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3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3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3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3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3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3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4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4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4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4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74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75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75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75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5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75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3" name="Picture 2" descr="E:\Мои документы\ФОТО\5 марта 2010 г\Весёлые старты\IMGP6197.JPG"/>
          <p:cNvPicPr/>
          <p:nvPr/>
        </p:nvPicPr>
        <p:blipFill>
          <a:blip r:embed="rId10"/>
          <a:stretch/>
        </p:blipFill>
        <p:spPr>
          <a:xfrm>
            <a:off x="1890720" y="107172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5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766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7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0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тягивание канат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2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773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774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776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777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778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79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80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781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82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83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5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786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7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788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789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790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1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2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793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4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795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7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798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00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01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02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3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4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05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06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07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9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10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1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2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4" name="Picture 2" descr="E:\Мои документы\ФОТО\5 марта 2010 г\Весёлые старты\IMGP6205.JPG"/>
          <p:cNvPicPr/>
          <p:nvPr/>
        </p:nvPicPr>
        <p:blipFill>
          <a:blip r:embed="rId10"/>
          <a:stretch/>
        </p:blipFill>
        <p:spPr>
          <a:xfrm>
            <a:off x="2071800" y="1071720"/>
            <a:ext cx="492264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81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/>
          </p:nvPr>
        </p:nvSpPr>
        <p:spPr>
          <a:xfrm>
            <a:off x="1499760" y="5214600"/>
            <a:ext cx="5929560" cy="857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Награжде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73080"/>
            <a:ext cx="365040" cy="469800"/>
          </a:xfrm>
          <a:prstGeom prst="rect">
            <a:avLst/>
          </a:prstGeom>
          <a:ln w="0">
            <a:noFill/>
          </a:ln>
        </p:spPr>
      </p:pic>
      <p:grpSp>
        <p:nvGrpSpPr>
          <p:cNvPr id="82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82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82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82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82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83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3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83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83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84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84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4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84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4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4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84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85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85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85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85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5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5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86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5" name="Picture 2" descr="E:\Мои документы\ФОТО\5 марта 2010 г\Весёлые старты\IMGP6215.JPG"/>
          <p:cNvPicPr/>
          <p:nvPr/>
        </p:nvPicPr>
        <p:blipFill>
          <a:blip r:embed="rId10"/>
          <a:stretch/>
        </p:blipFill>
        <p:spPr>
          <a:xfrm>
            <a:off x="357120" y="714240"/>
            <a:ext cx="2571840" cy="192888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E:\Мои документы\ФОТО\5 марта 2010 г\Весёлые старты\IMGP6216.JPG"/>
          <p:cNvPicPr/>
          <p:nvPr/>
        </p:nvPicPr>
        <p:blipFill>
          <a:blip r:embed="rId11"/>
          <a:stretch/>
        </p:blipFill>
        <p:spPr>
          <a:xfrm>
            <a:off x="6215040" y="785880"/>
            <a:ext cx="2500200" cy="187488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4" descr="E:\Мои документы\ФОТО\5 марта 2010 г\Весёлые старты\IMGP6217.JPG"/>
          <p:cNvPicPr/>
          <p:nvPr/>
        </p:nvPicPr>
        <p:blipFill>
          <a:blip r:embed="rId12"/>
          <a:stretch/>
        </p:blipFill>
        <p:spPr>
          <a:xfrm>
            <a:off x="3048120" y="278604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Группа 92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02" name="Полилиния 93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Хорда 95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Хорда 96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08" name="Полилиния 49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1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11" name="Овал 60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12" name="Овал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15" name="Овал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1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7" name="Хорда 58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Хорда 59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20" name="Полилиния 63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2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23" name="Овал 68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24" name="Овал 6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Овал 69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27" name="Овал 6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Хорда 66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Хорда 67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32" name="Полилиния 71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3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35" name="Овал 76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36" name="Овал 7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Овал 77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39" name="Овал 7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4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1" name="Хорда 74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Хорда 75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3" name="Номер слайда 36" descr=""/>
          <p:cNvPicPr/>
          <p:nvPr/>
        </p:nvPicPr>
        <p:blipFill>
          <a:blip r:embed="rId8"/>
          <a:stretch/>
        </p:blipFill>
        <p:spPr>
          <a:xfrm>
            <a:off x="8424720" y="133200"/>
            <a:ext cx="4334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44" name="Группа 99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45" name="Полилиния 100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Хорда 102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Хорда 103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Прямоугольник 44" descr=""/>
          <p:cNvPicPr/>
          <p:nvPr/>
        </p:nvPicPr>
        <p:blipFill>
          <a:blip r:embed="rId10"/>
          <a:stretch/>
        </p:blipFill>
        <p:spPr>
          <a:xfrm>
            <a:off x="384120" y="438120"/>
            <a:ext cx="8363160" cy="118908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51" descr="IMGP6118.JPG"/>
          <p:cNvPicPr/>
          <p:nvPr/>
        </p:nvPicPr>
        <p:blipFill>
          <a:blip r:embed="rId11"/>
          <a:stretch/>
        </p:blipFill>
        <p:spPr>
          <a:xfrm>
            <a:off x="1857240" y="1714680"/>
            <a:ext cx="5429520" cy="40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153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428840" y="4571640"/>
            <a:ext cx="5843520" cy="130500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Весёлые старты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300" spc="-1" strike="noStrike">
                <a:solidFill>
                  <a:srgbClr val="ffffff"/>
                </a:solidFill>
                <a:latin typeface="Calibri"/>
              </a:rPr>
              <a:t>4 классы – 5 марта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160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161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163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164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165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168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9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0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173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175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176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177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8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180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81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185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187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188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189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0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192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3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94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6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197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1" name="Рисунок 48" descr="IMGP6119.JPG"/>
          <p:cNvPicPr/>
          <p:nvPr/>
        </p:nvPicPr>
        <p:blipFill>
          <a:blip r:embed="rId10"/>
          <a:stretch/>
        </p:blipFill>
        <p:spPr>
          <a:xfrm>
            <a:off x="2143080" y="928800"/>
            <a:ext cx="464364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04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лоса препятстви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11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12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14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15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16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7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8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19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0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21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24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26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27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28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29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0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31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32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3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5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36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38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39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40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1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43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44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45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48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E:\Мои документы\ФОТО\5 марта 2010 г\Весёлые старты\IMGP6126.JPG"/>
          <p:cNvPicPr/>
          <p:nvPr/>
        </p:nvPicPr>
        <p:blipFill>
          <a:blip r:embed="rId10"/>
          <a:stretch/>
        </p:blipFill>
        <p:spPr>
          <a:xfrm>
            <a:off x="2000160" y="1000080"/>
            <a:ext cx="50482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255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6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грузка арбузов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262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263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265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266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267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68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270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71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2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275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277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278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279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0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1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282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83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4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287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289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290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291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2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3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294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95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6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299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3" name="Picture 2" descr="E:\Мои документы\ФОТО\5 марта 2010 г\Весёлые старты\IMGP6133.JPG"/>
          <p:cNvPicPr/>
          <p:nvPr/>
        </p:nvPicPr>
        <p:blipFill>
          <a:blip r:embed="rId10"/>
          <a:stretch/>
        </p:blipFill>
        <p:spPr>
          <a:xfrm>
            <a:off x="642960" y="150012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E:\Мои документы\ФОТО\5 марта 2010 г\Весёлые старты\IMGP6136.JPG"/>
          <p:cNvPicPr/>
          <p:nvPr/>
        </p:nvPicPr>
        <p:blipFill>
          <a:blip r:embed="rId11"/>
          <a:stretch/>
        </p:blipFill>
        <p:spPr>
          <a:xfrm>
            <a:off x="4786200" y="1500120"/>
            <a:ext cx="37148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07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8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1285560" y="5000760"/>
            <a:ext cx="598644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14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15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17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18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19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0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22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23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24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27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29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30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31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2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34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35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6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39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41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42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43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46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7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8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0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351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2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2" descr="E:\Мои документы\ФОТО\5 марта 2010 г\Весёлые старты\IMGP6139.JPG"/>
          <p:cNvPicPr/>
          <p:nvPr/>
        </p:nvPicPr>
        <p:blipFill>
          <a:blip r:embed="rId10"/>
          <a:stretch/>
        </p:blipFill>
        <p:spPr>
          <a:xfrm>
            <a:off x="1785960" y="1000080"/>
            <a:ext cx="506556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358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Нарисуй солнышко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365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366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368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369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370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1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373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4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75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7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378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380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381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382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3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385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86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7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390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392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393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394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5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397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8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99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02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" name="Picture 2" descr="E:\Мои документы\ФОТО\5 марта 2010 г\Весёлые старты\IMGP6150.JPG"/>
          <p:cNvPicPr/>
          <p:nvPr/>
        </p:nvPicPr>
        <p:blipFill>
          <a:blip r:embed="rId10"/>
          <a:stretch/>
        </p:blipFill>
        <p:spPr>
          <a:xfrm>
            <a:off x="2000160" y="1025640"/>
            <a:ext cx="4929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09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0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1642680" y="5000760"/>
            <a:ext cx="562932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оймай рыбку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16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17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19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20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21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2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3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24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25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6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29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31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32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33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4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36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37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38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0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41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2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43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44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45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6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7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48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49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50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453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4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Picture 2" descr="E:\Мои документы\ФОТО\5 марта 2010 г\Весёлые старты\IMGP6154.JPG"/>
          <p:cNvPicPr/>
          <p:nvPr/>
        </p:nvPicPr>
        <p:blipFill>
          <a:blip r:embed="rId10"/>
          <a:stretch/>
        </p:blipFill>
        <p:spPr>
          <a:xfrm>
            <a:off x="1857240" y="1000080"/>
            <a:ext cx="5065920" cy="37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Прямоугольник 37"/>
          <p:cNvSpPr/>
          <p:nvPr/>
        </p:nvSpPr>
        <p:spPr>
          <a:xfrm rot="10800000">
            <a:off x="0" y="-36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Группа 95"/>
          <p:cNvGrpSpPr/>
          <p:nvPr/>
        </p:nvGrpSpPr>
        <p:grpSpPr>
          <a:xfrm>
            <a:off x="8398800" y="56520"/>
            <a:ext cx="571320" cy="610200"/>
            <a:chOff x="8398800" y="56520"/>
            <a:chExt cx="571320" cy="610200"/>
          </a:xfrm>
        </p:grpSpPr>
        <p:sp>
          <p:nvSpPr>
            <p:cNvPr id="460" name="Полилиния 96"/>
            <p:cNvSpPr/>
            <p:nvPr/>
          </p:nvSpPr>
          <p:spPr>
            <a:xfrm rot="10800000">
              <a:off x="8453880" y="115920"/>
              <a:ext cx="4698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Группа 31" descr=""/>
            <p:cNvPicPr/>
            <p:nvPr/>
          </p:nvPicPr>
          <p:blipFill>
            <a:blip r:embed="rId1"/>
            <a:stretch/>
          </p:blipFill>
          <p:spPr>
            <a:xfrm>
              <a:off x="8429760" y="73080"/>
              <a:ext cx="50616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Хорда 98"/>
            <p:cNvSpPr/>
            <p:nvPr/>
          </p:nvSpPr>
          <p:spPr>
            <a:xfrm rot="10800000">
              <a:off x="8517960" y="129600"/>
              <a:ext cx="340560" cy="350640"/>
            </a:xfrm>
            <a:custGeom>
              <a:avLst/>
              <a:gdLst>
                <a:gd name="textAreaLeft" fmla="*/ 49680 w 340560"/>
                <a:gd name="textAreaRight" fmla="*/ 290880 w 34056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Хорда 99"/>
            <p:cNvSpPr/>
            <p:nvPr/>
          </p:nvSpPr>
          <p:spPr>
            <a:xfrm rot="18264000">
              <a:off x="8474040" y="142200"/>
              <a:ext cx="420840" cy="40428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040 h 404280"/>
                <a:gd name="textAreaBottom" fmla="*/ 345240 h 40428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4" name="Прямоугольник 3"/>
          <p:cNvSpPr/>
          <p:nvPr/>
        </p:nvSpPr>
        <p:spPr>
          <a:xfrm>
            <a:off x="0" y="6072120"/>
            <a:ext cx="9144000" cy="78588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99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1785960" y="5000760"/>
            <a:ext cx="5486400" cy="87624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«Передача мяч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Номер слайда 36" descr=""/>
          <p:cNvPicPr/>
          <p:nvPr/>
        </p:nvPicPr>
        <p:blipFill>
          <a:blip r:embed="rId2"/>
          <a:stretch/>
        </p:blipFill>
        <p:spPr>
          <a:xfrm>
            <a:off x="8497800" y="133200"/>
            <a:ext cx="365040" cy="379440"/>
          </a:xfrm>
          <a:prstGeom prst="rect">
            <a:avLst/>
          </a:prstGeom>
          <a:ln w="0">
            <a:noFill/>
          </a:ln>
        </p:spPr>
      </p:pic>
      <p:grpSp>
        <p:nvGrpSpPr>
          <p:cNvPr id="467" name="Группа 19"/>
          <p:cNvGrpSpPr/>
          <p:nvPr/>
        </p:nvGrpSpPr>
        <p:grpSpPr>
          <a:xfrm>
            <a:off x="131400" y="6143760"/>
            <a:ext cx="609840" cy="683640"/>
            <a:chOff x="131400" y="6143760"/>
            <a:chExt cx="609840" cy="683640"/>
          </a:xfrm>
        </p:grpSpPr>
        <p:sp>
          <p:nvSpPr>
            <p:cNvPr id="468" name="Полилиния 58"/>
            <p:cNvSpPr/>
            <p:nvPr/>
          </p:nvSpPr>
          <p:spPr>
            <a:xfrm>
              <a:off x="177840" y="6143760"/>
              <a:ext cx="50364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Группа 16"/>
            <p:cNvGrpSpPr/>
            <p:nvPr/>
          </p:nvGrpSpPr>
          <p:grpSpPr>
            <a:xfrm>
              <a:off x="131400" y="6201000"/>
              <a:ext cx="609840" cy="626400"/>
              <a:chOff x="131400" y="6201000"/>
              <a:chExt cx="609840" cy="626400"/>
            </a:xfrm>
          </p:grpSpPr>
          <p:grpSp>
            <p:nvGrpSpPr>
              <p:cNvPr id="470" name="Группа 12"/>
              <p:cNvGrpSpPr/>
              <p:nvPr/>
            </p:nvGrpSpPr>
            <p:grpSpPr>
              <a:xfrm>
                <a:off x="180000" y="6236640"/>
                <a:ext cx="504360" cy="500040"/>
                <a:chOff x="180000" y="6236640"/>
                <a:chExt cx="504360" cy="500040"/>
              </a:xfrm>
            </p:grpSpPr>
            <p:grpSp>
              <p:nvGrpSpPr>
                <p:cNvPr id="471" name="Овал 63"/>
                <p:cNvGrpSpPr/>
                <p:nvPr/>
              </p:nvGrpSpPr>
              <p:grpSpPr>
                <a:xfrm>
                  <a:off x="180000" y="6236640"/>
                  <a:ext cx="504360" cy="500040"/>
                  <a:chOff x="180000" y="6236640"/>
                  <a:chExt cx="504360" cy="500040"/>
                </a:xfrm>
              </p:grpSpPr>
              <p:pic>
                <p:nvPicPr>
                  <p:cNvPr id="472" name="Овал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000" y="6236640"/>
                    <a:ext cx="50436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3" name=""/>
                  <p:cNvSpPr/>
                  <p:nvPr/>
                </p:nvSpPr>
                <p:spPr>
                  <a:xfrm>
                    <a:off x="26856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4" name="Овал 4"/>
                <p:cNvGrpSpPr/>
                <p:nvPr/>
              </p:nvGrpSpPr>
              <p:grpSpPr>
                <a:xfrm>
                  <a:off x="185400" y="6236640"/>
                  <a:ext cx="493200" cy="488880"/>
                  <a:chOff x="185400" y="6236640"/>
                  <a:chExt cx="493200" cy="488880"/>
                </a:xfrm>
              </p:grpSpPr>
              <p:pic>
                <p:nvPicPr>
                  <p:cNvPr id="475" name="Овал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5400" y="6236640"/>
                    <a:ext cx="49320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76" name=""/>
                  <p:cNvSpPr/>
                  <p:nvPr/>
                </p:nvSpPr>
                <p:spPr>
                  <a:xfrm>
                    <a:off x="275040" y="6326280"/>
                    <a:ext cx="31932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7" name="Хорда 61">
                <a:hlinkClick r:id="" action="ppaction://hlinkshowjump?jump=endshow"/>
              </p:cNvPr>
              <p:cNvSpPr/>
              <p:nvPr/>
            </p:nvSpPr>
            <p:spPr>
              <a:xfrm rot="7874400">
                <a:off x="250920" y="6275880"/>
                <a:ext cx="365040" cy="36396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960"/>
                  <a:gd name="textAreaBottom" fmla="*/ 310680 h 36396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Хорда 62">
                <a:hlinkClick r:id="" action="ppaction://hlinkshowjump?jump=endshow"/>
              </p:cNvPr>
              <p:cNvSpPr/>
              <p:nvPr/>
            </p:nvSpPr>
            <p:spPr>
              <a:xfrm rot="18499800">
                <a:off x="217800" y="6305760"/>
                <a:ext cx="436680" cy="43236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360 h 432360"/>
                  <a:gd name="textAreaBottom" fmla="*/ 369000 h 43236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9" name="Группа 20"/>
          <p:cNvGrpSpPr/>
          <p:nvPr/>
        </p:nvGrpSpPr>
        <p:grpSpPr>
          <a:xfrm>
            <a:off x="8383320" y="6143760"/>
            <a:ext cx="609840" cy="683280"/>
            <a:chOff x="8383320" y="6143760"/>
            <a:chExt cx="609840" cy="683280"/>
          </a:xfrm>
        </p:grpSpPr>
        <p:sp>
          <p:nvSpPr>
            <p:cNvPr id="480" name="Полилиния 66"/>
            <p:cNvSpPr/>
            <p:nvPr/>
          </p:nvSpPr>
          <p:spPr>
            <a:xfrm>
              <a:off x="842976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" name="Группа 22"/>
            <p:cNvGrpSpPr/>
            <p:nvPr/>
          </p:nvGrpSpPr>
          <p:grpSpPr>
            <a:xfrm>
              <a:off x="8383320" y="6201000"/>
              <a:ext cx="609840" cy="626040"/>
              <a:chOff x="8383320" y="6201000"/>
              <a:chExt cx="609840" cy="626040"/>
            </a:xfrm>
          </p:grpSpPr>
          <p:grpSp>
            <p:nvGrpSpPr>
              <p:cNvPr id="482" name="Группа 23"/>
              <p:cNvGrpSpPr/>
              <p:nvPr/>
            </p:nvGrpSpPr>
            <p:grpSpPr>
              <a:xfrm>
                <a:off x="8431920" y="6236640"/>
                <a:ext cx="504000" cy="500040"/>
                <a:chOff x="8431920" y="6236640"/>
                <a:chExt cx="504000" cy="500040"/>
              </a:xfrm>
            </p:grpSpPr>
            <p:grpSp>
              <p:nvGrpSpPr>
                <p:cNvPr id="483" name="Овал 71"/>
                <p:cNvGrpSpPr/>
                <p:nvPr/>
              </p:nvGrpSpPr>
              <p:grpSpPr>
                <a:xfrm>
                  <a:off x="8431920" y="6236640"/>
                  <a:ext cx="504000" cy="500040"/>
                  <a:chOff x="8431920" y="6236640"/>
                  <a:chExt cx="504000" cy="500040"/>
                </a:xfrm>
              </p:grpSpPr>
              <p:pic>
                <p:nvPicPr>
                  <p:cNvPr id="484" name="Овал 7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43192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5" name=""/>
                  <p:cNvSpPr/>
                  <p:nvPr/>
                </p:nvSpPr>
                <p:spPr>
                  <a:xfrm>
                    <a:off x="8519400" y="6321960"/>
                    <a:ext cx="3348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6" name="Овал 72"/>
                <p:cNvGrpSpPr/>
                <p:nvPr/>
              </p:nvGrpSpPr>
              <p:grpSpPr>
                <a:xfrm>
                  <a:off x="8437320" y="6236640"/>
                  <a:ext cx="492840" cy="488880"/>
                  <a:chOff x="8437320" y="6236640"/>
                  <a:chExt cx="492840" cy="488880"/>
                </a:xfrm>
              </p:grpSpPr>
              <p:pic>
                <p:nvPicPr>
                  <p:cNvPr id="487" name="Овал 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43732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88" name=""/>
                  <p:cNvSpPr/>
                  <p:nvPr/>
                </p:nvSpPr>
                <p:spPr>
                  <a:xfrm>
                    <a:off x="8525880" y="6326280"/>
                    <a:ext cx="3225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89" name="Хорда 69">
                <a:hlinkClick r:id="" action="ppaction://hlinkshowjump?jump=nextslide"/>
              </p:cNvPr>
              <p:cNvSpPr/>
              <p:nvPr/>
            </p:nvSpPr>
            <p:spPr>
              <a:xfrm rot="7874400">
                <a:off x="850320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2">
                    <a:moveTo>
                      <a:pt x="302278" y="299997"/>
                    </a:moveTo>
                    <a:lnTo>
                      <a:pt x="302278" y="299997"/>
                    </a:lnTo>
                    <a:arcTo wR="177548" hR="175266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Хорда 70">
                <a:hlinkClick r:id="" action="ppaction://hlinkshowjump?jump=nextslide"/>
              </p:cNvPr>
              <p:cNvSpPr/>
              <p:nvPr/>
            </p:nvSpPr>
            <p:spPr>
              <a:xfrm rot="18499800">
                <a:off x="846972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3">
                    <a:moveTo>
                      <a:pt x="360919" y="356811"/>
                    </a:moveTo>
                    <a:lnTo>
                      <a:pt x="360919" y="356811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Группа 39"/>
          <p:cNvGrpSpPr/>
          <p:nvPr/>
        </p:nvGrpSpPr>
        <p:grpSpPr>
          <a:xfrm>
            <a:off x="7740360" y="6143760"/>
            <a:ext cx="609840" cy="683280"/>
            <a:chOff x="7740360" y="6143760"/>
            <a:chExt cx="609840" cy="683280"/>
          </a:xfrm>
        </p:grpSpPr>
        <p:sp>
          <p:nvSpPr>
            <p:cNvPr id="492" name="Полилиния 74"/>
            <p:cNvSpPr/>
            <p:nvPr/>
          </p:nvSpPr>
          <p:spPr>
            <a:xfrm>
              <a:off x="7786800" y="6143760"/>
              <a:ext cx="503280" cy="57168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3" name="Группа 41"/>
            <p:cNvGrpSpPr/>
            <p:nvPr/>
          </p:nvGrpSpPr>
          <p:grpSpPr>
            <a:xfrm>
              <a:off x="7740360" y="6201000"/>
              <a:ext cx="609840" cy="626040"/>
              <a:chOff x="7740360" y="6201000"/>
              <a:chExt cx="609840" cy="626040"/>
            </a:xfrm>
          </p:grpSpPr>
          <p:grpSp>
            <p:nvGrpSpPr>
              <p:cNvPr id="494" name="Группа 42"/>
              <p:cNvGrpSpPr/>
              <p:nvPr/>
            </p:nvGrpSpPr>
            <p:grpSpPr>
              <a:xfrm>
                <a:off x="7788960" y="6236640"/>
                <a:ext cx="504000" cy="500040"/>
                <a:chOff x="7788960" y="6236640"/>
                <a:chExt cx="504000" cy="500040"/>
              </a:xfrm>
            </p:grpSpPr>
            <p:grpSp>
              <p:nvGrpSpPr>
                <p:cNvPr id="495" name="Овал 79"/>
                <p:cNvGrpSpPr/>
                <p:nvPr/>
              </p:nvGrpSpPr>
              <p:grpSpPr>
                <a:xfrm>
                  <a:off x="7788960" y="6236640"/>
                  <a:ext cx="504000" cy="500040"/>
                  <a:chOff x="7788960" y="6236640"/>
                  <a:chExt cx="504000" cy="500040"/>
                </a:xfrm>
              </p:grpSpPr>
              <p:pic>
                <p:nvPicPr>
                  <p:cNvPr id="496" name="Овал 7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788960" y="6236640"/>
                    <a:ext cx="5040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497" name=""/>
                  <p:cNvSpPr/>
                  <p:nvPr/>
                </p:nvSpPr>
                <p:spPr>
                  <a:xfrm>
                    <a:off x="7878600" y="6321960"/>
                    <a:ext cx="331200" cy="329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" name="Овал 80"/>
                <p:cNvGrpSpPr/>
                <p:nvPr/>
              </p:nvGrpSpPr>
              <p:grpSpPr>
                <a:xfrm>
                  <a:off x="7794360" y="6236640"/>
                  <a:ext cx="492840" cy="488880"/>
                  <a:chOff x="7794360" y="6236640"/>
                  <a:chExt cx="492840" cy="488880"/>
                </a:xfrm>
              </p:grpSpPr>
              <p:pic>
                <p:nvPicPr>
                  <p:cNvPr id="499" name="Овал 8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794360" y="6236640"/>
                    <a:ext cx="492840" cy="48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00" name=""/>
                  <p:cNvSpPr/>
                  <p:nvPr/>
                </p:nvSpPr>
                <p:spPr>
                  <a:xfrm>
                    <a:off x="7885080" y="6326280"/>
                    <a:ext cx="318960" cy="317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1" name="Хорда 77">
                <a:hlinkClick r:id="" action="ppaction://hlinkshowjump?jump=previousslide"/>
              </p:cNvPr>
              <p:cNvSpPr/>
              <p:nvPr/>
            </p:nvSpPr>
            <p:spPr>
              <a:xfrm rot="7874400">
                <a:off x="7860240" y="6276240"/>
                <a:ext cx="365040" cy="363600"/>
              </a:xfrm>
              <a:custGeom>
                <a:avLst/>
                <a:gdLst>
                  <a:gd name="textAreaLeft" fmla="*/ 53280 w 365040"/>
                  <a:gd name="textAreaRight" fmla="*/ 311760 w 365040"/>
                  <a:gd name="textAreaTop" fmla="*/ 53280 h 363600"/>
                  <a:gd name="textAreaBottom" fmla="*/ 310320 h 363600"/>
                </a:gdLst>
                <a:ahLst/>
                <a:rect l="textAreaLeft" t="textAreaTop" r="textAreaRight" b="textAreaBottom"/>
                <a:pathLst>
                  <a:path w="355095" h="350534">
                    <a:moveTo>
                      <a:pt x="302278" y="299998"/>
                    </a:moveTo>
                    <a:lnTo>
                      <a:pt x="302278" y="299998"/>
                    </a:lnTo>
                    <a:arcTo wR="177548" hR="175267" stAng="2700000" swAng="13500000"/>
                    <a:close/>
                  </a:path>
                </a:pathLst>
              </a:custGeom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ffffff"/>
                  </a:gs>
                </a:gsLst>
                <a:lin ang="1132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Хорда 78">
                <a:hlinkClick r:id="" action="ppaction://hlinkshowjump?jump=previousslide"/>
              </p:cNvPr>
              <p:cNvSpPr/>
              <p:nvPr/>
            </p:nvSpPr>
            <p:spPr>
              <a:xfrm rot="18499800">
                <a:off x="7826760" y="6305760"/>
                <a:ext cx="436680" cy="432000"/>
              </a:xfrm>
              <a:custGeom>
                <a:avLst/>
                <a:gdLst>
                  <a:gd name="textAreaLeft" fmla="*/ 63720 w 436680"/>
                  <a:gd name="textAreaRight" fmla="*/ 372960 w 436680"/>
                  <a:gd name="textAreaTop" fmla="*/ 63000 h 432000"/>
                  <a:gd name="textAreaBottom" fmla="*/ 369000 h 432000"/>
                </a:gdLst>
                <a:ahLst/>
                <a:rect l="textAreaLeft" t="textAreaTop" r="textAreaRight" b="textAreaBottom"/>
                <a:pathLst>
                  <a:path w="424570" h="416354">
                    <a:moveTo>
                      <a:pt x="360919" y="356812"/>
                    </a:moveTo>
                    <a:lnTo>
                      <a:pt x="360919" y="356812"/>
                    </a:lnTo>
                    <a:arcTo wR="212285" hR="208177" stAng="2700012" swAng="13499988"/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0"/>
                    </a:srgbClr>
                  </a:gs>
                  <a:gs pos="100000">
                    <a:srgbClr val="ffffff">
                      <a:alpha val="47058"/>
                    </a:srgbClr>
                  </a:gs>
                </a:gsLst>
                <a:lin ang="70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3" name="Группа 102"/>
          <p:cNvGrpSpPr/>
          <p:nvPr/>
        </p:nvGrpSpPr>
        <p:grpSpPr>
          <a:xfrm>
            <a:off x="144360" y="55080"/>
            <a:ext cx="575640" cy="611640"/>
            <a:chOff x="144360" y="55080"/>
            <a:chExt cx="575640" cy="611640"/>
          </a:xfrm>
        </p:grpSpPr>
        <p:sp>
          <p:nvSpPr>
            <p:cNvPr id="504" name="Полилиния 103"/>
            <p:cNvSpPr/>
            <p:nvPr/>
          </p:nvSpPr>
          <p:spPr>
            <a:xfrm rot="10800000">
              <a:off x="199080" y="115920"/>
              <a:ext cx="475200" cy="550800"/>
            </a:xfrm>
            <a:custGeom>
              <a:avLst/>
              <a:gdLst/>
              <a:ahLst/>
              <a:rect l="l" t="t" r="r" b="b"/>
              <a:pathLst>
                <a:path w="502449" h="571485">
                  <a:moveTo>
                    <a:pt x="0" y="321471"/>
                  </a:moveTo>
                  <a:cubicBezTo>
                    <a:pt x="0" y="249730"/>
                    <a:pt x="18754" y="180050"/>
                    <a:pt x="53276" y="123523"/>
                  </a:cubicBezTo>
                  <a:cubicBezTo>
                    <a:pt x="100888" y="45563"/>
                    <a:pt x="173903" y="0"/>
                    <a:pt x="251225" y="1"/>
                  </a:cubicBezTo>
                  <a:cubicBezTo>
                    <a:pt x="328547" y="1"/>
                    <a:pt x="401562" y="45563"/>
                    <a:pt x="449173" y="123524"/>
                  </a:cubicBezTo>
                  <a:cubicBezTo>
                    <a:pt x="483695" y="180051"/>
                    <a:pt x="502449" y="249731"/>
                    <a:pt x="502448" y="321472"/>
                  </a:cubicBezTo>
                  <a:cubicBezTo>
                    <a:pt x="502448" y="393213"/>
                    <a:pt x="483694" y="391407"/>
                    <a:pt x="449172" y="447934"/>
                  </a:cubicBezTo>
                  <a:cubicBezTo>
                    <a:pt x="401560" y="525895"/>
                    <a:pt x="317212" y="571477"/>
                    <a:pt x="251224" y="571481"/>
                  </a:cubicBezTo>
                  <a:cubicBezTo>
                    <a:pt x="185236" y="571485"/>
                    <a:pt x="100855" y="525919"/>
                    <a:pt x="53244" y="447958"/>
                  </a:cubicBezTo>
                  <a:cubicBezTo>
                    <a:pt x="18722" y="391431"/>
                    <a:pt x="0" y="393213"/>
                    <a:pt x="0" y="321472"/>
                  </a:cubicBezTo>
                  <a:lnTo>
                    <a:pt x="0" y="321471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50000">
                  <a:srgbClr val="ffcc00"/>
                </a:gs>
                <a:gs pos="100000">
                  <a:srgbClr val="663300"/>
                </a:gs>
              </a:gsLst>
              <a:lin ang="10800000"/>
            </a:gradFill>
            <a:ln w="6480">
              <a:solidFill>
                <a:srgbClr val="ffffff">
                  <a:alpha val="8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Группа 31" descr=""/>
            <p:cNvPicPr/>
            <p:nvPr/>
          </p:nvPicPr>
          <p:blipFill>
            <a:blip r:embed="rId9"/>
            <a:stretch/>
          </p:blipFill>
          <p:spPr>
            <a:xfrm>
              <a:off x="177840" y="73080"/>
              <a:ext cx="506520" cy="52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Хорда 105">
              <a:hlinkClick r:id="" action="ppaction://hlinkshowjump?jump=firstslide"/>
            </p:cNvPr>
            <p:cNvSpPr/>
            <p:nvPr/>
          </p:nvSpPr>
          <p:spPr>
            <a:xfrm rot="10800000">
              <a:off x="263520" y="129600"/>
              <a:ext cx="344880" cy="350640"/>
            </a:xfrm>
            <a:custGeom>
              <a:avLst/>
              <a:gdLst>
                <a:gd name="textAreaLeft" fmla="*/ 50400 w 344880"/>
                <a:gd name="textAreaRight" fmla="*/ 294480 w 344880"/>
                <a:gd name="textAreaTop" fmla="*/ 51120 h 350640"/>
                <a:gd name="textAreaBottom" fmla="*/ 299520 h 350640"/>
              </a:gdLst>
              <a:ahLst/>
              <a:rect l="textAreaLeft" t="textAreaTop" r="textAreaRight" b="textAreaBottom"/>
              <a:pathLst>
                <a:path w="365103" h="364413">
                  <a:moveTo>
                    <a:pt x="311513" y="311168"/>
                  </a:moveTo>
                  <a:lnTo>
                    <a:pt x="311513" y="311168"/>
                  </a:lnTo>
                  <a:arcTo wR="182552" hR="182207" stAng="2700000" swAng="13500019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/>
                </a:gs>
              </a:gsLst>
              <a:lin ang="8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Хорда 106">
              <a:hlinkClick r:id="" action="ppaction://hlinkshowjump?jump=firstslide"/>
            </p:cNvPr>
            <p:cNvSpPr/>
            <p:nvPr/>
          </p:nvSpPr>
          <p:spPr>
            <a:xfrm rot="18264000">
              <a:off x="221400" y="139680"/>
              <a:ext cx="420840" cy="409320"/>
            </a:xfrm>
            <a:custGeom>
              <a:avLst/>
              <a:gdLst>
                <a:gd name="textAreaLeft" fmla="*/ 61560 w 420840"/>
                <a:gd name="textAreaRight" fmla="*/ 359280 w 420840"/>
                <a:gd name="textAreaTop" fmla="*/ 59760 h 409320"/>
                <a:gd name="textAreaBottom" fmla="*/ 349560 h 409320"/>
              </a:gdLst>
              <a:ahLst/>
              <a:rect l="textAreaLeft" t="textAreaTop" r="textAreaRight" b="textAreaBottom"/>
              <a:pathLst>
                <a:path w="437296" h="433360">
                  <a:moveTo>
                    <a:pt x="372555" y="370587"/>
                  </a:moveTo>
                  <a:lnTo>
                    <a:pt x="372555" y="370587"/>
                  </a:lnTo>
                  <a:arcTo wR="218648" hR="216680" stAng="2700000" swAng="13500000"/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ffffff">
                    <a:alpha val="47058"/>
                  </a:srgbClr>
                </a:gs>
              </a:gsLst>
              <a:lin ang="93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Picture 2" descr="E:\Мои документы\ФОТО\5 марта 2010 г\Весёлые старты\IMGP6161.JPG"/>
          <p:cNvPicPr/>
          <p:nvPr/>
        </p:nvPicPr>
        <p:blipFill>
          <a:blip r:embed="rId10"/>
          <a:stretch/>
        </p:blipFill>
        <p:spPr>
          <a:xfrm>
            <a:off x="1857240" y="928800"/>
            <a:ext cx="520884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2:39Z</dcterms:created>
  <dc:creator>Ирина Петровна</dc:creator>
  <dc:description/>
  <dc:language>en-US</dc:language>
  <cp:lastModifiedBy>Ирина Петровна</cp:lastModifiedBy>
  <dcterms:modified xsi:type="dcterms:W3CDTF">2010-03-08T06:01:49Z</dcterms:modified>
  <cp:revision>9</cp:revision>
  <dc:subject/>
  <dc:title>METAL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3361049</vt:lpwstr>
  </property>
</Properties>
</file>