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1.jpeg" ContentType="image/jpeg"/>
  <Override PartName="/ppt/media/image40.png" ContentType="image/png"/>
  <Override PartName="/ppt/media/image45.jpeg" ContentType="image/jpeg"/>
  <Override PartName="/ppt/media/image9.png" ContentType="image/png"/>
  <Override PartName="/ppt/media/image44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28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1A8E-4912-4FF8-A67E-2F0B084A9C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68A3-F245-440A-806D-8EE7539728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0489-7BA8-4FD6-A8E2-458DB83A4D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0F2A-5000-40DF-9D84-11AF9A1E5C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2639-F292-41D8-AB76-B88BF1AA10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3ED0-F916-4269-8249-F51EE799ED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5548-F2D5-42DC-9C02-C6B600B0A5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B560-582D-46FD-BEA5-4763269B3E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FCB3-3550-4060-AC54-4CEFF9AB18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B6CB-683D-43AD-A1A1-11728C3715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EA97-8A46-426C-BD9D-533F40D517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B08F-B4DD-4EB7-AEEC-4A01A42D4A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0581-EF4E-418D-B9FA-0468B0F4F7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DC22-503A-4792-A51A-EE2A17B432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7827-FFDD-456A-8C3A-F3C026F38B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60A6-7B87-4C2F-B640-CC05CAF7DE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606D-39D9-4ADB-A219-68B223B993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6C72-2FD9-44C4-A198-DBEA04FA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268-341E-4FD1-A038-5525169D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B84-7FB8-40B2-A97A-3031DD9E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559-7AD9-45FB-8D2B-3E9C6860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1889-5B97-40C6-B770-38EA173A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B35-3923-44D0-9D9E-8A2B7308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47C4-E7BF-469F-BC0F-2EBD8227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B814-2403-4FDF-B3A3-E5B85289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8A3-AB0C-4A10-8D59-C6B68DF3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BAC0-A61C-4D7C-8D75-1C5FEC74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2CFE-7A5A-47A3-9BB8-B306C003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F95-D4B7-43F5-A2B7-5563AF65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6633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888E-A6BE-47DB-A4C6-B8C81DCDAE1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FE3A-AB50-4A05-88FF-69B3C9D76E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6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4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43.jpeg"/><Relationship Id="rId11" Type="http://schemas.openxmlformats.org/officeDocument/2006/relationships/image" Target="../media/image44.jpeg"/><Relationship Id="rId12" Type="http://schemas.openxmlformats.org/officeDocument/2006/relationships/image" Target="../media/image4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6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5.png"/><Relationship Id="rId10" Type="http://schemas.openxmlformats.org/officeDocument/2006/relationships/image" Target="../media/image13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Группа 38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1" name="Полилиния 29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Хорда 32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Хорда 33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Заголовок 54" descr=""/>
          <p:cNvPicPr/>
          <p:nvPr/>
        </p:nvPicPr>
        <p:blipFill>
          <a:blip r:embed="rId2"/>
          <a:stretch/>
        </p:blipFill>
        <p:spPr>
          <a:xfrm>
            <a:off x="353880" y="3524400"/>
            <a:ext cx="8436240" cy="1955520"/>
          </a:xfrm>
          <a:prstGeom prst="rect">
            <a:avLst/>
          </a:prstGeom>
          <a:ln w="0">
            <a:noFill/>
          </a:ln>
        </p:spPr>
      </p:pic>
      <p:pic>
        <p:nvPicPr>
          <p:cNvPr id="56" name="Подзаголовок 55" descr=""/>
          <p:cNvPicPr/>
          <p:nvPr/>
        </p:nvPicPr>
        <p:blipFill>
          <a:blip r:embed="rId3"/>
          <a:stretch/>
        </p:blipFill>
        <p:spPr>
          <a:xfrm>
            <a:off x="1352520" y="5340240"/>
            <a:ext cx="6413400" cy="663840"/>
          </a:xfrm>
          <a:prstGeom prst="rect">
            <a:avLst/>
          </a:prstGeom>
          <a:ln w="0">
            <a:noFill/>
          </a:ln>
        </p:spPr>
      </p:pic>
      <p:pic>
        <p:nvPicPr>
          <p:cNvPr id="57" name="Номер слайда 36" descr=""/>
          <p:cNvPicPr/>
          <p:nvPr/>
        </p:nvPicPr>
        <p:blipFill>
          <a:blip r:embed="rId4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58" name="Группа 47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9" name="Полилиния 48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Группа 31" descr=""/>
            <p:cNvPicPr/>
            <p:nvPr/>
          </p:nvPicPr>
          <p:blipFill>
            <a:blip r:embed="rId5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Хорда 50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Хорда 51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4" name="Полилиния 57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6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7" name="Овал 62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8" name="Овал 6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1" name="Овал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3" name="Хорда 60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Хорда 61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6" name="Полилиния 65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8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9" name="Овал 70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80" name="Овал 7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1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Овал 71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83" name="Овал 7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" name="Хорда 68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Хорда 69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88" name="Полилиния 73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90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91" name="Овал 78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92" name="Овал 7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Овал 79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95" name="Овал 7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" name="Хорда 76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Хорда 77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9" name="Рисунок 44" descr="338.jpg"/>
          <p:cNvPicPr/>
          <p:nvPr/>
        </p:nvPicPr>
        <p:blipFill>
          <a:blip r:embed="rId12"/>
          <a:stretch/>
        </p:blipFill>
        <p:spPr>
          <a:xfrm>
            <a:off x="2071800" y="428760"/>
            <a:ext cx="49608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11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1857240" y="5000760"/>
            <a:ext cx="53438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Сороконож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518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519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521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522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523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526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7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8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531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533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534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535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6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538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9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0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543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545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546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547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8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550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1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2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55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9" name="Picture 2" descr="E:\Мои документы\ФОТО\5 марта 2010 г\Весёлые старты\IMGP6172.JPG"/>
          <p:cNvPicPr/>
          <p:nvPr/>
        </p:nvPicPr>
        <p:blipFill>
          <a:blip r:embed="rId10"/>
          <a:stretch/>
        </p:blipFill>
        <p:spPr>
          <a:xfrm>
            <a:off x="2000160" y="1071720"/>
            <a:ext cx="506592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62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ой подушка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569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570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572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573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574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5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577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8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9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582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584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585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586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7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589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0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1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3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594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596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597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598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9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601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02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3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606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7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0" name="Picture 2" descr="E:\Мои документы\ФОТО\5 марта 2010 г\Весёлые старты\IMGP6180.JPG"/>
          <p:cNvPicPr/>
          <p:nvPr/>
        </p:nvPicPr>
        <p:blipFill>
          <a:blip r:embed="rId10"/>
          <a:stretch/>
        </p:blipFill>
        <p:spPr>
          <a:xfrm>
            <a:off x="2143080" y="116856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613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4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ег с коромысло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620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21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2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24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25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628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9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0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2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633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63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636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637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3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640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41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2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645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64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648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649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652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3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4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6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657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8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1" name="Picture 2" descr="E:\Мои документы\ФОТО\5 марта 2010 г\Весёлые старты\IMGP6186.JPG"/>
          <p:cNvPicPr/>
          <p:nvPr/>
        </p:nvPicPr>
        <p:blipFill>
          <a:blip r:embed="rId10"/>
          <a:stretch/>
        </p:blipFill>
        <p:spPr>
          <a:xfrm>
            <a:off x="2143080" y="1143000"/>
            <a:ext cx="48499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664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5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1714680" y="5000760"/>
            <a:ext cx="555768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След в след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0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671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72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74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75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76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77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8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679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0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1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684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5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686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687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688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9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691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2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3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5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696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698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699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700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1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2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703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4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5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708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2" name="Picture 2" descr="E:\Мои документы\ФОТО\5 марта 2010 г\Весёлые старты\IMGP6191.JPG"/>
          <p:cNvPicPr/>
          <p:nvPr/>
        </p:nvPicPr>
        <p:blipFill>
          <a:blip r:embed="rId10"/>
          <a:stretch/>
        </p:blipFill>
        <p:spPr>
          <a:xfrm>
            <a:off x="2000160" y="1071720"/>
            <a:ext cx="487548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715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6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1499760" y="5000760"/>
            <a:ext cx="57150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ег в мешках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722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723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725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726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727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8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30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31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32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4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35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37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38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739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0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742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3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4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747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749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750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751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2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754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5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56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8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759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3" name="Picture 2" descr="E:\Мои документы\ФОТО\5 марта 2010 г\Весёлые старты\IMGP6197.JPG"/>
          <p:cNvPicPr/>
          <p:nvPr/>
        </p:nvPicPr>
        <p:blipFill>
          <a:blip r:embed="rId10"/>
          <a:stretch/>
        </p:blipFill>
        <p:spPr>
          <a:xfrm>
            <a:off x="1890720" y="107172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766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7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еретягивание канат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2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773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774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776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777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778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79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0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81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82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3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86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88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89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790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1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793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4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5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798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800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801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802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3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805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6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07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9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810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1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4" name="Picture 2" descr="E:\Мои документы\ФОТО\5 марта 2010 г\Весёлые старты\IMGP6205.JPG"/>
          <p:cNvPicPr/>
          <p:nvPr/>
        </p:nvPicPr>
        <p:blipFill>
          <a:blip r:embed="rId10"/>
          <a:stretch/>
        </p:blipFill>
        <p:spPr>
          <a:xfrm>
            <a:off x="2071800" y="1071720"/>
            <a:ext cx="49226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817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8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1499760" y="5214600"/>
            <a:ext cx="5929560" cy="85716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Награжд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824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825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827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828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829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0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832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3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4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6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837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839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840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841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2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3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844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5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46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8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849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851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852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853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4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856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7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8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0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861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2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5" name="Picture 2" descr="E:\Мои документы\ФОТО\5 марта 2010 г\Весёлые старты\IMGP6215.JPG"/>
          <p:cNvPicPr/>
          <p:nvPr/>
        </p:nvPicPr>
        <p:blipFill>
          <a:blip r:embed="rId10"/>
          <a:stretch/>
        </p:blipFill>
        <p:spPr>
          <a:xfrm>
            <a:off x="357120" y="7142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3" descr="E:\Мои документы\ФОТО\5 марта 2010 г\Весёлые старты\IMGP6216.JPG"/>
          <p:cNvPicPr/>
          <p:nvPr/>
        </p:nvPicPr>
        <p:blipFill>
          <a:blip r:embed="rId11"/>
          <a:stretch/>
        </p:blipFill>
        <p:spPr>
          <a:xfrm>
            <a:off x="6215040" y="78588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4" descr="E:\Мои документы\ФОТО\5 марта 2010 г\Весёлые старты\IMGP6217.JPG"/>
          <p:cNvPicPr/>
          <p:nvPr/>
        </p:nvPicPr>
        <p:blipFill>
          <a:blip r:embed="rId12"/>
          <a:stretch/>
        </p:blipFill>
        <p:spPr>
          <a:xfrm>
            <a:off x="3048120" y="27860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Группа 92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02" name="Полилиния 93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Хорда 95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Хорда 96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08" name="Полилиния 49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10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11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12" name="Овал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115" name="Овал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7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20" name="Полилиния 63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22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23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24" name="Овал 6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5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Овал 69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127" name="Овал 6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8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32" name="Полилиния 71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34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35" name="Овал 76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36" name="Овал 7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7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Овал 77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139" name="Овал 7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" name="Хорда 74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Хорда 75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3" name="Номер слайда 36" descr=""/>
          <p:cNvPicPr/>
          <p:nvPr/>
        </p:nvPicPr>
        <p:blipFill>
          <a:blip r:embed="rId8"/>
          <a:stretch/>
        </p:blipFill>
        <p:spPr>
          <a:xfrm>
            <a:off x="8424720" y="133200"/>
            <a:ext cx="433440" cy="379440"/>
          </a:xfrm>
          <a:prstGeom prst="rect">
            <a:avLst/>
          </a:prstGeom>
          <a:ln w="0">
            <a:noFill/>
          </a:ln>
        </p:spPr>
      </p:pic>
      <p:grpSp>
        <p:nvGrpSpPr>
          <p:cNvPr id="144" name="Группа 99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45" name="Полилиния 100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Хорда 102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Хорда 103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Прямоугольник 44" descr=""/>
          <p:cNvPicPr/>
          <p:nvPr/>
        </p:nvPicPr>
        <p:blipFill>
          <a:blip r:embed="rId10"/>
          <a:stretch/>
        </p:blipFill>
        <p:spPr>
          <a:xfrm>
            <a:off x="384120" y="438120"/>
            <a:ext cx="8363160" cy="11890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1" descr="IMGP6118.JPG"/>
          <p:cNvPicPr/>
          <p:nvPr/>
        </p:nvPicPr>
        <p:blipFill>
          <a:blip r:embed="rId11"/>
          <a:stretch/>
        </p:blipFill>
        <p:spPr>
          <a:xfrm>
            <a:off x="1857240" y="1714680"/>
            <a:ext cx="542952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53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28840" y="4571640"/>
            <a:ext cx="5843520" cy="130500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Весёлые старт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4 классы – 5 март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160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61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6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64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65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168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0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73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7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76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77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180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1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2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85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8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88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89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192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3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4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97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Рисунок 48" descr="IMGP6119.JPG"/>
          <p:cNvPicPr/>
          <p:nvPr/>
        </p:nvPicPr>
        <p:blipFill>
          <a:blip r:embed="rId10"/>
          <a:stretch/>
        </p:blipFill>
        <p:spPr>
          <a:xfrm>
            <a:off x="2143080" y="928800"/>
            <a:ext cx="46436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204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лоса препятствий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211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212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214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215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216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7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219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0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1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224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226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227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228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9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231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2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3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236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238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239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240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1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243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4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5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248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Picture 2" descr="E:\Мои документы\ФОТО\5 марта 2010 г\Весёлые старты\IMGP6126.JPG"/>
          <p:cNvPicPr/>
          <p:nvPr/>
        </p:nvPicPr>
        <p:blipFill>
          <a:blip r:embed="rId10"/>
          <a:stretch/>
        </p:blipFill>
        <p:spPr>
          <a:xfrm>
            <a:off x="2000160" y="1000080"/>
            <a:ext cx="5048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255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285560" y="5000760"/>
            <a:ext cx="59864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грузка арбузов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262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263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265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266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267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8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270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1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2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275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277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278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279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0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282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3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4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287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289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290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291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2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294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5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6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299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3" name="Picture 2" descr="E:\Мои документы\ФОТО\5 марта 2010 г\Весёлые старты\IMGP6133.JPG"/>
          <p:cNvPicPr/>
          <p:nvPr/>
        </p:nvPicPr>
        <p:blipFill>
          <a:blip r:embed="rId10"/>
          <a:stretch/>
        </p:blipFill>
        <p:spPr>
          <a:xfrm>
            <a:off x="642960" y="15001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E:\Мои документы\ФОТО\5 марта 2010 г\Весёлые старты\IMGP6136.JPG"/>
          <p:cNvPicPr/>
          <p:nvPr/>
        </p:nvPicPr>
        <p:blipFill>
          <a:blip r:embed="rId11"/>
          <a:stretch/>
        </p:blipFill>
        <p:spPr>
          <a:xfrm>
            <a:off x="4786200" y="150012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307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285560" y="5000760"/>
            <a:ext cx="59864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садка картош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314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315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317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318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319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0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322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3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4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327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329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330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331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2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334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5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6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339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341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342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343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4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346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7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8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351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Picture 2" descr="E:\Мои документы\ФОТО\5 марта 2010 г\Весёлые старты\IMGP6139.JPG"/>
          <p:cNvPicPr/>
          <p:nvPr/>
        </p:nvPicPr>
        <p:blipFill>
          <a:blip r:embed="rId10"/>
          <a:stretch/>
        </p:blipFill>
        <p:spPr>
          <a:xfrm>
            <a:off x="1785960" y="1000080"/>
            <a:ext cx="506556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358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Нарисуй солнышко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365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366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368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369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370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1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373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4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5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378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380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381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382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3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385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6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7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390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392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393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394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5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397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8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9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402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" descr="E:\Мои документы\ФОТО\5 марта 2010 г\Весёлые старты\IMGP6150.JPG"/>
          <p:cNvPicPr/>
          <p:nvPr/>
        </p:nvPicPr>
        <p:blipFill>
          <a:blip r:embed="rId10"/>
          <a:stretch/>
        </p:blipFill>
        <p:spPr>
          <a:xfrm>
            <a:off x="2000160" y="1025640"/>
            <a:ext cx="4929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409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0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642680" y="5000760"/>
            <a:ext cx="562932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ймай рыбку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416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417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419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420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421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2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424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5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6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429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431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432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433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4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436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7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8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441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443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444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445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6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448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9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0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453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4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7" name="Picture 2" descr="E:\Мои документы\ФОТО\5 марта 2010 г\Весёлые старты\IMGP6154.JPG"/>
          <p:cNvPicPr/>
          <p:nvPr/>
        </p:nvPicPr>
        <p:blipFill>
          <a:blip r:embed="rId10"/>
          <a:stretch/>
        </p:blipFill>
        <p:spPr>
          <a:xfrm>
            <a:off x="1857240" y="1000080"/>
            <a:ext cx="506592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460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1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ередача мячей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467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468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470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471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472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3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475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6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7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480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482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483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484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5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487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8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9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492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494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495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496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7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499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0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1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04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5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Picture 2" descr="E:\Мои документы\ФОТО\5 марта 2010 г\Весёлые старты\IMGP6161.JPG"/>
          <p:cNvPicPr/>
          <p:nvPr/>
        </p:nvPicPr>
        <p:blipFill>
          <a:blip r:embed="rId10"/>
          <a:stretch/>
        </p:blipFill>
        <p:spPr>
          <a:xfrm>
            <a:off x="1857240" y="928800"/>
            <a:ext cx="520884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3:52:39Z</dcterms:created>
  <dc:creator>Ирина Петровна</dc:creator>
  <dc:description/>
  <dc:language>en-US</dc:language>
  <cp:lastModifiedBy>Ирина Петровна</cp:lastModifiedBy>
  <dcterms:modified xsi:type="dcterms:W3CDTF">2010-03-08T06:01:49Z</dcterms:modified>
  <cp:revision>9</cp:revision>
  <dc:subject/>
  <dc:title>METAL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3361049</vt:lpwstr>
  </property>
</Properties>
</file>