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28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18D6547-C144-42CF-A3AF-9AC39036E780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AD95-9373-4DE5-BBDF-D909912110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1851-F876-43D2-8980-39D3690030B6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3237-D79C-4B1A-92E2-8FF0B8C984B6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8DC3-D502-4FF8-9332-945873FA5563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873E-118B-4219-8634-EE4AFB7E7ED8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0D4C-4C85-4247-ABF3-B23F4E2DE1FA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06F1-EF45-4053-8785-ADF43FA711E9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83E7-CE03-4123-80E5-5275C431C2CE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1CE4-2254-46BC-9A47-4269997AF79C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B5F3-F105-4CE2-877D-F8D8D386F8D9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791A-7C35-4DA3-B639-281B09BD4585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DB26-E140-4C5F-834F-12319FA047FB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1278-E237-4F94-80F1-4EA6876EF172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839-4054-4F03-A978-6D020A99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C9E-E8D6-4A85-9478-E4D16A10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807-097F-461A-9EF1-FBBA97C2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6222-AFA3-4DAD-85BC-4C72FE9B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AB1-A4C3-4DFF-ABCA-1A5AD70C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0665-2000-4138-8447-1CF4CD91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E6C3-2C7C-4D6B-80F6-35D51ACC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6C86-599A-4CE0-A45F-A7C0D193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5690-E5D2-41FD-901A-A2A3F1DF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34D-C6E6-4BAA-857E-D7AD7A03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FD8-2FE1-4767-8EB4-311EABFA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DDA9-A723-4B72-9194-A9EA8434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38567B-E75B-4591-B7F8-4BB981D24FE3}" type="datetime10">
              <a:rPr b="0" lang="ru-RU" sz="1200" spc="-1" strike="noStrike">
                <a:solidFill>
                  <a:srgbClr val="898989"/>
                </a:solidFill>
                <a:latin typeface="Calibri"/>
              </a:rPr>
              <a:t>18:5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B970-2A4B-4488-8F0E-AE88502FF0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4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6.jpeg"/><Relationship Id="rId14" Type="http://schemas.openxmlformats.org/officeDocument/2006/relationships/image" Target="../media/image27.jpeg"/><Relationship Id="rId15" Type="http://schemas.openxmlformats.org/officeDocument/2006/relationships/image" Target="../media/image28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24" descr=""/>
          <p:cNvPicPr/>
          <p:nvPr/>
        </p:nvPicPr>
        <p:blipFill>
          <a:blip r:embed="rId1"/>
          <a:stretch/>
        </p:blipFill>
        <p:spPr>
          <a:xfrm>
            <a:off x="237960" y="3992400"/>
            <a:ext cx="8680680" cy="1043280"/>
          </a:xfrm>
          <a:prstGeom prst="rect">
            <a:avLst/>
          </a:prstGeom>
          <a:ln w="0">
            <a:noFill/>
          </a:ln>
        </p:spPr>
      </p:pic>
      <p:pic>
        <p:nvPicPr>
          <p:cNvPr id="49" name="Подзаголовок 25" descr=""/>
          <p:cNvPicPr/>
          <p:nvPr/>
        </p:nvPicPr>
        <p:blipFill>
          <a:blip r:embed="rId2"/>
          <a:stretch/>
        </p:blipFill>
        <p:spPr>
          <a:xfrm>
            <a:off x="1352520" y="5084640"/>
            <a:ext cx="6413400" cy="706680"/>
          </a:xfrm>
          <a:prstGeom prst="rect">
            <a:avLst/>
          </a:prstGeom>
          <a:ln w="0">
            <a:noFill/>
          </a:ln>
        </p:spPr>
      </p:pic>
      <p:grpSp>
        <p:nvGrpSpPr>
          <p:cNvPr id="50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51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52" name="Прямоугольник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55" name="Прямоугольник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58" name="Прямоугольник с одним скругленным углом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61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63" name="Фигура, имеющая форму буквы L 34" descr=""/>
              <p:cNvPicPr/>
              <p:nvPr/>
            </p:nvPicPr>
            <p:blipFill>
              <a:blip r:embed="rId6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66" name="Скругленный прямоугольник 40" descr=""/>
            <p:cNvPicPr/>
            <p:nvPr/>
          </p:nvPicPr>
          <p:blipFill>
            <a:blip r:embed="rId7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69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8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72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75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76" name="Прямоугольник 27" descr=""/>
              <p:cNvPicPr/>
              <p:nvPr/>
            </p:nvPicPr>
            <p:blipFill>
              <a:blip r:embed="rId10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79" name="Прямоугольник 2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82" name="Прямоугольник с двумя скругленными соседними углами 26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85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89" name="Прямоугольник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399D-EB39-4F61-ACE7-5E6576394E00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18:5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7" descr="E:\Мои документы\ФОТО\5 марта 2010 г\Пионербол\IMGP6265.JPG"/>
          <p:cNvPicPr/>
          <p:nvPr/>
        </p:nvPicPr>
        <p:blipFill>
          <a:blip r:embed="rId15"/>
          <a:stretch/>
        </p:blipFill>
        <p:spPr>
          <a:xfrm>
            <a:off x="2286000" y="7858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438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439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442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445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448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450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453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456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459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462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463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466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469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472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476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E904-BFC9-4610-8F85-3DDE8A174E26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18:5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E:\Мои документы\ФОТО\5 марта 2010 г\Пионербол\IMGP6285.JPG"/>
          <p:cNvPicPr/>
          <p:nvPr/>
        </p:nvPicPr>
        <p:blipFill>
          <a:blip r:embed="rId13"/>
          <a:stretch/>
        </p:blipFill>
        <p:spPr>
          <a:xfrm>
            <a:off x="1857240" y="1143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481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482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485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488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0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491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493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5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496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499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502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505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506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509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0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512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515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519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0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1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0800-BD8A-426F-87A7-6FB3EC477963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18:5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E:\Мои документы\ФОТО\5 марта 2010 г\Пионербол\IMGP6314.JPG"/>
          <p:cNvPicPr/>
          <p:nvPr/>
        </p:nvPicPr>
        <p:blipFill>
          <a:blip r:embed="rId13"/>
          <a:stretch/>
        </p:blipFill>
        <p:spPr>
          <a:xfrm>
            <a:off x="1643040" y="928800"/>
            <a:ext cx="592452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524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525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6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528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9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531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2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3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534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536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8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539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542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545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548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549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552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555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6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558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562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4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88A0-8C71-42E3-BB74-9EA33DE11260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18:5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E:\Мои документы\ФОТО\5 марта 2010 г\Пионербол\IMGP6309.JPG"/>
          <p:cNvPicPr/>
          <p:nvPr/>
        </p:nvPicPr>
        <p:blipFill>
          <a:blip r:embed="rId13"/>
          <a:stretch/>
        </p:blipFill>
        <p:spPr>
          <a:xfrm>
            <a:off x="5500800" y="714240"/>
            <a:ext cx="3071880" cy="2303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E:\Мои документы\ФОТО\5 марта 2010 г\Пионербол\IMGP6310.JPG"/>
          <p:cNvPicPr/>
          <p:nvPr/>
        </p:nvPicPr>
        <p:blipFill>
          <a:blip r:embed="rId14"/>
          <a:stretch/>
        </p:blipFill>
        <p:spPr>
          <a:xfrm>
            <a:off x="571680" y="7142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E:\Мои документы\ФОТО\5 марта 2010 г\Пионербол\IMGP6261.JPG"/>
          <p:cNvPicPr/>
          <p:nvPr/>
        </p:nvPicPr>
        <p:blipFill>
          <a:blip r:embed="rId15"/>
          <a:stretch/>
        </p:blipFill>
        <p:spPr>
          <a:xfrm>
            <a:off x="2857680" y="3143160"/>
            <a:ext cx="3357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94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95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98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101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104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106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109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112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115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118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119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122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125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128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132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298B-EAAC-4AE3-977B-25F03A4196E3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18:5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0" descr="E:\Мои документы\ФОТО\5 марта 2010 г\Пионербол\IMGP6253.JPG"/>
          <p:cNvPicPr/>
          <p:nvPr/>
        </p:nvPicPr>
        <p:blipFill>
          <a:blip r:embed="rId13"/>
          <a:stretch/>
        </p:blipFill>
        <p:spPr>
          <a:xfrm>
            <a:off x="1643040" y="1071720"/>
            <a:ext cx="58104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137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138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141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144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147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149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152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155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158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161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162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165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168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171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175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AA81-3936-4901-866B-86A6B149744C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18:5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E:\Мои документы\ФОТО\5 марта 2010 г\Пионербол\IMGP6254.JPG"/>
          <p:cNvPicPr/>
          <p:nvPr/>
        </p:nvPicPr>
        <p:blipFill>
          <a:blip r:embed="rId13"/>
          <a:stretch/>
        </p:blipFill>
        <p:spPr>
          <a:xfrm>
            <a:off x="1428840" y="85716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180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181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184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187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190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192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195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198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201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204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205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208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211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214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218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12DD-DCC2-4C11-A6BA-A107C166EF49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18:5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E:\Мои документы\ФОТО\5 марта 2010 г\Пионербол\IMGP6257.JPG"/>
          <p:cNvPicPr/>
          <p:nvPr/>
        </p:nvPicPr>
        <p:blipFill>
          <a:blip r:embed="rId13"/>
          <a:stretch/>
        </p:blipFill>
        <p:spPr>
          <a:xfrm>
            <a:off x="1500120" y="91116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223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224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227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230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233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235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238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241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244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247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248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251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254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257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261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F480-2D3F-4E6A-B1A5-0CA74C03C09D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18:5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E:\Мои документы\ФОТО\5 марта 2010 г\Пионербол\IMGP6267.JPG"/>
          <p:cNvPicPr/>
          <p:nvPr/>
        </p:nvPicPr>
        <p:blipFill>
          <a:blip r:embed="rId13"/>
          <a:stretch/>
        </p:blipFill>
        <p:spPr>
          <a:xfrm>
            <a:off x="1500120" y="857160"/>
            <a:ext cx="62150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266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267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270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273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276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278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0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281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284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287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290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291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294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297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300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304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6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74F0-7535-4295-B7BC-CCCFB56575A3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18:5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E:\Мои документы\ФОТО\5 марта 2010 г\Пионербол\IMGP6268.JPG"/>
          <p:cNvPicPr/>
          <p:nvPr/>
        </p:nvPicPr>
        <p:blipFill>
          <a:blip r:embed="rId13"/>
          <a:stretch/>
        </p:blipFill>
        <p:spPr>
          <a:xfrm>
            <a:off x="1571760" y="857160"/>
            <a:ext cx="61912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309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310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313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316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319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321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324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327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330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333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334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337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340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343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347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9D08-3D48-4D1E-953B-BAA713E5C189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18:5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E:\Мои документы\ФОТО\5 марта 2010 г\Пионербол\IMGP6270.JPG"/>
          <p:cNvPicPr/>
          <p:nvPr/>
        </p:nvPicPr>
        <p:blipFill>
          <a:blip r:embed="rId13"/>
          <a:stretch/>
        </p:blipFill>
        <p:spPr>
          <a:xfrm>
            <a:off x="1571760" y="857160"/>
            <a:ext cx="61912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352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353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356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359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362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364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367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370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373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376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377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380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1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383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386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390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2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3C1F-A33A-49C0-ABAE-D51AB9BC37F3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18:5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E:\Мои документы\ФОТО\5 марта 2010 г\Пионербол\IMGP6271.JPG"/>
          <p:cNvPicPr/>
          <p:nvPr/>
        </p:nvPicPr>
        <p:blipFill>
          <a:blip r:embed="rId13"/>
          <a:stretch/>
        </p:blipFill>
        <p:spPr>
          <a:xfrm>
            <a:off x="1500120" y="857160"/>
            <a:ext cx="61437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395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396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399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402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4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405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407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410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413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416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419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420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423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426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429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433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C726-5D78-4563-981F-9A382823736B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18:5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" descr="E:\Мои документы\ФОТО\5 марта 2010 г\Пионербол\IMGP6277.JPG"/>
          <p:cNvPicPr/>
          <p:nvPr/>
        </p:nvPicPr>
        <p:blipFill>
          <a:blip r:embed="rId13"/>
          <a:stretch/>
        </p:blipFill>
        <p:spPr>
          <a:xfrm>
            <a:off x="1452600" y="78588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3:50:53Z</dcterms:created>
  <dc:creator>Ирина Петровна</dc:creator>
  <dc:description/>
  <dc:language>en-US</dc:language>
  <cp:lastModifiedBy>Ирина Петровна</cp:lastModifiedBy>
  <dcterms:modified xsi:type="dcterms:W3CDTF">2010-03-08T05:57:41Z</dcterms:modified>
  <cp:revision>8</cp:revision>
  <dc:subject/>
  <dc:title>Windows X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1561049</vt:lpwstr>
  </property>
</Properties>
</file>