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28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47FF28F-8A1B-44BE-B6A6-7050B4E42094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3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9577-1882-42D5-AA0F-C7462C4D94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ED6F-84F7-43A3-95F3-BC0564387CE1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3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4C0A-7839-42D4-B009-D2FCFB8BBFDC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3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3EE3-E191-4B23-BF9F-3DA36236D5AC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3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2A9B-2ABB-4E57-894D-79C335F21092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3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F0A3-270B-40C3-86B6-E9F94302EA7F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3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EB10-2C3E-4E3E-AB1E-C22BA961BEE3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3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4D57-23BC-49F6-9136-9382650059B0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3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5ADA-D504-4FCF-9A53-4870EEFEBFA1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3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EFFE-4A0B-4C58-BE5F-62DA68E859DB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3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254C-334E-46B4-8606-AFFD8C3F22F4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3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A00F-B49B-417B-999B-8EF04CE6503B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3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E03E-C7A0-431E-A4E3-79B0A1FD4E66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3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14B2-B80B-444C-B9BD-D032BA649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65E6-4D3F-4233-BF66-68D46466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B03F-1E48-48A5-A7F9-7ED27058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2F30-4F8F-4ACA-877C-9E07D271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6A4B-D69A-452D-AD4F-6E4216E5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F933-6204-409A-97B1-69567B83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066E-6D3D-4945-A79D-718EA2B9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25B1-C051-47B5-BA7D-EDE31119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52A1-CEB9-4BC6-88D7-3682D78D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B91E-AC7D-44FE-8A04-2D37760F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CA41-7C53-4477-BC40-7FEE5DF1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E40-4A7C-41F2-94A2-347EC23E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77E5A0C-5462-43DF-B543-2FB4D4B466B3}" type="datetime10">
              <a:rPr b="0" lang="ru-RU" sz="1200" spc="-1" strike="noStrike">
                <a:solidFill>
                  <a:srgbClr val="898989"/>
                </a:solidFill>
                <a:latin typeface="Calibri"/>
              </a:rPr>
              <a:t>03:24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76EB-3A03-4324-981D-3EAAFEF8F2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4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5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6.jpeg"/><Relationship Id="rId14" Type="http://schemas.openxmlformats.org/officeDocument/2006/relationships/image" Target="../media/image27.jpeg"/><Relationship Id="rId15" Type="http://schemas.openxmlformats.org/officeDocument/2006/relationships/image" Target="../media/image28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7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0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1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3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24" descr=""/>
          <p:cNvPicPr/>
          <p:nvPr/>
        </p:nvPicPr>
        <p:blipFill>
          <a:blip r:embed="rId1"/>
          <a:stretch/>
        </p:blipFill>
        <p:spPr>
          <a:xfrm>
            <a:off x="237960" y="3992400"/>
            <a:ext cx="8680680" cy="1043280"/>
          </a:xfrm>
          <a:prstGeom prst="rect">
            <a:avLst/>
          </a:prstGeom>
          <a:ln w="0">
            <a:noFill/>
          </a:ln>
        </p:spPr>
      </p:pic>
      <p:pic>
        <p:nvPicPr>
          <p:cNvPr id="49" name="Подзаголовок 25" descr=""/>
          <p:cNvPicPr/>
          <p:nvPr/>
        </p:nvPicPr>
        <p:blipFill>
          <a:blip r:embed="rId2"/>
          <a:stretch/>
        </p:blipFill>
        <p:spPr>
          <a:xfrm>
            <a:off x="1352520" y="5084640"/>
            <a:ext cx="6413400" cy="706680"/>
          </a:xfrm>
          <a:prstGeom prst="rect">
            <a:avLst/>
          </a:prstGeom>
          <a:ln w="0">
            <a:noFill/>
          </a:ln>
        </p:spPr>
      </p:pic>
      <p:grpSp>
        <p:nvGrpSpPr>
          <p:cNvPr id="50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51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52" name="Прямоугольник 32" descr=""/>
              <p:cNvPicPr/>
              <p:nvPr/>
            </p:nvPicPr>
            <p:blipFill>
              <a:blip r:embed="rId3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55" name="Прямоугольник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58" name="Прямоугольник с одним скругленным углом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61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63" name="Фигура, имеющая форму буквы L 34" descr=""/>
              <p:cNvPicPr/>
              <p:nvPr/>
            </p:nvPicPr>
            <p:blipFill>
              <a:blip r:embed="rId6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66" name="Скругленный прямоугольник 40" descr=""/>
            <p:cNvPicPr/>
            <p:nvPr/>
          </p:nvPicPr>
          <p:blipFill>
            <a:blip r:embed="rId7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69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8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72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75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76" name="Прямоугольник 27" descr=""/>
              <p:cNvPicPr/>
              <p:nvPr/>
            </p:nvPicPr>
            <p:blipFill>
              <a:blip r:embed="rId10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79" name="Прямоугольник 2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82" name="Прямоугольник с двумя скругленными соседними углами 26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85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3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89" name="Прямоугольник 29" descr=""/>
              <p:cNvPicPr/>
              <p:nvPr/>
            </p:nvPicPr>
            <p:blipFill>
              <a:blip r:embed="rId14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4EEE-DB64-42D6-8D04-4350E649AC88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3:24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7" descr="E:\Мои документы\ФОТО\5 марта 2010 г\Пионербол\IMGP6265.JPG"/>
          <p:cNvPicPr/>
          <p:nvPr/>
        </p:nvPicPr>
        <p:blipFill>
          <a:blip r:embed="rId15"/>
          <a:stretch/>
        </p:blipFill>
        <p:spPr>
          <a:xfrm>
            <a:off x="2286000" y="7858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438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439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442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445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7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448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450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453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456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459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462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463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466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7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469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472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476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7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8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60F9-1DC9-4E6D-864C-CEE9E4792C71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3:24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" descr="E:\Мои документы\ФОТО\5 марта 2010 г\Пионербол\IMGP6285.JPG"/>
          <p:cNvPicPr/>
          <p:nvPr/>
        </p:nvPicPr>
        <p:blipFill>
          <a:blip r:embed="rId13"/>
          <a:stretch/>
        </p:blipFill>
        <p:spPr>
          <a:xfrm>
            <a:off x="1857240" y="11430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481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482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485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488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0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491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493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4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5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496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499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502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505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506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7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509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0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512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515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519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0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1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F0E6-8E4B-4A4D-B786-420A3258DED9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3:24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E:\Мои документы\ФОТО\5 марта 2010 г\Пионербол\IMGP6314.JPG"/>
          <p:cNvPicPr/>
          <p:nvPr/>
        </p:nvPicPr>
        <p:blipFill>
          <a:blip r:embed="rId13"/>
          <a:stretch/>
        </p:blipFill>
        <p:spPr>
          <a:xfrm>
            <a:off x="1643040" y="928800"/>
            <a:ext cx="592452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524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525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6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528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9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531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2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3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534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5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536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8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539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542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545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548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549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552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555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6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558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1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562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4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6C03-40F4-4269-87E4-122B61AC13DF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3:24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E:\Мои документы\ФОТО\5 марта 2010 г\Пионербол\IMGP6309.JPG"/>
          <p:cNvPicPr/>
          <p:nvPr/>
        </p:nvPicPr>
        <p:blipFill>
          <a:blip r:embed="rId13"/>
          <a:stretch/>
        </p:blipFill>
        <p:spPr>
          <a:xfrm>
            <a:off x="5500800" y="714240"/>
            <a:ext cx="3071880" cy="2303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E:\Мои документы\ФОТО\5 марта 2010 г\Пионербол\IMGP6310.JPG"/>
          <p:cNvPicPr/>
          <p:nvPr/>
        </p:nvPicPr>
        <p:blipFill>
          <a:blip r:embed="rId14"/>
          <a:stretch/>
        </p:blipFill>
        <p:spPr>
          <a:xfrm>
            <a:off x="571680" y="71424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E:\Мои документы\ФОТО\5 марта 2010 г\Пионербол\IMGP6261.JPG"/>
          <p:cNvPicPr/>
          <p:nvPr/>
        </p:nvPicPr>
        <p:blipFill>
          <a:blip r:embed="rId15"/>
          <a:stretch/>
        </p:blipFill>
        <p:spPr>
          <a:xfrm>
            <a:off x="2857680" y="3143160"/>
            <a:ext cx="3357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94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95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98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101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104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106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109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112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115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118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119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122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125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128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132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C74E-4F74-4006-8EB7-E660882054DF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3:24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0" descr="E:\Мои документы\ФОТО\5 марта 2010 г\Пионербол\IMGP6253.JPG"/>
          <p:cNvPicPr/>
          <p:nvPr/>
        </p:nvPicPr>
        <p:blipFill>
          <a:blip r:embed="rId13"/>
          <a:stretch/>
        </p:blipFill>
        <p:spPr>
          <a:xfrm>
            <a:off x="1643040" y="1071720"/>
            <a:ext cx="58104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137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138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141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144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147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149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152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155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158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161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162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165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168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171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175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EFA3-AD47-47DA-A9EA-70FDC377EAA4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3:24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E:\Мои документы\ФОТО\5 марта 2010 г\Пионербол\IMGP6254.JPG"/>
          <p:cNvPicPr/>
          <p:nvPr/>
        </p:nvPicPr>
        <p:blipFill>
          <a:blip r:embed="rId13"/>
          <a:stretch/>
        </p:blipFill>
        <p:spPr>
          <a:xfrm>
            <a:off x="1428840" y="85716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180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181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184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187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190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192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195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198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201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204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205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208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211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214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218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D05C-8571-4834-947F-8663BD0E92EE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3:24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E:\Мои документы\ФОТО\5 марта 2010 г\Пионербол\IMGP6257.JPG"/>
          <p:cNvPicPr/>
          <p:nvPr/>
        </p:nvPicPr>
        <p:blipFill>
          <a:blip r:embed="rId13"/>
          <a:stretch/>
        </p:blipFill>
        <p:spPr>
          <a:xfrm>
            <a:off x="1500120" y="911160"/>
            <a:ext cx="607212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223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224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227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230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233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235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238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241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244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247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248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251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254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257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261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C22E-B3A2-4AFB-BBEA-03D41A643D63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3:24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E:\Мои документы\ФОТО\5 марта 2010 г\Пионербол\IMGP6267.JPG"/>
          <p:cNvPicPr/>
          <p:nvPr/>
        </p:nvPicPr>
        <p:blipFill>
          <a:blip r:embed="rId13"/>
          <a:stretch/>
        </p:blipFill>
        <p:spPr>
          <a:xfrm>
            <a:off x="1500120" y="857160"/>
            <a:ext cx="621504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266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267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270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273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276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278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0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281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284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287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290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291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294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297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300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304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6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0874-8C0C-4024-9377-F6BCD0CC7CAB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3:24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E:\Мои документы\ФОТО\5 марта 2010 г\Пионербол\IMGP6268.JPG"/>
          <p:cNvPicPr/>
          <p:nvPr/>
        </p:nvPicPr>
        <p:blipFill>
          <a:blip r:embed="rId13"/>
          <a:stretch/>
        </p:blipFill>
        <p:spPr>
          <a:xfrm>
            <a:off x="1571760" y="857160"/>
            <a:ext cx="61912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309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310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313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316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319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321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3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324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327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330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333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334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337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340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1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343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347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2F00-DE73-48B3-A780-4D2B22907A59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3:24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E:\Мои документы\ФОТО\5 марта 2010 г\Пионербол\IMGP6270.JPG"/>
          <p:cNvPicPr/>
          <p:nvPr/>
        </p:nvPicPr>
        <p:blipFill>
          <a:blip r:embed="rId13"/>
          <a:stretch/>
        </p:blipFill>
        <p:spPr>
          <a:xfrm>
            <a:off x="1571760" y="857160"/>
            <a:ext cx="61912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352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353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356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359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1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362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364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367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370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373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376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377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380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1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383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386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390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2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09CF-FA4A-4D62-A816-1F6B82316086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3:24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E:\Мои документы\ФОТО\5 марта 2010 г\Пионербол\IMGP6271.JPG"/>
          <p:cNvPicPr/>
          <p:nvPr/>
        </p:nvPicPr>
        <p:blipFill>
          <a:blip r:embed="rId13"/>
          <a:stretch/>
        </p:blipFill>
        <p:spPr>
          <a:xfrm>
            <a:off x="1500120" y="857160"/>
            <a:ext cx="61437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395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396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399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402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4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405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407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9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410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413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416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419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420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423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426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429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433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5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CA7C-53BF-4AA3-8E3B-345465116D59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3:24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2" descr="E:\Мои документы\ФОТО\5 марта 2010 г\Пионербол\IMGP6277.JPG"/>
          <p:cNvPicPr/>
          <p:nvPr/>
        </p:nvPicPr>
        <p:blipFill>
          <a:blip r:embed="rId13"/>
          <a:stretch/>
        </p:blipFill>
        <p:spPr>
          <a:xfrm>
            <a:off x="1452600" y="785880"/>
            <a:ext cx="6191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3:50:53Z</dcterms:created>
  <dc:creator>Ирина Петровна</dc:creator>
  <dc:description/>
  <dc:language>en-US</dc:language>
  <cp:lastModifiedBy>Ирина Петровна</cp:lastModifiedBy>
  <dcterms:modified xsi:type="dcterms:W3CDTF">2010-03-08T05:57:41Z</dcterms:modified>
  <cp:revision>8</cp:revision>
  <dc:subject/>
  <dc:title>Windows X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91561049</vt:lpwstr>
  </property>
</Properties>
</file>