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30507B-38BC-4096-8D51-BD12B6CB08CB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C1B7-CC0E-4FC9-B6AD-3C80E5289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9E68-3958-4C9B-BD9F-BDAC0FC4EDFC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2043-AAF7-43DD-9CF9-8AABB9E5B70D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B730-A1E5-4F42-ABCB-A6FDDBBB2F88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CC88-4A9E-4010-8C7C-2D8359EB9BCC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C8B0-A86F-418A-B02A-9576D4629119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FFD2-E420-459F-9279-3C2D775DEF6F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C485-DFB4-49A5-AF54-FF9294C76B00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4B06-C2F4-4E10-8AF5-E8E9EA81264C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5033-CCA0-4D72-84CA-97AD6091B72E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04C8-448A-4211-868B-3A0F57007C77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7821-AC29-4B7E-91AC-DF98AD902B1B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13AB-A79B-443B-B2F0-6FAF915C8050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6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57D-E66A-43E9-AFC5-07CED4CE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A6D-4D48-40F8-BF97-71757DDF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43C-D9B7-4743-A772-EEB3CD07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C70-99A7-4829-B99C-838B302C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382-CBCA-43C9-B6FE-B5DF5263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40F-AC45-4CAF-881E-6A611CB9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BFA-2F84-4410-B728-D9FA6DC8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BFD-BC7A-47C9-A68B-54DF81F1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DD7-E51C-48F3-8E88-04E9B028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E26-B320-47EF-B3A0-EFDC3106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581-E6F0-44C7-9F30-77727EE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5BD-09EB-4617-9549-92B426CD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EE35A8-6304-4579-BF1C-CAF0F17400BB}" type="datetime10">
              <a:rPr b="0" lang="ru-RU" sz="1200" spc="-1" strike="noStrike">
                <a:solidFill>
                  <a:srgbClr val="898989"/>
                </a:solidFill>
                <a:latin typeface="Calibri"/>
              </a:rPr>
              <a:t>18:3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7570-1B0B-444E-A7EE-82068248D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24" descr=""/>
          <p:cNvPicPr/>
          <p:nvPr/>
        </p:nvPicPr>
        <p:blipFill>
          <a:blip r:embed="rId1"/>
          <a:stretch/>
        </p:blipFill>
        <p:spPr>
          <a:xfrm>
            <a:off x="237960" y="3992400"/>
            <a:ext cx="8680680" cy="104328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5" descr=""/>
          <p:cNvPicPr/>
          <p:nvPr/>
        </p:nvPicPr>
        <p:blipFill>
          <a:blip r:embed="rId2"/>
          <a:stretch/>
        </p:blipFill>
        <p:spPr>
          <a:xfrm>
            <a:off x="1352520" y="5084640"/>
            <a:ext cx="6413400" cy="706680"/>
          </a:xfrm>
          <a:prstGeom prst="rect">
            <a:avLst/>
          </a:prstGeom>
          <a:ln w="0">
            <a:noFill/>
          </a:ln>
        </p:spPr>
      </p:pic>
      <p:grpSp>
        <p:nvGrpSpPr>
          <p:cNvPr id="50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51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52" name="Прямоугольник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55" name="Прямоугольник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58" name="Прямоугольник с одним скругленным углом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61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63" name="Фигура, имеющая форму буквы L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66" name="Скругленный прямоугольник 40" descr=""/>
            <p:cNvPicPr/>
            <p:nvPr/>
          </p:nvPicPr>
          <p:blipFill>
            <a:blip r:embed="rId7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69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72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75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76" name="Прямоугольник 27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79" name="Прямоугольник 2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82" name="Прямоугольник с двумя скругленными соседними углами 26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85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89" name="Прямоугольник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F783-6831-4C6B-867C-D0CEE5826C27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7" descr="E:\Мои документы\ФОТО\5 марта 2010 г\Пионербол\IMGP6265.JPG"/>
          <p:cNvPicPr/>
          <p:nvPr/>
        </p:nvPicPr>
        <p:blipFill>
          <a:blip r:embed="rId15"/>
          <a:stretch/>
        </p:blipFill>
        <p:spPr>
          <a:xfrm>
            <a:off x="2286000" y="7858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438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439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442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45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48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50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53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56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459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462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463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466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469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472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476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31E6-B5FD-4794-BBC7-64E364D66363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E:\Мои документы\ФОТО\5 марта 2010 г\Пионербол\IMGP6285.JPG"/>
          <p:cNvPicPr/>
          <p:nvPr/>
        </p:nvPicPr>
        <p:blipFill>
          <a:blip r:embed="rId13"/>
          <a:stretch/>
        </p:blipFill>
        <p:spPr>
          <a:xfrm>
            <a:off x="1857240" y="1143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481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482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485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88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91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93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96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99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502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505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506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509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512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515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519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1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C2E2-DC93-44E2-92F0-A44A5E525310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E:\Мои документы\ФОТО\5 марта 2010 г\Пионербол\IMGP6314.JPG"/>
          <p:cNvPicPr/>
          <p:nvPr/>
        </p:nvPicPr>
        <p:blipFill>
          <a:blip r:embed="rId13"/>
          <a:stretch/>
        </p:blipFill>
        <p:spPr>
          <a:xfrm>
            <a:off x="1643040" y="928800"/>
            <a:ext cx="592452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524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525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528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531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534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536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539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542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545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548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549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552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555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558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562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82CB-4785-486D-8124-31A1E7E8917A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E:\Мои документы\ФОТО\5 марта 2010 г\Пионербол\IMGP6309.JPG"/>
          <p:cNvPicPr/>
          <p:nvPr/>
        </p:nvPicPr>
        <p:blipFill>
          <a:blip r:embed="rId13"/>
          <a:stretch/>
        </p:blipFill>
        <p:spPr>
          <a:xfrm>
            <a:off x="5500800" y="71424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E:\Мои документы\ФОТО\5 марта 2010 г\Пионербол\IMGP6310.JPG"/>
          <p:cNvPicPr/>
          <p:nvPr/>
        </p:nvPicPr>
        <p:blipFill>
          <a:blip r:embed="rId14"/>
          <a:stretch/>
        </p:blipFill>
        <p:spPr>
          <a:xfrm>
            <a:off x="571680" y="7142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E:\Мои документы\ФОТО\5 марта 2010 г\Пионербол\IMGP6261.JPG"/>
          <p:cNvPicPr/>
          <p:nvPr/>
        </p:nvPicPr>
        <p:blipFill>
          <a:blip r:embed="rId15"/>
          <a:stretch/>
        </p:blipFill>
        <p:spPr>
          <a:xfrm>
            <a:off x="2857680" y="314316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94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95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98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01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04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06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09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12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115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118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119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122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125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128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132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A740-4622-40B1-A837-D5C577E8889D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0" descr="E:\Мои документы\ФОТО\5 марта 2010 г\Пионербол\IMGP6253.JPG"/>
          <p:cNvPicPr/>
          <p:nvPr/>
        </p:nvPicPr>
        <p:blipFill>
          <a:blip r:embed="rId13"/>
          <a:stretch/>
        </p:blipFill>
        <p:spPr>
          <a:xfrm>
            <a:off x="1643040" y="1071720"/>
            <a:ext cx="58104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137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138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141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44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47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49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52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55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158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161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162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165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168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171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175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449F-15A7-4B83-AFE8-ACB8A59A7A73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Мои документы\ФОТО\5 марта 2010 г\Пионербол\IMGP6254.JPG"/>
          <p:cNvPicPr/>
          <p:nvPr/>
        </p:nvPicPr>
        <p:blipFill>
          <a:blip r:embed="rId13"/>
          <a:stretch/>
        </p:blipFill>
        <p:spPr>
          <a:xfrm>
            <a:off x="1428840" y="8571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180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181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184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87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90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92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95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98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01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04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05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08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11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214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218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4642-7712-4873-B64E-549F72590A2C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E:\Мои документы\ФОТО\5 марта 2010 г\Пионербол\IMGP6257.JPG"/>
          <p:cNvPicPr/>
          <p:nvPr/>
        </p:nvPicPr>
        <p:blipFill>
          <a:blip r:embed="rId13"/>
          <a:stretch/>
        </p:blipFill>
        <p:spPr>
          <a:xfrm>
            <a:off x="1500120" y="91116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223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224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227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230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233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235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238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241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44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47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48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51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54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257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261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2144-081D-4F5A-AEC9-420A4B756E14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E:\Мои документы\ФОТО\5 марта 2010 г\Пионербол\IMGP6267.JPG"/>
          <p:cNvPicPr/>
          <p:nvPr/>
        </p:nvPicPr>
        <p:blipFill>
          <a:blip r:embed="rId13"/>
          <a:stretch/>
        </p:blipFill>
        <p:spPr>
          <a:xfrm>
            <a:off x="1500120" y="857160"/>
            <a:ext cx="6215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266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267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270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273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276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278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281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284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87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90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91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94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97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00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04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920A-3CBC-4BF7-AB3A-CBE526DFCB00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E:\Мои документы\ФОТО\5 марта 2010 г\Пионербол\IMGP6268.JPG"/>
          <p:cNvPicPr/>
          <p:nvPr/>
        </p:nvPicPr>
        <p:blipFill>
          <a:blip r:embed="rId13"/>
          <a:stretch/>
        </p:blipFill>
        <p:spPr>
          <a:xfrm>
            <a:off x="1571760" y="85716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09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10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13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316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319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321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324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327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330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333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334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337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340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43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47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F92A-E935-48B7-9570-E665A8032195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E:\Мои документы\ФОТО\5 марта 2010 г\Пионербол\IMGP6270.JPG"/>
          <p:cNvPicPr/>
          <p:nvPr/>
        </p:nvPicPr>
        <p:blipFill>
          <a:blip r:embed="rId13"/>
          <a:stretch/>
        </p:blipFill>
        <p:spPr>
          <a:xfrm>
            <a:off x="1571760" y="85716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52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53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56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359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362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364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367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370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373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376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377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380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383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86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90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5235-51AA-438E-8AAC-23C4B52AA07B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E:\Мои документы\ФОТО\5 марта 2010 г\Пионербол\IMGP6271.JPG"/>
          <p:cNvPicPr/>
          <p:nvPr/>
        </p:nvPicPr>
        <p:blipFill>
          <a:blip r:embed="rId13"/>
          <a:stretch/>
        </p:blipFill>
        <p:spPr>
          <a:xfrm>
            <a:off x="1500120" y="857160"/>
            <a:ext cx="6143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95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96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99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02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05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07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10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13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416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419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420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423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426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429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433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2B71-C5EC-438D-A14C-E03BB78F19B1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18:39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E:\Мои документы\ФОТО\5 марта 2010 г\Пионербол\IMGP6277.JPG"/>
          <p:cNvPicPr/>
          <p:nvPr/>
        </p:nvPicPr>
        <p:blipFill>
          <a:blip r:embed="rId13"/>
          <a:stretch/>
        </p:blipFill>
        <p:spPr>
          <a:xfrm>
            <a:off x="1452600" y="78588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0:53Z</dcterms:created>
  <dc:creator>Ирина Петровна</dc:creator>
  <dc:description/>
  <dc:language>en-US</dc:language>
  <cp:lastModifiedBy>Ирина Петровна</cp:lastModifiedBy>
  <dcterms:modified xsi:type="dcterms:W3CDTF">2010-03-08T05:57:41Z</dcterms:modified>
  <cp:revision>8</cp:revision>
  <dc:subject/>
  <dc:title>Windows X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1561049</vt:lpwstr>
  </property>
</Properties>
</file>