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png" ContentType="image/png"/>
  <Override PartName="/ppt/media/image28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E79FA85-2E76-43E5-A78E-C1190C61EBFA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9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59D5-8506-4950-B193-DBA3C8B3D8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Дата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569AF-B85D-4884-975A-FDE701CFEC85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9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Дата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93F3-E1C1-44D1-B7DE-97F31792A236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9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Дата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DA68-9630-414A-BA28-F5E3665ABB94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9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Дата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B069-7B1D-4585-B5F5-EC1FD19AE4C8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9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Дата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23B0-EACA-431E-A2FC-16CBD9439290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9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Дата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4588-7CCD-4CA5-8C96-DCF9ED5B5B1A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9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Дата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1132-0012-4B4E-AB02-241CCD8DFA94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9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Дата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C3B6-7A96-4EA8-8F7D-3F697185C470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9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Дата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B6BA-4547-4341-BD47-3332777A0280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9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Дата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762B-F77B-4D9B-A567-B0064C8DA8F5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9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Дата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3B34-826D-4AEC-8AB0-F6DDFDCE78A4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9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Дата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2BA94-3DBE-4A21-818D-AABFD4B36C7F}" type="datetime12">
              <a:rPr b="0" lang="ru-RU" sz="1200" spc="-1" strike="noStrike">
                <a:solidFill>
                  <a:srgbClr val="000000"/>
                </a:solidFill>
                <a:latin typeface="Calibri"/>
              </a:rPr>
              <a:t>09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7197-B8BB-43AA-AF1A-A413C28CF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570D-17EE-455B-892C-F9A2CC132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2A5C-C46A-498F-944A-6F88EE896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D01A-8DEC-4629-95F8-8887CD26D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81B6-C87B-412B-A5EA-95E69A9A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CC14-32D9-40F2-A596-8AB0F7DE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8B30-3196-4E87-AF1F-7E7D0E9F2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2D8E-6EF5-46A9-A59B-C32FC777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A3A0-CA97-4C5D-8A88-89477E6FA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B821-B3B8-414F-9AB9-7BA92CE4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4E37-D4DC-46E1-A7FE-26D76BB82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5254-54B0-48AD-93F8-75FAD6A8E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1EE6ACE-E4BF-4A17-87C7-E1B4685D22BD}" type="datetime10">
              <a:rPr b="0" lang="ru-RU" sz="1200" spc="-1" strike="noStrike">
                <a:solidFill>
                  <a:srgbClr val="898989"/>
                </a:solidFill>
                <a:latin typeface="Calibri"/>
              </a:rPr>
              <a:t>09:24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5D81-367B-4FBA-AA83-B75EE453C2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24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25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26.jpeg"/><Relationship Id="rId14" Type="http://schemas.openxmlformats.org/officeDocument/2006/relationships/image" Target="../media/image27.jpeg"/><Relationship Id="rId15" Type="http://schemas.openxmlformats.org/officeDocument/2006/relationships/image" Target="../media/image28.jpe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6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7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8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9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20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21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22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23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24" descr=""/>
          <p:cNvPicPr/>
          <p:nvPr/>
        </p:nvPicPr>
        <p:blipFill>
          <a:blip r:embed="rId1"/>
          <a:stretch/>
        </p:blipFill>
        <p:spPr>
          <a:xfrm>
            <a:off x="237960" y="3992400"/>
            <a:ext cx="8680680" cy="1043280"/>
          </a:xfrm>
          <a:prstGeom prst="rect">
            <a:avLst/>
          </a:prstGeom>
          <a:ln w="0">
            <a:noFill/>
          </a:ln>
        </p:spPr>
      </p:pic>
      <p:pic>
        <p:nvPicPr>
          <p:cNvPr id="49" name="Подзаголовок 25" descr=""/>
          <p:cNvPicPr/>
          <p:nvPr/>
        </p:nvPicPr>
        <p:blipFill>
          <a:blip r:embed="rId2"/>
          <a:stretch/>
        </p:blipFill>
        <p:spPr>
          <a:xfrm>
            <a:off x="1352520" y="5084640"/>
            <a:ext cx="6413400" cy="706680"/>
          </a:xfrm>
          <a:prstGeom prst="rect">
            <a:avLst/>
          </a:prstGeom>
          <a:ln w="0">
            <a:noFill/>
          </a:ln>
        </p:spPr>
      </p:pic>
      <p:grpSp>
        <p:nvGrpSpPr>
          <p:cNvPr id="50" name="Группа 47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grpSp>
          <p:nvGrpSpPr>
            <p:cNvPr id="51" name="Прямоугольник 32"/>
            <p:cNvGrpSpPr/>
            <p:nvPr/>
          </p:nvGrpSpPr>
          <p:grpSpPr>
            <a:xfrm>
              <a:off x="7753320" y="6397560"/>
              <a:ext cx="1390680" cy="460440"/>
              <a:chOff x="7753320" y="6397560"/>
              <a:chExt cx="1390680" cy="460440"/>
            </a:xfrm>
          </p:grpSpPr>
          <p:pic>
            <p:nvPicPr>
              <p:cNvPr id="52" name="Прямоугольник 32" descr=""/>
              <p:cNvPicPr/>
              <p:nvPr/>
            </p:nvPicPr>
            <p:blipFill>
              <a:blip r:embed="rId3"/>
              <a:stretch/>
            </p:blipFill>
            <p:spPr>
              <a:xfrm>
                <a:off x="7753320" y="6397560"/>
                <a:ext cx="1390680" cy="46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7795440" y="6428160"/>
                <a:ext cx="125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Прямоугольник 30"/>
            <p:cNvGrpSpPr/>
            <p:nvPr/>
          </p:nvGrpSpPr>
          <p:grpSpPr>
            <a:xfrm>
              <a:off x="71280" y="6379920"/>
              <a:ext cx="7824960" cy="455760"/>
              <a:chOff x="71280" y="6379920"/>
              <a:chExt cx="7824960" cy="455760"/>
            </a:xfrm>
          </p:grpSpPr>
          <p:pic>
            <p:nvPicPr>
              <p:cNvPr id="55" name="Прямоугольник 30" descr=""/>
              <p:cNvPicPr/>
              <p:nvPr/>
            </p:nvPicPr>
            <p:blipFill>
              <a:blip r:embed="rId4"/>
              <a:stretch/>
            </p:blipFill>
            <p:spPr>
              <a:xfrm>
                <a:off x="71280" y="6379920"/>
                <a:ext cx="7824960" cy="4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>
                <a:off x="100800" y="6428160"/>
                <a:ext cx="7694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Прямоугольник с одним скругленным углом 31"/>
            <p:cNvGrpSpPr/>
            <p:nvPr/>
          </p:nvGrpSpPr>
          <p:grpSpPr>
            <a:xfrm>
              <a:off x="0" y="6357960"/>
              <a:ext cx="1623240" cy="500040"/>
              <a:chOff x="0" y="6357960"/>
              <a:chExt cx="1623240" cy="500040"/>
            </a:xfrm>
          </p:grpSpPr>
          <p:pic>
            <p:nvPicPr>
              <p:cNvPr id="58" name="Прямоугольник с одним скругленным углом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6357960"/>
                <a:ext cx="162324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101160" y="6428520"/>
                <a:ext cx="13748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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STAR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" name="Группа 46"/>
          <p:cNvGrpSpPr/>
          <p:nvPr/>
        </p:nvGrpSpPr>
        <p:grpSpPr>
          <a:xfrm>
            <a:off x="7726320" y="6461280"/>
            <a:ext cx="285840" cy="285480"/>
            <a:chOff x="7726320" y="6461280"/>
            <a:chExt cx="285840" cy="285480"/>
          </a:xfrm>
        </p:grpSpPr>
        <p:sp>
          <p:nvSpPr>
            <p:cNvPr id="61" name="Овал 33"/>
            <p:cNvSpPr/>
            <p:nvPr/>
          </p:nvSpPr>
          <p:spPr>
            <a:xfrm>
              <a:off x="7726320" y="6461280"/>
              <a:ext cx="285840" cy="2854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Фигура, имеющая форму буквы L 34"/>
            <p:cNvGrpSpPr/>
            <p:nvPr/>
          </p:nvGrpSpPr>
          <p:grpSpPr>
            <a:xfrm>
              <a:off x="7772400" y="6498360"/>
              <a:ext cx="164520" cy="219240"/>
              <a:chOff x="7772400" y="6498360"/>
              <a:chExt cx="164520" cy="219240"/>
            </a:xfrm>
          </p:grpSpPr>
          <p:pic>
            <p:nvPicPr>
              <p:cNvPr id="63" name="Фигура, имеющая форму буквы L 34" descr=""/>
              <p:cNvPicPr/>
              <p:nvPr/>
            </p:nvPicPr>
            <p:blipFill>
              <a:blip r:embed="rId6"/>
              <a:stretch/>
            </p:blipFill>
            <p:spPr>
              <a:xfrm>
                <a:off x="7772400" y="6498360"/>
                <a:ext cx="164520" cy="2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"/>
              <p:cNvSpPr/>
              <p:nvPr/>
            </p:nvSpPr>
            <p:spPr>
              <a:xfrm rot="2556600">
                <a:off x="7823520" y="6505200"/>
                <a:ext cx="540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" name="Скругленный прямоугольник 40"/>
          <p:cNvGrpSpPr/>
          <p:nvPr/>
        </p:nvGrpSpPr>
        <p:grpSpPr>
          <a:xfrm>
            <a:off x="1474920" y="6370560"/>
            <a:ext cx="2584440" cy="560520"/>
            <a:chOff x="1474920" y="6370560"/>
            <a:chExt cx="2584440" cy="560520"/>
          </a:xfrm>
        </p:grpSpPr>
        <p:pic>
          <p:nvPicPr>
            <p:cNvPr id="66" name="Скругленный прямоугольник 40" descr=""/>
            <p:cNvPicPr/>
            <p:nvPr/>
          </p:nvPicPr>
          <p:blipFill>
            <a:blip r:embed="rId7"/>
            <a:stretch/>
          </p:blipFill>
          <p:spPr>
            <a:xfrm>
              <a:off x="1474920" y="6370560"/>
              <a:ext cx="25844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1592280" y="6408720"/>
              <a:ext cx="23875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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indows 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Скругленный прямоугольник 43"/>
          <p:cNvGrpSpPr/>
          <p:nvPr/>
        </p:nvGrpSpPr>
        <p:grpSpPr>
          <a:xfrm>
            <a:off x="7504200" y="5718240"/>
            <a:ext cx="1414440" cy="517320"/>
            <a:chOff x="7504200" y="5718240"/>
            <a:chExt cx="1414440" cy="517320"/>
          </a:xfrm>
        </p:grpSpPr>
        <p:pic>
          <p:nvPicPr>
            <p:cNvPr id="69" name="Скругленный прямоугольник 43" descr="">
              <a:hlinkClick r:id="" action="ppaction://hlinkshowjump?jump=nextslide"/>
            </p:cNvPr>
            <p:cNvPicPr/>
            <p:nvPr/>
          </p:nvPicPr>
          <p:blipFill>
            <a:blip r:embed="rId8"/>
            <a:stretch/>
          </p:blipFill>
          <p:spPr>
            <a:xfrm>
              <a:off x="7504200" y="5718240"/>
              <a:ext cx="14144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7589880" y="5783400"/>
              <a:ext cx="1251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Далее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Скругленный прямоугольник 44"/>
          <p:cNvGrpSpPr/>
          <p:nvPr/>
        </p:nvGrpSpPr>
        <p:grpSpPr>
          <a:xfrm>
            <a:off x="6151680" y="5718240"/>
            <a:ext cx="1407960" cy="517320"/>
            <a:chOff x="6151680" y="5718240"/>
            <a:chExt cx="1407960" cy="517320"/>
          </a:xfrm>
        </p:grpSpPr>
        <p:pic>
          <p:nvPicPr>
            <p:cNvPr id="72" name="Скругленный прямоугольник 44" descr="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6151680" y="5718240"/>
              <a:ext cx="14079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6232680" y="5783400"/>
              <a:ext cx="1250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lt;&lt;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Группа 45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grpSp>
          <p:nvGrpSpPr>
            <p:cNvPr id="75" name="Прямоугольник 27"/>
            <p:cNvGrpSpPr/>
            <p:nvPr/>
          </p:nvGrpSpPr>
          <p:grpSpPr>
            <a:xfrm>
              <a:off x="23760" y="489240"/>
              <a:ext cx="263520" cy="5731200"/>
              <a:chOff x="23760" y="489240"/>
              <a:chExt cx="263520" cy="5731200"/>
            </a:xfrm>
          </p:grpSpPr>
          <p:pic>
            <p:nvPicPr>
              <p:cNvPr id="76" name="Прямоугольник 27" descr=""/>
              <p:cNvPicPr/>
              <p:nvPr/>
            </p:nvPicPr>
            <p:blipFill>
              <a:blip r:embed="rId10"/>
              <a:stretch/>
            </p:blipFill>
            <p:spPr>
              <a:xfrm>
                <a:off x="2376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"/>
              <p:cNvSpPr/>
              <p:nvPr/>
            </p:nvSpPr>
            <p:spPr>
              <a:xfrm>
                <a:off x="896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Прямоугольник 28"/>
            <p:cNvGrpSpPr/>
            <p:nvPr/>
          </p:nvGrpSpPr>
          <p:grpSpPr>
            <a:xfrm>
              <a:off x="8880480" y="489240"/>
              <a:ext cx="263520" cy="5731200"/>
              <a:chOff x="8880480" y="489240"/>
              <a:chExt cx="263520" cy="5731200"/>
            </a:xfrm>
          </p:grpSpPr>
          <p:pic>
            <p:nvPicPr>
              <p:cNvPr id="79" name="Прямоугольник 28" descr=""/>
              <p:cNvPicPr/>
              <p:nvPr/>
            </p:nvPicPr>
            <p:blipFill>
              <a:blip r:embed="rId11"/>
              <a:stretch/>
            </p:blipFill>
            <p:spPr>
              <a:xfrm>
                <a:off x="888048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" name=""/>
              <p:cNvSpPr/>
              <p:nvPr/>
            </p:nvSpPr>
            <p:spPr>
              <a:xfrm>
                <a:off x="89438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Прямоугольник с двумя скругленными соседними углами 26"/>
            <p:cNvGrpSpPr/>
            <p:nvPr/>
          </p:nvGrpSpPr>
          <p:grpSpPr>
            <a:xfrm>
              <a:off x="0" y="0"/>
              <a:ext cx="9144000" cy="620640"/>
              <a:chOff x="0" y="0"/>
              <a:chExt cx="9144000" cy="620640"/>
            </a:xfrm>
          </p:grpSpPr>
          <p:pic>
            <p:nvPicPr>
              <p:cNvPr id="82" name="Прямоугольник с двумя скругленными соседними углами 26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0"/>
                <a:ext cx="914400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"/>
              <p:cNvSpPr/>
              <p:nvPr/>
            </p:nvSpPr>
            <p:spPr>
              <a:xfrm>
                <a:off x="113760" y="41760"/>
                <a:ext cx="894636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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Windows St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Скругленный прямоугольник 35"/>
            <p:cNvGrpSpPr/>
            <p:nvPr/>
          </p:nvGrpSpPr>
          <p:grpSpPr>
            <a:xfrm>
              <a:off x="8538480" y="65520"/>
              <a:ext cx="461520" cy="393840"/>
              <a:chOff x="8538480" y="65520"/>
              <a:chExt cx="461520" cy="393840"/>
            </a:xfrm>
          </p:grpSpPr>
          <p:pic>
            <p:nvPicPr>
              <p:cNvPr id="85" name="Скругленный прямоугольник 35" descr="">
                <a:hlinkClick r:id="" action="ppaction://hlinkshowjump?jump=endshow"/>
              </p:cNvPr>
              <p:cNvPicPr/>
              <p:nvPr/>
            </p:nvPicPr>
            <p:blipFill>
              <a:blip r:embed="rId13"/>
              <a:stretch/>
            </p:blipFill>
            <p:spPr>
              <a:xfrm>
                <a:off x="8538480" y="65520"/>
                <a:ext cx="46152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6" name=""/>
              <p:cNvSpPr/>
              <p:nvPr/>
            </p:nvSpPr>
            <p:spPr>
              <a:xfrm>
                <a:off x="8579880" y="105840"/>
                <a:ext cx="38736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" name="Умножение 36">
              <a:hlinkClick r:id="" action="ppaction://hlinkshowjump?jump=endshow"/>
            </p:cNvPr>
            <p:cNvSpPr/>
            <p:nvPr/>
          </p:nvSpPr>
          <p:spPr>
            <a:xfrm>
              <a:off x="8632800" y="126720"/>
              <a:ext cx="280800" cy="279720"/>
            </a:xfrm>
            <a:custGeom>
              <a:avLst/>
              <a:gdLst>
                <a:gd name="textAreaLeft" fmla="*/ 43920 w 280800"/>
                <a:gd name="textAreaRight" fmla="*/ 236880 w 280800"/>
                <a:gd name="textAreaTop" fmla="*/ 43920 h 279720"/>
                <a:gd name="textAreaBottom" fmla="*/ 235800 h 279720"/>
              </a:gdLst>
              <a:ahLst/>
              <a:rect l="textAreaLeft" t="textAreaTop" r="textAreaRight" b="textAreaBottom"/>
              <a:pathLst>
                <a:path w="285750" h="285751">
                  <a:moveTo>
                    <a:pt x="44868" y="92392"/>
                  </a:moveTo>
                  <a:lnTo>
                    <a:pt x="92392" y="44869"/>
                  </a:lnTo>
                  <a:lnTo>
                    <a:pt x="142875" y="95352"/>
                  </a:lnTo>
                  <a:lnTo>
                    <a:pt x="193358" y="44869"/>
                  </a:lnTo>
                  <a:lnTo>
                    <a:pt x="240882" y="92392"/>
                  </a:lnTo>
                  <a:lnTo>
                    <a:pt x="190398" y="142876"/>
                  </a:lnTo>
                  <a:lnTo>
                    <a:pt x="240882" y="193359"/>
                  </a:lnTo>
                  <a:lnTo>
                    <a:pt x="193358" y="240882"/>
                  </a:lnTo>
                  <a:lnTo>
                    <a:pt x="142875" y="190399"/>
                  </a:lnTo>
                  <a:lnTo>
                    <a:pt x="92392" y="240882"/>
                  </a:lnTo>
                  <a:lnTo>
                    <a:pt x="44868" y="193359"/>
                  </a:lnTo>
                  <a:lnTo>
                    <a:pt x="95352" y="14287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Прямоугольник 29"/>
            <p:cNvGrpSpPr/>
            <p:nvPr/>
          </p:nvGrpSpPr>
          <p:grpSpPr>
            <a:xfrm>
              <a:off x="23760" y="6089400"/>
              <a:ext cx="9120240" cy="268560"/>
              <a:chOff x="23760" y="6089400"/>
              <a:chExt cx="9120240" cy="268560"/>
            </a:xfrm>
          </p:grpSpPr>
          <p:pic>
            <p:nvPicPr>
              <p:cNvPr id="89" name="Прямоугольник 29" descr=""/>
              <p:cNvPicPr/>
              <p:nvPr/>
            </p:nvPicPr>
            <p:blipFill>
              <a:blip r:embed="rId14"/>
              <a:stretch/>
            </p:blipFill>
            <p:spPr>
              <a:xfrm>
                <a:off x="23760" y="6089400"/>
                <a:ext cx="9120240" cy="2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"/>
              <p:cNvSpPr/>
              <p:nvPr/>
            </p:nvSpPr>
            <p:spPr>
              <a:xfrm rot="5400000">
                <a:off x="4516560" y="1676880"/>
                <a:ext cx="140040" cy="89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1" name="Дата 39"/>
          <p:cNvSpPr/>
          <p:nvPr/>
        </p:nvSpPr>
        <p:spPr>
          <a:xfrm>
            <a:off x="8072280" y="6429240"/>
            <a:ext cx="1000440" cy="35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A1A0B-5917-4A4B-BE60-FE6393876A5C}" type="datetime10">
              <a:rPr b="1" lang="ru-RU" sz="2400" spc="-1" strike="noStrike">
                <a:solidFill>
                  <a:srgbClr val="ffffff"/>
                </a:solidFill>
                <a:latin typeface="Calibri"/>
              </a:rPr>
              <a:t>09:24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7" descr="E:\Мои документы\ФОТО\5 марта 2010 г\Пионербол\IMGP6265.JPG"/>
          <p:cNvPicPr/>
          <p:nvPr/>
        </p:nvPicPr>
        <p:blipFill>
          <a:blip r:embed="rId15"/>
          <a:stretch/>
        </p:blipFill>
        <p:spPr>
          <a:xfrm>
            <a:off x="2286000" y="7858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Группа 47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grpSp>
          <p:nvGrpSpPr>
            <p:cNvPr id="438" name="Прямоугольник 32"/>
            <p:cNvGrpSpPr/>
            <p:nvPr/>
          </p:nvGrpSpPr>
          <p:grpSpPr>
            <a:xfrm>
              <a:off x="7753320" y="6397560"/>
              <a:ext cx="1390680" cy="460440"/>
              <a:chOff x="7753320" y="6397560"/>
              <a:chExt cx="1390680" cy="460440"/>
            </a:xfrm>
          </p:grpSpPr>
          <p:pic>
            <p:nvPicPr>
              <p:cNvPr id="439" name="Прямоугольник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7753320" y="6397560"/>
                <a:ext cx="1390680" cy="46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"/>
              <p:cNvSpPr/>
              <p:nvPr/>
            </p:nvSpPr>
            <p:spPr>
              <a:xfrm>
                <a:off x="7795440" y="6428160"/>
                <a:ext cx="125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Прямоугольник 30"/>
            <p:cNvGrpSpPr/>
            <p:nvPr/>
          </p:nvGrpSpPr>
          <p:grpSpPr>
            <a:xfrm>
              <a:off x="71280" y="6379920"/>
              <a:ext cx="7824960" cy="455760"/>
              <a:chOff x="71280" y="6379920"/>
              <a:chExt cx="7824960" cy="455760"/>
            </a:xfrm>
          </p:grpSpPr>
          <p:pic>
            <p:nvPicPr>
              <p:cNvPr id="442" name="Прямоугольник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71280" y="6379920"/>
                <a:ext cx="7824960" cy="4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3" name=""/>
              <p:cNvSpPr/>
              <p:nvPr/>
            </p:nvSpPr>
            <p:spPr>
              <a:xfrm>
                <a:off x="100800" y="6428160"/>
                <a:ext cx="7694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Прямоугольник с одним скругленным углом 31"/>
            <p:cNvGrpSpPr/>
            <p:nvPr/>
          </p:nvGrpSpPr>
          <p:grpSpPr>
            <a:xfrm>
              <a:off x="0" y="6357960"/>
              <a:ext cx="1623240" cy="500040"/>
              <a:chOff x="0" y="6357960"/>
              <a:chExt cx="1623240" cy="500040"/>
            </a:xfrm>
          </p:grpSpPr>
          <p:pic>
            <p:nvPicPr>
              <p:cNvPr id="445" name="Прямоугольник с одним скругленным углом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6357960"/>
                <a:ext cx="162324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"/>
              <p:cNvSpPr/>
              <p:nvPr/>
            </p:nvSpPr>
            <p:spPr>
              <a:xfrm>
                <a:off x="101160" y="6428520"/>
                <a:ext cx="13748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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STAR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7" name="Группа 46"/>
          <p:cNvGrpSpPr/>
          <p:nvPr/>
        </p:nvGrpSpPr>
        <p:grpSpPr>
          <a:xfrm>
            <a:off x="7726320" y="6461280"/>
            <a:ext cx="285840" cy="285480"/>
            <a:chOff x="7726320" y="6461280"/>
            <a:chExt cx="285840" cy="285480"/>
          </a:xfrm>
        </p:grpSpPr>
        <p:sp>
          <p:nvSpPr>
            <p:cNvPr id="448" name="Овал 33"/>
            <p:cNvSpPr/>
            <p:nvPr/>
          </p:nvSpPr>
          <p:spPr>
            <a:xfrm>
              <a:off x="7726320" y="6461280"/>
              <a:ext cx="285840" cy="2854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Фигура, имеющая форму буквы L 34"/>
            <p:cNvGrpSpPr/>
            <p:nvPr/>
          </p:nvGrpSpPr>
          <p:grpSpPr>
            <a:xfrm>
              <a:off x="7772400" y="6498360"/>
              <a:ext cx="164520" cy="219240"/>
              <a:chOff x="7772400" y="6498360"/>
              <a:chExt cx="164520" cy="219240"/>
            </a:xfrm>
          </p:grpSpPr>
          <p:pic>
            <p:nvPicPr>
              <p:cNvPr id="450" name="Фигура, имеющая форму буквы L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772400" y="6498360"/>
                <a:ext cx="164520" cy="2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 rot="2556600">
                <a:off x="7823520" y="6505200"/>
                <a:ext cx="540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2" name="Скругленный прямоугольник 40"/>
          <p:cNvGrpSpPr/>
          <p:nvPr/>
        </p:nvGrpSpPr>
        <p:grpSpPr>
          <a:xfrm>
            <a:off x="1474920" y="6370560"/>
            <a:ext cx="2584440" cy="560520"/>
            <a:chOff x="1474920" y="6370560"/>
            <a:chExt cx="2584440" cy="560520"/>
          </a:xfrm>
        </p:grpSpPr>
        <p:pic>
          <p:nvPicPr>
            <p:cNvPr id="453" name="Скругленный прямоугольник 40" descr=""/>
            <p:cNvPicPr/>
            <p:nvPr/>
          </p:nvPicPr>
          <p:blipFill>
            <a:blip r:embed="rId5"/>
            <a:stretch/>
          </p:blipFill>
          <p:spPr>
            <a:xfrm>
              <a:off x="1474920" y="6370560"/>
              <a:ext cx="25844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1592280" y="6408720"/>
              <a:ext cx="23875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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indows 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Скругленный прямоугольник 43"/>
          <p:cNvGrpSpPr/>
          <p:nvPr/>
        </p:nvGrpSpPr>
        <p:grpSpPr>
          <a:xfrm>
            <a:off x="7504200" y="5718240"/>
            <a:ext cx="1414440" cy="517320"/>
            <a:chOff x="7504200" y="5718240"/>
            <a:chExt cx="1414440" cy="517320"/>
          </a:xfrm>
        </p:grpSpPr>
        <p:pic>
          <p:nvPicPr>
            <p:cNvPr id="456" name="Скругленный прямоугольник 43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504200" y="5718240"/>
              <a:ext cx="14144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7" name=""/>
            <p:cNvSpPr/>
            <p:nvPr/>
          </p:nvSpPr>
          <p:spPr>
            <a:xfrm>
              <a:off x="7589880" y="5783400"/>
              <a:ext cx="1251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Далее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Скругленный прямоугольник 44"/>
          <p:cNvGrpSpPr/>
          <p:nvPr/>
        </p:nvGrpSpPr>
        <p:grpSpPr>
          <a:xfrm>
            <a:off x="6151680" y="5718240"/>
            <a:ext cx="1407960" cy="517320"/>
            <a:chOff x="6151680" y="5718240"/>
            <a:chExt cx="1407960" cy="517320"/>
          </a:xfrm>
        </p:grpSpPr>
        <p:pic>
          <p:nvPicPr>
            <p:cNvPr id="459" name="Скругленный прямоугольник 44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151680" y="5718240"/>
              <a:ext cx="14079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6232680" y="5783400"/>
              <a:ext cx="1250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lt;&lt;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" name="Группа 45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grpSp>
          <p:nvGrpSpPr>
            <p:cNvPr id="462" name="Прямоугольник 27"/>
            <p:cNvGrpSpPr/>
            <p:nvPr/>
          </p:nvGrpSpPr>
          <p:grpSpPr>
            <a:xfrm>
              <a:off x="23760" y="489240"/>
              <a:ext cx="263520" cy="5731200"/>
              <a:chOff x="23760" y="489240"/>
              <a:chExt cx="263520" cy="5731200"/>
            </a:xfrm>
          </p:grpSpPr>
          <p:pic>
            <p:nvPicPr>
              <p:cNvPr id="463" name="Прямоугольник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376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4" name=""/>
              <p:cNvSpPr/>
              <p:nvPr/>
            </p:nvSpPr>
            <p:spPr>
              <a:xfrm>
                <a:off x="896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Прямоугольник 28"/>
            <p:cNvGrpSpPr/>
            <p:nvPr/>
          </p:nvGrpSpPr>
          <p:grpSpPr>
            <a:xfrm>
              <a:off x="8880480" y="489240"/>
              <a:ext cx="263520" cy="5731200"/>
              <a:chOff x="8880480" y="489240"/>
              <a:chExt cx="263520" cy="5731200"/>
            </a:xfrm>
          </p:grpSpPr>
          <p:pic>
            <p:nvPicPr>
              <p:cNvPr id="466" name="Прямоугольник 28" descr=""/>
              <p:cNvPicPr/>
              <p:nvPr/>
            </p:nvPicPr>
            <p:blipFill>
              <a:blip r:embed="rId9"/>
              <a:stretch/>
            </p:blipFill>
            <p:spPr>
              <a:xfrm>
                <a:off x="888048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7" name=""/>
              <p:cNvSpPr/>
              <p:nvPr/>
            </p:nvSpPr>
            <p:spPr>
              <a:xfrm>
                <a:off x="89438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Прямоугольник с двумя скругленными соседними углами 26"/>
            <p:cNvGrpSpPr/>
            <p:nvPr/>
          </p:nvGrpSpPr>
          <p:grpSpPr>
            <a:xfrm>
              <a:off x="0" y="0"/>
              <a:ext cx="9144000" cy="620640"/>
              <a:chOff x="0" y="0"/>
              <a:chExt cx="9144000" cy="620640"/>
            </a:xfrm>
          </p:grpSpPr>
          <p:pic>
            <p:nvPicPr>
              <p:cNvPr id="469" name="Прямоугольник с двумя скругленными соседними углами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0"/>
                <a:ext cx="914400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0" name=""/>
              <p:cNvSpPr/>
              <p:nvPr/>
            </p:nvSpPr>
            <p:spPr>
              <a:xfrm>
                <a:off x="113760" y="41760"/>
                <a:ext cx="894636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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Windows St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Скругленный прямоугольник 35"/>
            <p:cNvGrpSpPr/>
            <p:nvPr/>
          </p:nvGrpSpPr>
          <p:grpSpPr>
            <a:xfrm>
              <a:off x="8538480" y="65520"/>
              <a:ext cx="461520" cy="393840"/>
              <a:chOff x="8538480" y="65520"/>
              <a:chExt cx="461520" cy="393840"/>
            </a:xfrm>
          </p:grpSpPr>
          <p:pic>
            <p:nvPicPr>
              <p:cNvPr id="472" name="Скругленный прямоугольник 35" descr="">
                <a:hlinkClick r:id="" action="ppaction://hlinkshowjump?jump=endshow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8538480" y="65520"/>
                <a:ext cx="46152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3" name=""/>
              <p:cNvSpPr/>
              <p:nvPr/>
            </p:nvSpPr>
            <p:spPr>
              <a:xfrm>
                <a:off x="8579880" y="105840"/>
                <a:ext cx="38736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4" name="Умножение 36">
              <a:hlinkClick r:id="" action="ppaction://hlinkshowjump?jump=endshow"/>
            </p:cNvPr>
            <p:cNvSpPr/>
            <p:nvPr/>
          </p:nvSpPr>
          <p:spPr>
            <a:xfrm>
              <a:off x="8632800" y="126720"/>
              <a:ext cx="280800" cy="279720"/>
            </a:xfrm>
            <a:custGeom>
              <a:avLst/>
              <a:gdLst>
                <a:gd name="textAreaLeft" fmla="*/ 43920 w 280800"/>
                <a:gd name="textAreaRight" fmla="*/ 236880 w 280800"/>
                <a:gd name="textAreaTop" fmla="*/ 43920 h 279720"/>
                <a:gd name="textAreaBottom" fmla="*/ 235800 h 279720"/>
              </a:gdLst>
              <a:ahLst/>
              <a:rect l="textAreaLeft" t="textAreaTop" r="textAreaRight" b="textAreaBottom"/>
              <a:pathLst>
                <a:path w="285750" h="285751">
                  <a:moveTo>
                    <a:pt x="44868" y="92392"/>
                  </a:moveTo>
                  <a:lnTo>
                    <a:pt x="92392" y="44869"/>
                  </a:lnTo>
                  <a:lnTo>
                    <a:pt x="142875" y="95352"/>
                  </a:lnTo>
                  <a:lnTo>
                    <a:pt x="193358" y="44869"/>
                  </a:lnTo>
                  <a:lnTo>
                    <a:pt x="240882" y="92392"/>
                  </a:lnTo>
                  <a:lnTo>
                    <a:pt x="190398" y="142876"/>
                  </a:lnTo>
                  <a:lnTo>
                    <a:pt x="240882" y="193359"/>
                  </a:lnTo>
                  <a:lnTo>
                    <a:pt x="193358" y="240882"/>
                  </a:lnTo>
                  <a:lnTo>
                    <a:pt x="142875" y="190399"/>
                  </a:lnTo>
                  <a:lnTo>
                    <a:pt x="92392" y="240882"/>
                  </a:lnTo>
                  <a:lnTo>
                    <a:pt x="44868" y="193359"/>
                  </a:lnTo>
                  <a:lnTo>
                    <a:pt x="95352" y="14287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Прямоугольник 29"/>
            <p:cNvGrpSpPr/>
            <p:nvPr/>
          </p:nvGrpSpPr>
          <p:grpSpPr>
            <a:xfrm>
              <a:off x="23760" y="6089400"/>
              <a:ext cx="9120240" cy="268560"/>
              <a:chOff x="23760" y="6089400"/>
              <a:chExt cx="9120240" cy="268560"/>
            </a:xfrm>
          </p:grpSpPr>
          <p:pic>
            <p:nvPicPr>
              <p:cNvPr id="476" name="Прямоугольник 29" descr=""/>
              <p:cNvPicPr/>
              <p:nvPr/>
            </p:nvPicPr>
            <p:blipFill>
              <a:blip r:embed="rId12"/>
              <a:stretch/>
            </p:blipFill>
            <p:spPr>
              <a:xfrm>
                <a:off x="23760" y="6089400"/>
                <a:ext cx="9120240" cy="2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7" name=""/>
              <p:cNvSpPr/>
              <p:nvPr/>
            </p:nvSpPr>
            <p:spPr>
              <a:xfrm rot="5400000">
                <a:off x="4516560" y="1676880"/>
                <a:ext cx="140040" cy="89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8" name="Дата 39"/>
          <p:cNvSpPr/>
          <p:nvPr/>
        </p:nvSpPr>
        <p:spPr>
          <a:xfrm>
            <a:off x="8072280" y="6429240"/>
            <a:ext cx="1000440" cy="35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3F80B-87B0-487E-B1C2-1AEB5E271C47}" type="datetime10">
              <a:rPr b="1" lang="ru-RU" sz="2400" spc="-1" strike="noStrike">
                <a:solidFill>
                  <a:srgbClr val="ffffff"/>
                </a:solidFill>
                <a:latin typeface="Calibri"/>
              </a:rPr>
              <a:t>09:24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2" descr="E:\Мои документы\ФОТО\5 марта 2010 г\Пионербол\IMGP6285.JPG"/>
          <p:cNvPicPr/>
          <p:nvPr/>
        </p:nvPicPr>
        <p:blipFill>
          <a:blip r:embed="rId13"/>
          <a:stretch/>
        </p:blipFill>
        <p:spPr>
          <a:xfrm>
            <a:off x="1857240" y="114300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Группа 47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grpSp>
          <p:nvGrpSpPr>
            <p:cNvPr id="481" name="Прямоугольник 32"/>
            <p:cNvGrpSpPr/>
            <p:nvPr/>
          </p:nvGrpSpPr>
          <p:grpSpPr>
            <a:xfrm>
              <a:off x="7753320" y="6397560"/>
              <a:ext cx="1390680" cy="460440"/>
              <a:chOff x="7753320" y="6397560"/>
              <a:chExt cx="1390680" cy="460440"/>
            </a:xfrm>
          </p:grpSpPr>
          <p:pic>
            <p:nvPicPr>
              <p:cNvPr id="482" name="Прямоугольник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7753320" y="6397560"/>
                <a:ext cx="1390680" cy="46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3" name=""/>
              <p:cNvSpPr/>
              <p:nvPr/>
            </p:nvSpPr>
            <p:spPr>
              <a:xfrm>
                <a:off x="7795440" y="6428160"/>
                <a:ext cx="125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" name="Прямоугольник 30"/>
            <p:cNvGrpSpPr/>
            <p:nvPr/>
          </p:nvGrpSpPr>
          <p:grpSpPr>
            <a:xfrm>
              <a:off x="71280" y="6379920"/>
              <a:ext cx="7824960" cy="455760"/>
              <a:chOff x="71280" y="6379920"/>
              <a:chExt cx="7824960" cy="455760"/>
            </a:xfrm>
          </p:grpSpPr>
          <p:pic>
            <p:nvPicPr>
              <p:cNvPr id="485" name="Прямоугольник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71280" y="6379920"/>
                <a:ext cx="7824960" cy="4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"/>
              <p:cNvSpPr/>
              <p:nvPr/>
            </p:nvSpPr>
            <p:spPr>
              <a:xfrm>
                <a:off x="100800" y="6428160"/>
                <a:ext cx="7694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" name="Прямоугольник с одним скругленным углом 31"/>
            <p:cNvGrpSpPr/>
            <p:nvPr/>
          </p:nvGrpSpPr>
          <p:grpSpPr>
            <a:xfrm>
              <a:off x="0" y="6357960"/>
              <a:ext cx="1623240" cy="500040"/>
              <a:chOff x="0" y="6357960"/>
              <a:chExt cx="1623240" cy="500040"/>
            </a:xfrm>
          </p:grpSpPr>
          <p:pic>
            <p:nvPicPr>
              <p:cNvPr id="488" name="Прямоугольник с одним скругленным углом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6357960"/>
                <a:ext cx="162324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9" name=""/>
              <p:cNvSpPr/>
              <p:nvPr/>
            </p:nvSpPr>
            <p:spPr>
              <a:xfrm>
                <a:off x="101160" y="6428520"/>
                <a:ext cx="13748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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STAR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0" name="Группа 46"/>
          <p:cNvGrpSpPr/>
          <p:nvPr/>
        </p:nvGrpSpPr>
        <p:grpSpPr>
          <a:xfrm>
            <a:off x="7726320" y="6461280"/>
            <a:ext cx="285840" cy="285480"/>
            <a:chOff x="7726320" y="6461280"/>
            <a:chExt cx="285840" cy="285480"/>
          </a:xfrm>
        </p:grpSpPr>
        <p:sp>
          <p:nvSpPr>
            <p:cNvPr id="491" name="Овал 33"/>
            <p:cNvSpPr/>
            <p:nvPr/>
          </p:nvSpPr>
          <p:spPr>
            <a:xfrm>
              <a:off x="7726320" y="6461280"/>
              <a:ext cx="285840" cy="2854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2" name="Фигура, имеющая форму буквы L 34"/>
            <p:cNvGrpSpPr/>
            <p:nvPr/>
          </p:nvGrpSpPr>
          <p:grpSpPr>
            <a:xfrm>
              <a:off x="7772400" y="6498360"/>
              <a:ext cx="164520" cy="219240"/>
              <a:chOff x="7772400" y="6498360"/>
              <a:chExt cx="164520" cy="219240"/>
            </a:xfrm>
          </p:grpSpPr>
          <p:pic>
            <p:nvPicPr>
              <p:cNvPr id="493" name="Фигура, имеющая форму буквы L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772400" y="6498360"/>
                <a:ext cx="164520" cy="2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4" name=""/>
              <p:cNvSpPr/>
              <p:nvPr/>
            </p:nvSpPr>
            <p:spPr>
              <a:xfrm rot="2556600">
                <a:off x="7823520" y="6505200"/>
                <a:ext cx="540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5" name="Скругленный прямоугольник 40"/>
          <p:cNvGrpSpPr/>
          <p:nvPr/>
        </p:nvGrpSpPr>
        <p:grpSpPr>
          <a:xfrm>
            <a:off x="1474920" y="6370560"/>
            <a:ext cx="2584440" cy="560520"/>
            <a:chOff x="1474920" y="6370560"/>
            <a:chExt cx="2584440" cy="560520"/>
          </a:xfrm>
        </p:grpSpPr>
        <p:pic>
          <p:nvPicPr>
            <p:cNvPr id="496" name="Скругленный прямоугольник 40" descr=""/>
            <p:cNvPicPr/>
            <p:nvPr/>
          </p:nvPicPr>
          <p:blipFill>
            <a:blip r:embed="rId5"/>
            <a:stretch/>
          </p:blipFill>
          <p:spPr>
            <a:xfrm>
              <a:off x="1474920" y="6370560"/>
              <a:ext cx="25844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1592280" y="6408720"/>
              <a:ext cx="23875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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indows 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Скругленный прямоугольник 43"/>
          <p:cNvGrpSpPr/>
          <p:nvPr/>
        </p:nvGrpSpPr>
        <p:grpSpPr>
          <a:xfrm>
            <a:off x="7504200" y="5718240"/>
            <a:ext cx="1414440" cy="517320"/>
            <a:chOff x="7504200" y="5718240"/>
            <a:chExt cx="1414440" cy="517320"/>
          </a:xfrm>
        </p:grpSpPr>
        <p:pic>
          <p:nvPicPr>
            <p:cNvPr id="499" name="Скругленный прямоугольник 43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504200" y="5718240"/>
              <a:ext cx="14144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/>
            <p:nvPr/>
          </p:nvSpPr>
          <p:spPr>
            <a:xfrm>
              <a:off x="7589880" y="5783400"/>
              <a:ext cx="1251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Далее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1" name="Скругленный прямоугольник 44"/>
          <p:cNvGrpSpPr/>
          <p:nvPr/>
        </p:nvGrpSpPr>
        <p:grpSpPr>
          <a:xfrm>
            <a:off x="6151680" y="5718240"/>
            <a:ext cx="1407960" cy="517320"/>
            <a:chOff x="6151680" y="5718240"/>
            <a:chExt cx="1407960" cy="517320"/>
          </a:xfrm>
        </p:grpSpPr>
        <p:pic>
          <p:nvPicPr>
            <p:cNvPr id="502" name="Скругленный прямоугольник 44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151680" y="5718240"/>
              <a:ext cx="14079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6232680" y="5783400"/>
              <a:ext cx="1250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lt;&lt;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Группа 45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grpSp>
          <p:nvGrpSpPr>
            <p:cNvPr id="505" name="Прямоугольник 27"/>
            <p:cNvGrpSpPr/>
            <p:nvPr/>
          </p:nvGrpSpPr>
          <p:grpSpPr>
            <a:xfrm>
              <a:off x="23760" y="489240"/>
              <a:ext cx="263520" cy="5731200"/>
              <a:chOff x="23760" y="489240"/>
              <a:chExt cx="263520" cy="5731200"/>
            </a:xfrm>
          </p:grpSpPr>
          <p:pic>
            <p:nvPicPr>
              <p:cNvPr id="506" name="Прямоугольник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376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7" name=""/>
              <p:cNvSpPr/>
              <p:nvPr/>
            </p:nvSpPr>
            <p:spPr>
              <a:xfrm>
                <a:off x="896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8" name="Прямоугольник 28"/>
            <p:cNvGrpSpPr/>
            <p:nvPr/>
          </p:nvGrpSpPr>
          <p:grpSpPr>
            <a:xfrm>
              <a:off x="8880480" y="489240"/>
              <a:ext cx="263520" cy="5731200"/>
              <a:chOff x="8880480" y="489240"/>
              <a:chExt cx="263520" cy="5731200"/>
            </a:xfrm>
          </p:grpSpPr>
          <p:pic>
            <p:nvPicPr>
              <p:cNvPr id="509" name="Прямоугольник 28" descr=""/>
              <p:cNvPicPr/>
              <p:nvPr/>
            </p:nvPicPr>
            <p:blipFill>
              <a:blip r:embed="rId9"/>
              <a:stretch/>
            </p:blipFill>
            <p:spPr>
              <a:xfrm>
                <a:off x="888048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0" name=""/>
              <p:cNvSpPr/>
              <p:nvPr/>
            </p:nvSpPr>
            <p:spPr>
              <a:xfrm>
                <a:off x="89438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" name="Прямоугольник с двумя скругленными соседними углами 26"/>
            <p:cNvGrpSpPr/>
            <p:nvPr/>
          </p:nvGrpSpPr>
          <p:grpSpPr>
            <a:xfrm>
              <a:off x="0" y="0"/>
              <a:ext cx="9144000" cy="620640"/>
              <a:chOff x="0" y="0"/>
              <a:chExt cx="9144000" cy="620640"/>
            </a:xfrm>
          </p:grpSpPr>
          <p:pic>
            <p:nvPicPr>
              <p:cNvPr id="512" name="Прямоугольник с двумя скругленными соседними углами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0"/>
                <a:ext cx="914400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3" name=""/>
              <p:cNvSpPr/>
              <p:nvPr/>
            </p:nvSpPr>
            <p:spPr>
              <a:xfrm>
                <a:off x="113760" y="41760"/>
                <a:ext cx="894636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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Windows St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Скругленный прямоугольник 35"/>
            <p:cNvGrpSpPr/>
            <p:nvPr/>
          </p:nvGrpSpPr>
          <p:grpSpPr>
            <a:xfrm>
              <a:off x="8538480" y="65520"/>
              <a:ext cx="461520" cy="393840"/>
              <a:chOff x="8538480" y="65520"/>
              <a:chExt cx="461520" cy="393840"/>
            </a:xfrm>
          </p:grpSpPr>
          <p:pic>
            <p:nvPicPr>
              <p:cNvPr id="515" name="Скругленный прямоугольник 35" descr="">
                <a:hlinkClick r:id="" action="ppaction://hlinkshowjump?jump=endshow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8538480" y="65520"/>
                <a:ext cx="46152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6" name=""/>
              <p:cNvSpPr/>
              <p:nvPr/>
            </p:nvSpPr>
            <p:spPr>
              <a:xfrm>
                <a:off x="8579880" y="105840"/>
                <a:ext cx="38736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7" name="Умножение 36">
              <a:hlinkClick r:id="" action="ppaction://hlinkshowjump?jump=endshow"/>
            </p:cNvPr>
            <p:cNvSpPr/>
            <p:nvPr/>
          </p:nvSpPr>
          <p:spPr>
            <a:xfrm>
              <a:off x="8632800" y="126720"/>
              <a:ext cx="280800" cy="279720"/>
            </a:xfrm>
            <a:custGeom>
              <a:avLst/>
              <a:gdLst>
                <a:gd name="textAreaLeft" fmla="*/ 43920 w 280800"/>
                <a:gd name="textAreaRight" fmla="*/ 236880 w 280800"/>
                <a:gd name="textAreaTop" fmla="*/ 43920 h 279720"/>
                <a:gd name="textAreaBottom" fmla="*/ 235800 h 279720"/>
              </a:gdLst>
              <a:ahLst/>
              <a:rect l="textAreaLeft" t="textAreaTop" r="textAreaRight" b="textAreaBottom"/>
              <a:pathLst>
                <a:path w="285750" h="285751">
                  <a:moveTo>
                    <a:pt x="44868" y="92392"/>
                  </a:moveTo>
                  <a:lnTo>
                    <a:pt x="92392" y="44869"/>
                  </a:lnTo>
                  <a:lnTo>
                    <a:pt x="142875" y="95352"/>
                  </a:lnTo>
                  <a:lnTo>
                    <a:pt x="193358" y="44869"/>
                  </a:lnTo>
                  <a:lnTo>
                    <a:pt x="240882" y="92392"/>
                  </a:lnTo>
                  <a:lnTo>
                    <a:pt x="190398" y="142876"/>
                  </a:lnTo>
                  <a:lnTo>
                    <a:pt x="240882" y="193359"/>
                  </a:lnTo>
                  <a:lnTo>
                    <a:pt x="193358" y="240882"/>
                  </a:lnTo>
                  <a:lnTo>
                    <a:pt x="142875" y="190399"/>
                  </a:lnTo>
                  <a:lnTo>
                    <a:pt x="92392" y="240882"/>
                  </a:lnTo>
                  <a:lnTo>
                    <a:pt x="44868" y="193359"/>
                  </a:lnTo>
                  <a:lnTo>
                    <a:pt x="95352" y="14287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8" name="Прямоугольник 29"/>
            <p:cNvGrpSpPr/>
            <p:nvPr/>
          </p:nvGrpSpPr>
          <p:grpSpPr>
            <a:xfrm>
              <a:off x="23760" y="6089400"/>
              <a:ext cx="9120240" cy="268560"/>
              <a:chOff x="23760" y="6089400"/>
              <a:chExt cx="9120240" cy="268560"/>
            </a:xfrm>
          </p:grpSpPr>
          <p:pic>
            <p:nvPicPr>
              <p:cNvPr id="519" name="Прямоугольник 29" descr=""/>
              <p:cNvPicPr/>
              <p:nvPr/>
            </p:nvPicPr>
            <p:blipFill>
              <a:blip r:embed="rId12"/>
              <a:stretch/>
            </p:blipFill>
            <p:spPr>
              <a:xfrm>
                <a:off x="23760" y="6089400"/>
                <a:ext cx="9120240" cy="2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0" name=""/>
              <p:cNvSpPr/>
              <p:nvPr/>
            </p:nvSpPr>
            <p:spPr>
              <a:xfrm rot="5400000">
                <a:off x="4516560" y="1676880"/>
                <a:ext cx="140040" cy="89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1" name="Дата 39"/>
          <p:cNvSpPr/>
          <p:nvPr/>
        </p:nvSpPr>
        <p:spPr>
          <a:xfrm>
            <a:off x="8072280" y="6429240"/>
            <a:ext cx="1000440" cy="35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1718-CC0E-409D-B7B4-D3D1E2EEDF76}" type="datetime10">
              <a:rPr b="1" lang="ru-RU" sz="2400" spc="-1" strike="noStrike">
                <a:solidFill>
                  <a:srgbClr val="ffffff"/>
                </a:solidFill>
                <a:latin typeface="Calibri"/>
              </a:rPr>
              <a:t>09:24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2" descr="E:\Мои документы\ФОТО\5 марта 2010 г\Пионербол\IMGP6314.JPG"/>
          <p:cNvPicPr/>
          <p:nvPr/>
        </p:nvPicPr>
        <p:blipFill>
          <a:blip r:embed="rId13"/>
          <a:stretch/>
        </p:blipFill>
        <p:spPr>
          <a:xfrm>
            <a:off x="1643040" y="928800"/>
            <a:ext cx="592452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3" name="Группа 47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grpSp>
          <p:nvGrpSpPr>
            <p:cNvPr id="524" name="Прямоугольник 32"/>
            <p:cNvGrpSpPr/>
            <p:nvPr/>
          </p:nvGrpSpPr>
          <p:grpSpPr>
            <a:xfrm>
              <a:off x="7753320" y="6397560"/>
              <a:ext cx="1390680" cy="460440"/>
              <a:chOff x="7753320" y="6397560"/>
              <a:chExt cx="1390680" cy="460440"/>
            </a:xfrm>
          </p:grpSpPr>
          <p:pic>
            <p:nvPicPr>
              <p:cNvPr id="525" name="Прямоугольник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7753320" y="6397560"/>
                <a:ext cx="1390680" cy="46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6" name=""/>
              <p:cNvSpPr/>
              <p:nvPr/>
            </p:nvSpPr>
            <p:spPr>
              <a:xfrm>
                <a:off x="7795440" y="6428160"/>
                <a:ext cx="125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Прямоугольник 30"/>
            <p:cNvGrpSpPr/>
            <p:nvPr/>
          </p:nvGrpSpPr>
          <p:grpSpPr>
            <a:xfrm>
              <a:off x="71280" y="6379920"/>
              <a:ext cx="7824960" cy="455760"/>
              <a:chOff x="71280" y="6379920"/>
              <a:chExt cx="7824960" cy="455760"/>
            </a:xfrm>
          </p:grpSpPr>
          <p:pic>
            <p:nvPicPr>
              <p:cNvPr id="528" name="Прямоугольник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71280" y="6379920"/>
                <a:ext cx="7824960" cy="4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9" name=""/>
              <p:cNvSpPr/>
              <p:nvPr/>
            </p:nvSpPr>
            <p:spPr>
              <a:xfrm>
                <a:off x="100800" y="6428160"/>
                <a:ext cx="7694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" name="Прямоугольник с одним скругленным углом 31"/>
            <p:cNvGrpSpPr/>
            <p:nvPr/>
          </p:nvGrpSpPr>
          <p:grpSpPr>
            <a:xfrm>
              <a:off x="0" y="6357960"/>
              <a:ext cx="1623240" cy="500040"/>
              <a:chOff x="0" y="6357960"/>
              <a:chExt cx="1623240" cy="500040"/>
            </a:xfrm>
          </p:grpSpPr>
          <p:pic>
            <p:nvPicPr>
              <p:cNvPr id="531" name="Прямоугольник с одним скругленным углом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6357960"/>
                <a:ext cx="162324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2" name=""/>
              <p:cNvSpPr/>
              <p:nvPr/>
            </p:nvSpPr>
            <p:spPr>
              <a:xfrm>
                <a:off x="101160" y="6428520"/>
                <a:ext cx="13748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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STAR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3" name="Группа 46"/>
          <p:cNvGrpSpPr/>
          <p:nvPr/>
        </p:nvGrpSpPr>
        <p:grpSpPr>
          <a:xfrm>
            <a:off x="7726320" y="6461280"/>
            <a:ext cx="285840" cy="285480"/>
            <a:chOff x="7726320" y="6461280"/>
            <a:chExt cx="285840" cy="285480"/>
          </a:xfrm>
        </p:grpSpPr>
        <p:sp>
          <p:nvSpPr>
            <p:cNvPr id="534" name="Овал 33"/>
            <p:cNvSpPr/>
            <p:nvPr/>
          </p:nvSpPr>
          <p:spPr>
            <a:xfrm>
              <a:off x="7726320" y="6461280"/>
              <a:ext cx="285840" cy="2854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5" name="Фигура, имеющая форму буквы L 34"/>
            <p:cNvGrpSpPr/>
            <p:nvPr/>
          </p:nvGrpSpPr>
          <p:grpSpPr>
            <a:xfrm>
              <a:off x="7772400" y="6498360"/>
              <a:ext cx="164520" cy="219240"/>
              <a:chOff x="7772400" y="6498360"/>
              <a:chExt cx="164520" cy="219240"/>
            </a:xfrm>
          </p:grpSpPr>
          <p:pic>
            <p:nvPicPr>
              <p:cNvPr id="536" name="Фигура, имеющая форму буквы L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772400" y="6498360"/>
                <a:ext cx="164520" cy="2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7" name=""/>
              <p:cNvSpPr/>
              <p:nvPr/>
            </p:nvSpPr>
            <p:spPr>
              <a:xfrm rot="2556600">
                <a:off x="7823520" y="6505200"/>
                <a:ext cx="540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8" name="Скругленный прямоугольник 40"/>
          <p:cNvGrpSpPr/>
          <p:nvPr/>
        </p:nvGrpSpPr>
        <p:grpSpPr>
          <a:xfrm>
            <a:off x="1474920" y="6370560"/>
            <a:ext cx="2584440" cy="560520"/>
            <a:chOff x="1474920" y="6370560"/>
            <a:chExt cx="2584440" cy="560520"/>
          </a:xfrm>
        </p:grpSpPr>
        <p:pic>
          <p:nvPicPr>
            <p:cNvPr id="539" name="Скругленный прямоугольник 40" descr=""/>
            <p:cNvPicPr/>
            <p:nvPr/>
          </p:nvPicPr>
          <p:blipFill>
            <a:blip r:embed="rId5"/>
            <a:stretch/>
          </p:blipFill>
          <p:spPr>
            <a:xfrm>
              <a:off x="1474920" y="6370560"/>
              <a:ext cx="25844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"/>
            <p:cNvSpPr/>
            <p:nvPr/>
          </p:nvSpPr>
          <p:spPr>
            <a:xfrm>
              <a:off x="1592280" y="6408720"/>
              <a:ext cx="23875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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indows 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Скругленный прямоугольник 43"/>
          <p:cNvGrpSpPr/>
          <p:nvPr/>
        </p:nvGrpSpPr>
        <p:grpSpPr>
          <a:xfrm>
            <a:off x="7504200" y="5718240"/>
            <a:ext cx="1414440" cy="517320"/>
            <a:chOff x="7504200" y="5718240"/>
            <a:chExt cx="1414440" cy="517320"/>
          </a:xfrm>
        </p:grpSpPr>
        <p:pic>
          <p:nvPicPr>
            <p:cNvPr id="542" name="Скругленный прямоугольник 43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504200" y="5718240"/>
              <a:ext cx="14144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"/>
            <p:cNvSpPr/>
            <p:nvPr/>
          </p:nvSpPr>
          <p:spPr>
            <a:xfrm>
              <a:off x="7589880" y="5783400"/>
              <a:ext cx="1251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Далее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Скругленный прямоугольник 44"/>
          <p:cNvGrpSpPr/>
          <p:nvPr/>
        </p:nvGrpSpPr>
        <p:grpSpPr>
          <a:xfrm>
            <a:off x="6151680" y="5718240"/>
            <a:ext cx="1407960" cy="517320"/>
            <a:chOff x="6151680" y="5718240"/>
            <a:chExt cx="1407960" cy="517320"/>
          </a:xfrm>
        </p:grpSpPr>
        <p:pic>
          <p:nvPicPr>
            <p:cNvPr id="545" name="Скругленный прямоугольник 44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151680" y="5718240"/>
              <a:ext cx="14079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6232680" y="5783400"/>
              <a:ext cx="1250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lt;&lt;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Группа 45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grpSp>
          <p:nvGrpSpPr>
            <p:cNvPr id="548" name="Прямоугольник 27"/>
            <p:cNvGrpSpPr/>
            <p:nvPr/>
          </p:nvGrpSpPr>
          <p:grpSpPr>
            <a:xfrm>
              <a:off x="23760" y="489240"/>
              <a:ext cx="263520" cy="5731200"/>
              <a:chOff x="23760" y="489240"/>
              <a:chExt cx="263520" cy="5731200"/>
            </a:xfrm>
          </p:grpSpPr>
          <p:pic>
            <p:nvPicPr>
              <p:cNvPr id="549" name="Прямоугольник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376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0" name=""/>
              <p:cNvSpPr/>
              <p:nvPr/>
            </p:nvSpPr>
            <p:spPr>
              <a:xfrm>
                <a:off x="896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Прямоугольник 28"/>
            <p:cNvGrpSpPr/>
            <p:nvPr/>
          </p:nvGrpSpPr>
          <p:grpSpPr>
            <a:xfrm>
              <a:off x="8880480" y="489240"/>
              <a:ext cx="263520" cy="5731200"/>
              <a:chOff x="8880480" y="489240"/>
              <a:chExt cx="263520" cy="5731200"/>
            </a:xfrm>
          </p:grpSpPr>
          <p:pic>
            <p:nvPicPr>
              <p:cNvPr id="552" name="Прямоугольник 28" descr=""/>
              <p:cNvPicPr/>
              <p:nvPr/>
            </p:nvPicPr>
            <p:blipFill>
              <a:blip r:embed="rId9"/>
              <a:stretch/>
            </p:blipFill>
            <p:spPr>
              <a:xfrm>
                <a:off x="888048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3" name=""/>
              <p:cNvSpPr/>
              <p:nvPr/>
            </p:nvSpPr>
            <p:spPr>
              <a:xfrm>
                <a:off x="89438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Прямоугольник с двумя скругленными соседними углами 26"/>
            <p:cNvGrpSpPr/>
            <p:nvPr/>
          </p:nvGrpSpPr>
          <p:grpSpPr>
            <a:xfrm>
              <a:off x="0" y="0"/>
              <a:ext cx="9144000" cy="620640"/>
              <a:chOff x="0" y="0"/>
              <a:chExt cx="9144000" cy="620640"/>
            </a:xfrm>
          </p:grpSpPr>
          <p:pic>
            <p:nvPicPr>
              <p:cNvPr id="555" name="Прямоугольник с двумя скругленными соседними углами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0"/>
                <a:ext cx="914400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6" name=""/>
              <p:cNvSpPr/>
              <p:nvPr/>
            </p:nvSpPr>
            <p:spPr>
              <a:xfrm>
                <a:off x="113760" y="41760"/>
                <a:ext cx="894636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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Windows St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7" name="Скругленный прямоугольник 35"/>
            <p:cNvGrpSpPr/>
            <p:nvPr/>
          </p:nvGrpSpPr>
          <p:grpSpPr>
            <a:xfrm>
              <a:off x="8538480" y="65520"/>
              <a:ext cx="461520" cy="393840"/>
              <a:chOff x="8538480" y="65520"/>
              <a:chExt cx="461520" cy="393840"/>
            </a:xfrm>
          </p:grpSpPr>
          <p:pic>
            <p:nvPicPr>
              <p:cNvPr id="558" name="Скругленный прямоугольник 35" descr="">
                <a:hlinkClick r:id="" action="ppaction://hlinkshowjump?jump=endshow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8538480" y="65520"/>
                <a:ext cx="46152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9" name=""/>
              <p:cNvSpPr/>
              <p:nvPr/>
            </p:nvSpPr>
            <p:spPr>
              <a:xfrm>
                <a:off x="8579880" y="105840"/>
                <a:ext cx="38736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0" name="Умножение 36">
              <a:hlinkClick r:id="" action="ppaction://hlinkshowjump?jump=endshow"/>
            </p:cNvPr>
            <p:cNvSpPr/>
            <p:nvPr/>
          </p:nvSpPr>
          <p:spPr>
            <a:xfrm>
              <a:off x="8632800" y="126720"/>
              <a:ext cx="280800" cy="279720"/>
            </a:xfrm>
            <a:custGeom>
              <a:avLst/>
              <a:gdLst>
                <a:gd name="textAreaLeft" fmla="*/ 43920 w 280800"/>
                <a:gd name="textAreaRight" fmla="*/ 236880 w 280800"/>
                <a:gd name="textAreaTop" fmla="*/ 43920 h 279720"/>
                <a:gd name="textAreaBottom" fmla="*/ 235800 h 279720"/>
              </a:gdLst>
              <a:ahLst/>
              <a:rect l="textAreaLeft" t="textAreaTop" r="textAreaRight" b="textAreaBottom"/>
              <a:pathLst>
                <a:path w="285750" h="285751">
                  <a:moveTo>
                    <a:pt x="44868" y="92392"/>
                  </a:moveTo>
                  <a:lnTo>
                    <a:pt x="92392" y="44869"/>
                  </a:lnTo>
                  <a:lnTo>
                    <a:pt x="142875" y="95352"/>
                  </a:lnTo>
                  <a:lnTo>
                    <a:pt x="193358" y="44869"/>
                  </a:lnTo>
                  <a:lnTo>
                    <a:pt x="240882" y="92392"/>
                  </a:lnTo>
                  <a:lnTo>
                    <a:pt x="190398" y="142876"/>
                  </a:lnTo>
                  <a:lnTo>
                    <a:pt x="240882" y="193359"/>
                  </a:lnTo>
                  <a:lnTo>
                    <a:pt x="193358" y="240882"/>
                  </a:lnTo>
                  <a:lnTo>
                    <a:pt x="142875" y="190399"/>
                  </a:lnTo>
                  <a:lnTo>
                    <a:pt x="92392" y="240882"/>
                  </a:lnTo>
                  <a:lnTo>
                    <a:pt x="44868" y="193359"/>
                  </a:lnTo>
                  <a:lnTo>
                    <a:pt x="95352" y="14287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1" name="Прямоугольник 29"/>
            <p:cNvGrpSpPr/>
            <p:nvPr/>
          </p:nvGrpSpPr>
          <p:grpSpPr>
            <a:xfrm>
              <a:off x="23760" y="6089400"/>
              <a:ext cx="9120240" cy="268560"/>
              <a:chOff x="23760" y="6089400"/>
              <a:chExt cx="9120240" cy="268560"/>
            </a:xfrm>
          </p:grpSpPr>
          <p:pic>
            <p:nvPicPr>
              <p:cNvPr id="562" name="Прямоугольник 29" descr=""/>
              <p:cNvPicPr/>
              <p:nvPr/>
            </p:nvPicPr>
            <p:blipFill>
              <a:blip r:embed="rId12"/>
              <a:stretch/>
            </p:blipFill>
            <p:spPr>
              <a:xfrm>
                <a:off x="23760" y="6089400"/>
                <a:ext cx="9120240" cy="2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"/>
              <p:cNvSpPr/>
              <p:nvPr/>
            </p:nvSpPr>
            <p:spPr>
              <a:xfrm rot="5400000">
                <a:off x="4516560" y="1676880"/>
                <a:ext cx="140040" cy="89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4" name="Дата 39"/>
          <p:cNvSpPr/>
          <p:nvPr/>
        </p:nvSpPr>
        <p:spPr>
          <a:xfrm>
            <a:off x="8072280" y="6429240"/>
            <a:ext cx="1000440" cy="35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E4B7-85E3-4FED-9D07-0E606F9F3A97}" type="datetime10">
              <a:rPr b="1" lang="ru-RU" sz="2400" spc="-1" strike="noStrike">
                <a:solidFill>
                  <a:srgbClr val="ffffff"/>
                </a:solidFill>
                <a:latin typeface="Calibri"/>
              </a:rPr>
              <a:t>09:24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2" descr="E:\Мои документы\ФОТО\5 марта 2010 г\Пионербол\IMGP6309.JPG"/>
          <p:cNvPicPr/>
          <p:nvPr/>
        </p:nvPicPr>
        <p:blipFill>
          <a:blip r:embed="rId13"/>
          <a:stretch/>
        </p:blipFill>
        <p:spPr>
          <a:xfrm>
            <a:off x="5500800" y="714240"/>
            <a:ext cx="3071880" cy="23036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3" descr="E:\Мои документы\ФОТО\5 марта 2010 г\Пионербол\IMGP6310.JPG"/>
          <p:cNvPicPr/>
          <p:nvPr/>
        </p:nvPicPr>
        <p:blipFill>
          <a:blip r:embed="rId14"/>
          <a:stretch/>
        </p:blipFill>
        <p:spPr>
          <a:xfrm>
            <a:off x="571680" y="71424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4" descr="E:\Мои документы\ФОТО\5 марта 2010 г\Пионербол\IMGP6261.JPG"/>
          <p:cNvPicPr/>
          <p:nvPr/>
        </p:nvPicPr>
        <p:blipFill>
          <a:blip r:embed="rId15"/>
          <a:stretch/>
        </p:blipFill>
        <p:spPr>
          <a:xfrm>
            <a:off x="2857680" y="3143160"/>
            <a:ext cx="335736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Группа 47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grpSp>
          <p:nvGrpSpPr>
            <p:cNvPr id="94" name="Прямоугольник 32"/>
            <p:cNvGrpSpPr/>
            <p:nvPr/>
          </p:nvGrpSpPr>
          <p:grpSpPr>
            <a:xfrm>
              <a:off x="7753320" y="6397560"/>
              <a:ext cx="1390680" cy="460440"/>
              <a:chOff x="7753320" y="6397560"/>
              <a:chExt cx="1390680" cy="460440"/>
            </a:xfrm>
          </p:grpSpPr>
          <p:pic>
            <p:nvPicPr>
              <p:cNvPr id="95" name="Прямоугольник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7753320" y="6397560"/>
                <a:ext cx="1390680" cy="46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>
                <a:off x="7795440" y="6428160"/>
                <a:ext cx="125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Прямоугольник 30"/>
            <p:cNvGrpSpPr/>
            <p:nvPr/>
          </p:nvGrpSpPr>
          <p:grpSpPr>
            <a:xfrm>
              <a:off x="71280" y="6379920"/>
              <a:ext cx="7824960" cy="455760"/>
              <a:chOff x="71280" y="6379920"/>
              <a:chExt cx="7824960" cy="455760"/>
            </a:xfrm>
          </p:grpSpPr>
          <p:pic>
            <p:nvPicPr>
              <p:cNvPr id="98" name="Прямоугольник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71280" y="6379920"/>
                <a:ext cx="7824960" cy="4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>
                <a:off x="100800" y="6428160"/>
                <a:ext cx="7694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Прямоугольник с одним скругленным углом 31"/>
            <p:cNvGrpSpPr/>
            <p:nvPr/>
          </p:nvGrpSpPr>
          <p:grpSpPr>
            <a:xfrm>
              <a:off x="0" y="6357960"/>
              <a:ext cx="1623240" cy="500040"/>
              <a:chOff x="0" y="6357960"/>
              <a:chExt cx="1623240" cy="500040"/>
            </a:xfrm>
          </p:grpSpPr>
          <p:pic>
            <p:nvPicPr>
              <p:cNvPr id="101" name="Прямоугольник с одним скругленным углом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6357960"/>
                <a:ext cx="162324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"/>
              <p:cNvSpPr/>
              <p:nvPr/>
            </p:nvSpPr>
            <p:spPr>
              <a:xfrm>
                <a:off x="101160" y="6428520"/>
                <a:ext cx="13748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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STAR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" name="Группа 46"/>
          <p:cNvGrpSpPr/>
          <p:nvPr/>
        </p:nvGrpSpPr>
        <p:grpSpPr>
          <a:xfrm>
            <a:off x="7726320" y="6461280"/>
            <a:ext cx="285840" cy="285480"/>
            <a:chOff x="7726320" y="6461280"/>
            <a:chExt cx="285840" cy="285480"/>
          </a:xfrm>
        </p:grpSpPr>
        <p:sp>
          <p:nvSpPr>
            <p:cNvPr id="104" name="Овал 33"/>
            <p:cNvSpPr/>
            <p:nvPr/>
          </p:nvSpPr>
          <p:spPr>
            <a:xfrm>
              <a:off x="7726320" y="6461280"/>
              <a:ext cx="285840" cy="2854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Фигура, имеющая форму буквы L 34"/>
            <p:cNvGrpSpPr/>
            <p:nvPr/>
          </p:nvGrpSpPr>
          <p:grpSpPr>
            <a:xfrm>
              <a:off x="7772400" y="6498360"/>
              <a:ext cx="164520" cy="219240"/>
              <a:chOff x="7772400" y="6498360"/>
              <a:chExt cx="164520" cy="219240"/>
            </a:xfrm>
          </p:grpSpPr>
          <p:pic>
            <p:nvPicPr>
              <p:cNvPr id="106" name="Фигура, имеющая форму буквы L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772400" y="6498360"/>
                <a:ext cx="164520" cy="2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556600">
                <a:off x="7823520" y="6505200"/>
                <a:ext cx="540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" name="Скругленный прямоугольник 40"/>
          <p:cNvGrpSpPr/>
          <p:nvPr/>
        </p:nvGrpSpPr>
        <p:grpSpPr>
          <a:xfrm>
            <a:off x="1474920" y="6370560"/>
            <a:ext cx="2584440" cy="560520"/>
            <a:chOff x="1474920" y="6370560"/>
            <a:chExt cx="2584440" cy="560520"/>
          </a:xfrm>
        </p:grpSpPr>
        <p:pic>
          <p:nvPicPr>
            <p:cNvPr id="109" name="Скругленный прямоугольник 40" descr=""/>
            <p:cNvPicPr/>
            <p:nvPr/>
          </p:nvPicPr>
          <p:blipFill>
            <a:blip r:embed="rId5"/>
            <a:stretch/>
          </p:blipFill>
          <p:spPr>
            <a:xfrm>
              <a:off x="1474920" y="6370560"/>
              <a:ext cx="25844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1592280" y="6408720"/>
              <a:ext cx="23875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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indows 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Скругленный прямоугольник 43"/>
          <p:cNvGrpSpPr/>
          <p:nvPr/>
        </p:nvGrpSpPr>
        <p:grpSpPr>
          <a:xfrm>
            <a:off x="7504200" y="5718240"/>
            <a:ext cx="1414440" cy="517320"/>
            <a:chOff x="7504200" y="5718240"/>
            <a:chExt cx="1414440" cy="517320"/>
          </a:xfrm>
        </p:grpSpPr>
        <p:pic>
          <p:nvPicPr>
            <p:cNvPr id="112" name="Скругленный прямоугольник 43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504200" y="5718240"/>
              <a:ext cx="14144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7589880" y="5783400"/>
              <a:ext cx="1251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Далее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Скругленный прямоугольник 44"/>
          <p:cNvGrpSpPr/>
          <p:nvPr/>
        </p:nvGrpSpPr>
        <p:grpSpPr>
          <a:xfrm>
            <a:off x="6151680" y="5718240"/>
            <a:ext cx="1407960" cy="517320"/>
            <a:chOff x="6151680" y="5718240"/>
            <a:chExt cx="1407960" cy="517320"/>
          </a:xfrm>
        </p:grpSpPr>
        <p:pic>
          <p:nvPicPr>
            <p:cNvPr id="115" name="Скругленный прямоугольник 44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151680" y="5718240"/>
              <a:ext cx="14079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6232680" y="5783400"/>
              <a:ext cx="1250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lt;&lt;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Группа 45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grpSp>
          <p:nvGrpSpPr>
            <p:cNvPr id="118" name="Прямоугольник 27"/>
            <p:cNvGrpSpPr/>
            <p:nvPr/>
          </p:nvGrpSpPr>
          <p:grpSpPr>
            <a:xfrm>
              <a:off x="23760" y="489240"/>
              <a:ext cx="263520" cy="5731200"/>
              <a:chOff x="23760" y="489240"/>
              <a:chExt cx="263520" cy="5731200"/>
            </a:xfrm>
          </p:grpSpPr>
          <p:pic>
            <p:nvPicPr>
              <p:cNvPr id="119" name="Прямоугольник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376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"/>
              <p:cNvSpPr/>
              <p:nvPr/>
            </p:nvSpPr>
            <p:spPr>
              <a:xfrm>
                <a:off x="896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Прямоугольник 28"/>
            <p:cNvGrpSpPr/>
            <p:nvPr/>
          </p:nvGrpSpPr>
          <p:grpSpPr>
            <a:xfrm>
              <a:off x="8880480" y="489240"/>
              <a:ext cx="263520" cy="5731200"/>
              <a:chOff x="8880480" y="489240"/>
              <a:chExt cx="263520" cy="5731200"/>
            </a:xfrm>
          </p:grpSpPr>
          <p:pic>
            <p:nvPicPr>
              <p:cNvPr id="122" name="Прямоугольник 28" descr=""/>
              <p:cNvPicPr/>
              <p:nvPr/>
            </p:nvPicPr>
            <p:blipFill>
              <a:blip r:embed="rId9"/>
              <a:stretch/>
            </p:blipFill>
            <p:spPr>
              <a:xfrm>
                <a:off x="888048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"/>
              <p:cNvSpPr/>
              <p:nvPr/>
            </p:nvSpPr>
            <p:spPr>
              <a:xfrm>
                <a:off x="89438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Прямоугольник с двумя скругленными соседними углами 26"/>
            <p:cNvGrpSpPr/>
            <p:nvPr/>
          </p:nvGrpSpPr>
          <p:grpSpPr>
            <a:xfrm>
              <a:off x="0" y="0"/>
              <a:ext cx="9144000" cy="620640"/>
              <a:chOff x="0" y="0"/>
              <a:chExt cx="9144000" cy="620640"/>
            </a:xfrm>
          </p:grpSpPr>
          <p:pic>
            <p:nvPicPr>
              <p:cNvPr id="125" name="Прямоугольник с двумя скругленными соседними углами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0"/>
                <a:ext cx="914400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113760" y="41760"/>
                <a:ext cx="894636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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Windows St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Скругленный прямоугольник 35"/>
            <p:cNvGrpSpPr/>
            <p:nvPr/>
          </p:nvGrpSpPr>
          <p:grpSpPr>
            <a:xfrm>
              <a:off x="8538480" y="65520"/>
              <a:ext cx="461520" cy="393840"/>
              <a:chOff x="8538480" y="65520"/>
              <a:chExt cx="461520" cy="393840"/>
            </a:xfrm>
          </p:grpSpPr>
          <p:pic>
            <p:nvPicPr>
              <p:cNvPr id="128" name="Скругленный прямоугольник 35" descr="">
                <a:hlinkClick r:id="" action="ppaction://hlinkshowjump?jump=endshow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8538480" y="65520"/>
                <a:ext cx="46152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"/>
              <p:cNvSpPr/>
              <p:nvPr/>
            </p:nvSpPr>
            <p:spPr>
              <a:xfrm>
                <a:off x="8579880" y="105840"/>
                <a:ext cx="38736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Умножение 36">
              <a:hlinkClick r:id="" action="ppaction://hlinkshowjump?jump=endshow"/>
            </p:cNvPr>
            <p:cNvSpPr/>
            <p:nvPr/>
          </p:nvSpPr>
          <p:spPr>
            <a:xfrm>
              <a:off x="8632800" y="126720"/>
              <a:ext cx="280800" cy="279720"/>
            </a:xfrm>
            <a:custGeom>
              <a:avLst/>
              <a:gdLst>
                <a:gd name="textAreaLeft" fmla="*/ 43920 w 280800"/>
                <a:gd name="textAreaRight" fmla="*/ 236880 w 280800"/>
                <a:gd name="textAreaTop" fmla="*/ 43920 h 279720"/>
                <a:gd name="textAreaBottom" fmla="*/ 235800 h 279720"/>
              </a:gdLst>
              <a:ahLst/>
              <a:rect l="textAreaLeft" t="textAreaTop" r="textAreaRight" b="textAreaBottom"/>
              <a:pathLst>
                <a:path w="285750" h="285751">
                  <a:moveTo>
                    <a:pt x="44868" y="92392"/>
                  </a:moveTo>
                  <a:lnTo>
                    <a:pt x="92392" y="44869"/>
                  </a:lnTo>
                  <a:lnTo>
                    <a:pt x="142875" y="95352"/>
                  </a:lnTo>
                  <a:lnTo>
                    <a:pt x="193358" y="44869"/>
                  </a:lnTo>
                  <a:lnTo>
                    <a:pt x="240882" y="92392"/>
                  </a:lnTo>
                  <a:lnTo>
                    <a:pt x="190398" y="142876"/>
                  </a:lnTo>
                  <a:lnTo>
                    <a:pt x="240882" y="193359"/>
                  </a:lnTo>
                  <a:lnTo>
                    <a:pt x="193358" y="240882"/>
                  </a:lnTo>
                  <a:lnTo>
                    <a:pt x="142875" y="190399"/>
                  </a:lnTo>
                  <a:lnTo>
                    <a:pt x="92392" y="240882"/>
                  </a:lnTo>
                  <a:lnTo>
                    <a:pt x="44868" y="193359"/>
                  </a:lnTo>
                  <a:lnTo>
                    <a:pt x="95352" y="14287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Прямоугольник 29"/>
            <p:cNvGrpSpPr/>
            <p:nvPr/>
          </p:nvGrpSpPr>
          <p:grpSpPr>
            <a:xfrm>
              <a:off x="23760" y="6089400"/>
              <a:ext cx="9120240" cy="268560"/>
              <a:chOff x="23760" y="6089400"/>
              <a:chExt cx="9120240" cy="268560"/>
            </a:xfrm>
          </p:grpSpPr>
          <p:pic>
            <p:nvPicPr>
              <p:cNvPr id="132" name="Прямоугольник 29" descr=""/>
              <p:cNvPicPr/>
              <p:nvPr/>
            </p:nvPicPr>
            <p:blipFill>
              <a:blip r:embed="rId12"/>
              <a:stretch/>
            </p:blipFill>
            <p:spPr>
              <a:xfrm>
                <a:off x="23760" y="6089400"/>
                <a:ext cx="9120240" cy="2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"/>
              <p:cNvSpPr/>
              <p:nvPr/>
            </p:nvSpPr>
            <p:spPr>
              <a:xfrm rot="5400000">
                <a:off x="4516560" y="1676880"/>
                <a:ext cx="140040" cy="89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Дата 39"/>
          <p:cNvSpPr/>
          <p:nvPr/>
        </p:nvSpPr>
        <p:spPr>
          <a:xfrm>
            <a:off x="8072280" y="6429240"/>
            <a:ext cx="1000440" cy="35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00E5-0F5D-42E7-9788-F841D63E22A0}" type="datetime10">
              <a:rPr b="1" lang="ru-RU" sz="2400" spc="-1" strike="noStrike">
                <a:solidFill>
                  <a:srgbClr val="ffffff"/>
                </a:solidFill>
                <a:latin typeface="Calibri"/>
              </a:rPr>
              <a:t>09:24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0" descr="E:\Мои документы\ФОТО\5 марта 2010 г\Пионербол\IMGP6253.JPG"/>
          <p:cNvPicPr/>
          <p:nvPr/>
        </p:nvPicPr>
        <p:blipFill>
          <a:blip r:embed="rId13"/>
          <a:stretch/>
        </p:blipFill>
        <p:spPr>
          <a:xfrm>
            <a:off x="1643040" y="1071720"/>
            <a:ext cx="581040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Группа 47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grpSp>
          <p:nvGrpSpPr>
            <p:cNvPr id="137" name="Прямоугольник 32"/>
            <p:cNvGrpSpPr/>
            <p:nvPr/>
          </p:nvGrpSpPr>
          <p:grpSpPr>
            <a:xfrm>
              <a:off x="7753320" y="6397560"/>
              <a:ext cx="1390680" cy="460440"/>
              <a:chOff x="7753320" y="6397560"/>
              <a:chExt cx="1390680" cy="460440"/>
            </a:xfrm>
          </p:grpSpPr>
          <p:pic>
            <p:nvPicPr>
              <p:cNvPr id="138" name="Прямоугольник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7753320" y="6397560"/>
                <a:ext cx="1390680" cy="46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"/>
              <p:cNvSpPr/>
              <p:nvPr/>
            </p:nvSpPr>
            <p:spPr>
              <a:xfrm>
                <a:off x="7795440" y="6428160"/>
                <a:ext cx="125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Прямоугольник 30"/>
            <p:cNvGrpSpPr/>
            <p:nvPr/>
          </p:nvGrpSpPr>
          <p:grpSpPr>
            <a:xfrm>
              <a:off x="71280" y="6379920"/>
              <a:ext cx="7824960" cy="455760"/>
              <a:chOff x="71280" y="6379920"/>
              <a:chExt cx="7824960" cy="455760"/>
            </a:xfrm>
          </p:grpSpPr>
          <p:pic>
            <p:nvPicPr>
              <p:cNvPr id="141" name="Прямоугольник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71280" y="6379920"/>
                <a:ext cx="7824960" cy="4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2" name=""/>
              <p:cNvSpPr/>
              <p:nvPr/>
            </p:nvSpPr>
            <p:spPr>
              <a:xfrm>
                <a:off x="100800" y="6428160"/>
                <a:ext cx="7694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Прямоугольник с одним скругленным углом 31"/>
            <p:cNvGrpSpPr/>
            <p:nvPr/>
          </p:nvGrpSpPr>
          <p:grpSpPr>
            <a:xfrm>
              <a:off x="0" y="6357960"/>
              <a:ext cx="1623240" cy="500040"/>
              <a:chOff x="0" y="6357960"/>
              <a:chExt cx="1623240" cy="500040"/>
            </a:xfrm>
          </p:grpSpPr>
          <p:pic>
            <p:nvPicPr>
              <p:cNvPr id="144" name="Прямоугольник с одним скругленным углом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6357960"/>
                <a:ext cx="162324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101160" y="6428520"/>
                <a:ext cx="13748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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STAR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Группа 46"/>
          <p:cNvGrpSpPr/>
          <p:nvPr/>
        </p:nvGrpSpPr>
        <p:grpSpPr>
          <a:xfrm>
            <a:off x="7726320" y="6461280"/>
            <a:ext cx="285840" cy="285480"/>
            <a:chOff x="7726320" y="6461280"/>
            <a:chExt cx="285840" cy="285480"/>
          </a:xfrm>
        </p:grpSpPr>
        <p:sp>
          <p:nvSpPr>
            <p:cNvPr id="147" name="Овал 33"/>
            <p:cNvSpPr/>
            <p:nvPr/>
          </p:nvSpPr>
          <p:spPr>
            <a:xfrm>
              <a:off x="7726320" y="6461280"/>
              <a:ext cx="285840" cy="2854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Фигура, имеющая форму буквы L 34"/>
            <p:cNvGrpSpPr/>
            <p:nvPr/>
          </p:nvGrpSpPr>
          <p:grpSpPr>
            <a:xfrm>
              <a:off x="7772400" y="6498360"/>
              <a:ext cx="164520" cy="219240"/>
              <a:chOff x="7772400" y="6498360"/>
              <a:chExt cx="164520" cy="219240"/>
            </a:xfrm>
          </p:grpSpPr>
          <p:pic>
            <p:nvPicPr>
              <p:cNvPr id="149" name="Фигура, имеющая форму буквы L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772400" y="6498360"/>
                <a:ext cx="164520" cy="2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 rot="2556600">
                <a:off x="7823520" y="6505200"/>
                <a:ext cx="540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" name="Скругленный прямоугольник 40"/>
          <p:cNvGrpSpPr/>
          <p:nvPr/>
        </p:nvGrpSpPr>
        <p:grpSpPr>
          <a:xfrm>
            <a:off x="1474920" y="6370560"/>
            <a:ext cx="2584440" cy="560520"/>
            <a:chOff x="1474920" y="6370560"/>
            <a:chExt cx="2584440" cy="560520"/>
          </a:xfrm>
        </p:grpSpPr>
        <p:pic>
          <p:nvPicPr>
            <p:cNvPr id="152" name="Скругленный прямоугольник 40" descr=""/>
            <p:cNvPicPr/>
            <p:nvPr/>
          </p:nvPicPr>
          <p:blipFill>
            <a:blip r:embed="rId5"/>
            <a:stretch/>
          </p:blipFill>
          <p:spPr>
            <a:xfrm>
              <a:off x="1474920" y="6370560"/>
              <a:ext cx="25844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1592280" y="6408720"/>
              <a:ext cx="23875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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indows 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Скругленный прямоугольник 43"/>
          <p:cNvGrpSpPr/>
          <p:nvPr/>
        </p:nvGrpSpPr>
        <p:grpSpPr>
          <a:xfrm>
            <a:off x="7504200" y="5718240"/>
            <a:ext cx="1414440" cy="517320"/>
            <a:chOff x="7504200" y="5718240"/>
            <a:chExt cx="1414440" cy="517320"/>
          </a:xfrm>
        </p:grpSpPr>
        <p:pic>
          <p:nvPicPr>
            <p:cNvPr id="155" name="Скругленный прямоугольник 43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504200" y="5718240"/>
              <a:ext cx="14144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7589880" y="5783400"/>
              <a:ext cx="1251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Далее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Скругленный прямоугольник 44"/>
          <p:cNvGrpSpPr/>
          <p:nvPr/>
        </p:nvGrpSpPr>
        <p:grpSpPr>
          <a:xfrm>
            <a:off x="6151680" y="5718240"/>
            <a:ext cx="1407960" cy="517320"/>
            <a:chOff x="6151680" y="5718240"/>
            <a:chExt cx="1407960" cy="517320"/>
          </a:xfrm>
        </p:grpSpPr>
        <p:pic>
          <p:nvPicPr>
            <p:cNvPr id="158" name="Скругленный прямоугольник 44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151680" y="5718240"/>
              <a:ext cx="14079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6232680" y="5783400"/>
              <a:ext cx="1250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lt;&lt;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Группа 45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grpSp>
          <p:nvGrpSpPr>
            <p:cNvPr id="161" name="Прямоугольник 27"/>
            <p:cNvGrpSpPr/>
            <p:nvPr/>
          </p:nvGrpSpPr>
          <p:grpSpPr>
            <a:xfrm>
              <a:off x="23760" y="489240"/>
              <a:ext cx="263520" cy="5731200"/>
              <a:chOff x="23760" y="489240"/>
              <a:chExt cx="263520" cy="5731200"/>
            </a:xfrm>
          </p:grpSpPr>
          <p:pic>
            <p:nvPicPr>
              <p:cNvPr id="162" name="Прямоугольник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376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" name=""/>
              <p:cNvSpPr/>
              <p:nvPr/>
            </p:nvSpPr>
            <p:spPr>
              <a:xfrm>
                <a:off x="896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Прямоугольник 28"/>
            <p:cNvGrpSpPr/>
            <p:nvPr/>
          </p:nvGrpSpPr>
          <p:grpSpPr>
            <a:xfrm>
              <a:off x="8880480" y="489240"/>
              <a:ext cx="263520" cy="5731200"/>
              <a:chOff x="8880480" y="489240"/>
              <a:chExt cx="263520" cy="5731200"/>
            </a:xfrm>
          </p:grpSpPr>
          <p:pic>
            <p:nvPicPr>
              <p:cNvPr id="165" name="Прямоугольник 28" descr=""/>
              <p:cNvPicPr/>
              <p:nvPr/>
            </p:nvPicPr>
            <p:blipFill>
              <a:blip r:embed="rId9"/>
              <a:stretch/>
            </p:blipFill>
            <p:spPr>
              <a:xfrm>
                <a:off x="888048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"/>
              <p:cNvSpPr/>
              <p:nvPr/>
            </p:nvSpPr>
            <p:spPr>
              <a:xfrm>
                <a:off x="89438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Прямоугольник с двумя скругленными соседними углами 26"/>
            <p:cNvGrpSpPr/>
            <p:nvPr/>
          </p:nvGrpSpPr>
          <p:grpSpPr>
            <a:xfrm>
              <a:off x="0" y="0"/>
              <a:ext cx="9144000" cy="620640"/>
              <a:chOff x="0" y="0"/>
              <a:chExt cx="9144000" cy="620640"/>
            </a:xfrm>
          </p:grpSpPr>
          <p:pic>
            <p:nvPicPr>
              <p:cNvPr id="168" name="Прямоугольник с двумя скругленными соседними углами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0"/>
                <a:ext cx="914400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" name=""/>
              <p:cNvSpPr/>
              <p:nvPr/>
            </p:nvSpPr>
            <p:spPr>
              <a:xfrm>
                <a:off x="113760" y="41760"/>
                <a:ext cx="894636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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Windows St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Скругленный прямоугольник 35"/>
            <p:cNvGrpSpPr/>
            <p:nvPr/>
          </p:nvGrpSpPr>
          <p:grpSpPr>
            <a:xfrm>
              <a:off x="8538480" y="65520"/>
              <a:ext cx="461520" cy="393840"/>
              <a:chOff x="8538480" y="65520"/>
              <a:chExt cx="461520" cy="393840"/>
            </a:xfrm>
          </p:grpSpPr>
          <p:pic>
            <p:nvPicPr>
              <p:cNvPr id="171" name="Скругленный прямоугольник 35" descr="">
                <a:hlinkClick r:id="" action="ppaction://hlinkshowjump?jump=endshow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8538480" y="65520"/>
                <a:ext cx="46152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" name=""/>
              <p:cNvSpPr/>
              <p:nvPr/>
            </p:nvSpPr>
            <p:spPr>
              <a:xfrm>
                <a:off x="8579880" y="105840"/>
                <a:ext cx="38736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Умножение 36">
              <a:hlinkClick r:id="" action="ppaction://hlinkshowjump?jump=endshow"/>
            </p:cNvPr>
            <p:cNvSpPr/>
            <p:nvPr/>
          </p:nvSpPr>
          <p:spPr>
            <a:xfrm>
              <a:off x="8632800" y="126720"/>
              <a:ext cx="280800" cy="279720"/>
            </a:xfrm>
            <a:custGeom>
              <a:avLst/>
              <a:gdLst>
                <a:gd name="textAreaLeft" fmla="*/ 43920 w 280800"/>
                <a:gd name="textAreaRight" fmla="*/ 236880 w 280800"/>
                <a:gd name="textAreaTop" fmla="*/ 43920 h 279720"/>
                <a:gd name="textAreaBottom" fmla="*/ 235800 h 279720"/>
              </a:gdLst>
              <a:ahLst/>
              <a:rect l="textAreaLeft" t="textAreaTop" r="textAreaRight" b="textAreaBottom"/>
              <a:pathLst>
                <a:path w="285750" h="285751">
                  <a:moveTo>
                    <a:pt x="44868" y="92392"/>
                  </a:moveTo>
                  <a:lnTo>
                    <a:pt x="92392" y="44869"/>
                  </a:lnTo>
                  <a:lnTo>
                    <a:pt x="142875" y="95352"/>
                  </a:lnTo>
                  <a:lnTo>
                    <a:pt x="193358" y="44869"/>
                  </a:lnTo>
                  <a:lnTo>
                    <a:pt x="240882" y="92392"/>
                  </a:lnTo>
                  <a:lnTo>
                    <a:pt x="190398" y="142876"/>
                  </a:lnTo>
                  <a:lnTo>
                    <a:pt x="240882" y="193359"/>
                  </a:lnTo>
                  <a:lnTo>
                    <a:pt x="193358" y="240882"/>
                  </a:lnTo>
                  <a:lnTo>
                    <a:pt x="142875" y="190399"/>
                  </a:lnTo>
                  <a:lnTo>
                    <a:pt x="92392" y="240882"/>
                  </a:lnTo>
                  <a:lnTo>
                    <a:pt x="44868" y="193359"/>
                  </a:lnTo>
                  <a:lnTo>
                    <a:pt x="95352" y="14287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Прямоугольник 29"/>
            <p:cNvGrpSpPr/>
            <p:nvPr/>
          </p:nvGrpSpPr>
          <p:grpSpPr>
            <a:xfrm>
              <a:off x="23760" y="6089400"/>
              <a:ext cx="9120240" cy="268560"/>
              <a:chOff x="23760" y="6089400"/>
              <a:chExt cx="9120240" cy="268560"/>
            </a:xfrm>
          </p:grpSpPr>
          <p:pic>
            <p:nvPicPr>
              <p:cNvPr id="175" name="Прямоугольник 29" descr=""/>
              <p:cNvPicPr/>
              <p:nvPr/>
            </p:nvPicPr>
            <p:blipFill>
              <a:blip r:embed="rId12"/>
              <a:stretch/>
            </p:blipFill>
            <p:spPr>
              <a:xfrm>
                <a:off x="23760" y="6089400"/>
                <a:ext cx="9120240" cy="2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" name=""/>
              <p:cNvSpPr/>
              <p:nvPr/>
            </p:nvSpPr>
            <p:spPr>
              <a:xfrm rot="5400000">
                <a:off x="4516560" y="1676880"/>
                <a:ext cx="140040" cy="89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7" name="Дата 39"/>
          <p:cNvSpPr/>
          <p:nvPr/>
        </p:nvSpPr>
        <p:spPr>
          <a:xfrm>
            <a:off x="8072280" y="6429240"/>
            <a:ext cx="1000440" cy="35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118D-E98D-4C84-AC39-ED0036B3C4C9}" type="datetime10">
              <a:rPr b="1" lang="ru-RU" sz="2400" spc="-1" strike="noStrike">
                <a:solidFill>
                  <a:srgbClr val="ffffff"/>
                </a:solidFill>
                <a:latin typeface="Calibri"/>
              </a:rPr>
              <a:t>09:24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E:\Мои документы\ФОТО\5 марта 2010 г\Пионербол\IMGP6254.JPG"/>
          <p:cNvPicPr/>
          <p:nvPr/>
        </p:nvPicPr>
        <p:blipFill>
          <a:blip r:embed="rId13"/>
          <a:stretch/>
        </p:blipFill>
        <p:spPr>
          <a:xfrm>
            <a:off x="1428840" y="85716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Группа 47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grpSp>
          <p:nvGrpSpPr>
            <p:cNvPr id="180" name="Прямоугольник 32"/>
            <p:cNvGrpSpPr/>
            <p:nvPr/>
          </p:nvGrpSpPr>
          <p:grpSpPr>
            <a:xfrm>
              <a:off x="7753320" y="6397560"/>
              <a:ext cx="1390680" cy="460440"/>
              <a:chOff x="7753320" y="6397560"/>
              <a:chExt cx="1390680" cy="460440"/>
            </a:xfrm>
          </p:grpSpPr>
          <p:pic>
            <p:nvPicPr>
              <p:cNvPr id="181" name="Прямоугольник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7753320" y="6397560"/>
                <a:ext cx="1390680" cy="46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2" name=""/>
              <p:cNvSpPr/>
              <p:nvPr/>
            </p:nvSpPr>
            <p:spPr>
              <a:xfrm>
                <a:off x="7795440" y="6428160"/>
                <a:ext cx="125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Прямоугольник 30"/>
            <p:cNvGrpSpPr/>
            <p:nvPr/>
          </p:nvGrpSpPr>
          <p:grpSpPr>
            <a:xfrm>
              <a:off x="71280" y="6379920"/>
              <a:ext cx="7824960" cy="455760"/>
              <a:chOff x="71280" y="6379920"/>
              <a:chExt cx="7824960" cy="455760"/>
            </a:xfrm>
          </p:grpSpPr>
          <p:pic>
            <p:nvPicPr>
              <p:cNvPr id="184" name="Прямоугольник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71280" y="6379920"/>
                <a:ext cx="7824960" cy="4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" name=""/>
              <p:cNvSpPr/>
              <p:nvPr/>
            </p:nvSpPr>
            <p:spPr>
              <a:xfrm>
                <a:off x="100800" y="6428160"/>
                <a:ext cx="7694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Прямоугольник с одним скругленным углом 31"/>
            <p:cNvGrpSpPr/>
            <p:nvPr/>
          </p:nvGrpSpPr>
          <p:grpSpPr>
            <a:xfrm>
              <a:off x="0" y="6357960"/>
              <a:ext cx="1623240" cy="500040"/>
              <a:chOff x="0" y="6357960"/>
              <a:chExt cx="1623240" cy="500040"/>
            </a:xfrm>
          </p:grpSpPr>
          <p:pic>
            <p:nvPicPr>
              <p:cNvPr id="187" name="Прямоугольник с одним скругленным углом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6357960"/>
                <a:ext cx="162324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8" name=""/>
              <p:cNvSpPr/>
              <p:nvPr/>
            </p:nvSpPr>
            <p:spPr>
              <a:xfrm>
                <a:off x="101160" y="6428520"/>
                <a:ext cx="13748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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STAR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Группа 46"/>
          <p:cNvGrpSpPr/>
          <p:nvPr/>
        </p:nvGrpSpPr>
        <p:grpSpPr>
          <a:xfrm>
            <a:off x="7726320" y="6461280"/>
            <a:ext cx="285840" cy="285480"/>
            <a:chOff x="7726320" y="6461280"/>
            <a:chExt cx="285840" cy="285480"/>
          </a:xfrm>
        </p:grpSpPr>
        <p:sp>
          <p:nvSpPr>
            <p:cNvPr id="190" name="Овал 33"/>
            <p:cNvSpPr/>
            <p:nvPr/>
          </p:nvSpPr>
          <p:spPr>
            <a:xfrm>
              <a:off x="7726320" y="6461280"/>
              <a:ext cx="285840" cy="2854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Фигура, имеющая форму буквы L 34"/>
            <p:cNvGrpSpPr/>
            <p:nvPr/>
          </p:nvGrpSpPr>
          <p:grpSpPr>
            <a:xfrm>
              <a:off x="7772400" y="6498360"/>
              <a:ext cx="164520" cy="219240"/>
              <a:chOff x="7772400" y="6498360"/>
              <a:chExt cx="164520" cy="219240"/>
            </a:xfrm>
          </p:grpSpPr>
          <p:pic>
            <p:nvPicPr>
              <p:cNvPr id="192" name="Фигура, имеющая форму буквы L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772400" y="6498360"/>
                <a:ext cx="164520" cy="2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"/>
              <p:cNvSpPr/>
              <p:nvPr/>
            </p:nvSpPr>
            <p:spPr>
              <a:xfrm rot="2556600">
                <a:off x="7823520" y="6505200"/>
                <a:ext cx="540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4" name="Скругленный прямоугольник 40"/>
          <p:cNvGrpSpPr/>
          <p:nvPr/>
        </p:nvGrpSpPr>
        <p:grpSpPr>
          <a:xfrm>
            <a:off x="1474920" y="6370560"/>
            <a:ext cx="2584440" cy="560520"/>
            <a:chOff x="1474920" y="6370560"/>
            <a:chExt cx="2584440" cy="560520"/>
          </a:xfrm>
        </p:grpSpPr>
        <p:pic>
          <p:nvPicPr>
            <p:cNvPr id="195" name="Скругленный прямоугольник 40" descr=""/>
            <p:cNvPicPr/>
            <p:nvPr/>
          </p:nvPicPr>
          <p:blipFill>
            <a:blip r:embed="rId5"/>
            <a:stretch/>
          </p:blipFill>
          <p:spPr>
            <a:xfrm>
              <a:off x="1474920" y="6370560"/>
              <a:ext cx="25844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1592280" y="6408720"/>
              <a:ext cx="23875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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indows 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Скругленный прямоугольник 43"/>
          <p:cNvGrpSpPr/>
          <p:nvPr/>
        </p:nvGrpSpPr>
        <p:grpSpPr>
          <a:xfrm>
            <a:off x="7504200" y="5718240"/>
            <a:ext cx="1414440" cy="517320"/>
            <a:chOff x="7504200" y="5718240"/>
            <a:chExt cx="1414440" cy="517320"/>
          </a:xfrm>
        </p:grpSpPr>
        <p:pic>
          <p:nvPicPr>
            <p:cNvPr id="198" name="Скругленный прямоугольник 43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504200" y="5718240"/>
              <a:ext cx="14144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7589880" y="5783400"/>
              <a:ext cx="1251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Далее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Скругленный прямоугольник 44"/>
          <p:cNvGrpSpPr/>
          <p:nvPr/>
        </p:nvGrpSpPr>
        <p:grpSpPr>
          <a:xfrm>
            <a:off x="6151680" y="5718240"/>
            <a:ext cx="1407960" cy="517320"/>
            <a:chOff x="6151680" y="5718240"/>
            <a:chExt cx="1407960" cy="517320"/>
          </a:xfrm>
        </p:grpSpPr>
        <p:pic>
          <p:nvPicPr>
            <p:cNvPr id="201" name="Скругленный прямоугольник 44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151680" y="5718240"/>
              <a:ext cx="14079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6232680" y="5783400"/>
              <a:ext cx="1250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lt;&lt;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Группа 45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grpSp>
          <p:nvGrpSpPr>
            <p:cNvPr id="204" name="Прямоугольник 27"/>
            <p:cNvGrpSpPr/>
            <p:nvPr/>
          </p:nvGrpSpPr>
          <p:grpSpPr>
            <a:xfrm>
              <a:off x="23760" y="489240"/>
              <a:ext cx="263520" cy="5731200"/>
              <a:chOff x="23760" y="489240"/>
              <a:chExt cx="263520" cy="5731200"/>
            </a:xfrm>
          </p:grpSpPr>
          <p:pic>
            <p:nvPicPr>
              <p:cNvPr id="205" name="Прямоугольник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376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6" name=""/>
              <p:cNvSpPr/>
              <p:nvPr/>
            </p:nvSpPr>
            <p:spPr>
              <a:xfrm>
                <a:off x="896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Прямоугольник 28"/>
            <p:cNvGrpSpPr/>
            <p:nvPr/>
          </p:nvGrpSpPr>
          <p:grpSpPr>
            <a:xfrm>
              <a:off x="8880480" y="489240"/>
              <a:ext cx="263520" cy="5731200"/>
              <a:chOff x="8880480" y="489240"/>
              <a:chExt cx="263520" cy="5731200"/>
            </a:xfrm>
          </p:grpSpPr>
          <p:pic>
            <p:nvPicPr>
              <p:cNvPr id="208" name="Прямоугольник 28" descr=""/>
              <p:cNvPicPr/>
              <p:nvPr/>
            </p:nvPicPr>
            <p:blipFill>
              <a:blip r:embed="rId9"/>
              <a:stretch/>
            </p:blipFill>
            <p:spPr>
              <a:xfrm>
                <a:off x="888048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>
                <a:off x="89438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Прямоугольник с двумя скругленными соседними углами 26"/>
            <p:cNvGrpSpPr/>
            <p:nvPr/>
          </p:nvGrpSpPr>
          <p:grpSpPr>
            <a:xfrm>
              <a:off x="0" y="0"/>
              <a:ext cx="9144000" cy="620640"/>
              <a:chOff x="0" y="0"/>
              <a:chExt cx="9144000" cy="620640"/>
            </a:xfrm>
          </p:grpSpPr>
          <p:pic>
            <p:nvPicPr>
              <p:cNvPr id="211" name="Прямоугольник с двумя скругленными соседними углами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0"/>
                <a:ext cx="914400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>
                <a:off x="113760" y="41760"/>
                <a:ext cx="894636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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Windows St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Скругленный прямоугольник 35"/>
            <p:cNvGrpSpPr/>
            <p:nvPr/>
          </p:nvGrpSpPr>
          <p:grpSpPr>
            <a:xfrm>
              <a:off x="8538480" y="65520"/>
              <a:ext cx="461520" cy="393840"/>
              <a:chOff x="8538480" y="65520"/>
              <a:chExt cx="461520" cy="393840"/>
            </a:xfrm>
          </p:grpSpPr>
          <p:pic>
            <p:nvPicPr>
              <p:cNvPr id="214" name="Скругленный прямоугольник 35" descr="">
                <a:hlinkClick r:id="" action="ppaction://hlinkshowjump?jump=endshow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8538480" y="65520"/>
                <a:ext cx="46152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8579880" y="105840"/>
                <a:ext cx="38736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" name="Умножение 36">
              <a:hlinkClick r:id="" action="ppaction://hlinkshowjump?jump=endshow"/>
            </p:cNvPr>
            <p:cNvSpPr/>
            <p:nvPr/>
          </p:nvSpPr>
          <p:spPr>
            <a:xfrm>
              <a:off x="8632800" y="126720"/>
              <a:ext cx="280800" cy="279720"/>
            </a:xfrm>
            <a:custGeom>
              <a:avLst/>
              <a:gdLst>
                <a:gd name="textAreaLeft" fmla="*/ 43920 w 280800"/>
                <a:gd name="textAreaRight" fmla="*/ 236880 w 280800"/>
                <a:gd name="textAreaTop" fmla="*/ 43920 h 279720"/>
                <a:gd name="textAreaBottom" fmla="*/ 235800 h 279720"/>
              </a:gdLst>
              <a:ahLst/>
              <a:rect l="textAreaLeft" t="textAreaTop" r="textAreaRight" b="textAreaBottom"/>
              <a:pathLst>
                <a:path w="285750" h="285751">
                  <a:moveTo>
                    <a:pt x="44868" y="92392"/>
                  </a:moveTo>
                  <a:lnTo>
                    <a:pt x="92392" y="44869"/>
                  </a:lnTo>
                  <a:lnTo>
                    <a:pt x="142875" y="95352"/>
                  </a:lnTo>
                  <a:lnTo>
                    <a:pt x="193358" y="44869"/>
                  </a:lnTo>
                  <a:lnTo>
                    <a:pt x="240882" y="92392"/>
                  </a:lnTo>
                  <a:lnTo>
                    <a:pt x="190398" y="142876"/>
                  </a:lnTo>
                  <a:lnTo>
                    <a:pt x="240882" y="193359"/>
                  </a:lnTo>
                  <a:lnTo>
                    <a:pt x="193358" y="240882"/>
                  </a:lnTo>
                  <a:lnTo>
                    <a:pt x="142875" y="190399"/>
                  </a:lnTo>
                  <a:lnTo>
                    <a:pt x="92392" y="240882"/>
                  </a:lnTo>
                  <a:lnTo>
                    <a:pt x="44868" y="193359"/>
                  </a:lnTo>
                  <a:lnTo>
                    <a:pt x="95352" y="14287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" name="Прямоугольник 29"/>
            <p:cNvGrpSpPr/>
            <p:nvPr/>
          </p:nvGrpSpPr>
          <p:grpSpPr>
            <a:xfrm>
              <a:off x="23760" y="6089400"/>
              <a:ext cx="9120240" cy="268560"/>
              <a:chOff x="23760" y="6089400"/>
              <a:chExt cx="9120240" cy="268560"/>
            </a:xfrm>
          </p:grpSpPr>
          <p:pic>
            <p:nvPicPr>
              <p:cNvPr id="218" name="Прямоугольник 29" descr=""/>
              <p:cNvPicPr/>
              <p:nvPr/>
            </p:nvPicPr>
            <p:blipFill>
              <a:blip r:embed="rId12"/>
              <a:stretch/>
            </p:blipFill>
            <p:spPr>
              <a:xfrm>
                <a:off x="23760" y="6089400"/>
                <a:ext cx="9120240" cy="2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" name=""/>
              <p:cNvSpPr/>
              <p:nvPr/>
            </p:nvSpPr>
            <p:spPr>
              <a:xfrm rot="5400000">
                <a:off x="4516560" y="1676880"/>
                <a:ext cx="140040" cy="89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0" name="Дата 39"/>
          <p:cNvSpPr/>
          <p:nvPr/>
        </p:nvSpPr>
        <p:spPr>
          <a:xfrm>
            <a:off x="8072280" y="6429240"/>
            <a:ext cx="1000440" cy="35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A7E5-D5AE-408C-9F4B-FAFE203C9975}" type="datetime10">
              <a:rPr b="1" lang="ru-RU" sz="2400" spc="-1" strike="noStrike">
                <a:solidFill>
                  <a:srgbClr val="ffffff"/>
                </a:solidFill>
                <a:latin typeface="Calibri"/>
              </a:rPr>
              <a:t>09:24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E:\Мои документы\ФОТО\5 марта 2010 г\Пионербол\IMGP6257.JPG"/>
          <p:cNvPicPr/>
          <p:nvPr/>
        </p:nvPicPr>
        <p:blipFill>
          <a:blip r:embed="rId13"/>
          <a:stretch/>
        </p:blipFill>
        <p:spPr>
          <a:xfrm>
            <a:off x="1500120" y="911160"/>
            <a:ext cx="607212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Группа 47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grpSp>
          <p:nvGrpSpPr>
            <p:cNvPr id="223" name="Прямоугольник 32"/>
            <p:cNvGrpSpPr/>
            <p:nvPr/>
          </p:nvGrpSpPr>
          <p:grpSpPr>
            <a:xfrm>
              <a:off x="7753320" y="6397560"/>
              <a:ext cx="1390680" cy="460440"/>
              <a:chOff x="7753320" y="6397560"/>
              <a:chExt cx="1390680" cy="460440"/>
            </a:xfrm>
          </p:grpSpPr>
          <p:pic>
            <p:nvPicPr>
              <p:cNvPr id="224" name="Прямоугольник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7753320" y="6397560"/>
                <a:ext cx="1390680" cy="46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"/>
              <p:cNvSpPr/>
              <p:nvPr/>
            </p:nvSpPr>
            <p:spPr>
              <a:xfrm>
                <a:off x="7795440" y="6428160"/>
                <a:ext cx="125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Прямоугольник 30"/>
            <p:cNvGrpSpPr/>
            <p:nvPr/>
          </p:nvGrpSpPr>
          <p:grpSpPr>
            <a:xfrm>
              <a:off x="71280" y="6379920"/>
              <a:ext cx="7824960" cy="455760"/>
              <a:chOff x="71280" y="6379920"/>
              <a:chExt cx="7824960" cy="455760"/>
            </a:xfrm>
          </p:grpSpPr>
          <p:pic>
            <p:nvPicPr>
              <p:cNvPr id="227" name="Прямоугольник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71280" y="6379920"/>
                <a:ext cx="7824960" cy="4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"/>
              <p:cNvSpPr/>
              <p:nvPr/>
            </p:nvSpPr>
            <p:spPr>
              <a:xfrm>
                <a:off x="100800" y="6428160"/>
                <a:ext cx="7694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Прямоугольник с одним скругленным углом 31"/>
            <p:cNvGrpSpPr/>
            <p:nvPr/>
          </p:nvGrpSpPr>
          <p:grpSpPr>
            <a:xfrm>
              <a:off x="0" y="6357960"/>
              <a:ext cx="1623240" cy="500040"/>
              <a:chOff x="0" y="6357960"/>
              <a:chExt cx="1623240" cy="500040"/>
            </a:xfrm>
          </p:grpSpPr>
          <p:pic>
            <p:nvPicPr>
              <p:cNvPr id="230" name="Прямоугольник с одним скругленным углом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6357960"/>
                <a:ext cx="162324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1" name=""/>
              <p:cNvSpPr/>
              <p:nvPr/>
            </p:nvSpPr>
            <p:spPr>
              <a:xfrm>
                <a:off x="101160" y="6428520"/>
                <a:ext cx="13748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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STAR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2" name="Группа 46"/>
          <p:cNvGrpSpPr/>
          <p:nvPr/>
        </p:nvGrpSpPr>
        <p:grpSpPr>
          <a:xfrm>
            <a:off x="7726320" y="6461280"/>
            <a:ext cx="285840" cy="285480"/>
            <a:chOff x="7726320" y="6461280"/>
            <a:chExt cx="285840" cy="285480"/>
          </a:xfrm>
        </p:grpSpPr>
        <p:sp>
          <p:nvSpPr>
            <p:cNvPr id="233" name="Овал 33"/>
            <p:cNvSpPr/>
            <p:nvPr/>
          </p:nvSpPr>
          <p:spPr>
            <a:xfrm>
              <a:off x="7726320" y="6461280"/>
              <a:ext cx="285840" cy="2854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Фигура, имеющая форму буквы L 34"/>
            <p:cNvGrpSpPr/>
            <p:nvPr/>
          </p:nvGrpSpPr>
          <p:grpSpPr>
            <a:xfrm>
              <a:off x="7772400" y="6498360"/>
              <a:ext cx="164520" cy="219240"/>
              <a:chOff x="7772400" y="6498360"/>
              <a:chExt cx="164520" cy="219240"/>
            </a:xfrm>
          </p:grpSpPr>
          <p:pic>
            <p:nvPicPr>
              <p:cNvPr id="235" name="Фигура, имеющая форму буквы L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772400" y="6498360"/>
                <a:ext cx="164520" cy="2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 rot="2556600">
                <a:off x="7823520" y="6505200"/>
                <a:ext cx="540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7" name="Скругленный прямоугольник 40"/>
          <p:cNvGrpSpPr/>
          <p:nvPr/>
        </p:nvGrpSpPr>
        <p:grpSpPr>
          <a:xfrm>
            <a:off x="1474920" y="6370560"/>
            <a:ext cx="2584440" cy="560520"/>
            <a:chOff x="1474920" y="6370560"/>
            <a:chExt cx="2584440" cy="560520"/>
          </a:xfrm>
        </p:grpSpPr>
        <p:pic>
          <p:nvPicPr>
            <p:cNvPr id="238" name="Скругленный прямоугольник 40" descr=""/>
            <p:cNvPicPr/>
            <p:nvPr/>
          </p:nvPicPr>
          <p:blipFill>
            <a:blip r:embed="rId5"/>
            <a:stretch/>
          </p:blipFill>
          <p:spPr>
            <a:xfrm>
              <a:off x="1474920" y="6370560"/>
              <a:ext cx="25844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1592280" y="6408720"/>
              <a:ext cx="23875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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indows 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Скругленный прямоугольник 43"/>
          <p:cNvGrpSpPr/>
          <p:nvPr/>
        </p:nvGrpSpPr>
        <p:grpSpPr>
          <a:xfrm>
            <a:off x="7504200" y="5718240"/>
            <a:ext cx="1414440" cy="517320"/>
            <a:chOff x="7504200" y="5718240"/>
            <a:chExt cx="1414440" cy="517320"/>
          </a:xfrm>
        </p:grpSpPr>
        <p:pic>
          <p:nvPicPr>
            <p:cNvPr id="241" name="Скругленный прямоугольник 43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504200" y="5718240"/>
              <a:ext cx="14144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7589880" y="5783400"/>
              <a:ext cx="1251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Далее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Скругленный прямоугольник 44"/>
          <p:cNvGrpSpPr/>
          <p:nvPr/>
        </p:nvGrpSpPr>
        <p:grpSpPr>
          <a:xfrm>
            <a:off x="6151680" y="5718240"/>
            <a:ext cx="1407960" cy="517320"/>
            <a:chOff x="6151680" y="5718240"/>
            <a:chExt cx="1407960" cy="517320"/>
          </a:xfrm>
        </p:grpSpPr>
        <p:pic>
          <p:nvPicPr>
            <p:cNvPr id="244" name="Скругленный прямоугольник 44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151680" y="5718240"/>
              <a:ext cx="14079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6232680" y="5783400"/>
              <a:ext cx="1250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lt;&lt;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Группа 45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grpSp>
          <p:nvGrpSpPr>
            <p:cNvPr id="247" name="Прямоугольник 27"/>
            <p:cNvGrpSpPr/>
            <p:nvPr/>
          </p:nvGrpSpPr>
          <p:grpSpPr>
            <a:xfrm>
              <a:off x="23760" y="489240"/>
              <a:ext cx="263520" cy="5731200"/>
              <a:chOff x="23760" y="489240"/>
              <a:chExt cx="263520" cy="5731200"/>
            </a:xfrm>
          </p:grpSpPr>
          <p:pic>
            <p:nvPicPr>
              <p:cNvPr id="248" name="Прямоугольник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376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"/>
              <p:cNvSpPr/>
              <p:nvPr/>
            </p:nvSpPr>
            <p:spPr>
              <a:xfrm>
                <a:off x="896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Прямоугольник 28"/>
            <p:cNvGrpSpPr/>
            <p:nvPr/>
          </p:nvGrpSpPr>
          <p:grpSpPr>
            <a:xfrm>
              <a:off x="8880480" y="489240"/>
              <a:ext cx="263520" cy="5731200"/>
              <a:chOff x="8880480" y="489240"/>
              <a:chExt cx="263520" cy="5731200"/>
            </a:xfrm>
          </p:grpSpPr>
          <p:pic>
            <p:nvPicPr>
              <p:cNvPr id="251" name="Прямоугольник 28" descr=""/>
              <p:cNvPicPr/>
              <p:nvPr/>
            </p:nvPicPr>
            <p:blipFill>
              <a:blip r:embed="rId9"/>
              <a:stretch/>
            </p:blipFill>
            <p:spPr>
              <a:xfrm>
                <a:off x="888048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2" name=""/>
              <p:cNvSpPr/>
              <p:nvPr/>
            </p:nvSpPr>
            <p:spPr>
              <a:xfrm>
                <a:off x="89438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Прямоугольник с двумя скругленными соседними углами 26"/>
            <p:cNvGrpSpPr/>
            <p:nvPr/>
          </p:nvGrpSpPr>
          <p:grpSpPr>
            <a:xfrm>
              <a:off x="0" y="0"/>
              <a:ext cx="9144000" cy="620640"/>
              <a:chOff x="0" y="0"/>
              <a:chExt cx="9144000" cy="620640"/>
            </a:xfrm>
          </p:grpSpPr>
          <p:pic>
            <p:nvPicPr>
              <p:cNvPr id="254" name="Прямоугольник с двумя скругленными соседними углами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0"/>
                <a:ext cx="914400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5" name=""/>
              <p:cNvSpPr/>
              <p:nvPr/>
            </p:nvSpPr>
            <p:spPr>
              <a:xfrm>
                <a:off x="113760" y="41760"/>
                <a:ext cx="894636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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Windows St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Скругленный прямоугольник 35"/>
            <p:cNvGrpSpPr/>
            <p:nvPr/>
          </p:nvGrpSpPr>
          <p:grpSpPr>
            <a:xfrm>
              <a:off x="8538480" y="65520"/>
              <a:ext cx="461520" cy="393840"/>
              <a:chOff x="8538480" y="65520"/>
              <a:chExt cx="461520" cy="393840"/>
            </a:xfrm>
          </p:grpSpPr>
          <p:pic>
            <p:nvPicPr>
              <p:cNvPr id="257" name="Скругленный прямоугольник 35" descr="">
                <a:hlinkClick r:id="" action="ppaction://hlinkshowjump?jump=endshow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8538480" y="65520"/>
                <a:ext cx="46152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>
                <a:off x="8579880" y="105840"/>
                <a:ext cx="38736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Умножение 36">
              <a:hlinkClick r:id="" action="ppaction://hlinkshowjump?jump=endshow"/>
            </p:cNvPr>
            <p:cNvSpPr/>
            <p:nvPr/>
          </p:nvSpPr>
          <p:spPr>
            <a:xfrm>
              <a:off x="8632800" y="126720"/>
              <a:ext cx="280800" cy="279720"/>
            </a:xfrm>
            <a:custGeom>
              <a:avLst/>
              <a:gdLst>
                <a:gd name="textAreaLeft" fmla="*/ 43920 w 280800"/>
                <a:gd name="textAreaRight" fmla="*/ 236880 w 280800"/>
                <a:gd name="textAreaTop" fmla="*/ 43920 h 279720"/>
                <a:gd name="textAreaBottom" fmla="*/ 235800 h 279720"/>
              </a:gdLst>
              <a:ahLst/>
              <a:rect l="textAreaLeft" t="textAreaTop" r="textAreaRight" b="textAreaBottom"/>
              <a:pathLst>
                <a:path w="285750" h="285751">
                  <a:moveTo>
                    <a:pt x="44868" y="92392"/>
                  </a:moveTo>
                  <a:lnTo>
                    <a:pt x="92392" y="44869"/>
                  </a:lnTo>
                  <a:lnTo>
                    <a:pt x="142875" y="95352"/>
                  </a:lnTo>
                  <a:lnTo>
                    <a:pt x="193358" y="44869"/>
                  </a:lnTo>
                  <a:lnTo>
                    <a:pt x="240882" y="92392"/>
                  </a:lnTo>
                  <a:lnTo>
                    <a:pt x="190398" y="142876"/>
                  </a:lnTo>
                  <a:lnTo>
                    <a:pt x="240882" y="193359"/>
                  </a:lnTo>
                  <a:lnTo>
                    <a:pt x="193358" y="240882"/>
                  </a:lnTo>
                  <a:lnTo>
                    <a:pt x="142875" y="190399"/>
                  </a:lnTo>
                  <a:lnTo>
                    <a:pt x="92392" y="240882"/>
                  </a:lnTo>
                  <a:lnTo>
                    <a:pt x="44868" y="193359"/>
                  </a:lnTo>
                  <a:lnTo>
                    <a:pt x="95352" y="14287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Прямоугольник 29"/>
            <p:cNvGrpSpPr/>
            <p:nvPr/>
          </p:nvGrpSpPr>
          <p:grpSpPr>
            <a:xfrm>
              <a:off x="23760" y="6089400"/>
              <a:ext cx="9120240" cy="268560"/>
              <a:chOff x="23760" y="6089400"/>
              <a:chExt cx="9120240" cy="268560"/>
            </a:xfrm>
          </p:grpSpPr>
          <p:pic>
            <p:nvPicPr>
              <p:cNvPr id="261" name="Прямоугольник 29" descr=""/>
              <p:cNvPicPr/>
              <p:nvPr/>
            </p:nvPicPr>
            <p:blipFill>
              <a:blip r:embed="rId12"/>
              <a:stretch/>
            </p:blipFill>
            <p:spPr>
              <a:xfrm>
                <a:off x="23760" y="6089400"/>
                <a:ext cx="9120240" cy="2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"/>
              <p:cNvSpPr/>
              <p:nvPr/>
            </p:nvSpPr>
            <p:spPr>
              <a:xfrm rot="5400000">
                <a:off x="4516560" y="1676880"/>
                <a:ext cx="140040" cy="89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3" name="Дата 39"/>
          <p:cNvSpPr/>
          <p:nvPr/>
        </p:nvSpPr>
        <p:spPr>
          <a:xfrm>
            <a:off x="8072280" y="6429240"/>
            <a:ext cx="1000440" cy="35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F83D-713F-43F8-B457-F00D1B2719DD}" type="datetime10">
              <a:rPr b="1" lang="ru-RU" sz="2400" spc="-1" strike="noStrike">
                <a:solidFill>
                  <a:srgbClr val="ffffff"/>
                </a:solidFill>
                <a:latin typeface="Calibri"/>
              </a:rPr>
              <a:t>09:24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" descr="E:\Мои документы\ФОТО\5 марта 2010 г\Пионербол\IMGP6267.JPG"/>
          <p:cNvPicPr/>
          <p:nvPr/>
        </p:nvPicPr>
        <p:blipFill>
          <a:blip r:embed="rId13"/>
          <a:stretch/>
        </p:blipFill>
        <p:spPr>
          <a:xfrm>
            <a:off x="1500120" y="857160"/>
            <a:ext cx="621504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Группа 47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grpSp>
          <p:nvGrpSpPr>
            <p:cNvPr id="266" name="Прямоугольник 32"/>
            <p:cNvGrpSpPr/>
            <p:nvPr/>
          </p:nvGrpSpPr>
          <p:grpSpPr>
            <a:xfrm>
              <a:off x="7753320" y="6397560"/>
              <a:ext cx="1390680" cy="460440"/>
              <a:chOff x="7753320" y="6397560"/>
              <a:chExt cx="1390680" cy="460440"/>
            </a:xfrm>
          </p:grpSpPr>
          <p:pic>
            <p:nvPicPr>
              <p:cNvPr id="267" name="Прямоугольник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7753320" y="6397560"/>
                <a:ext cx="1390680" cy="46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"/>
              <p:cNvSpPr/>
              <p:nvPr/>
            </p:nvSpPr>
            <p:spPr>
              <a:xfrm>
                <a:off x="7795440" y="6428160"/>
                <a:ext cx="125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" name="Прямоугольник 30"/>
            <p:cNvGrpSpPr/>
            <p:nvPr/>
          </p:nvGrpSpPr>
          <p:grpSpPr>
            <a:xfrm>
              <a:off x="71280" y="6379920"/>
              <a:ext cx="7824960" cy="455760"/>
              <a:chOff x="71280" y="6379920"/>
              <a:chExt cx="7824960" cy="455760"/>
            </a:xfrm>
          </p:grpSpPr>
          <p:pic>
            <p:nvPicPr>
              <p:cNvPr id="270" name="Прямоугольник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71280" y="6379920"/>
                <a:ext cx="7824960" cy="4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100800" y="6428160"/>
                <a:ext cx="7694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Прямоугольник с одним скругленным углом 31"/>
            <p:cNvGrpSpPr/>
            <p:nvPr/>
          </p:nvGrpSpPr>
          <p:grpSpPr>
            <a:xfrm>
              <a:off x="0" y="6357960"/>
              <a:ext cx="1623240" cy="500040"/>
              <a:chOff x="0" y="6357960"/>
              <a:chExt cx="1623240" cy="500040"/>
            </a:xfrm>
          </p:grpSpPr>
          <p:pic>
            <p:nvPicPr>
              <p:cNvPr id="273" name="Прямоугольник с одним скругленным углом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6357960"/>
                <a:ext cx="162324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"/>
              <p:cNvSpPr/>
              <p:nvPr/>
            </p:nvSpPr>
            <p:spPr>
              <a:xfrm>
                <a:off x="101160" y="6428520"/>
                <a:ext cx="13748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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STAR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5" name="Группа 46"/>
          <p:cNvGrpSpPr/>
          <p:nvPr/>
        </p:nvGrpSpPr>
        <p:grpSpPr>
          <a:xfrm>
            <a:off x="7726320" y="6461280"/>
            <a:ext cx="285840" cy="285480"/>
            <a:chOff x="7726320" y="6461280"/>
            <a:chExt cx="285840" cy="285480"/>
          </a:xfrm>
        </p:grpSpPr>
        <p:sp>
          <p:nvSpPr>
            <p:cNvPr id="276" name="Овал 33"/>
            <p:cNvSpPr/>
            <p:nvPr/>
          </p:nvSpPr>
          <p:spPr>
            <a:xfrm>
              <a:off x="7726320" y="6461280"/>
              <a:ext cx="285840" cy="2854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Фигура, имеющая форму буквы L 34"/>
            <p:cNvGrpSpPr/>
            <p:nvPr/>
          </p:nvGrpSpPr>
          <p:grpSpPr>
            <a:xfrm>
              <a:off x="7772400" y="6498360"/>
              <a:ext cx="164520" cy="219240"/>
              <a:chOff x="7772400" y="6498360"/>
              <a:chExt cx="164520" cy="219240"/>
            </a:xfrm>
          </p:grpSpPr>
          <p:pic>
            <p:nvPicPr>
              <p:cNvPr id="278" name="Фигура, имеющая форму буквы L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772400" y="6498360"/>
                <a:ext cx="164520" cy="2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9" name=""/>
              <p:cNvSpPr/>
              <p:nvPr/>
            </p:nvSpPr>
            <p:spPr>
              <a:xfrm rot="2556600">
                <a:off x="7823520" y="6505200"/>
                <a:ext cx="540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0" name="Скругленный прямоугольник 40"/>
          <p:cNvGrpSpPr/>
          <p:nvPr/>
        </p:nvGrpSpPr>
        <p:grpSpPr>
          <a:xfrm>
            <a:off x="1474920" y="6370560"/>
            <a:ext cx="2584440" cy="560520"/>
            <a:chOff x="1474920" y="6370560"/>
            <a:chExt cx="2584440" cy="560520"/>
          </a:xfrm>
        </p:grpSpPr>
        <p:pic>
          <p:nvPicPr>
            <p:cNvPr id="281" name="Скругленный прямоугольник 40" descr=""/>
            <p:cNvPicPr/>
            <p:nvPr/>
          </p:nvPicPr>
          <p:blipFill>
            <a:blip r:embed="rId5"/>
            <a:stretch/>
          </p:blipFill>
          <p:spPr>
            <a:xfrm>
              <a:off x="1474920" y="6370560"/>
              <a:ext cx="25844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1592280" y="6408720"/>
              <a:ext cx="23875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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indows 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Скругленный прямоугольник 43"/>
          <p:cNvGrpSpPr/>
          <p:nvPr/>
        </p:nvGrpSpPr>
        <p:grpSpPr>
          <a:xfrm>
            <a:off x="7504200" y="5718240"/>
            <a:ext cx="1414440" cy="517320"/>
            <a:chOff x="7504200" y="5718240"/>
            <a:chExt cx="1414440" cy="517320"/>
          </a:xfrm>
        </p:grpSpPr>
        <p:pic>
          <p:nvPicPr>
            <p:cNvPr id="284" name="Скругленный прямоугольник 43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504200" y="5718240"/>
              <a:ext cx="14144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7589880" y="5783400"/>
              <a:ext cx="1251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Далее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Скругленный прямоугольник 44"/>
          <p:cNvGrpSpPr/>
          <p:nvPr/>
        </p:nvGrpSpPr>
        <p:grpSpPr>
          <a:xfrm>
            <a:off x="6151680" y="5718240"/>
            <a:ext cx="1407960" cy="517320"/>
            <a:chOff x="6151680" y="5718240"/>
            <a:chExt cx="1407960" cy="517320"/>
          </a:xfrm>
        </p:grpSpPr>
        <p:pic>
          <p:nvPicPr>
            <p:cNvPr id="287" name="Скругленный прямоугольник 44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151680" y="5718240"/>
              <a:ext cx="14079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6232680" y="5783400"/>
              <a:ext cx="1250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lt;&lt;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Группа 45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grpSp>
          <p:nvGrpSpPr>
            <p:cNvPr id="290" name="Прямоугольник 27"/>
            <p:cNvGrpSpPr/>
            <p:nvPr/>
          </p:nvGrpSpPr>
          <p:grpSpPr>
            <a:xfrm>
              <a:off x="23760" y="489240"/>
              <a:ext cx="263520" cy="5731200"/>
              <a:chOff x="23760" y="489240"/>
              <a:chExt cx="263520" cy="5731200"/>
            </a:xfrm>
          </p:grpSpPr>
          <p:pic>
            <p:nvPicPr>
              <p:cNvPr id="291" name="Прямоугольник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376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2" name=""/>
              <p:cNvSpPr/>
              <p:nvPr/>
            </p:nvSpPr>
            <p:spPr>
              <a:xfrm>
                <a:off x="896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Прямоугольник 28"/>
            <p:cNvGrpSpPr/>
            <p:nvPr/>
          </p:nvGrpSpPr>
          <p:grpSpPr>
            <a:xfrm>
              <a:off x="8880480" y="489240"/>
              <a:ext cx="263520" cy="5731200"/>
              <a:chOff x="8880480" y="489240"/>
              <a:chExt cx="263520" cy="5731200"/>
            </a:xfrm>
          </p:grpSpPr>
          <p:pic>
            <p:nvPicPr>
              <p:cNvPr id="294" name="Прямоугольник 28" descr=""/>
              <p:cNvPicPr/>
              <p:nvPr/>
            </p:nvPicPr>
            <p:blipFill>
              <a:blip r:embed="rId9"/>
              <a:stretch/>
            </p:blipFill>
            <p:spPr>
              <a:xfrm>
                <a:off x="888048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5" name=""/>
              <p:cNvSpPr/>
              <p:nvPr/>
            </p:nvSpPr>
            <p:spPr>
              <a:xfrm>
                <a:off x="89438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Прямоугольник с двумя скругленными соседними углами 26"/>
            <p:cNvGrpSpPr/>
            <p:nvPr/>
          </p:nvGrpSpPr>
          <p:grpSpPr>
            <a:xfrm>
              <a:off x="0" y="0"/>
              <a:ext cx="9144000" cy="620640"/>
              <a:chOff x="0" y="0"/>
              <a:chExt cx="9144000" cy="620640"/>
            </a:xfrm>
          </p:grpSpPr>
          <p:pic>
            <p:nvPicPr>
              <p:cNvPr id="297" name="Прямоугольник с двумя скругленными соседними углами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0"/>
                <a:ext cx="914400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8" name=""/>
              <p:cNvSpPr/>
              <p:nvPr/>
            </p:nvSpPr>
            <p:spPr>
              <a:xfrm>
                <a:off x="113760" y="41760"/>
                <a:ext cx="894636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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Windows St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Скругленный прямоугольник 35"/>
            <p:cNvGrpSpPr/>
            <p:nvPr/>
          </p:nvGrpSpPr>
          <p:grpSpPr>
            <a:xfrm>
              <a:off x="8538480" y="65520"/>
              <a:ext cx="461520" cy="393840"/>
              <a:chOff x="8538480" y="65520"/>
              <a:chExt cx="461520" cy="393840"/>
            </a:xfrm>
          </p:grpSpPr>
          <p:pic>
            <p:nvPicPr>
              <p:cNvPr id="300" name="Скругленный прямоугольник 35" descr="">
                <a:hlinkClick r:id="" action="ppaction://hlinkshowjump?jump=endshow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8538480" y="65520"/>
                <a:ext cx="46152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"/>
              <p:cNvSpPr/>
              <p:nvPr/>
            </p:nvSpPr>
            <p:spPr>
              <a:xfrm>
                <a:off x="8579880" y="105840"/>
                <a:ext cx="38736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Умножение 36">
              <a:hlinkClick r:id="" action="ppaction://hlinkshowjump?jump=endshow"/>
            </p:cNvPr>
            <p:cNvSpPr/>
            <p:nvPr/>
          </p:nvSpPr>
          <p:spPr>
            <a:xfrm>
              <a:off x="8632800" y="126720"/>
              <a:ext cx="280800" cy="279720"/>
            </a:xfrm>
            <a:custGeom>
              <a:avLst/>
              <a:gdLst>
                <a:gd name="textAreaLeft" fmla="*/ 43920 w 280800"/>
                <a:gd name="textAreaRight" fmla="*/ 236880 w 280800"/>
                <a:gd name="textAreaTop" fmla="*/ 43920 h 279720"/>
                <a:gd name="textAreaBottom" fmla="*/ 235800 h 279720"/>
              </a:gdLst>
              <a:ahLst/>
              <a:rect l="textAreaLeft" t="textAreaTop" r="textAreaRight" b="textAreaBottom"/>
              <a:pathLst>
                <a:path w="285750" h="285751">
                  <a:moveTo>
                    <a:pt x="44868" y="92392"/>
                  </a:moveTo>
                  <a:lnTo>
                    <a:pt x="92392" y="44869"/>
                  </a:lnTo>
                  <a:lnTo>
                    <a:pt x="142875" y="95352"/>
                  </a:lnTo>
                  <a:lnTo>
                    <a:pt x="193358" y="44869"/>
                  </a:lnTo>
                  <a:lnTo>
                    <a:pt x="240882" y="92392"/>
                  </a:lnTo>
                  <a:lnTo>
                    <a:pt x="190398" y="142876"/>
                  </a:lnTo>
                  <a:lnTo>
                    <a:pt x="240882" y="193359"/>
                  </a:lnTo>
                  <a:lnTo>
                    <a:pt x="193358" y="240882"/>
                  </a:lnTo>
                  <a:lnTo>
                    <a:pt x="142875" y="190399"/>
                  </a:lnTo>
                  <a:lnTo>
                    <a:pt x="92392" y="240882"/>
                  </a:lnTo>
                  <a:lnTo>
                    <a:pt x="44868" y="193359"/>
                  </a:lnTo>
                  <a:lnTo>
                    <a:pt x="95352" y="14287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Прямоугольник 29"/>
            <p:cNvGrpSpPr/>
            <p:nvPr/>
          </p:nvGrpSpPr>
          <p:grpSpPr>
            <a:xfrm>
              <a:off x="23760" y="6089400"/>
              <a:ext cx="9120240" cy="268560"/>
              <a:chOff x="23760" y="6089400"/>
              <a:chExt cx="9120240" cy="268560"/>
            </a:xfrm>
          </p:grpSpPr>
          <p:pic>
            <p:nvPicPr>
              <p:cNvPr id="304" name="Прямоугольник 29" descr=""/>
              <p:cNvPicPr/>
              <p:nvPr/>
            </p:nvPicPr>
            <p:blipFill>
              <a:blip r:embed="rId12"/>
              <a:stretch/>
            </p:blipFill>
            <p:spPr>
              <a:xfrm>
                <a:off x="23760" y="6089400"/>
                <a:ext cx="9120240" cy="2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5" name=""/>
              <p:cNvSpPr/>
              <p:nvPr/>
            </p:nvSpPr>
            <p:spPr>
              <a:xfrm rot="5400000">
                <a:off x="4516560" y="1676880"/>
                <a:ext cx="140040" cy="89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6" name="Дата 39"/>
          <p:cNvSpPr/>
          <p:nvPr/>
        </p:nvSpPr>
        <p:spPr>
          <a:xfrm>
            <a:off x="8072280" y="6429240"/>
            <a:ext cx="1000440" cy="35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F985-88B1-424A-9922-3A801CD17AAE}" type="datetime10">
              <a:rPr b="1" lang="ru-RU" sz="2400" spc="-1" strike="noStrike">
                <a:solidFill>
                  <a:srgbClr val="ffffff"/>
                </a:solidFill>
                <a:latin typeface="Calibri"/>
              </a:rPr>
              <a:t>09:24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2" descr="E:\Мои документы\ФОТО\5 марта 2010 г\Пионербол\IMGP6268.JPG"/>
          <p:cNvPicPr/>
          <p:nvPr/>
        </p:nvPicPr>
        <p:blipFill>
          <a:blip r:embed="rId13"/>
          <a:stretch/>
        </p:blipFill>
        <p:spPr>
          <a:xfrm>
            <a:off x="1571760" y="857160"/>
            <a:ext cx="619128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Группа 47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grpSp>
          <p:nvGrpSpPr>
            <p:cNvPr id="309" name="Прямоугольник 32"/>
            <p:cNvGrpSpPr/>
            <p:nvPr/>
          </p:nvGrpSpPr>
          <p:grpSpPr>
            <a:xfrm>
              <a:off x="7753320" y="6397560"/>
              <a:ext cx="1390680" cy="460440"/>
              <a:chOff x="7753320" y="6397560"/>
              <a:chExt cx="1390680" cy="460440"/>
            </a:xfrm>
          </p:grpSpPr>
          <p:pic>
            <p:nvPicPr>
              <p:cNvPr id="310" name="Прямоугольник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7753320" y="6397560"/>
                <a:ext cx="1390680" cy="46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" name=""/>
              <p:cNvSpPr/>
              <p:nvPr/>
            </p:nvSpPr>
            <p:spPr>
              <a:xfrm>
                <a:off x="7795440" y="6428160"/>
                <a:ext cx="125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Прямоугольник 30"/>
            <p:cNvGrpSpPr/>
            <p:nvPr/>
          </p:nvGrpSpPr>
          <p:grpSpPr>
            <a:xfrm>
              <a:off x="71280" y="6379920"/>
              <a:ext cx="7824960" cy="455760"/>
              <a:chOff x="71280" y="6379920"/>
              <a:chExt cx="7824960" cy="455760"/>
            </a:xfrm>
          </p:grpSpPr>
          <p:pic>
            <p:nvPicPr>
              <p:cNvPr id="313" name="Прямоугольник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71280" y="6379920"/>
                <a:ext cx="7824960" cy="4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"/>
              <p:cNvSpPr/>
              <p:nvPr/>
            </p:nvSpPr>
            <p:spPr>
              <a:xfrm>
                <a:off x="100800" y="6428160"/>
                <a:ext cx="7694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Прямоугольник с одним скругленным углом 31"/>
            <p:cNvGrpSpPr/>
            <p:nvPr/>
          </p:nvGrpSpPr>
          <p:grpSpPr>
            <a:xfrm>
              <a:off x="0" y="6357960"/>
              <a:ext cx="1623240" cy="500040"/>
              <a:chOff x="0" y="6357960"/>
              <a:chExt cx="1623240" cy="500040"/>
            </a:xfrm>
          </p:grpSpPr>
          <p:pic>
            <p:nvPicPr>
              <p:cNvPr id="316" name="Прямоугольник с одним скругленным углом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6357960"/>
                <a:ext cx="162324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7" name=""/>
              <p:cNvSpPr/>
              <p:nvPr/>
            </p:nvSpPr>
            <p:spPr>
              <a:xfrm>
                <a:off x="101160" y="6428520"/>
                <a:ext cx="13748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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STAR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8" name="Группа 46"/>
          <p:cNvGrpSpPr/>
          <p:nvPr/>
        </p:nvGrpSpPr>
        <p:grpSpPr>
          <a:xfrm>
            <a:off x="7726320" y="6461280"/>
            <a:ext cx="285840" cy="285480"/>
            <a:chOff x="7726320" y="6461280"/>
            <a:chExt cx="285840" cy="285480"/>
          </a:xfrm>
        </p:grpSpPr>
        <p:sp>
          <p:nvSpPr>
            <p:cNvPr id="319" name="Овал 33"/>
            <p:cNvSpPr/>
            <p:nvPr/>
          </p:nvSpPr>
          <p:spPr>
            <a:xfrm>
              <a:off x="7726320" y="6461280"/>
              <a:ext cx="285840" cy="2854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" name="Фигура, имеющая форму буквы L 34"/>
            <p:cNvGrpSpPr/>
            <p:nvPr/>
          </p:nvGrpSpPr>
          <p:grpSpPr>
            <a:xfrm>
              <a:off x="7772400" y="6498360"/>
              <a:ext cx="164520" cy="219240"/>
              <a:chOff x="7772400" y="6498360"/>
              <a:chExt cx="164520" cy="219240"/>
            </a:xfrm>
          </p:grpSpPr>
          <p:pic>
            <p:nvPicPr>
              <p:cNvPr id="321" name="Фигура, имеющая форму буквы L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772400" y="6498360"/>
                <a:ext cx="164520" cy="2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2" name=""/>
              <p:cNvSpPr/>
              <p:nvPr/>
            </p:nvSpPr>
            <p:spPr>
              <a:xfrm rot="2556600">
                <a:off x="7823520" y="6505200"/>
                <a:ext cx="540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3" name="Скругленный прямоугольник 40"/>
          <p:cNvGrpSpPr/>
          <p:nvPr/>
        </p:nvGrpSpPr>
        <p:grpSpPr>
          <a:xfrm>
            <a:off x="1474920" y="6370560"/>
            <a:ext cx="2584440" cy="560520"/>
            <a:chOff x="1474920" y="6370560"/>
            <a:chExt cx="2584440" cy="560520"/>
          </a:xfrm>
        </p:grpSpPr>
        <p:pic>
          <p:nvPicPr>
            <p:cNvPr id="324" name="Скругленный прямоугольник 40" descr=""/>
            <p:cNvPicPr/>
            <p:nvPr/>
          </p:nvPicPr>
          <p:blipFill>
            <a:blip r:embed="rId5"/>
            <a:stretch/>
          </p:blipFill>
          <p:spPr>
            <a:xfrm>
              <a:off x="1474920" y="6370560"/>
              <a:ext cx="25844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1592280" y="6408720"/>
              <a:ext cx="23875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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indows 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Скругленный прямоугольник 43"/>
          <p:cNvGrpSpPr/>
          <p:nvPr/>
        </p:nvGrpSpPr>
        <p:grpSpPr>
          <a:xfrm>
            <a:off x="7504200" y="5718240"/>
            <a:ext cx="1414440" cy="517320"/>
            <a:chOff x="7504200" y="5718240"/>
            <a:chExt cx="1414440" cy="517320"/>
          </a:xfrm>
        </p:grpSpPr>
        <p:pic>
          <p:nvPicPr>
            <p:cNvPr id="327" name="Скругленный прямоугольник 43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504200" y="5718240"/>
              <a:ext cx="14144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7589880" y="5783400"/>
              <a:ext cx="1251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Далее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Скругленный прямоугольник 44"/>
          <p:cNvGrpSpPr/>
          <p:nvPr/>
        </p:nvGrpSpPr>
        <p:grpSpPr>
          <a:xfrm>
            <a:off x="6151680" y="5718240"/>
            <a:ext cx="1407960" cy="517320"/>
            <a:chOff x="6151680" y="5718240"/>
            <a:chExt cx="1407960" cy="517320"/>
          </a:xfrm>
        </p:grpSpPr>
        <p:pic>
          <p:nvPicPr>
            <p:cNvPr id="330" name="Скругленный прямоугольник 44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151680" y="5718240"/>
              <a:ext cx="14079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6232680" y="5783400"/>
              <a:ext cx="1250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lt;&lt;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Группа 45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grpSp>
          <p:nvGrpSpPr>
            <p:cNvPr id="333" name="Прямоугольник 27"/>
            <p:cNvGrpSpPr/>
            <p:nvPr/>
          </p:nvGrpSpPr>
          <p:grpSpPr>
            <a:xfrm>
              <a:off x="23760" y="489240"/>
              <a:ext cx="263520" cy="5731200"/>
              <a:chOff x="23760" y="489240"/>
              <a:chExt cx="263520" cy="5731200"/>
            </a:xfrm>
          </p:grpSpPr>
          <p:pic>
            <p:nvPicPr>
              <p:cNvPr id="334" name="Прямоугольник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376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5" name=""/>
              <p:cNvSpPr/>
              <p:nvPr/>
            </p:nvSpPr>
            <p:spPr>
              <a:xfrm>
                <a:off x="896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6" name="Прямоугольник 28"/>
            <p:cNvGrpSpPr/>
            <p:nvPr/>
          </p:nvGrpSpPr>
          <p:grpSpPr>
            <a:xfrm>
              <a:off x="8880480" y="489240"/>
              <a:ext cx="263520" cy="5731200"/>
              <a:chOff x="8880480" y="489240"/>
              <a:chExt cx="263520" cy="5731200"/>
            </a:xfrm>
          </p:grpSpPr>
          <p:pic>
            <p:nvPicPr>
              <p:cNvPr id="337" name="Прямоугольник 28" descr=""/>
              <p:cNvPicPr/>
              <p:nvPr/>
            </p:nvPicPr>
            <p:blipFill>
              <a:blip r:embed="rId9"/>
              <a:stretch/>
            </p:blipFill>
            <p:spPr>
              <a:xfrm>
                <a:off x="888048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8" name=""/>
              <p:cNvSpPr/>
              <p:nvPr/>
            </p:nvSpPr>
            <p:spPr>
              <a:xfrm>
                <a:off x="89438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9" name="Прямоугольник с двумя скругленными соседними углами 26"/>
            <p:cNvGrpSpPr/>
            <p:nvPr/>
          </p:nvGrpSpPr>
          <p:grpSpPr>
            <a:xfrm>
              <a:off x="0" y="0"/>
              <a:ext cx="9144000" cy="620640"/>
              <a:chOff x="0" y="0"/>
              <a:chExt cx="9144000" cy="620640"/>
            </a:xfrm>
          </p:grpSpPr>
          <p:pic>
            <p:nvPicPr>
              <p:cNvPr id="340" name="Прямоугольник с двумя скругленными соседними углами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0"/>
                <a:ext cx="914400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1" name=""/>
              <p:cNvSpPr/>
              <p:nvPr/>
            </p:nvSpPr>
            <p:spPr>
              <a:xfrm>
                <a:off x="113760" y="41760"/>
                <a:ext cx="894636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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Windows St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Скругленный прямоугольник 35"/>
            <p:cNvGrpSpPr/>
            <p:nvPr/>
          </p:nvGrpSpPr>
          <p:grpSpPr>
            <a:xfrm>
              <a:off x="8538480" y="65520"/>
              <a:ext cx="461520" cy="393840"/>
              <a:chOff x="8538480" y="65520"/>
              <a:chExt cx="461520" cy="393840"/>
            </a:xfrm>
          </p:grpSpPr>
          <p:pic>
            <p:nvPicPr>
              <p:cNvPr id="343" name="Скругленный прямоугольник 35" descr="">
                <a:hlinkClick r:id="" action="ppaction://hlinkshowjump?jump=endshow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8538480" y="65520"/>
                <a:ext cx="46152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"/>
              <p:cNvSpPr/>
              <p:nvPr/>
            </p:nvSpPr>
            <p:spPr>
              <a:xfrm>
                <a:off x="8579880" y="105840"/>
                <a:ext cx="38736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Умножение 36">
              <a:hlinkClick r:id="" action="ppaction://hlinkshowjump?jump=endshow"/>
            </p:cNvPr>
            <p:cNvSpPr/>
            <p:nvPr/>
          </p:nvSpPr>
          <p:spPr>
            <a:xfrm>
              <a:off x="8632800" y="126720"/>
              <a:ext cx="280800" cy="279720"/>
            </a:xfrm>
            <a:custGeom>
              <a:avLst/>
              <a:gdLst>
                <a:gd name="textAreaLeft" fmla="*/ 43920 w 280800"/>
                <a:gd name="textAreaRight" fmla="*/ 236880 w 280800"/>
                <a:gd name="textAreaTop" fmla="*/ 43920 h 279720"/>
                <a:gd name="textAreaBottom" fmla="*/ 235800 h 279720"/>
              </a:gdLst>
              <a:ahLst/>
              <a:rect l="textAreaLeft" t="textAreaTop" r="textAreaRight" b="textAreaBottom"/>
              <a:pathLst>
                <a:path w="285750" h="285751">
                  <a:moveTo>
                    <a:pt x="44868" y="92392"/>
                  </a:moveTo>
                  <a:lnTo>
                    <a:pt x="92392" y="44869"/>
                  </a:lnTo>
                  <a:lnTo>
                    <a:pt x="142875" y="95352"/>
                  </a:lnTo>
                  <a:lnTo>
                    <a:pt x="193358" y="44869"/>
                  </a:lnTo>
                  <a:lnTo>
                    <a:pt x="240882" y="92392"/>
                  </a:lnTo>
                  <a:lnTo>
                    <a:pt x="190398" y="142876"/>
                  </a:lnTo>
                  <a:lnTo>
                    <a:pt x="240882" y="193359"/>
                  </a:lnTo>
                  <a:lnTo>
                    <a:pt x="193358" y="240882"/>
                  </a:lnTo>
                  <a:lnTo>
                    <a:pt x="142875" y="190399"/>
                  </a:lnTo>
                  <a:lnTo>
                    <a:pt x="92392" y="240882"/>
                  </a:lnTo>
                  <a:lnTo>
                    <a:pt x="44868" y="193359"/>
                  </a:lnTo>
                  <a:lnTo>
                    <a:pt x="95352" y="14287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" name="Прямоугольник 29"/>
            <p:cNvGrpSpPr/>
            <p:nvPr/>
          </p:nvGrpSpPr>
          <p:grpSpPr>
            <a:xfrm>
              <a:off x="23760" y="6089400"/>
              <a:ext cx="9120240" cy="268560"/>
              <a:chOff x="23760" y="6089400"/>
              <a:chExt cx="9120240" cy="268560"/>
            </a:xfrm>
          </p:grpSpPr>
          <p:pic>
            <p:nvPicPr>
              <p:cNvPr id="347" name="Прямоугольник 29" descr=""/>
              <p:cNvPicPr/>
              <p:nvPr/>
            </p:nvPicPr>
            <p:blipFill>
              <a:blip r:embed="rId12"/>
              <a:stretch/>
            </p:blipFill>
            <p:spPr>
              <a:xfrm>
                <a:off x="23760" y="6089400"/>
                <a:ext cx="9120240" cy="2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8" name=""/>
              <p:cNvSpPr/>
              <p:nvPr/>
            </p:nvSpPr>
            <p:spPr>
              <a:xfrm rot="5400000">
                <a:off x="4516560" y="1676880"/>
                <a:ext cx="140040" cy="89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9" name="Дата 39"/>
          <p:cNvSpPr/>
          <p:nvPr/>
        </p:nvSpPr>
        <p:spPr>
          <a:xfrm>
            <a:off x="8072280" y="6429240"/>
            <a:ext cx="1000440" cy="35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E838-2E5C-4A21-A872-449198CA96E4}" type="datetime10">
              <a:rPr b="1" lang="ru-RU" sz="2400" spc="-1" strike="noStrike">
                <a:solidFill>
                  <a:srgbClr val="ffffff"/>
                </a:solidFill>
                <a:latin typeface="Calibri"/>
              </a:rPr>
              <a:t>09:24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" descr="E:\Мои документы\ФОТО\5 марта 2010 г\Пионербол\IMGP6270.JPG"/>
          <p:cNvPicPr/>
          <p:nvPr/>
        </p:nvPicPr>
        <p:blipFill>
          <a:blip r:embed="rId13"/>
          <a:stretch/>
        </p:blipFill>
        <p:spPr>
          <a:xfrm>
            <a:off x="1571760" y="857160"/>
            <a:ext cx="619128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Группа 47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grpSp>
          <p:nvGrpSpPr>
            <p:cNvPr id="352" name="Прямоугольник 32"/>
            <p:cNvGrpSpPr/>
            <p:nvPr/>
          </p:nvGrpSpPr>
          <p:grpSpPr>
            <a:xfrm>
              <a:off x="7753320" y="6397560"/>
              <a:ext cx="1390680" cy="460440"/>
              <a:chOff x="7753320" y="6397560"/>
              <a:chExt cx="1390680" cy="460440"/>
            </a:xfrm>
          </p:grpSpPr>
          <p:pic>
            <p:nvPicPr>
              <p:cNvPr id="353" name="Прямоугольник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7753320" y="6397560"/>
                <a:ext cx="1390680" cy="46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4" name=""/>
              <p:cNvSpPr/>
              <p:nvPr/>
            </p:nvSpPr>
            <p:spPr>
              <a:xfrm>
                <a:off x="7795440" y="6428160"/>
                <a:ext cx="125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Прямоугольник 30"/>
            <p:cNvGrpSpPr/>
            <p:nvPr/>
          </p:nvGrpSpPr>
          <p:grpSpPr>
            <a:xfrm>
              <a:off x="71280" y="6379920"/>
              <a:ext cx="7824960" cy="455760"/>
              <a:chOff x="71280" y="6379920"/>
              <a:chExt cx="7824960" cy="455760"/>
            </a:xfrm>
          </p:grpSpPr>
          <p:pic>
            <p:nvPicPr>
              <p:cNvPr id="356" name="Прямоугольник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71280" y="6379920"/>
                <a:ext cx="7824960" cy="4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" name=""/>
              <p:cNvSpPr/>
              <p:nvPr/>
            </p:nvSpPr>
            <p:spPr>
              <a:xfrm>
                <a:off x="100800" y="6428160"/>
                <a:ext cx="7694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Прямоугольник с одним скругленным углом 31"/>
            <p:cNvGrpSpPr/>
            <p:nvPr/>
          </p:nvGrpSpPr>
          <p:grpSpPr>
            <a:xfrm>
              <a:off x="0" y="6357960"/>
              <a:ext cx="1623240" cy="500040"/>
              <a:chOff x="0" y="6357960"/>
              <a:chExt cx="1623240" cy="500040"/>
            </a:xfrm>
          </p:grpSpPr>
          <p:pic>
            <p:nvPicPr>
              <p:cNvPr id="359" name="Прямоугольник с одним скругленным углом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6357960"/>
                <a:ext cx="162324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"/>
              <p:cNvSpPr/>
              <p:nvPr/>
            </p:nvSpPr>
            <p:spPr>
              <a:xfrm>
                <a:off x="101160" y="6428520"/>
                <a:ext cx="13748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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STAR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1" name="Группа 46"/>
          <p:cNvGrpSpPr/>
          <p:nvPr/>
        </p:nvGrpSpPr>
        <p:grpSpPr>
          <a:xfrm>
            <a:off x="7726320" y="6461280"/>
            <a:ext cx="285840" cy="285480"/>
            <a:chOff x="7726320" y="6461280"/>
            <a:chExt cx="285840" cy="285480"/>
          </a:xfrm>
        </p:grpSpPr>
        <p:sp>
          <p:nvSpPr>
            <p:cNvPr id="362" name="Овал 33"/>
            <p:cNvSpPr/>
            <p:nvPr/>
          </p:nvSpPr>
          <p:spPr>
            <a:xfrm>
              <a:off x="7726320" y="6461280"/>
              <a:ext cx="285840" cy="2854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Фигура, имеющая форму буквы L 34"/>
            <p:cNvGrpSpPr/>
            <p:nvPr/>
          </p:nvGrpSpPr>
          <p:grpSpPr>
            <a:xfrm>
              <a:off x="7772400" y="6498360"/>
              <a:ext cx="164520" cy="219240"/>
              <a:chOff x="7772400" y="6498360"/>
              <a:chExt cx="164520" cy="219240"/>
            </a:xfrm>
          </p:grpSpPr>
          <p:pic>
            <p:nvPicPr>
              <p:cNvPr id="364" name="Фигура, имеющая форму буквы L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772400" y="6498360"/>
                <a:ext cx="164520" cy="2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 rot="2556600">
                <a:off x="7823520" y="6505200"/>
                <a:ext cx="540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6" name="Скругленный прямоугольник 40"/>
          <p:cNvGrpSpPr/>
          <p:nvPr/>
        </p:nvGrpSpPr>
        <p:grpSpPr>
          <a:xfrm>
            <a:off x="1474920" y="6370560"/>
            <a:ext cx="2584440" cy="560520"/>
            <a:chOff x="1474920" y="6370560"/>
            <a:chExt cx="2584440" cy="560520"/>
          </a:xfrm>
        </p:grpSpPr>
        <p:pic>
          <p:nvPicPr>
            <p:cNvPr id="367" name="Скругленный прямоугольник 40" descr=""/>
            <p:cNvPicPr/>
            <p:nvPr/>
          </p:nvPicPr>
          <p:blipFill>
            <a:blip r:embed="rId5"/>
            <a:stretch/>
          </p:blipFill>
          <p:spPr>
            <a:xfrm>
              <a:off x="1474920" y="6370560"/>
              <a:ext cx="25844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"/>
            <p:cNvSpPr/>
            <p:nvPr/>
          </p:nvSpPr>
          <p:spPr>
            <a:xfrm>
              <a:off x="1592280" y="6408720"/>
              <a:ext cx="23875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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indows 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Скругленный прямоугольник 43"/>
          <p:cNvGrpSpPr/>
          <p:nvPr/>
        </p:nvGrpSpPr>
        <p:grpSpPr>
          <a:xfrm>
            <a:off x="7504200" y="5718240"/>
            <a:ext cx="1414440" cy="517320"/>
            <a:chOff x="7504200" y="5718240"/>
            <a:chExt cx="1414440" cy="517320"/>
          </a:xfrm>
        </p:grpSpPr>
        <p:pic>
          <p:nvPicPr>
            <p:cNvPr id="370" name="Скругленный прямоугольник 43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504200" y="5718240"/>
              <a:ext cx="14144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"/>
            <p:cNvSpPr/>
            <p:nvPr/>
          </p:nvSpPr>
          <p:spPr>
            <a:xfrm>
              <a:off x="7589880" y="5783400"/>
              <a:ext cx="1251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Далее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Скругленный прямоугольник 44"/>
          <p:cNvGrpSpPr/>
          <p:nvPr/>
        </p:nvGrpSpPr>
        <p:grpSpPr>
          <a:xfrm>
            <a:off x="6151680" y="5718240"/>
            <a:ext cx="1407960" cy="517320"/>
            <a:chOff x="6151680" y="5718240"/>
            <a:chExt cx="1407960" cy="517320"/>
          </a:xfrm>
        </p:grpSpPr>
        <p:pic>
          <p:nvPicPr>
            <p:cNvPr id="373" name="Скругленный прямоугольник 44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151680" y="5718240"/>
              <a:ext cx="14079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6232680" y="5783400"/>
              <a:ext cx="1250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lt;&lt;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Группа 45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grpSp>
          <p:nvGrpSpPr>
            <p:cNvPr id="376" name="Прямоугольник 27"/>
            <p:cNvGrpSpPr/>
            <p:nvPr/>
          </p:nvGrpSpPr>
          <p:grpSpPr>
            <a:xfrm>
              <a:off x="23760" y="489240"/>
              <a:ext cx="263520" cy="5731200"/>
              <a:chOff x="23760" y="489240"/>
              <a:chExt cx="263520" cy="5731200"/>
            </a:xfrm>
          </p:grpSpPr>
          <p:pic>
            <p:nvPicPr>
              <p:cNvPr id="377" name="Прямоугольник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376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896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Прямоугольник 28"/>
            <p:cNvGrpSpPr/>
            <p:nvPr/>
          </p:nvGrpSpPr>
          <p:grpSpPr>
            <a:xfrm>
              <a:off x="8880480" y="489240"/>
              <a:ext cx="263520" cy="5731200"/>
              <a:chOff x="8880480" y="489240"/>
              <a:chExt cx="263520" cy="5731200"/>
            </a:xfrm>
          </p:grpSpPr>
          <p:pic>
            <p:nvPicPr>
              <p:cNvPr id="380" name="Прямоугольник 28" descr=""/>
              <p:cNvPicPr/>
              <p:nvPr/>
            </p:nvPicPr>
            <p:blipFill>
              <a:blip r:embed="rId9"/>
              <a:stretch/>
            </p:blipFill>
            <p:spPr>
              <a:xfrm>
                <a:off x="888048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1" name=""/>
              <p:cNvSpPr/>
              <p:nvPr/>
            </p:nvSpPr>
            <p:spPr>
              <a:xfrm>
                <a:off x="89438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Прямоугольник с двумя скругленными соседними углами 26"/>
            <p:cNvGrpSpPr/>
            <p:nvPr/>
          </p:nvGrpSpPr>
          <p:grpSpPr>
            <a:xfrm>
              <a:off x="0" y="0"/>
              <a:ext cx="9144000" cy="620640"/>
              <a:chOff x="0" y="0"/>
              <a:chExt cx="9144000" cy="620640"/>
            </a:xfrm>
          </p:grpSpPr>
          <p:pic>
            <p:nvPicPr>
              <p:cNvPr id="383" name="Прямоугольник с двумя скругленными соседними углами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0"/>
                <a:ext cx="914400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4" name=""/>
              <p:cNvSpPr/>
              <p:nvPr/>
            </p:nvSpPr>
            <p:spPr>
              <a:xfrm>
                <a:off x="113760" y="41760"/>
                <a:ext cx="894636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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Windows St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Скругленный прямоугольник 35"/>
            <p:cNvGrpSpPr/>
            <p:nvPr/>
          </p:nvGrpSpPr>
          <p:grpSpPr>
            <a:xfrm>
              <a:off x="8538480" y="65520"/>
              <a:ext cx="461520" cy="393840"/>
              <a:chOff x="8538480" y="65520"/>
              <a:chExt cx="461520" cy="393840"/>
            </a:xfrm>
          </p:grpSpPr>
          <p:pic>
            <p:nvPicPr>
              <p:cNvPr id="386" name="Скругленный прямоугольник 35" descr="">
                <a:hlinkClick r:id="" action="ppaction://hlinkshowjump?jump=endshow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8538480" y="65520"/>
                <a:ext cx="46152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7" name=""/>
              <p:cNvSpPr/>
              <p:nvPr/>
            </p:nvSpPr>
            <p:spPr>
              <a:xfrm>
                <a:off x="8579880" y="105840"/>
                <a:ext cx="38736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Умножение 36">
              <a:hlinkClick r:id="" action="ppaction://hlinkshowjump?jump=endshow"/>
            </p:cNvPr>
            <p:cNvSpPr/>
            <p:nvPr/>
          </p:nvSpPr>
          <p:spPr>
            <a:xfrm>
              <a:off x="8632800" y="126720"/>
              <a:ext cx="280800" cy="279720"/>
            </a:xfrm>
            <a:custGeom>
              <a:avLst/>
              <a:gdLst>
                <a:gd name="textAreaLeft" fmla="*/ 43920 w 280800"/>
                <a:gd name="textAreaRight" fmla="*/ 236880 w 280800"/>
                <a:gd name="textAreaTop" fmla="*/ 43920 h 279720"/>
                <a:gd name="textAreaBottom" fmla="*/ 235800 h 279720"/>
              </a:gdLst>
              <a:ahLst/>
              <a:rect l="textAreaLeft" t="textAreaTop" r="textAreaRight" b="textAreaBottom"/>
              <a:pathLst>
                <a:path w="285750" h="285751">
                  <a:moveTo>
                    <a:pt x="44868" y="92392"/>
                  </a:moveTo>
                  <a:lnTo>
                    <a:pt x="92392" y="44869"/>
                  </a:lnTo>
                  <a:lnTo>
                    <a:pt x="142875" y="95352"/>
                  </a:lnTo>
                  <a:lnTo>
                    <a:pt x="193358" y="44869"/>
                  </a:lnTo>
                  <a:lnTo>
                    <a:pt x="240882" y="92392"/>
                  </a:lnTo>
                  <a:lnTo>
                    <a:pt x="190398" y="142876"/>
                  </a:lnTo>
                  <a:lnTo>
                    <a:pt x="240882" y="193359"/>
                  </a:lnTo>
                  <a:lnTo>
                    <a:pt x="193358" y="240882"/>
                  </a:lnTo>
                  <a:lnTo>
                    <a:pt x="142875" y="190399"/>
                  </a:lnTo>
                  <a:lnTo>
                    <a:pt x="92392" y="240882"/>
                  </a:lnTo>
                  <a:lnTo>
                    <a:pt x="44868" y="193359"/>
                  </a:lnTo>
                  <a:lnTo>
                    <a:pt x="95352" y="14287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9" name="Прямоугольник 29"/>
            <p:cNvGrpSpPr/>
            <p:nvPr/>
          </p:nvGrpSpPr>
          <p:grpSpPr>
            <a:xfrm>
              <a:off x="23760" y="6089400"/>
              <a:ext cx="9120240" cy="268560"/>
              <a:chOff x="23760" y="6089400"/>
              <a:chExt cx="9120240" cy="268560"/>
            </a:xfrm>
          </p:grpSpPr>
          <p:pic>
            <p:nvPicPr>
              <p:cNvPr id="390" name="Прямоугольник 29" descr=""/>
              <p:cNvPicPr/>
              <p:nvPr/>
            </p:nvPicPr>
            <p:blipFill>
              <a:blip r:embed="rId12"/>
              <a:stretch/>
            </p:blipFill>
            <p:spPr>
              <a:xfrm>
                <a:off x="23760" y="6089400"/>
                <a:ext cx="9120240" cy="2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1" name=""/>
              <p:cNvSpPr/>
              <p:nvPr/>
            </p:nvSpPr>
            <p:spPr>
              <a:xfrm rot="5400000">
                <a:off x="4516560" y="1676880"/>
                <a:ext cx="140040" cy="89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2" name="Дата 39"/>
          <p:cNvSpPr/>
          <p:nvPr/>
        </p:nvSpPr>
        <p:spPr>
          <a:xfrm>
            <a:off x="8072280" y="6429240"/>
            <a:ext cx="1000440" cy="35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2DEF-232B-40A3-BEFF-95C92D554A70}" type="datetime10">
              <a:rPr b="1" lang="ru-RU" sz="2400" spc="-1" strike="noStrike">
                <a:solidFill>
                  <a:srgbClr val="ffffff"/>
                </a:solidFill>
                <a:latin typeface="Calibri"/>
              </a:rPr>
              <a:t>09:24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2" descr="E:\Мои документы\ФОТО\5 марта 2010 г\Пионербол\IMGP6271.JPG"/>
          <p:cNvPicPr/>
          <p:nvPr/>
        </p:nvPicPr>
        <p:blipFill>
          <a:blip r:embed="rId13"/>
          <a:stretch/>
        </p:blipFill>
        <p:spPr>
          <a:xfrm>
            <a:off x="1500120" y="857160"/>
            <a:ext cx="61437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Группа 47"/>
          <p:cNvGrpSpPr/>
          <p:nvPr/>
        </p:nvGrpSpPr>
        <p:grpSpPr>
          <a:xfrm>
            <a:off x="0" y="6357960"/>
            <a:ext cx="9144000" cy="500040"/>
            <a:chOff x="0" y="6357960"/>
            <a:chExt cx="9144000" cy="500040"/>
          </a:xfrm>
        </p:grpSpPr>
        <p:grpSp>
          <p:nvGrpSpPr>
            <p:cNvPr id="395" name="Прямоугольник 32"/>
            <p:cNvGrpSpPr/>
            <p:nvPr/>
          </p:nvGrpSpPr>
          <p:grpSpPr>
            <a:xfrm>
              <a:off x="7753320" y="6397560"/>
              <a:ext cx="1390680" cy="460440"/>
              <a:chOff x="7753320" y="6397560"/>
              <a:chExt cx="1390680" cy="460440"/>
            </a:xfrm>
          </p:grpSpPr>
          <p:pic>
            <p:nvPicPr>
              <p:cNvPr id="396" name="Прямоугольник 32" descr=""/>
              <p:cNvPicPr/>
              <p:nvPr/>
            </p:nvPicPr>
            <p:blipFill>
              <a:blip r:embed="rId1"/>
              <a:stretch/>
            </p:blipFill>
            <p:spPr>
              <a:xfrm>
                <a:off x="7753320" y="6397560"/>
                <a:ext cx="1390680" cy="46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"/>
              <p:cNvSpPr/>
              <p:nvPr/>
            </p:nvSpPr>
            <p:spPr>
              <a:xfrm>
                <a:off x="7795440" y="6428160"/>
                <a:ext cx="1259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" name="Прямоугольник 30"/>
            <p:cNvGrpSpPr/>
            <p:nvPr/>
          </p:nvGrpSpPr>
          <p:grpSpPr>
            <a:xfrm>
              <a:off x="71280" y="6379920"/>
              <a:ext cx="7824960" cy="455760"/>
              <a:chOff x="71280" y="6379920"/>
              <a:chExt cx="7824960" cy="455760"/>
            </a:xfrm>
          </p:grpSpPr>
          <p:pic>
            <p:nvPicPr>
              <p:cNvPr id="399" name="Прямоугольник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71280" y="6379920"/>
                <a:ext cx="7824960" cy="45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"/>
              <p:cNvSpPr/>
              <p:nvPr/>
            </p:nvSpPr>
            <p:spPr>
              <a:xfrm>
                <a:off x="100800" y="6428160"/>
                <a:ext cx="7694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Прямоугольник с одним скругленным углом 31"/>
            <p:cNvGrpSpPr/>
            <p:nvPr/>
          </p:nvGrpSpPr>
          <p:grpSpPr>
            <a:xfrm>
              <a:off x="0" y="6357960"/>
              <a:ext cx="1623240" cy="500040"/>
              <a:chOff x="0" y="6357960"/>
              <a:chExt cx="1623240" cy="500040"/>
            </a:xfrm>
          </p:grpSpPr>
          <p:pic>
            <p:nvPicPr>
              <p:cNvPr id="402" name="Прямоугольник с одним скругленным углом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6357960"/>
                <a:ext cx="1623240" cy="500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3" name=""/>
              <p:cNvSpPr/>
              <p:nvPr/>
            </p:nvSpPr>
            <p:spPr>
              <a:xfrm>
                <a:off x="101160" y="6428520"/>
                <a:ext cx="13748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</a:t>
                </a:r>
                <a:r>
                  <a:rPr b="1" lang="en-US" sz="2400" spc="-1" strike="noStrike">
                    <a:solidFill>
                      <a:srgbClr val="ffffff"/>
                    </a:solidFill>
                    <a:latin typeface="Calibri"/>
                  </a:rPr>
                  <a:t>STAR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4" name="Группа 46"/>
          <p:cNvGrpSpPr/>
          <p:nvPr/>
        </p:nvGrpSpPr>
        <p:grpSpPr>
          <a:xfrm>
            <a:off x="7726320" y="6461280"/>
            <a:ext cx="285840" cy="285480"/>
            <a:chOff x="7726320" y="6461280"/>
            <a:chExt cx="285840" cy="285480"/>
          </a:xfrm>
        </p:grpSpPr>
        <p:sp>
          <p:nvSpPr>
            <p:cNvPr id="405" name="Овал 33"/>
            <p:cNvSpPr/>
            <p:nvPr/>
          </p:nvSpPr>
          <p:spPr>
            <a:xfrm>
              <a:off x="7726320" y="6461280"/>
              <a:ext cx="285840" cy="28548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6" name="Фигура, имеющая форму буквы L 34"/>
            <p:cNvGrpSpPr/>
            <p:nvPr/>
          </p:nvGrpSpPr>
          <p:grpSpPr>
            <a:xfrm>
              <a:off x="7772400" y="6498360"/>
              <a:ext cx="164520" cy="219240"/>
              <a:chOff x="7772400" y="6498360"/>
              <a:chExt cx="164520" cy="219240"/>
            </a:xfrm>
          </p:grpSpPr>
          <p:pic>
            <p:nvPicPr>
              <p:cNvPr id="407" name="Фигура, имеющая форму буквы L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772400" y="6498360"/>
                <a:ext cx="164520" cy="2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"/>
              <p:cNvSpPr/>
              <p:nvPr/>
            </p:nvSpPr>
            <p:spPr>
              <a:xfrm rot="2556600">
                <a:off x="7823520" y="6505200"/>
                <a:ext cx="54000" cy="14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9" name="Скругленный прямоугольник 40"/>
          <p:cNvGrpSpPr/>
          <p:nvPr/>
        </p:nvGrpSpPr>
        <p:grpSpPr>
          <a:xfrm>
            <a:off x="1474920" y="6370560"/>
            <a:ext cx="2584440" cy="560520"/>
            <a:chOff x="1474920" y="6370560"/>
            <a:chExt cx="2584440" cy="560520"/>
          </a:xfrm>
        </p:grpSpPr>
        <p:pic>
          <p:nvPicPr>
            <p:cNvPr id="410" name="Скругленный прямоугольник 40" descr=""/>
            <p:cNvPicPr/>
            <p:nvPr/>
          </p:nvPicPr>
          <p:blipFill>
            <a:blip r:embed="rId5"/>
            <a:stretch/>
          </p:blipFill>
          <p:spPr>
            <a:xfrm>
              <a:off x="1474920" y="6370560"/>
              <a:ext cx="2584440" cy="5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1592280" y="6408720"/>
              <a:ext cx="23875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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Windows St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Скругленный прямоугольник 43"/>
          <p:cNvGrpSpPr/>
          <p:nvPr/>
        </p:nvGrpSpPr>
        <p:grpSpPr>
          <a:xfrm>
            <a:off x="7504200" y="5718240"/>
            <a:ext cx="1414440" cy="517320"/>
            <a:chOff x="7504200" y="5718240"/>
            <a:chExt cx="1414440" cy="517320"/>
          </a:xfrm>
        </p:grpSpPr>
        <p:pic>
          <p:nvPicPr>
            <p:cNvPr id="413" name="Скругленный прямоугольник 43" descr="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504200" y="5718240"/>
              <a:ext cx="141444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7589880" y="5783400"/>
              <a:ext cx="12510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Далее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Скругленный прямоугольник 44"/>
          <p:cNvGrpSpPr/>
          <p:nvPr/>
        </p:nvGrpSpPr>
        <p:grpSpPr>
          <a:xfrm>
            <a:off x="6151680" y="5718240"/>
            <a:ext cx="1407960" cy="517320"/>
            <a:chOff x="6151680" y="5718240"/>
            <a:chExt cx="1407960" cy="517320"/>
          </a:xfrm>
        </p:grpSpPr>
        <p:pic>
          <p:nvPicPr>
            <p:cNvPr id="416" name="Скругленный прямоугольник 44" descr="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151680" y="5718240"/>
              <a:ext cx="140796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"/>
            <p:cNvSpPr/>
            <p:nvPr/>
          </p:nvSpPr>
          <p:spPr>
            <a:xfrm>
              <a:off x="6232680" y="5783400"/>
              <a:ext cx="1250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&lt;&lt; </a:t>
              </a:r>
              <a:r>
                <a:rPr b="0" lang="ru-RU" sz="1800" spc="-1" strike="noStrike">
                  <a:solidFill>
                    <a:srgbClr val="ffffff"/>
                  </a:solidFill>
                  <a:latin typeface="Calibri"/>
                </a:rPr>
                <a:t>Наза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Группа 45"/>
          <p:cNvGrpSpPr/>
          <p:nvPr/>
        </p:nvGrpSpPr>
        <p:grpSpPr>
          <a:xfrm>
            <a:off x="0" y="0"/>
            <a:ext cx="9144000" cy="6357960"/>
            <a:chOff x="0" y="0"/>
            <a:chExt cx="9144000" cy="6357960"/>
          </a:xfrm>
        </p:grpSpPr>
        <p:grpSp>
          <p:nvGrpSpPr>
            <p:cNvPr id="419" name="Прямоугольник 27"/>
            <p:cNvGrpSpPr/>
            <p:nvPr/>
          </p:nvGrpSpPr>
          <p:grpSpPr>
            <a:xfrm>
              <a:off x="23760" y="489240"/>
              <a:ext cx="263520" cy="5731200"/>
              <a:chOff x="23760" y="489240"/>
              <a:chExt cx="263520" cy="5731200"/>
            </a:xfrm>
          </p:grpSpPr>
          <p:pic>
            <p:nvPicPr>
              <p:cNvPr id="420" name="Прямоугольник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376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1" name=""/>
              <p:cNvSpPr/>
              <p:nvPr/>
            </p:nvSpPr>
            <p:spPr>
              <a:xfrm>
                <a:off x="896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Прямоугольник 28"/>
            <p:cNvGrpSpPr/>
            <p:nvPr/>
          </p:nvGrpSpPr>
          <p:grpSpPr>
            <a:xfrm>
              <a:off x="8880480" y="489240"/>
              <a:ext cx="263520" cy="5731200"/>
              <a:chOff x="8880480" y="489240"/>
              <a:chExt cx="263520" cy="5731200"/>
            </a:xfrm>
          </p:grpSpPr>
          <p:pic>
            <p:nvPicPr>
              <p:cNvPr id="423" name="Прямоугольник 28" descr=""/>
              <p:cNvPicPr/>
              <p:nvPr/>
            </p:nvPicPr>
            <p:blipFill>
              <a:blip r:embed="rId9"/>
              <a:stretch/>
            </p:blipFill>
            <p:spPr>
              <a:xfrm>
                <a:off x="8880480" y="489240"/>
                <a:ext cx="263520" cy="573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"/>
              <p:cNvSpPr/>
              <p:nvPr/>
            </p:nvSpPr>
            <p:spPr>
              <a:xfrm>
                <a:off x="8943840" y="507240"/>
                <a:ext cx="140400" cy="559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Прямоугольник с двумя скругленными соседними углами 26"/>
            <p:cNvGrpSpPr/>
            <p:nvPr/>
          </p:nvGrpSpPr>
          <p:grpSpPr>
            <a:xfrm>
              <a:off x="0" y="0"/>
              <a:ext cx="9144000" cy="620640"/>
              <a:chOff x="0" y="0"/>
              <a:chExt cx="9144000" cy="620640"/>
            </a:xfrm>
          </p:grpSpPr>
          <p:pic>
            <p:nvPicPr>
              <p:cNvPr id="426" name="Прямоугольник с двумя скругленными соседними углами 26" descr=""/>
              <p:cNvPicPr/>
              <p:nvPr/>
            </p:nvPicPr>
            <p:blipFill>
              <a:blip r:embed="rId10"/>
              <a:stretch/>
            </p:blipFill>
            <p:spPr>
              <a:xfrm>
                <a:off x="0" y="0"/>
                <a:ext cx="9144000" cy="62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7" name=""/>
              <p:cNvSpPr/>
              <p:nvPr/>
            </p:nvSpPr>
            <p:spPr>
              <a:xfrm>
                <a:off x="113760" y="41760"/>
                <a:ext cx="8946360" cy="46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Wingdings"/>
                    <a:ea typeface="Wingdings"/>
                  </a:rPr>
                  <a:t>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Windows Star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Скругленный прямоугольник 35"/>
            <p:cNvGrpSpPr/>
            <p:nvPr/>
          </p:nvGrpSpPr>
          <p:grpSpPr>
            <a:xfrm>
              <a:off x="8538480" y="65520"/>
              <a:ext cx="461520" cy="393840"/>
              <a:chOff x="8538480" y="65520"/>
              <a:chExt cx="461520" cy="393840"/>
            </a:xfrm>
          </p:grpSpPr>
          <p:pic>
            <p:nvPicPr>
              <p:cNvPr id="429" name="Скругленный прямоугольник 35" descr="">
                <a:hlinkClick r:id="" action="ppaction://hlinkshowjump?jump=endshow"/>
              </p:cNvPr>
              <p:cNvPicPr/>
              <p:nvPr/>
            </p:nvPicPr>
            <p:blipFill>
              <a:blip r:embed="rId11"/>
              <a:stretch/>
            </p:blipFill>
            <p:spPr>
              <a:xfrm>
                <a:off x="8538480" y="65520"/>
                <a:ext cx="461520" cy="39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0" name=""/>
              <p:cNvSpPr/>
              <p:nvPr/>
            </p:nvSpPr>
            <p:spPr>
              <a:xfrm>
                <a:off x="8579880" y="105840"/>
                <a:ext cx="387360" cy="31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Умножение 36">
              <a:hlinkClick r:id="" action="ppaction://hlinkshowjump?jump=endshow"/>
            </p:cNvPr>
            <p:cNvSpPr/>
            <p:nvPr/>
          </p:nvSpPr>
          <p:spPr>
            <a:xfrm>
              <a:off x="8632800" y="126720"/>
              <a:ext cx="280800" cy="279720"/>
            </a:xfrm>
            <a:custGeom>
              <a:avLst/>
              <a:gdLst>
                <a:gd name="textAreaLeft" fmla="*/ 43920 w 280800"/>
                <a:gd name="textAreaRight" fmla="*/ 236880 w 280800"/>
                <a:gd name="textAreaTop" fmla="*/ 43920 h 279720"/>
                <a:gd name="textAreaBottom" fmla="*/ 235800 h 279720"/>
              </a:gdLst>
              <a:ahLst/>
              <a:rect l="textAreaLeft" t="textAreaTop" r="textAreaRight" b="textAreaBottom"/>
              <a:pathLst>
                <a:path w="285750" h="285751">
                  <a:moveTo>
                    <a:pt x="44868" y="92392"/>
                  </a:moveTo>
                  <a:lnTo>
                    <a:pt x="92392" y="44869"/>
                  </a:lnTo>
                  <a:lnTo>
                    <a:pt x="142875" y="95352"/>
                  </a:lnTo>
                  <a:lnTo>
                    <a:pt x="193358" y="44869"/>
                  </a:lnTo>
                  <a:lnTo>
                    <a:pt x="240882" y="92392"/>
                  </a:lnTo>
                  <a:lnTo>
                    <a:pt x="190398" y="142876"/>
                  </a:lnTo>
                  <a:lnTo>
                    <a:pt x="240882" y="193359"/>
                  </a:lnTo>
                  <a:lnTo>
                    <a:pt x="193358" y="240882"/>
                  </a:lnTo>
                  <a:lnTo>
                    <a:pt x="142875" y="190399"/>
                  </a:lnTo>
                  <a:lnTo>
                    <a:pt x="92392" y="240882"/>
                  </a:lnTo>
                  <a:lnTo>
                    <a:pt x="44868" y="193359"/>
                  </a:lnTo>
                  <a:lnTo>
                    <a:pt x="95352" y="14287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2" name="Прямоугольник 29"/>
            <p:cNvGrpSpPr/>
            <p:nvPr/>
          </p:nvGrpSpPr>
          <p:grpSpPr>
            <a:xfrm>
              <a:off x="23760" y="6089400"/>
              <a:ext cx="9120240" cy="268560"/>
              <a:chOff x="23760" y="6089400"/>
              <a:chExt cx="9120240" cy="268560"/>
            </a:xfrm>
          </p:grpSpPr>
          <p:pic>
            <p:nvPicPr>
              <p:cNvPr id="433" name="Прямоугольник 29" descr=""/>
              <p:cNvPicPr/>
              <p:nvPr/>
            </p:nvPicPr>
            <p:blipFill>
              <a:blip r:embed="rId12"/>
              <a:stretch/>
            </p:blipFill>
            <p:spPr>
              <a:xfrm>
                <a:off x="23760" y="6089400"/>
                <a:ext cx="9120240" cy="2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4" name=""/>
              <p:cNvSpPr/>
              <p:nvPr/>
            </p:nvSpPr>
            <p:spPr>
              <a:xfrm rot="5400000">
                <a:off x="4516560" y="1676880"/>
                <a:ext cx="140040" cy="899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5" name="Дата 39"/>
          <p:cNvSpPr/>
          <p:nvPr/>
        </p:nvSpPr>
        <p:spPr>
          <a:xfrm>
            <a:off x="8072280" y="6429240"/>
            <a:ext cx="1000440" cy="35748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CAD46-CE02-42DC-80A9-8E46133BCBB0}" type="datetime10">
              <a:rPr b="1" lang="ru-RU" sz="2400" spc="-1" strike="noStrike">
                <a:solidFill>
                  <a:srgbClr val="ffffff"/>
                </a:solidFill>
                <a:latin typeface="Calibri"/>
              </a:rPr>
              <a:t>09:24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2" descr="E:\Мои документы\ФОТО\5 марта 2010 г\Пионербол\IMGP6277.JPG"/>
          <p:cNvPicPr/>
          <p:nvPr/>
        </p:nvPicPr>
        <p:blipFill>
          <a:blip r:embed="rId13"/>
          <a:stretch/>
        </p:blipFill>
        <p:spPr>
          <a:xfrm>
            <a:off x="1452600" y="785880"/>
            <a:ext cx="619128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03:50:53Z</dcterms:created>
  <dc:creator>Ирина Петровна</dc:creator>
  <dc:description/>
  <dc:language>en-US</dc:language>
  <cp:lastModifiedBy>Ирина Петровна</cp:lastModifiedBy>
  <dcterms:modified xsi:type="dcterms:W3CDTF">2010-03-08T05:57:41Z</dcterms:modified>
  <cp:revision>8</cp:revision>
  <dc:subject/>
  <dc:title>Windows X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91561049</vt:lpwstr>
  </property>
</Properties>
</file>