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8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F5D0D0-E342-4465-B302-37726426CC7F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2BBA-3037-406D-B612-934DD5C71F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0E85-4D2E-49EF-A042-D8B1618474A1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54C0-9168-4C49-A091-D48FCCA1E495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96D8-52E8-48E0-BBB2-25B122A40CC4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8955-7334-4172-9127-11790F05AD22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DBA0-EB1A-4FCD-A966-AF7D6CECBA19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1208-B70A-4BEB-9947-97BF9706F81B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6B17-5A34-4BCC-9862-74EB83946599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F1E0-08CD-45CD-B57C-78C596D11A7B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CA96-7A08-497D-9F88-373653EC7D9E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EA07-8A58-458C-B7B3-200029F9902B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843D-0A3F-4E9C-8F35-895B4E9FE6A3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1E55-7067-4380-9C80-A3D25182FB46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ECB-5EC7-4C68-B001-EAC7ABD7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400-AAF1-42A6-9791-CEDFDF6C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BE0-D1E4-425C-8C0A-B784D183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A8B-8F3B-4E36-9D03-4B8F8746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1A5-7FAB-4922-8780-CB246F67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710-C897-4AA8-988F-AB53114E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239-6F1B-4EF4-BA61-A839F49A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5B0-C9D2-4A77-A165-BBAED593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6D9-B889-4715-A839-517F054A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D76-C25A-4DB4-B9C9-0C6D3132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63C-247B-4FEA-A072-52BCB8F8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F3F-A0AF-4A19-A83A-E58820DE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FEE1D4-F412-45A5-9F52-56A81B426019}" type="datetime10">
              <a:rPr b="0" lang="ru-RU" sz="1200" spc="-1" strike="noStrike">
                <a:solidFill>
                  <a:srgbClr val="898989"/>
                </a:solidFill>
                <a:latin typeface="Calibri"/>
              </a:rPr>
              <a:t>07:0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C201-C23F-4627-B661-120885B378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24" descr=""/>
          <p:cNvPicPr/>
          <p:nvPr/>
        </p:nvPicPr>
        <p:blipFill>
          <a:blip r:embed="rId1"/>
          <a:stretch/>
        </p:blipFill>
        <p:spPr>
          <a:xfrm>
            <a:off x="237960" y="3992400"/>
            <a:ext cx="8680680" cy="104328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5" descr=""/>
          <p:cNvPicPr/>
          <p:nvPr/>
        </p:nvPicPr>
        <p:blipFill>
          <a:blip r:embed="rId2"/>
          <a:stretch/>
        </p:blipFill>
        <p:spPr>
          <a:xfrm>
            <a:off x="1352520" y="5084640"/>
            <a:ext cx="6413400" cy="706680"/>
          </a:xfrm>
          <a:prstGeom prst="rect">
            <a:avLst/>
          </a:prstGeom>
          <a:ln w="0">
            <a:noFill/>
          </a:ln>
        </p:spPr>
      </p:pic>
      <p:grpSp>
        <p:nvGrpSpPr>
          <p:cNvPr id="50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51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52" name="Прямоугольник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55" name="Прямоугольник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58" name="Прямоугольник с одним скругленным углом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61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63" name="Фигура, имеющая форму буквы L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66" name="Скругленный прямоугольник 40" descr=""/>
            <p:cNvPicPr/>
            <p:nvPr/>
          </p:nvPicPr>
          <p:blipFill>
            <a:blip r:embed="rId7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69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72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75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76" name="Прямоугольник 27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79" name="Прямоугольник 2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82" name="Прямоугольник с двумя скругленными соседними углами 26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85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89" name="Прямоугольник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86CE-1C52-46C0-BB3A-F7E768B2127C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7:0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7" descr="E:\Мои документы\ФОТО\5 марта 2010 г\Пионербол\IMGP6265.JPG"/>
          <p:cNvPicPr/>
          <p:nvPr/>
        </p:nvPicPr>
        <p:blipFill>
          <a:blip r:embed="rId15"/>
          <a:stretch/>
        </p:blipFill>
        <p:spPr>
          <a:xfrm>
            <a:off x="2286000" y="7858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438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439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442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45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48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50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53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56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459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462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463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466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469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472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476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2073-DF74-42C0-8D39-977A89CC0AA7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7:0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E:\Мои документы\ФОТО\5 марта 2010 г\Пионербол\IMGP6285.JPG"/>
          <p:cNvPicPr/>
          <p:nvPr/>
        </p:nvPicPr>
        <p:blipFill>
          <a:blip r:embed="rId13"/>
          <a:stretch/>
        </p:blipFill>
        <p:spPr>
          <a:xfrm>
            <a:off x="1857240" y="1143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481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482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485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88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91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93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96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99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502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505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506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509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512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515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519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1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6240-B5C0-4FAD-BBDC-59F84CD126D3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7:0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E:\Мои документы\ФОТО\5 марта 2010 г\Пионербол\IMGP6314.JPG"/>
          <p:cNvPicPr/>
          <p:nvPr/>
        </p:nvPicPr>
        <p:blipFill>
          <a:blip r:embed="rId13"/>
          <a:stretch/>
        </p:blipFill>
        <p:spPr>
          <a:xfrm>
            <a:off x="1643040" y="928800"/>
            <a:ext cx="592452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524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525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528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531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534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536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539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542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545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548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549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552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555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558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562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7A16-F3BF-4916-99EB-99129163E018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7:0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E:\Мои документы\ФОТО\5 марта 2010 г\Пионербол\IMGP6309.JPG"/>
          <p:cNvPicPr/>
          <p:nvPr/>
        </p:nvPicPr>
        <p:blipFill>
          <a:blip r:embed="rId13"/>
          <a:stretch/>
        </p:blipFill>
        <p:spPr>
          <a:xfrm>
            <a:off x="5500800" y="71424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E:\Мои документы\ФОТО\5 марта 2010 г\Пионербол\IMGP6310.JPG"/>
          <p:cNvPicPr/>
          <p:nvPr/>
        </p:nvPicPr>
        <p:blipFill>
          <a:blip r:embed="rId14"/>
          <a:stretch/>
        </p:blipFill>
        <p:spPr>
          <a:xfrm>
            <a:off x="571680" y="7142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E:\Мои документы\ФОТО\5 марта 2010 г\Пионербол\IMGP6261.JPG"/>
          <p:cNvPicPr/>
          <p:nvPr/>
        </p:nvPicPr>
        <p:blipFill>
          <a:blip r:embed="rId15"/>
          <a:stretch/>
        </p:blipFill>
        <p:spPr>
          <a:xfrm>
            <a:off x="2857680" y="3143160"/>
            <a:ext cx="3357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94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95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98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01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04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06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09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12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115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118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119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122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125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128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132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AC38-EAC7-41FD-BF83-9D62A64D75C0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7:0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0" descr="E:\Мои документы\ФОТО\5 марта 2010 г\Пионербол\IMGP6253.JPG"/>
          <p:cNvPicPr/>
          <p:nvPr/>
        </p:nvPicPr>
        <p:blipFill>
          <a:blip r:embed="rId13"/>
          <a:stretch/>
        </p:blipFill>
        <p:spPr>
          <a:xfrm>
            <a:off x="1643040" y="1071720"/>
            <a:ext cx="58104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137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138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141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44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47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49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52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55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158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161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162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165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168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171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175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2806-6DD4-4CB4-B5CC-E35716556203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7:0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Мои документы\ФОТО\5 марта 2010 г\Пионербол\IMGP6254.JPG"/>
          <p:cNvPicPr/>
          <p:nvPr/>
        </p:nvPicPr>
        <p:blipFill>
          <a:blip r:embed="rId13"/>
          <a:stretch/>
        </p:blipFill>
        <p:spPr>
          <a:xfrm>
            <a:off x="1428840" y="8571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180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181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184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87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90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92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95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98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01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04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05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08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11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214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218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24AC-2F8D-4D05-8C85-B2DDAF77CEFB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7:0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E:\Мои документы\ФОТО\5 марта 2010 г\Пионербол\IMGP6257.JPG"/>
          <p:cNvPicPr/>
          <p:nvPr/>
        </p:nvPicPr>
        <p:blipFill>
          <a:blip r:embed="rId13"/>
          <a:stretch/>
        </p:blipFill>
        <p:spPr>
          <a:xfrm>
            <a:off x="1500120" y="91116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223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224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227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230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233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235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238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241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44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47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48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51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54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257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261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F9C5-A351-4905-82EB-66B07A827C0E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7:0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E:\Мои документы\ФОТО\5 марта 2010 г\Пионербол\IMGP6267.JPG"/>
          <p:cNvPicPr/>
          <p:nvPr/>
        </p:nvPicPr>
        <p:blipFill>
          <a:blip r:embed="rId13"/>
          <a:stretch/>
        </p:blipFill>
        <p:spPr>
          <a:xfrm>
            <a:off x="1500120" y="857160"/>
            <a:ext cx="62150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266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267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270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273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276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278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281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284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87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90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91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94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97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00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04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FE74-A5EF-439A-8AEA-8119341D02A6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7:0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E:\Мои документы\ФОТО\5 марта 2010 г\Пионербол\IMGP6268.JPG"/>
          <p:cNvPicPr/>
          <p:nvPr/>
        </p:nvPicPr>
        <p:blipFill>
          <a:blip r:embed="rId13"/>
          <a:stretch/>
        </p:blipFill>
        <p:spPr>
          <a:xfrm>
            <a:off x="1571760" y="85716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09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10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13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316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319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321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324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327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330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333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334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337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340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43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47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D4B2-C3F0-41C5-A3A1-0A82C03E4216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7:0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E:\Мои документы\ФОТО\5 марта 2010 г\Пионербол\IMGP6270.JPG"/>
          <p:cNvPicPr/>
          <p:nvPr/>
        </p:nvPicPr>
        <p:blipFill>
          <a:blip r:embed="rId13"/>
          <a:stretch/>
        </p:blipFill>
        <p:spPr>
          <a:xfrm>
            <a:off x="1571760" y="85716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52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53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56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359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362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364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367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370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373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376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377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380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383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86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90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4DAF-880A-44C2-A705-A38042831C2F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7:0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E:\Мои документы\ФОТО\5 марта 2010 г\Пионербол\IMGP6271.JPG"/>
          <p:cNvPicPr/>
          <p:nvPr/>
        </p:nvPicPr>
        <p:blipFill>
          <a:blip r:embed="rId13"/>
          <a:stretch/>
        </p:blipFill>
        <p:spPr>
          <a:xfrm>
            <a:off x="1500120" y="857160"/>
            <a:ext cx="6143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95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96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99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02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05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07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10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13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416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419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420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423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426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429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433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C356-69F9-4459-A2E6-94D56B500940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7:0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E:\Мои документы\ФОТО\5 марта 2010 г\Пионербол\IMGP6277.JPG"/>
          <p:cNvPicPr/>
          <p:nvPr/>
        </p:nvPicPr>
        <p:blipFill>
          <a:blip r:embed="rId13"/>
          <a:stretch/>
        </p:blipFill>
        <p:spPr>
          <a:xfrm>
            <a:off x="1452600" y="78588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50:53Z</dcterms:created>
  <dc:creator>Ирина Петровна</dc:creator>
  <dc:description/>
  <dc:language>en-US</dc:language>
  <cp:lastModifiedBy>Ирина Петровна</cp:lastModifiedBy>
  <dcterms:modified xsi:type="dcterms:W3CDTF">2010-03-08T05:57:41Z</dcterms:modified>
  <cp:revision>8</cp:revision>
  <dc:subject/>
  <dc:title>Windows X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1561049</vt:lpwstr>
  </property>
</Properties>
</file>