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FFD8-1072-4CF3-BB9F-2E22DCCEC9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2A71-970C-49F0-994B-FE242A25F4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656-5F73-431E-A005-D8B72DEE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A1C-45E7-4C13-A128-04990688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729-61CF-451B-836A-6A59F523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2BD-1DAD-4CC9-9FFE-55BFF6EA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1F0B-DCB6-42DB-9FD5-EB6D86BF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2BBC-EFD9-46D0-A9D0-CFC94BC1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3D80-6BAB-4F83-B269-0CD79DC5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FA98-6474-4218-8FCA-5275FFBB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88A6-80AE-4DDD-BB7F-B70AD497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7D56-B720-42AE-AEE8-ACB548C6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C97B-AD74-4EA6-AC89-E2B62DA5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2F0-6E13-43D6-9182-C2C0B413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5F63-C00D-44BD-BBD0-413F93C5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EACE-F62B-4B30-A1E8-FDD353C4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81F1-2713-4A18-A106-9CC735EC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A38E-ECC2-4326-9848-8003FCE7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84BA-C468-4A43-B102-5CD12E8A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BBB-5832-482D-9E03-F5BA738A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924-CACF-4365-A795-13DD41EE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5F0-78CE-46AD-A5B1-EBB6A2EA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06F-6B67-4980-96A4-44559D6E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3ED-B008-4D10-A853-44D8B7DD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F21-7385-4258-BC8E-C30ABCCF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9E7-3152-440F-927B-198A28F1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ED42-C39E-472F-ACB8-E5A06A7A61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5316-589A-4C64-8FA4-B9D0A1145A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8" descr=""/>
          <p:cNvPicPr/>
          <p:nvPr/>
        </p:nvPicPr>
        <p:blipFill>
          <a:blip r:embed="rId1"/>
          <a:stretch/>
        </p:blipFill>
        <p:spPr>
          <a:xfrm>
            <a:off x="1352520" y="1785960"/>
            <a:ext cx="6585120" cy="3760920"/>
          </a:xfrm>
          <a:prstGeom prst="rect">
            <a:avLst/>
          </a:prstGeom>
          <a:ln w="0">
            <a:noFill/>
          </a:ln>
        </p:spPr>
      </p:pic>
      <p:pic>
        <p:nvPicPr>
          <p:cNvPr id="90" name="01_victory_mike_batt_mix_.mp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9680" y="1928520"/>
            <a:ext cx="8001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и методики здоровьесберегающего обу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пит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спортивных занятий с учащими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медицинского обслужив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2600" y="178560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специализированных учреждений для одарённых детей, оказавшихся в трудной жизненной ситуац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роприятий для поддержки общения и взаимодействия детей в различных областях интеллектуальной и творческой деятельност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летних (сезонных) профильных школ для самореализации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ная система олимпиад, соревнований, конкурсов и иных творческих испытаний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, заочное и очно-заочное образова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ое обуче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8" descr=""/>
          <p:cNvPicPr/>
          <p:nvPr/>
        </p:nvPicPr>
        <p:blipFill>
          <a:blip r:embed="rId1"/>
          <a:stretch/>
        </p:blipFill>
        <p:spPr>
          <a:xfrm>
            <a:off x="596880" y="927000"/>
            <a:ext cx="84740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ша новая школ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920" y="5662440"/>
            <a:ext cx="80582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образовательная инициати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люрик Ирина Петров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28440" y="5643360"/>
            <a:ext cx="80578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 10 г. Йошкар-Олы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 РФ об образован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856880"/>
            <a:ext cx="8464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. 2, ст. 1 Закона об образован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й основой государственной политики Российской Федерации в области образования являе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вая программ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тия образов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643040"/>
            <a:ext cx="8143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-2010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пилотных моделей развит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ратегии обновлен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-2015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указанных моделей в практике каждого муниципалит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ключевых параметров инициативы «Наша новая школ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евые параметр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928880"/>
            <a:ext cx="81439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2600" y="192888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образовательным программа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ые механизмы оценки качества образования для разных групп образовательных учрежд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поставительных исследованиях качества образования в различных муниципалитетах, субъектах Российской Федерации, на международном уров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856880"/>
            <a:ext cx="82864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 школы учителей, имеющих базовое непедагогическое образ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организации и финансирования системы подготовки, переподготовки и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формационных и коммуникационных технологий в системе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е взаимодействие и деятельность социальных сетей учител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модель аттестации педагогических и руководящих кадр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000160"/>
            <a:ext cx="79293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е подушевое финанси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ьных со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 ступеней обучения: младшие школьники, подростки, старшие школьн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автономных учреждений общего образ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5:48:30Z</dcterms:created>
  <dc:creator>Ирина Петровна</dc:creator>
  <dc:description/>
  <cp:keywords/>
  <dc:language>en-US</dc:language>
  <cp:lastModifiedBy>Ирина Петровна</cp:lastModifiedBy>
  <dcterms:modified xsi:type="dcterms:W3CDTF">2009-07-29T10:50:2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41049</vt:lpwstr>
  </property>
</Properties>
</file>