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4D28-E11C-430C-B2F1-736FC2B4FA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0663-DF96-4622-9B07-7959A9FFF5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36B-27C2-4DB4-AE26-0CDD8515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D00-AA0D-4CC4-8133-8CBF8B72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1C86-AEB7-45C2-A964-091F3B2F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E8DC-B8C7-4C88-87E3-8EAE0E11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4A56-145B-479D-982A-CE7ACDC1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A88A-42A7-4589-9F76-2C61E846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C34C-E527-4361-A701-392C848C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5480-A2B8-4A3D-9ED9-C1AEA689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468C-94D6-463A-BB37-0D348692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2C1A-9B88-4EF8-9B3F-E108F3BB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AC10-E450-4842-8CC7-5FD84F2F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F9D0-0FB0-47CA-B253-4E0BA519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B625-0BC9-4711-8A15-86E48879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68A1-0577-4432-B22F-257D241E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FD25-81EF-41AF-88B7-AD87A675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7646-F477-4339-810D-0A8921E2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91F2-2D42-42D2-B98F-A00D74F2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59F-0037-4169-BED3-67582689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3BB4-CC86-4383-B137-B26001C8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9F7-6281-4E0B-8D82-6B744F70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408-888F-4115-BF48-FD088036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06A-C475-42B4-8D81-E9A55F3D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D549-C1D4-4C04-887B-2D3690BF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F16-3A8F-4F7B-9C2B-9E618FD3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34B2-53D3-4C1A-A6D5-33A808A6E8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1EA2-B949-4BB9-81CF-BBAF5A2597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8" descr=""/>
          <p:cNvPicPr/>
          <p:nvPr/>
        </p:nvPicPr>
        <p:blipFill>
          <a:blip r:embed="rId1"/>
          <a:stretch/>
        </p:blipFill>
        <p:spPr>
          <a:xfrm>
            <a:off x="1352520" y="1785960"/>
            <a:ext cx="6585120" cy="3760920"/>
          </a:xfrm>
          <a:prstGeom prst="rect">
            <a:avLst/>
          </a:prstGeom>
          <a:ln w="0">
            <a:noFill/>
          </a:ln>
        </p:spPr>
      </p:pic>
      <p:pic>
        <p:nvPicPr>
          <p:cNvPr id="90" name="01_victory_mike_batt_mix_.mp3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750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Обеспечение здоровья школьник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99680" y="1928520"/>
            <a:ext cx="8001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ехнологии и методики здоровьесберегающего обуч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организации питания учащих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организации спортивных занятий с учащими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организации медицинского обслуживания учащих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держка талантливых дет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2600" y="1785600"/>
            <a:ext cx="807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специализированных учреждений для одарённых детей, оказавшихся в трудной жизненной ситуаци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мероприятий для поддержки общения и взаимодействия детей в различных областях интеллектуальной и творческой деятельност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летних (сезонных) профильных школ для самореализации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ная система олимпиад, соревнований, конкурсов и иных творческих испытаний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ионное, заочное и очно-заочное образование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ное обучение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8" descr=""/>
          <p:cNvPicPr/>
          <p:nvPr/>
        </p:nvPicPr>
        <p:blipFill>
          <a:blip r:embed="rId1"/>
          <a:stretch/>
        </p:blipFill>
        <p:spPr>
          <a:xfrm>
            <a:off x="596880" y="927000"/>
            <a:ext cx="84740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аша новая школ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6920" y="5662440"/>
            <a:ext cx="80582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образовательная инициати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илюрик Ирина Петров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28440" y="5643360"/>
            <a:ext cx="80578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редняя общеобразовательная школа № 10 г. Йошкар-Олы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8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он РФ об образован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1856880"/>
            <a:ext cx="8464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. 2, ст. 1 Закона об образовани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й основой государственной политики Российской Федерации в области образования являет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ая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евая программ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ития образован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750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реализации програм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040" y="1643040"/>
            <a:ext cx="8143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-2010 г.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пилотных моделей развития системы общего образ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тратегии обновления системы общего образ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-2015 г.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указанных моделей в практике каждого муниципалите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ключевых параметров инициативы «Наша новая школа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ючевые параметр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1928880"/>
            <a:ext cx="814392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ие образовательных стандарт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чительского потенциал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школьной инфраструктур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здоровья школьник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талантливых дете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новление образовательных стандарт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42600" y="192888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ребования к образовательным программа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ые механизмы оценки качества образования для разных групп образовательных учрежде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сопоставительных исследованиях качества образования в различных муниципалитетах, субъектах Российской Федерации, на международном уровн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учительского потенциа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856880"/>
            <a:ext cx="828648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в школы учителей, имеющих базовое непедагогическое образова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ехнологии организации и финансирования системы подготовки, переподготовки и повышения квалифик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формационных и коммуникационных технологий в системе повышения квалифик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евое взаимодействие и деятельность социальных сетей учител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я модель аттестации педагогических и руководящих кадр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750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школьной инфраструкту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2000160"/>
            <a:ext cx="79293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е подушевое финансир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школьных сове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школ ступеней обучения: младшие школьники, подростки, старшие школьни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автономных учреждений общего образов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5:48:30Z</dcterms:created>
  <dc:creator>Ирина Петровна</dc:creator>
  <dc:description/>
  <cp:keywords/>
  <dc:language>en-US</dc:language>
  <cp:lastModifiedBy>Ирина Петровна</cp:lastModifiedBy>
  <dcterms:modified xsi:type="dcterms:W3CDTF">2009-07-29T10:50:26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41049</vt:lpwstr>
  </property>
</Properties>
</file>