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E2EB-32B0-4264-BFF7-3AE38EB1DD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0C92-5C66-41F0-8E59-BCF9CA1402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14A-51EC-48D0-81D6-0CFD46CC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0AB-8C5A-49E8-A536-E788BDD0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BAA-13D9-466E-A113-3185B3CA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9F2-074A-43F8-898A-439EBA04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EA50-3B22-4F13-B3F3-302D194D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F030-166E-44B2-97BB-1BC3D0AB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A8BC-E3D8-409E-968E-0B15A863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511F-9020-49E9-8D8C-6F2E464C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0842-EA59-4211-86BB-617F6878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CFB1-B7E7-4386-97DA-EBFB6862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4568-A54A-478E-B0F3-483EDE08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71B-986F-4449-BB10-A8E85DDA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A019-67EF-43AC-B8DA-B425F7D1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6AFF-4792-43A2-BC35-D1A343F2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EA79-946E-4A72-8152-DAA1C701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8463-5558-4C3A-B901-3B57E296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27CF-6D24-4793-BBE1-31B3A137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AC5-C60C-4D1F-859B-9D57E1D2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739-A468-41C6-B3B9-05578E58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FA1-5740-4499-9C03-0415179E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45C-F3DE-4FEA-B7D5-817A489F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6F0-E596-43EF-921C-564CC0A6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FF2-952D-407E-83C7-9AD18639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D45-6482-453E-B900-E19924C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6967-BE44-45D6-BC30-542C13674C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4E5C-B0FC-4DBC-9ACD-F8911749BF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8" descr=""/>
          <p:cNvPicPr/>
          <p:nvPr/>
        </p:nvPicPr>
        <p:blipFill>
          <a:blip r:embed="rId1"/>
          <a:stretch/>
        </p:blipFill>
        <p:spPr>
          <a:xfrm>
            <a:off x="1352520" y="1785960"/>
            <a:ext cx="6585120" cy="3760920"/>
          </a:xfrm>
          <a:prstGeom prst="rect">
            <a:avLst/>
          </a:prstGeom>
          <a:ln w="0">
            <a:noFill/>
          </a:ln>
        </p:spPr>
      </p:pic>
      <p:pic>
        <p:nvPicPr>
          <p:cNvPr id="90" name="01_victory_mike_batt_mix_.mp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9680" y="1928520"/>
            <a:ext cx="8001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и методики здоровьесберегающего обу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пит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спортивных занятий с учащими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медицинского обслужив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2600" y="178560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специализированных учреждений для одарённых детей, оказавшихся в трудной жизненной ситуац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роприятий для поддержки общения и взаимодействия детей в различных областях интеллектуальной и творческой деятельност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летних (сезонных) профильных школ для самореализации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ная система олимпиад, соревнований, конкурсов и иных творческих испытаний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, заочное и очно-заочное образова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ое обуче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8" descr=""/>
          <p:cNvPicPr/>
          <p:nvPr/>
        </p:nvPicPr>
        <p:blipFill>
          <a:blip r:embed="rId1"/>
          <a:stretch/>
        </p:blipFill>
        <p:spPr>
          <a:xfrm>
            <a:off x="596880" y="927000"/>
            <a:ext cx="84740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ша новая школ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920" y="5662440"/>
            <a:ext cx="80582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образовательная инициати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люрик Ирина Петров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28440" y="5643360"/>
            <a:ext cx="80578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 10 г. Йошкар-Олы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 РФ об образован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856880"/>
            <a:ext cx="8464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. 2, ст. 1 Закона об образован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й основой государственной политики Российской Федерации в области образования являе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вая программ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тия образов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643040"/>
            <a:ext cx="8143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-2010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пилотных моделей развит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ратегии обновлен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-2015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указанных моделей в практике каждого муниципалит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ключевых параметров инициативы «Наша новая школ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евые параметр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928880"/>
            <a:ext cx="81439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2600" y="192888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образовательным программа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ые механизмы оценки качества образования для разных групп образовательных учрежд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поставительных исследованиях качества образования в различных муниципалитетах, субъектах Российской Федерации, на международном уров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856880"/>
            <a:ext cx="82864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 школы учителей, имеющих базовое непедагогическое образ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организации и финансирования системы подготовки, переподготовки и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формационных и коммуникационных технологий в системе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е взаимодействие и деятельность социальных сетей учител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модель аттестации педагогических и руководящих кадр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000160"/>
            <a:ext cx="79293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е подушевое финанси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ьных со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 ступеней обучения: младшие школьники, подростки, старшие школьн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автономных учреждений общего образ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5:48:30Z</dcterms:created>
  <dc:creator>Ирина Петровна</dc:creator>
  <dc:description/>
  <cp:keywords/>
  <dc:language>en-US</dc:language>
  <cp:lastModifiedBy>Ирина Петровна</cp:lastModifiedBy>
  <dcterms:modified xsi:type="dcterms:W3CDTF">2009-07-29T10:50:2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41049</vt:lpwstr>
  </property>
</Properties>
</file>