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2497-B7F1-41E5-8562-36CA0A1142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32FD-7CE5-4CE1-AA44-11EC4462C5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B8D-57F1-4A14-84BB-05D08FE9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367-A6EE-494D-B2FD-6EBA8B87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791-2C0E-493D-BA7F-1CCAC160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3C2-F8E7-4E94-9A7E-C6C9C6C1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42FF-B738-4B61-9015-619EF6F1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6FCE-C6D5-481F-90B6-74C8FFB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D8C0-57BA-44A1-AB2E-5176931C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342B-C216-4005-89D9-79B38A1F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AC97-38D7-4A88-A91C-9E7E611C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1D90-595E-40AA-9971-71DA8202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AA8D-DAEC-439E-BE65-6A7EAF23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B8D-11B7-48E3-BEF7-0FB50F9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2A11-9B2F-449E-AB7A-488CBD00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6AF5-9201-4373-9A5D-02DFCBA3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82D9-8D58-4258-A067-CAE3FF7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8081-16BE-4003-95B1-AB9D40F0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0757-0F5C-477A-B361-95A8491D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0B1-93EE-4D28-AB0E-686DFDD1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EF2-1B3F-4707-BD75-3A46380F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672-F8DB-4966-89DE-BDFEE978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847-2CE9-4981-B3E1-6602E277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4EB-FDBB-47AF-9263-88BD3B9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ECB-296D-4EB5-AB11-FC5E69D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B1A-DA50-4AA3-A803-12483C18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12ED-079E-4ABA-A3D1-85AFCA8686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F9EE-C68D-4BA2-868D-F680A231D5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8" descr=""/>
          <p:cNvPicPr/>
          <p:nvPr/>
        </p:nvPicPr>
        <p:blipFill>
          <a:blip r:embed="rId1"/>
          <a:stretch/>
        </p:blipFill>
        <p:spPr>
          <a:xfrm>
            <a:off x="1352520" y="1785960"/>
            <a:ext cx="6585120" cy="3760920"/>
          </a:xfrm>
          <a:prstGeom prst="rect">
            <a:avLst/>
          </a:prstGeom>
          <a:ln w="0">
            <a:noFill/>
          </a:ln>
        </p:spPr>
      </p:pic>
      <p:pic>
        <p:nvPicPr>
          <p:cNvPr id="90" name="01_victory_mike_batt_mix_.mp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9680" y="1928520"/>
            <a:ext cx="8001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и методики здоровьесберегающего обу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пит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спортивных занятий с учащими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медицинского обслужив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2600" y="178560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специализированных учреждений для одарённых детей, оказавшихся в трудной жизненной ситуац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роприятий для поддержки общения и взаимодействия детей в различных областях интеллектуальной и творческой деятельност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летних (сезонных) профильных школ для самореализации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ная система олимпиад, соревнований, конкурсов и иных творческих испытаний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, заочное и очно-заочное образова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ое обуче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8" descr=""/>
          <p:cNvPicPr/>
          <p:nvPr/>
        </p:nvPicPr>
        <p:blipFill>
          <a:blip r:embed="rId1"/>
          <a:stretch/>
        </p:blipFill>
        <p:spPr>
          <a:xfrm>
            <a:off x="596880" y="927000"/>
            <a:ext cx="8474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ша новая шко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5662440"/>
            <a:ext cx="80582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люрик Ирина Петров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28440" y="5643360"/>
            <a:ext cx="80578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 10 г. Йошкар-Олы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 РФ об образован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856880"/>
            <a:ext cx="8464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. 2, ст. 1 Закона об образован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й основой государственной политики Российской Федерации в области образования явля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вая програм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тия образов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643040"/>
            <a:ext cx="8143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-2010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илотных моделей развит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ратегии обновлен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-2015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указанных моделей в практике каждого муниципалит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ключевых параметров инициативы «Наша новая школ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вые параметр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928880"/>
            <a:ext cx="81439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2600" y="192888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образовательным программа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ые механизмы оценки качества образования для разных групп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поставительных исследованиях качества образования в различных муниципалитетах, субъектах Российской Федерации, на международном уров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856880"/>
            <a:ext cx="8286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 школы учителей, имеющих базовое непедагогическое образ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организации и финансирования системы подготовки, переподготовки и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формационных и коммуникационных технологий в системе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е взаимодействие и деятельность социальных сетей учи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модель аттестации педагогических и руководящих кадр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000160"/>
            <a:ext cx="79293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е подушевое финанси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ьных со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 ступеней обучения: младшие школьники, подростки, старшие школь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автономных учреждений общего образ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5:48:30Z</dcterms:created>
  <dc:creator>Ирина Петровна</dc:creator>
  <dc:description/>
  <cp:keywords/>
  <dc:language>en-US</dc:language>
  <cp:lastModifiedBy>Ирина Петровна</cp:lastModifiedBy>
  <dcterms:modified xsi:type="dcterms:W3CDTF">2009-07-29T10:50:2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41049</vt:lpwstr>
  </property>
</Properties>
</file>