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20.jpeg" ContentType="image/jpeg"/>
  <Override PartName="/ppt/media/image14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gif" ContentType="image/gif"/>
  <Override PartName="/ppt/media/image10.gif" ContentType="image/gif"/>
  <Override PartName="/ppt/media/image13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1FF4-E7BC-4089-92BE-753BA8369A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6C23-6FC5-48C0-9AF7-D5A39124094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E12-83E6-43FD-AB83-8674D57F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F1D-4882-4EA5-B33C-D06BF5FD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C39-4D73-4F9B-925C-BD4FB291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028-FD15-419A-B115-F9CED15F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1739-BE8F-418C-A313-BE7CB92F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A628-18B7-4B5D-9117-C46177A0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8431-20CC-4957-B202-17FD9DE5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384A-176B-4B33-9E8E-ABC652C4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2F5-0815-45C8-802E-E7903D71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FE70-AB7D-4BF3-8790-D6441C2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ED38-B9FE-4E18-AD0A-1F5446BC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0F5-2C99-41D6-96C5-69DE2B5D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5C03-9701-4FD0-8F30-2992568C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C30D-74D0-42A0-A6EF-080545B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7552-6AFC-4161-B28D-2CABC1A4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1398-50BE-433F-949A-10CEEF0F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C4DE-DC62-45F9-B53B-CE881093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55C-97BA-40E0-B3BC-3CA8D2F5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B4C-B8FE-4B34-88FC-811D0CAD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91D-91E3-4B11-8709-94B86608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78A-2AA4-4326-BEB7-E998A91F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F82-1965-45E2-9664-84191C74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76E-7292-4DDE-B9C1-31E90DA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8FE-8289-4381-9E96-459E101E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B9E-BEC6-45CD-B6F8-509A4892E4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B7F8-B134-40D5-863A-FF5FB25A31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5;&#1088;&#1086;&#1090;&#1086;&#1082;&#1086;&#1083;&#1099;%20&#1084;&#1086;&#1085;&#1080;&#1090;&#1086;&#1088;&#1080;&#1085;&#1075;&#1072;%202008%20-%202009-&#1074;&#1077;&#1089;&#1085;&#1072;.xls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57;&#1074;&#1086;&#1076;&#1085;&#1072;&#1103;%201-5%20&#1082;&#1083;.-2008.doc" TargetMode="Externa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4;&#1090;&#1082;&#1088;&#1099;&#1090;&#1082;&#1072;%20&#1088;&#1086;&#1076;&#1080;&#1090;&#1077;&#1083;&#1103;&#1084;%20&#1086;%20&#1089;&#1077;&#1082;&#1094;&#1080;&#1080;.pub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C2C-1468-4C7E-B867-FAF766A2164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Физкульт-Ура-бюллетень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4" descr="fundisk2.gif"/>
          <p:cNvPicPr/>
          <p:nvPr/>
        </p:nvPicPr>
        <p:blipFill>
          <a:blip r:embed="rId1"/>
          <a:stretch/>
        </p:blipFill>
        <p:spPr>
          <a:xfrm>
            <a:off x="2514600" y="1447920"/>
            <a:ext cx="3733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витие учащимся навыков здорового образа жиз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бота с одарёнными детьми по физкульту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КТ в работе учителя физкуль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0383-7895-479E-A717-9BF36577276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11760"/>
            <a:ext cx="16970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Ученики. Первые презентации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Рисунок 4" descr="cdrom.gif"/>
          <p:cNvPicPr/>
          <p:nvPr/>
        </p:nvPicPr>
        <p:blipFill>
          <a:blip r:embed="rId1"/>
          <a:stretch/>
        </p:blipFill>
        <p:spPr>
          <a:xfrm>
            <a:off x="5410080" y="228600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4008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Электронный тренажёр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Электронный тренажёр с тестами по физической культуре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1C3A-7B4B-4636-B270-98F605E21CB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Рисунок 6" descr="Wagon.gif"/>
          <p:cNvPicPr/>
          <p:nvPr/>
        </p:nvPicPr>
        <p:blipFill>
          <a:blip r:embed="rId1"/>
          <a:stretch/>
        </p:blipFill>
        <p:spPr>
          <a:xfrm>
            <a:off x="6705720" y="3049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kyp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 персональном сай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7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61B-F02F-4A28-BBEB-10FAB8A849C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B69A-A4D5-4ECF-B2E3-C1DFE71B292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Рисунок 5" descr="201.gif"/>
          <p:cNvPicPr/>
          <p:nvPr/>
        </p:nvPicPr>
        <p:blipFill>
          <a:blip r:embed="rId1"/>
          <a:stretch/>
        </p:blipFill>
        <p:spPr>
          <a:xfrm>
            <a:off x="4191120" y="5715000"/>
            <a:ext cx="1695240" cy="847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6477120" y="61722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http://fizkultira.ucoz.com/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Рисунок 8" descr="LCD.JPG"/>
          <p:cNvPicPr/>
          <p:nvPr/>
        </p:nvPicPr>
        <p:blipFill>
          <a:blip r:embed="rId3"/>
          <a:stretch/>
        </p:blipFill>
        <p:spPr>
          <a:xfrm>
            <a:off x="762120" y="3962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2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851A-DC3E-44DC-B9D3-FC26ECA911D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ИКТ</a:t>
            </a:r>
            <a:br>
              <a:rPr sz="7200"/>
            </a:b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в работе учителя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440" y="5943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52480" y="411480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D7B-BCED-424A-9F31-4335D401EAB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371600"/>
            <a:ext cx="5054760" cy="462924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79D7-4E53-4FEB-8180-5E0DEBDE2D7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 программе 1С конфигурация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F7D2-F9ED-4A6C-878E-47EE9CD9A7A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Рисунок 5" descr="computerkey_color.gif"/>
          <p:cNvPicPr/>
          <p:nvPr/>
        </p:nvPicPr>
        <p:blipFill>
          <a:blip r:embed="rId1"/>
          <a:stretch/>
        </p:blipFill>
        <p:spPr>
          <a:xfrm>
            <a:off x="2743200" y="2743200"/>
            <a:ext cx="35100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-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1590-100D-41F9-B7AE-D88E7869411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543800" y="4572000"/>
            <a:ext cx="12193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Excel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Протоколы мониторинга 2008 - 2009-весна.x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icrosoft Office Word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Рейтинг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 к презентации\Сводная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Рисунок 3" descr="AG00583_.gif"/>
          <p:cNvPicPr/>
          <p:nvPr/>
        </p:nvPicPr>
        <p:blipFill>
          <a:blip r:embed="rId3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2BF-AF3F-4EB2-816B-E31BE3A4A03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90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Визитка.</a:t>
            </a:r>
            <a:r>
              <a:rPr b="0" lang="en-US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Рисунок 6" descr="email1.gif"/>
          <p:cNvPicPr/>
          <p:nvPr/>
        </p:nvPicPr>
        <p:blipFill>
          <a:blip r:embed="rId3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5"/>
          <p:cNvSpPr/>
          <p:nvPr/>
        </p:nvSpPr>
        <p:spPr>
          <a:xfrm>
            <a:off x="6095880" y="647712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5B82-E429-4BED-88E6-3E444FB7D76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Открытка родителям о секции.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Рисунок 4" descr="ani-lap.gif"/>
          <p:cNvPicPr/>
          <p:nvPr/>
        </p:nvPicPr>
        <p:blipFill>
          <a:blip r:embed="rId2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7978-5D8B-4F37-8E89-3EEE1B12ECC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11-15T08:03:49Z</dcterms:modified>
  <cp:revision>236</cp:revision>
  <dc:subject/>
  <dc:title>Team Name</dc:title>
</cp:coreProperties>
</file>