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8.gif" ContentType="image/gif"/>
  <Override PartName="/ppt/media/image7.png" ContentType="image/png"/>
  <Override PartName="/ppt/media/image4.gif" ContentType="image/gif"/>
  <Override PartName="/ppt/media/image11.gif" ContentType="image/gif"/>
  <Override PartName="/ppt/media/image6.gif" ContentType="image/gif"/>
  <Override PartName="/ppt/media/image20.jpeg" ContentType="image/jpeg"/>
  <Override PartName="/ppt/media/image14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png" ContentType="image/png"/>
  <Override PartName="/ppt/media/image15.gif" ContentType="image/gif"/>
  <Override PartName="/ppt/media/image10.gif" ContentType="image/gif"/>
  <Override PartName="/ppt/media/image13.png" ContentType="image/png"/>
  <Override PartName="/ppt/media/image1.png" ContentType="image/png"/>
  <Override PartName="/ppt/media/image21.gif" ContentType="image/gif"/>
  <Override PartName="/ppt/media/image19.gif" ContentType="image/gif"/>
  <Override PartName="/ppt/media/image2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44A0-38ED-4E16-95F7-13B31C7D6E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3CBC-7355-46B6-ACC3-694D840A82F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7C7-E5C0-44EB-AC43-9892A4BE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732-5B31-44AF-92DD-B427C4F7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CA8-E4E4-429D-A719-CB4EFA2D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E546-938D-4711-93B4-91A7C7A2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B647-C0F3-4058-A0A8-AE0E2AFF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C11A-9689-48CB-B430-AFFD201C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5625-5FF4-4031-84A6-324764FA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2E5F-E856-4CF1-8056-F6ABC0FD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46A0-A91F-4EBA-87E6-E81C6AC0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C9E3-0145-40C9-8431-B65C1F55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896C-9AA2-46F7-8A77-19C5A033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241-B398-405E-B2AD-8C553CC5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0360-6591-485C-B6B1-E7631094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16FC-0364-48AB-8F37-342B9486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8A90-6749-4995-8FF4-8516E4D3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3B14-C1CE-4AF7-B318-217244AF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A9A1-7F47-4C9F-9BAE-6568B67B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E9D-679D-41AE-8138-135CC405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0BB-B594-4F24-B801-B39A3337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094-9873-4F46-BB4E-D71D2301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71F-3932-41D3-AE7B-EC424504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763-6286-40FC-9B14-7425D25E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2B0-0A48-42F5-8DE4-C1A16460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C6A-1EE8-4A7E-A54B-75883D03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5921-3478-4A33-8088-781A33F250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83C2-F8E8-4AD4-B5B2-51FC889C5D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5;&#1088;&#1086;&#1090;&#1086;&#1082;&#1086;&#1083;&#1099;%20&#1084;&#1086;&#1085;&#1080;&#1090;&#1086;&#1088;&#1080;&#1085;&#1075;&#1072;%202008%20-%202009-&#1074;&#1077;&#1089;&#1085;&#1072;.xls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%20&#1082;%20&#1087;&#1088;&#1077;&#1079;&#1077;&#1085;&#1090;&#1072;&#1094;&#1080;&#1080;/&#1057;&#1074;&#1086;&#1076;&#1085;&#1072;&#1103;%201-5%20&#1082;&#1083;.-2008.doc" TargetMode="Externa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42;&#1080;&#1079;&#1080;&#1090;&#1082;&#1072;.pub" TargetMode="External"/><Relationship Id="rId2" Type="http://schemas.openxmlformats.org/officeDocument/2006/relationships/hyperlink" Target="file:///&#1044;&#1086;&#1082;&#1091;&#1084;&#1077;&#1085;&#1090;&#1099;%20&#1082;%20&#1087;&#1088;&#1077;&#1079;&#1077;&#1085;&#1090;&#1072;&#1094;&#1080;&#1080;/&#1042;&#1080;&#1079;&#1080;&#1090;&#1082;&#1072;.pub" TargetMode="Externa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4;&#1090;&#1082;&#1088;&#1099;&#1090;&#1082;&#1072;%20&#1088;&#1086;&#1076;&#1080;&#1090;&#1077;&#1083;&#1103;&#1084;%20&#1086;%20&#1089;&#1077;&#1082;&#1094;&#1080;&#1080;.pub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903E-1622-4B1D-B54B-F3904B6C779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Физкульт-Ура-бюллетень.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Рисунок 4" descr="fundisk2.gif"/>
          <p:cNvPicPr/>
          <p:nvPr/>
        </p:nvPicPr>
        <p:blipFill>
          <a:blip r:embed="rId1"/>
          <a:stretch/>
        </p:blipFill>
        <p:spPr>
          <a:xfrm>
            <a:off x="2514600" y="1447920"/>
            <a:ext cx="3733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52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витие учащимся навыков здорового образа жиз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бота с одарёнными детьми по физкультур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КТ в работе учителя физкульту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C4F8-C782-4A6D-970A-A01D003B6A6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11760"/>
            <a:ext cx="16970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Ученики. Первые презентации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Рисунок 4" descr="cdrom.gif"/>
          <p:cNvPicPr/>
          <p:nvPr/>
        </p:nvPicPr>
        <p:blipFill>
          <a:blip r:embed="rId1"/>
          <a:stretch/>
        </p:blipFill>
        <p:spPr>
          <a:xfrm>
            <a:off x="5410080" y="228600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4008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Электронный тренажёр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Электронный тренажёр с тестами по физической культуре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8BCD-0101-46BF-865B-594CEF17665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Рисунок 6" descr="Wagon.gif"/>
          <p:cNvPicPr/>
          <p:nvPr/>
        </p:nvPicPr>
        <p:blipFill>
          <a:blip r:embed="rId1"/>
          <a:stretch/>
        </p:blipFill>
        <p:spPr>
          <a:xfrm>
            <a:off x="6705720" y="3049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kyp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На персональном сайт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7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01A9-4611-4342-803E-FA9979C0CC3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F429-EAE8-483E-B810-AC819BFBD03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Рисунок 5" descr="201.gif"/>
          <p:cNvPicPr/>
          <p:nvPr/>
        </p:nvPicPr>
        <p:blipFill>
          <a:blip r:embed="rId1"/>
          <a:stretch/>
        </p:blipFill>
        <p:spPr>
          <a:xfrm>
            <a:off x="4191120" y="5715000"/>
            <a:ext cx="1695240" cy="847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7"/>
          <p:cNvSpPr/>
          <p:nvPr/>
        </p:nvSpPr>
        <p:spPr>
          <a:xfrm>
            <a:off x="6477120" y="617220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http://fizkultira.ucoz.com/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Рисунок 8" descr="LCD.JPG"/>
          <p:cNvPicPr/>
          <p:nvPr/>
        </p:nvPicPr>
        <p:blipFill>
          <a:blip r:embed="rId3"/>
          <a:stretch/>
        </p:blipFill>
        <p:spPr>
          <a:xfrm>
            <a:off x="762120" y="396252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2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90C4-5B55-4ADB-9FD5-BBF6183B538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ИКТ</a:t>
            </a:r>
            <a:br>
              <a:rPr sz="7200"/>
            </a:b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в работе учителя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440" y="5943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752480" y="411480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6589-7785-4F81-B162-65CE0CB2115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371600"/>
            <a:ext cx="5054760" cy="4629240"/>
          </a:xfrm>
          <a:prstGeom prst="rect">
            <a:avLst/>
          </a:prstGeom>
          <a:ln w="0">
            <a:noFill/>
          </a:ln>
        </p:spPr>
      </p:pic>
      <p:sp>
        <p:nvSpPr>
          <p:cNvPr id="13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E957-82EE-4ED9-8E45-40672162AB5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 программе 1С конфигурация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BEAC-8721-4908-8242-F5C94A2242B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Рисунок 5" descr="computerkey_color.gif"/>
          <p:cNvPicPr/>
          <p:nvPr/>
        </p:nvPicPr>
        <p:blipFill>
          <a:blip r:embed="rId1"/>
          <a:stretch/>
        </p:blipFill>
        <p:spPr>
          <a:xfrm>
            <a:off x="2743200" y="2743200"/>
            <a:ext cx="35100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-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91C0-4DF5-4A7B-A477-9D9526AC4A4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543800" y="4572000"/>
            <a:ext cx="121932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Excel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Протоколы мониторинга 2008 - 2009-весна.x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icrosoft Office Word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Рейтинг 1-5 кл.-2008.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 к презентации\Сводная 1-5 кл.-2008.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Рисунок 3" descr="AG00583_.gif"/>
          <p:cNvPicPr/>
          <p:nvPr/>
        </p:nvPicPr>
        <p:blipFill>
          <a:blip r:embed="rId3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4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488B-8664-44EF-86DF-3FA19AFDCB0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590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Визитка.</a:t>
            </a:r>
            <a:r>
              <a:rPr b="0" lang="en-US" sz="1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pu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Рисунок 6" descr="email1.gif"/>
          <p:cNvPicPr/>
          <p:nvPr/>
        </p:nvPicPr>
        <p:blipFill>
          <a:blip r:embed="rId3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  <p:sp>
        <p:nvSpPr>
          <p:cNvPr id="151" name="Номер слайда 5"/>
          <p:cNvSpPr/>
          <p:nvPr/>
        </p:nvSpPr>
        <p:spPr>
          <a:xfrm>
            <a:off x="6095880" y="647712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8260-5747-47BD-B353-80AA59F1EB5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Открытка родителям о секции.pu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Рисунок 4" descr="ani-lap.gif"/>
          <p:cNvPicPr/>
          <p:nvPr/>
        </p:nvPicPr>
        <p:blipFill>
          <a:blip r:embed="rId2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5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15A6-7300-4992-90A0-9C38B1C0913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11-15T08:03:49Z</dcterms:modified>
  <cp:revision>236</cp:revision>
  <dc:subject/>
  <dc:title>Team Name</dc:title>
</cp:coreProperties>
</file>