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8.gif" ContentType="image/gif"/>
  <Override PartName="/ppt/media/image7.png" ContentType="image/png"/>
  <Override PartName="/ppt/media/image4.gif" ContentType="image/gif"/>
  <Override PartName="/ppt/media/image11.gif" ContentType="image/gif"/>
  <Override PartName="/ppt/media/image6.gif" ContentType="image/gif"/>
  <Override PartName="/ppt/media/image20.jpeg" ContentType="image/jpeg"/>
  <Override PartName="/ppt/media/image14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5.gif" ContentType="image/gif"/>
  <Override PartName="/ppt/media/image10.gif" ContentType="image/gif"/>
  <Override PartName="/ppt/media/image13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836C-4C34-4ADD-A28B-2C70E386AD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D39B-64A6-4ECC-AEFE-33D452F8A59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E00-4C65-4D90-8A51-DD449965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8F3-791E-4163-909B-CE1756CA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B16-0C72-46ED-8AED-614320CD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AF92-80FF-4ECB-9742-5A25DFFBC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B70D-82B0-453F-B311-D13A1796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2B40-DD5A-4A7D-AFC4-F5CCA78D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51DD-86CA-4747-AB1F-0DB0CE19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D7F9-D205-4A13-B869-B765C027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D5D1-644D-4214-97E8-8681EB75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B603-C23C-4756-877B-306CF375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689E-A698-425D-A3EF-013C8C31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1B90-11B2-4481-9A64-458A2335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2276-40EF-45E2-B234-2762BEE0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80031-C0C2-4EB4-B4C4-7265616B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FFC-275F-4A9E-878A-6F10C325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6651-325B-4CD2-8C60-9B5ED9158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FA5C-9BD0-4119-B05C-14B2A1F35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E43-7CC3-4948-B88A-79AA9135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796A-63E4-4502-8D10-5D630887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9993-114F-423C-B433-7688576F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6A63-6898-4CB2-AD1C-CD49D2D1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0E23-60BA-4D36-8B9E-C450CFBC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28C0-8E92-41AA-8720-82958FFD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5840-4B6B-4FDB-A7B7-6D7CC82C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0E14-EC60-4CC4-B26A-4556FC778E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DC08-BEAD-47D0-9CE5-C391FC0BC3E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5;&#1088;&#1086;&#1090;&#1086;&#1082;&#1086;&#1083;&#1099;%20&#1084;&#1086;&#1085;&#1080;&#1090;&#1086;&#1088;&#1080;&#1085;&#1075;&#1072;%202008%20-%202009-&#1074;&#1077;&#1089;&#1085;&#1072;.xls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57;&#1074;&#1086;&#1076;&#1085;&#1072;&#1103;%201-5%20&#1082;&#1083;.-2008.doc" TargetMode="Externa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4;&#1090;&#1082;&#1088;&#1099;&#1090;&#1082;&#1072;%20&#1088;&#1086;&#1076;&#1080;&#1090;&#1077;&#1083;&#1103;&#1084;%20&#1086;%20&#1089;&#1077;&#1082;&#1094;&#1080;&#1080;.pub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E64A-910D-455F-A97F-5E3EFB53D0C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Физкульт-Ура-бюллетень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Рисунок 4" descr="fundisk2.gif"/>
          <p:cNvPicPr/>
          <p:nvPr/>
        </p:nvPicPr>
        <p:blipFill>
          <a:blip r:embed="rId1"/>
          <a:stretch/>
        </p:blipFill>
        <p:spPr>
          <a:xfrm>
            <a:off x="2514600" y="1447920"/>
            <a:ext cx="3733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витие учащимся навыков здорового образа жиз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бота с одарёнными детьми по физкульту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КТ в работе учителя физкуль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BD0F-0C16-48B0-A3F7-900EBFCBE58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11760"/>
            <a:ext cx="16970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Ученики. Первые презентации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Рисунок 4" descr="cdrom.gif"/>
          <p:cNvPicPr/>
          <p:nvPr/>
        </p:nvPicPr>
        <p:blipFill>
          <a:blip r:embed="rId1"/>
          <a:stretch/>
        </p:blipFill>
        <p:spPr>
          <a:xfrm>
            <a:off x="5410080" y="228600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4008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Электронный тренажёр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Электронный тренажёр с тестами по физической культуре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EFAD-C1DB-4F68-B97E-23064708DEC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Рисунок 6" descr="Wagon.gif"/>
          <p:cNvPicPr/>
          <p:nvPr/>
        </p:nvPicPr>
        <p:blipFill>
          <a:blip r:embed="rId1"/>
          <a:stretch/>
        </p:blipFill>
        <p:spPr>
          <a:xfrm>
            <a:off x="6705720" y="3049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kyp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На персональном сай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7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5A28-5003-415E-B23D-00F4F74FD77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A1F0-7E53-4372-AEBD-686CC62C34D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Рисунок 5" descr="201.gif"/>
          <p:cNvPicPr/>
          <p:nvPr/>
        </p:nvPicPr>
        <p:blipFill>
          <a:blip r:embed="rId1"/>
          <a:stretch/>
        </p:blipFill>
        <p:spPr>
          <a:xfrm>
            <a:off x="4191120" y="5715000"/>
            <a:ext cx="1695240" cy="847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6477120" y="61722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http://fizkultira.ucoz.com/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Рисунок 8" descr="LCD.JPG"/>
          <p:cNvPicPr/>
          <p:nvPr/>
        </p:nvPicPr>
        <p:blipFill>
          <a:blip r:embed="rId3"/>
          <a:stretch/>
        </p:blipFill>
        <p:spPr>
          <a:xfrm>
            <a:off x="762120" y="3962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2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38A9-B6AF-4B69-8E83-D9C62354E69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ИКТ</a:t>
            </a:r>
            <a:br>
              <a:rPr sz="7200"/>
            </a:b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в работе учителя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440" y="5943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52480" y="411480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2312-6EDF-4D0C-9D39-93B14FDC4A8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371600"/>
            <a:ext cx="5054760" cy="462924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563B-590D-4083-B4F2-B8F11B5993E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 программе 1С конфигурация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1881-4BA7-41A8-9DF1-C8ED18FC3BB1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Рисунок 5" descr="computerkey_color.gif"/>
          <p:cNvPicPr/>
          <p:nvPr/>
        </p:nvPicPr>
        <p:blipFill>
          <a:blip r:embed="rId1"/>
          <a:stretch/>
        </p:blipFill>
        <p:spPr>
          <a:xfrm>
            <a:off x="2743200" y="2743200"/>
            <a:ext cx="35100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-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8895-4807-453F-B7B1-0390A6AA50B5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543800" y="4572000"/>
            <a:ext cx="12193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Excel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Протоколы мониторинга 2008 - 2009-весна.x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icrosoft Office Word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Рейтинг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 к презентации\Сводная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Рисунок 3" descr="AG00583_.gif"/>
          <p:cNvPicPr/>
          <p:nvPr/>
        </p:nvPicPr>
        <p:blipFill>
          <a:blip r:embed="rId3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9E09-06CE-45C4-B3E6-F2FACDE4A10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590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Визитка.</a:t>
            </a:r>
            <a:r>
              <a:rPr b="0" lang="en-US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Рисунок 6" descr="email1.gif"/>
          <p:cNvPicPr/>
          <p:nvPr/>
        </p:nvPicPr>
        <p:blipFill>
          <a:blip r:embed="rId3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5"/>
          <p:cNvSpPr/>
          <p:nvPr/>
        </p:nvSpPr>
        <p:spPr>
          <a:xfrm>
            <a:off x="6095880" y="647712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42182-2230-4C58-AE1D-AB35DAF60CF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Открытка родителям о секции.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Рисунок 4" descr="ani-lap.gif"/>
          <p:cNvPicPr/>
          <p:nvPr/>
        </p:nvPicPr>
        <p:blipFill>
          <a:blip r:embed="rId2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CC52-C065-4BFD-BCC0-A8FFB5D0C86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11-15T08:03:49Z</dcterms:modified>
  <cp:revision>236</cp:revision>
  <dc:subject/>
  <dc:title>Team Name</dc:title>
</cp:coreProperties>
</file>