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4.wmf" ContentType="image/x-wmf"/>
  <Override PartName="/ppt/media/image43.jpeg" ContentType="image/jpeg"/>
  <Override PartName="/ppt/media/image45.png" ContentType="image/pn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40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FD8D-0E68-4FEB-9FB5-F92E03330E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9F3C-E1BE-46F8-9C0C-33ABEFFA2B1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1B7-5455-4D76-A1FD-98FEAAB9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5D8-3402-4FAF-B2CD-DB421B8F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389-FBA1-4C1E-B107-9308A9CB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10D-1132-4FB9-9579-C8DC87DE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A9F2-BD01-4031-B1D2-A9EB349E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D4A9-DE6A-47B8-A46E-9078A8F4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1D03-2E4F-4E97-8B52-4BB51B11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177A-1B5B-481E-A4BC-E8576A01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DF21-7A1C-4F85-853B-C53E24CE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41E7-089D-4279-A5AB-C7F65BD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11DD-3B77-4D81-B93F-F040327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BDB-3D77-45EA-A045-EA2441A0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A362-E6E2-4243-B2E7-D4252D0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4493-71E0-4CB4-8DB9-7DBCB77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B5B0-DCF2-444B-9C1B-521D7961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0540-37D5-4327-BDB6-B2D322EB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2249-4BD5-4B3A-A4E7-D23D1C6C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333-2362-4D5D-8C20-850F97B8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FC9-345A-47BD-A030-04D4DD22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EB4-5674-4A05-9A21-D407AFF6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14E-77E8-4601-BA16-8B8FEAA9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9E2-3AC5-4957-A801-FF29E698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242-A0DB-4B4B-AEF8-22A1AB44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69B-42CE-4003-8642-43B1D34C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3D5A-2111-4979-8239-789E802083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E649-44CF-48B3-A8A1-0BB6869714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0A35-0E19-4956-8A54-40CE3E4407B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38ED-9D73-4818-90B5-34AABD5D9B8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B8A1-7AAC-4ADE-B56B-45D8844D657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095E-8A60-4691-B520-69FF5B9C467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713F-BDA7-4C74-908C-4AC90D55838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82BD-C305-4278-AE5F-F3B549FC824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DFA-CC25-4E54-A5A4-6E63C6FF6B5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BE92-B0DA-4B72-A1CF-B1A2B519D00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5A2-1F12-4CA9-9DD4-18EA3B57BBA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7BED-055C-45E7-B252-CA61E945948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84CD-BD57-4D48-BB99-0D6A495D91F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124-E9E0-4CE6-97C6-1696BF627DA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9CC2-9706-4AAF-9AF6-67BA5CCEF47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61CA-AADA-4EE4-B8A3-9A1A7350AC2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A3A-0189-498E-B4EB-90398CC83CA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6281-44B5-4C23-A793-7D6651BE3DE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A889-7023-4652-8B76-9E920D6F332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24DA-DB4D-4774-979C-C946171DFE2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1A17-B7A2-466F-90DE-2577437E50D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D245-2DB7-41A3-BF74-CF7DAB871BB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C3CD-18A1-4A31-890A-0BFC51560BC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A31F-94F4-474B-B152-C666AAAC3CC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B69F-46C7-4C88-B3AD-0EA52D9C90A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8F57-99E3-4D7B-8562-5EFECF53AA1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8A83-342A-4800-9E04-8B103F6B3E9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964E-7A2A-4786-B47A-7D622B892C4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4798-1828-45EB-857D-C481A9305D9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F64B-912A-4F03-A331-D242BC7913D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6AE3-BE1C-43D6-80CC-F58CF6D507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279D-5D47-4A91-993B-4A2E054D121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39D6-B3BD-4FC4-AECB-3496A48C2F0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