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7.jpeg" ContentType="image/jpeg"/>
  <Override PartName="/ppt/media/image56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49.jpeg" ContentType="image/jpeg"/>
  <Override PartName="/ppt/media/image8.gif" ContentType="image/gif"/>
  <Override PartName="/ppt/media/image48.jpeg" ContentType="image/jpeg"/>
  <Override PartName="/ppt/media/image75.gif" ContentType="image/gif"/>
  <Override PartName="/ppt/media/image46.jpeg" ContentType="image/jpeg"/>
  <Override PartName="/ppt/media/image45.jpeg" ContentType="image/jpeg"/>
  <Override PartName="/ppt/media/image43.gif" ContentType="image/gif"/>
  <Override PartName="/ppt/media/image41.jpeg" ContentType="image/jpeg"/>
  <Override PartName="/ppt/media/image39.jpeg" ContentType="image/jpeg"/>
  <Override PartName="/ppt/media/image38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36.jpeg" ContentType="image/jpeg"/>
  <Override PartName="/ppt/media/image4.wmf" ContentType="image/x-wmf"/>
  <Override PartName="/ppt/media/image1.jpeg" ContentType="image/jpeg"/>
  <Override PartName="/ppt/media/image35.jpeg" ContentType="image/jpeg"/>
  <Override PartName="/ppt/media/image22.jpeg" ContentType="image/jpeg"/>
  <Override PartName="/ppt/media/image42.wmf" ContentType="image/x-wmf"/>
  <Override PartName="/ppt/media/image21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28.jpeg" ContentType="image/jpeg"/>
  <Override PartName="/ppt/media/image74.jpeg" ContentType="image/jpeg"/>
  <Override PartName="/ppt/media/image73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66.gif" ContentType="image/gif"/>
  <Override PartName="/ppt/media/image67.jpeg" ContentType="image/jpeg"/>
  <Override PartName="/ppt/media/image47.jpeg" ContentType="image/jpeg"/>
  <Override PartName="/ppt/media/image65.gif" ContentType="image/gif"/>
  <Override PartName="/ppt/media/image64.jpeg" ContentType="image/jpeg"/>
  <Override PartName="/ppt/media/image63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4.png" ContentType="image/png"/>
  <Override PartName="/ppt/media/image72.jpeg" ContentType="image/jpeg"/>
  <Override PartName="/ppt/media/image11.gif" ContentType="image/gif"/>
  <Override PartName="/ppt/media/image19.jpeg" ContentType="image/jpeg"/>
  <Override PartName="/ppt/media/image20.jpeg" ContentType="image/jpeg"/>
  <Override PartName="/ppt/media/image7.wmf" ContentType="image/x-wmf"/>
  <Override PartName="/ppt/media/image6.wmf" ContentType="image/x-wmf"/>
  <Override PartName="/ppt/media/image30.jpeg" ContentType="image/jpeg"/>
  <Override PartName="/ppt/media/image9.jpeg" ContentType="image/jpeg"/>
  <Override PartName="/ppt/media/image29.jpeg" ContentType="image/jpeg"/>
  <Override PartName="/ppt/media/image12.jpeg" ContentType="image/jpeg"/>
  <Override PartName="/ppt/media/image55.jpeg" ContentType="image/jpeg"/>
  <Override PartName="/ppt/media/image18.gif" ContentType="image/gif"/>
  <Override PartName="/ppt/media/image58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BA7-30D4-42D0-9E4D-3D3269FA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CA3-14BE-4B5D-AD47-7B87E6F0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00A8-951B-486B-8B1E-D77D734D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84D-4ACE-4B0A-A7D2-BA214481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E15B-9ADB-49CE-9C49-1703414F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67A7-75BD-4034-BA4C-486B92E6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BFA-E202-4C81-9ADC-E91FCD97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C9C-4BD3-4269-A203-83E46D4A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65B-3904-4329-AD81-FEF081E7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C2D8-CEB2-472A-AE5C-C8094450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11E-85FA-4892-9EF5-FBAAA282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0186-847A-4887-846D-E9725D3E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3981-292B-47B8-8871-2A4E2E6FE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image" Target="../media/image66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484280"/>
            <a:ext cx="763272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бр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нь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Повышение квалифика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 Актуальные вопросы подготовки юных спортсменов в ДЮСШ, общеобразовательных учреждениях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2 ча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достоверение № 244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6 – 28 октября 2006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588000" y="3956040"/>
            <a:ext cx="2160720" cy="20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467160" cy="4969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3384720" cy="496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1297080" cy="120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34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Научно-методическая деятельнос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Тема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«Туристический слёт - одно из направлений спортивно-оздоровительной работы в школ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Цел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пропаганда здорового образа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ивитие учащимся интереса к занятиям физической культурой и спор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 Организация совместного досуга учителей, учащихся и род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. Подготовка детей к участию в соревнованиях различного уров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Результаты внедр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крепление здоровья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 Повышение показателей физического развития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. Регулярное выступление учащихся в соревнован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18240" y="333360"/>
            <a:ext cx="1625760" cy="117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3403800" cy="475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433680" cy="47512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27280" y="260280"/>
            <a:ext cx="3673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Times New Roman"/>
              </a:rPr>
              <a:t>Рефера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093080" y="189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529080" cy="2313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3527280" cy="2319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003640" y="1125360"/>
            <a:ext cx="3527640" cy="2287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076720" y="3933720"/>
            <a:ext cx="3529080" cy="2301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55840" y="136440"/>
            <a:ext cx="642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Этапы соревновани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34495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Бабоч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76720" y="342900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Параллельные верёв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6237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Мышелов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43480" y="623736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Установка палат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11280" y="1052640"/>
            <a:ext cx="7921440" cy="47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спростран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дагогическо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ы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04000" y="4724280"/>
            <a:ext cx="2000160" cy="16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Выступл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95280" y="1773000"/>
            <a:ext cx="48243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На педагогическом совете школы по тем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«Конфликты-реалии сегодняшней школы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11.20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В МИО на КПК для учителей физкультуры и тренеров РМЭ по тем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«Проведение туристических слётов в условиях общеобразовательной школы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12.2006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29336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Урочная деятельнос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417672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общающий открытый ур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Совершенствование техники ведения, передачи и приёма мяча в баскетбол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О, РМЭ, 26.10.2006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5989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3313440" cy="2162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3311640" cy="2183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826920" y="4005360"/>
            <a:ext cx="3313440" cy="2185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076720" y="4005360"/>
            <a:ext cx="3456000" cy="2219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33303"/>
                </a:solidFill>
                <a:latin typeface="Times New Roman"/>
              </a:rPr>
              <a:t>Моменты уро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673440" cy="2398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3672000" cy="238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3672000" cy="2432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932360" y="3716280"/>
            <a:ext cx="3600360" cy="239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4000" y="4724280"/>
            <a:ext cx="8640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МОУ «Средняя общеобразовательная школа № 16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6093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г. Йошкар-Ола, 2006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620640"/>
            <a:ext cx="820728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снок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лександр Сергеевич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4292640"/>
            <a:ext cx="6048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ая культу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Внеурочная деятельнос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43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неклассное мероприят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Выпускник-2007»- спортивный конкурс с применением МП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МО учителей физкульту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12.06 г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48360" y="1844640"/>
            <a:ext cx="352728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3311640" cy="2247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313440" cy="2208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26920" y="4005360"/>
            <a:ext cx="3311640" cy="2332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076720" y="4005360"/>
            <a:ext cx="3313080" cy="2306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Моменты соревнован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640908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Результативность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деятельност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7632720" cy="3483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16000" y="2205000"/>
            <a:ext cx="72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Средний балл экзамена по физической культу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55040" y="260280"/>
            <a:ext cx="116028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Средний балл обучен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4662360" cy="4969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940360" y="184464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3-06 г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4,57 бал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227640" y="3645000"/>
            <a:ext cx="2232000" cy="19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16000" y="765000"/>
            <a:ext cx="676908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аст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лимпиад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ревнования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579680" cy="1579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948360" y="765000"/>
            <a:ext cx="1708200" cy="16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Олимпиа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3303"/>
                </a:solidFill>
                <a:latin typeface="Times New Roman"/>
              </a:rPr>
              <a:t>Головина Ю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одская олимпиада школьников по  физической культу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инация -«Гимнастика»-4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инация -«Теоретическое тестирование»-6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03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27204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Футбо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Лаптев Дмитр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 место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венств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. Йошкар-Ол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зы клуб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Кожаный мяч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002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23676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Спартакиа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28640"/>
            <a:ext cx="4102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Рыбакова Ан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3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родской легкоатлетический кро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2003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3181320" cy="4321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8728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2997360"/>
            <a:ext cx="2237040" cy="3240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9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Дзюдо – Иванов Дени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443640" y="3068640"/>
            <a:ext cx="2195640" cy="316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2235240" cy="3168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9280" y="1484280"/>
            <a:ext cx="8821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2 место в Кубке РМЭ, 46 кг, 2004 год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3 место на призы Администрации г. Волжска, 46 кг, 2004 год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2 место в зачёт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летней спартакиады, 50 кг, 2005 год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Дзюдо – Пашковский Дим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03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1 мест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в первенстве СДЮШОР по дзюд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005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355640" y="1413000"/>
            <a:ext cx="4103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 мест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в первенств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. Йошкар-О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004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2376720" cy="3313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435640" y="3068640"/>
            <a:ext cx="237636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561440" cy="4789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Начало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едагогической деятель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2349360"/>
            <a:ext cx="214200" cy="358920"/>
          </a:xfrm>
          <a:prstGeom prst="upArrow">
            <a:avLst>
              <a:gd name="adj1" fmla="val 50000"/>
              <a:gd name="adj2" fmla="val 4189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Туризм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1341360"/>
            <a:ext cx="882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ешуина Юлия, 1 место в первенстве ФСТ РМЭ, 2004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ешуина Юлия, 3 место в первенстве г. Йошкар-Олы, 2004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ешуина Юлия,1 место в Кубке ДЮЦ «Азимут», 2005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Иванова Екатерина, 2 место в Кубке ДЮЦ «Азимут», 2005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1828800" cy="2662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606760" y="3141720"/>
            <a:ext cx="1820880" cy="266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1871640" cy="2663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020000" y="3141720"/>
            <a:ext cx="178740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384720" cy="2327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411280" y="620640"/>
            <a:ext cx="4321440" cy="2876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338472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11280" y="4149720"/>
            <a:ext cx="3600360" cy="230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3673440" cy="2386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932360" y="4076640"/>
            <a:ext cx="3672000" cy="2362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11280" y="1341360"/>
            <a:ext cx="3598920" cy="23511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Всероссийский кросс наций - 200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84360" y="765000"/>
            <a:ext cx="792000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ворческо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ред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5280" y="4437000"/>
            <a:ext cx="1935000" cy="1935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804000" y="443700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Участие в художественной самодеятель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372120" cy="2079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992840" y="1981080"/>
            <a:ext cx="3324240" cy="2111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826920" y="4365720"/>
            <a:ext cx="3313440" cy="2125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076720" y="4365720"/>
            <a:ext cx="3240360" cy="21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Работа в социальном приют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349800" cy="223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193920" cy="2213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55640" y="4114800"/>
            <a:ext cx="3384720" cy="2193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103720" y="4114800"/>
            <a:ext cx="3284640" cy="21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95280" y="907920"/>
            <a:ext cx="6985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иман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236000" y="2349360"/>
            <a:ext cx="137160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Чесноков Александр Сергее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3210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Образование высшее - МГПИ им. Н.К. Крупской, 1981 год Факультет физической культур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Специальность «Учитель физической культуры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ысшая категор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едагогический стаж работы – 24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329112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631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ее образо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769440" cy="4745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63640" y="2708280"/>
            <a:ext cx="2087640" cy="14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ая категор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3127320" cy="4465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240360" cy="28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Программы и учебные пособ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134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лексная программа Министерства образования Российской Федерации «Физическое воспитание учащихся 1-11 классов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Москва, «Просвещение», 1996, 2006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Программа и уроки по физическому воспитанию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Йошкар-Ола, МИО, 1997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93080" y="4797360"/>
            <a:ext cx="154944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6191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Награжд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чётная грамота Управления образования Администрации г. Йошкар-Олы за многолетний добросовестный труд, 2005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плом  Комитета по физической культуре и спорту Администрац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. Йошкар-Олы за большой вклад в развитие физической культуры, 2005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38744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539880" cy="4969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932360" y="907920"/>
            <a:ext cx="357516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7-01-14T07:30:08Z</dcterms:modified>
  <cp:revision>74</cp:revision>
  <dc:subject/>
  <dc:title>Федерация интернет Образования</dc:title>
</cp:coreProperties>
</file>