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57.jpeg" ContentType="image/jpeg"/>
  <Override PartName="/ppt/media/image56.jpeg" ContentType="image/jpeg"/>
  <Override PartName="/ppt/media/image54.jpeg" ContentType="image/jpeg"/>
  <Override PartName="/ppt/media/image53.jpeg" ContentType="image/jpeg"/>
  <Override PartName="/ppt/media/image23.png" ContentType="image/png"/>
  <Override PartName="/ppt/media/image49.jpeg" ContentType="image/jpeg"/>
  <Override PartName="/ppt/media/image8.gif" ContentType="image/gif"/>
  <Override PartName="/ppt/media/image48.jpeg" ContentType="image/jpeg"/>
  <Override PartName="/ppt/media/image75.gif" ContentType="image/gif"/>
  <Override PartName="/ppt/media/image46.jpeg" ContentType="image/jpeg"/>
  <Override PartName="/ppt/media/image45.jpeg" ContentType="image/jpeg"/>
  <Override PartName="/ppt/media/image43.gif" ContentType="image/gif"/>
  <Override PartName="/ppt/media/image41.jpeg" ContentType="image/jpeg"/>
  <Override PartName="/ppt/media/image39.jpeg" ContentType="image/jpeg"/>
  <Override PartName="/ppt/media/image38.jpeg" ContentType="image/jpeg"/>
  <Override PartName="/ppt/media/image15.png" ContentType="image/png"/>
  <Override PartName="/ppt/media/image24.jpeg" ContentType="image/jpeg"/>
  <Override PartName="/ppt/media/image2.jpeg" ContentType="image/jpeg"/>
  <Override PartName="/ppt/media/image36.jpeg" ContentType="image/jpeg"/>
  <Override PartName="/ppt/media/image4.wmf" ContentType="image/x-wmf"/>
  <Override PartName="/ppt/media/image1.jpeg" ContentType="image/jpeg"/>
  <Override PartName="/ppt/media/image35.jpeg" ContentType="image/jpeg"/>
  <Override PartName="/ppt/media/image22.jpeg" ContentType="image/jpeg"/>
  <Override PartName="/ppt/media/image42.wmf" ContentType="image/x-wmf"/>
  <Override PartName="/ppt/media/image21.jpeg" ContentType="image/jpeg"/>
  <Override PartName="/ppt/media/image25.jpeg" ContentType="image/jpeg"/>
  <Override PartName="/ppt/media/image50.jpeg" ContentType="image/jpeg"/>
  <Override PartName="/ppt/media/image51.jpeg" ContentType="image/jpeg"/>
  <Override PartName="/ppt/media/image28.jpeg" ContentType="image/jpeg"/>
  <Override PartName="/ppt/media/image74.jpeg" ContentType="image/jpeg"/>
  <Override PartName="/ppt/media/image73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66.gif" ContentType="image/gif"/>
  <Override PartName="/ppt/media/image67.jpeg" ContentType="image/jpeg"/>
  <Override PartName="/ppt/media/image47.jpeg" ContentType="image/jpeg"/>
  <Override PartName="/ppt/media/image65.gif" ContentType="image/gif"/>
  <Override PartName="/ppt/media/image64.jpeg" ContentType="image/jpeg"/>
  <Override PartName="/ppt/media/image63.jpeg" ContentType="image/jpeg"/>
  <Override PartName="/ppt/media/image62.jpeg" ContentType="image/jpeg"/>
  <Override PartName="/ppt/media/image5.jpeg" ContentType="image/jpeg"/>
  <Override PartName="/ppt/media/image17.jpeg" ContentType="image/jpeg"/>
  <Override PartName="/ppt/media/image61.jpeg" ContentType="image/jpeg"/>
  <Override PartName="/ppt/media/image16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26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4.png" ContentType="image/png"/>
  <Override PartName="/ppt/media/image72.jpeg" ContentType="image/jpeg"/>
  <Override PartName="/ppt/media/image11.gif" ContentType="image/gif"/>
  <Override PartName="/ppt/media/image19.jpeg" ContentType="image/jpeg"/>
  <Override PartName="/ppt/media/image20.jpeg" ContentType="image/jpeg"/>
  <Override PartName="/ppt/media/image7.wmf" ContentType="image/x-wmf"/>
  <Override PartName="/ppt/media/image6.wmf" ContentType="image/x-wmf"/>
  <Override PartName="/ppt/media/image30.jpeg" ContentType="image/jpeg"/>
  <Override PartName="/ppt/media/image9.jpeg" ContentType="image/jpeg"/>
  <Override PartName="/ppt/media/image29.jpeg" ContentType="image/jpeg"/>
  <Override PartName="/ppt/media/image12.jpeg" ContentType="image/jpeg"/>
  <Override PartName="/ppt/media/image55.jpeg" ContentType="image/jpeg"/>
  <Override PartName="/ppt/media/image18.gif" ContentType="image/gif"/>
  <Override PartName="/ppt/media/image58.jpeg" ContentType="image/jpeg"/>
  <Override PartName="/ppt/media/image13.jpeg" ContentType="image/jpeg"/>
  <Override PartName="/ppt/media/image4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4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7903-1693-40E6-9426-CD15F5440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379C-FD83-427A-AE31-9A64739C3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9DC6-CBF6-40D5-9619-138F670AC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7C63-4B18-4B31-87E3-D549B804D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3FC7-63E7-4E9C-A773-71C5BA8D6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F7F1-8112-425E-A284-9FE322FFA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F4B6-3E67-47C7-AF75-76B664143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0A6E-E3A7-4064-A88A-175CB6DB7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2194-3748-4F28-8A79-E3D24DA51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4649-19BF-4975-9320-30146DAE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2FAC-BA25-44C4-A63A-AD313CFB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4AB8-05F1-47C6-A877-3954B7F2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5B626-A8DF-4B8B-883A-EF8770C79F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image" Target="../media/image44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image" Target="../media/image64.jpeg"/><Relationship Id="rId5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5.gif"/><Relationship Id="rId2" Type="http://schemas.openxmlformats.org/officeDocument/2006/relationships/image" Target="../media/image66.gi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69.jpeg"/><Relationship Id="rId4" Type="http://schemas.openxmlformats.org/officeDocument/2006/relationships/image" Target="../media/image70.jpeg"/><Relationship Id="rId5" Type="http://schemas.openxmlformats.org/officeDocument/2006/relationships/slideLayout" Target="../slideLayouts/slideLayout1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jpeg"/><Relationship Id="rId3" Type="http://schemas.openxmlformats.org/officeDocument/2006/relationships/image" Target="../media/image73.jpeg"/><Relationship Id="rId4" Type="http://schemas.openxmlformats.org/officeDocument/2006/relationships/image" Target="../media/image74.jpeg"/><Relationship Id="rId5" Type="http://schemas.openxmlformats.org/officeDocument/2006/relationships/slideLayout" Target="../slideLayouts/slideLayout1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55640" y="1484280"/>
            <a:ext cx="7632720" cy="410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обрый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ень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136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Повышение квалификаци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4247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Марийский институт образов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Тема: « Актуальные вопросы подготовки юных спортсменов в ДЮСШ, общеобразовательных учреждениях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2 час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Удостоверение № 244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6 – 28 октября 2006 год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588000" y="3956040"/>
            <a:ext cx="2160720" cy="204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55640" y="907920"/>
            <a:ext cx="3467160" cy="49690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003640" y="907920"/>
            <a:ext cx="3384720" cy="4969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763640" y="3933720"/>
            <a:ext cx="1297080" cy="120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345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Научно-методическая деятельност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3330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3303"/>
                </a:solidFill>
                <a:latin typeface="Times New Roman"/>
              </a:rPr>
              <a:t>Тема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«Туристический слёт - одно из направлений спортивно-оздоровительной работы в школе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3330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3303"/>
                </a:solidFill>
                <a:latin typeface="Times New Roman"/>
              </a:rPr>
              <a:t>Цел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 пропаганда здорового образа жиз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3330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3303"/>
                </a:solidFill>
                <a:latin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Привитие учащимся интереса к занятиям физической культурой и спорт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. Организация совместного досуга учителей, учащихся и родите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. Подготовка детей к участию в соревнованиях различного уровн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3330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3303"/>
                </a:solidFill>
                <a:latin typeface="Times New Roman"/>
              </a:rPr>
              <a:t>Результаты внедре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Укрепление здоровья учащих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. Повышение показателей физического развития учащих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. Регулярное выступление учащихся в соревнования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518240" y="333360"/>
            <a:ext cx="1625760" cy="117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076720" y="1700280"/>
            <a:ext cx="3403800" cy="47530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55640" y="1700280"/>
            <a:ext cx="3433680" cy="47512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627280" y="260280"/>
            <a:ext cx="36734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Times New Roman"/>
              </a:rPr>
              <a:t>Рефера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7093080" y="18900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3529080" cy="2313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11280" y="3933720"/>
            <a:ext cx="3527280" cy="23194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5003640" y="1125360"/>
            <a:ext cx="3527640" cy="2287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5076720" y="3933720"/>
            <a:ext cx="3529080" cy="2301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455840" y="136440"/>
            <a:ext cx="642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Этапы соревновани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03280" y="344952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3303"/>
                </a:solidFill>
                <a:latin typeface="Times New Roman"/>
              </a:rPr>
              <a:t>«Бабочк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76720" y="3429000"/>
            <a:ext cx="35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3303"/>
                </a:solidFill>
                <a:latin typeface="Times New Roman"/>
              </a:rPr>
              <a:t>«Параллельные верёвки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58920" y="623736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3303"/>
                </a:solidFill>
                <a:latin typeface="Times New Roman"/>
              </a:rPr>
              <a:t>«Мышеловк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43480" y="6237360"/>
            <a:ext cx="29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3303"/>
                </a:solidFill>
                <a:latin typeface="Times New Roman"/>
              </a:rPr>
              <a:t>«Установка палатки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611280" y="1052640"/>
            <a:ext cx="7921440" cy="47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аспространени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едагогического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пыт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804000" y="4724280"/>
            <a:ext cx="2000160" cy="160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Выступлени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95280" y="1773000"/>
            <a:ext cx="48243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3303"/>
                </a:solidFill>
                <a:latin typeface="Times New Roman"/>
              </a:rPr>
              <a:t>На педагогическом совете школы по тем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3303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«Конфликты-реалии сегодняшней школы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3303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11.2006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3303"/>
                </a:solidFill>
                <a:latin typeface="Times New Roman"/>
              </a:rPr>
              <a:t>В МИО на КПК для учителей физкультуры и тренеров РМЭ по тем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3303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«Проведение туристических слётов в условиях общеобразовательной школы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3303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.12.2006 г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2933640" cy="39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Урочная деятельност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1280" y="1981080"/>
            <a:ext cx="417672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бобщающий открытый ур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«Совершенствование техники ведения, передачи и приёма мяча в баскетболе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 клас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ИО, РМЭ, 26.10.2006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148360" y="1773360"/>
            <a:ext cx="359892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3313440" cy="21621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076720" y="1268280"/>
            <a:ext cx="3311640" cy="21830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826920" y="4005360"/>
            <a:ext cx="3313440" cy="2185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5076720" y="4005360"/>
            <a:ext cx="3456000" cy="22194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33303"/>
                </a:solidFill>
                <a:latin typeface="Times New Roman"/>
              </a:rPr>
              <a:t>Моменты урок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3673440" cy="23986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859280" y="692280"/>
            <a:ext cx="3672000" cy="23889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39640" y="3716280"/>
            <a:ext cx="3672000" cy="24321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4932360" y="3716280"/>
            <a:ext cx="3600360" cy="239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324000" y="4724280"/>
            <a:ext cx="864072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МОУ «Средняя общеобразовательная школа № 16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771640" y="609300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г. Йошкар-Ола, 2006 г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8360" y="620640"/>
            <a:ext cx="820728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Чесноков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Александр Сергеевич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47640" y="4292640"/>
            <a:ext cx="604872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Физическая культур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Внеурочная деятельност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4920" y="1981080"/>
            <a:ext cx="43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неклассное мероприят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«Выпускник-2007»- спортивный конкурс с применением МП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ГМО учителей физкультур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.12.06 г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148360" y="1844640"/>
            <a:ext cx="3527280" cy="424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3311640" cy="22478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003640" y="1341360"/>
            <a:ext cx="3313440" cy="2208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826920" y="4005360"/>
            <a:ext cx="3311640" cy="2332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5076720" y="4005360"/>
            <a:ext cx="3313080" cy="23065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Моменты соревновани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86920" y="259920"/>
            <a:ext cx="640908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Результативность 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деятельност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26920" y="2924280"/>
            <a:ext cx="7632720" cy="3483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116000" y="2205000"/>
            <a:ext cx="72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3303"/>
                </a:solidFill>
                <a:latin typeface="Times New Roman"/>
              </a:rPr>
              <a:t>Средний балл экзамена по физической культур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655040" y="260280"/>
            <a:ext cx="1160280" cy="172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5690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Средний балл обученност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4662360" cy="49690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940360" y="1844640"/>
            <a:ext cx="28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3-06 г.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3303"/>
                </a:solidFill>
                <a:latin typeface="Times New Roman"/>
              </a:rPr>
              <a:t>4,57 бал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227640" y="3645000"/>
            <a:ext cx="2232000" cy="19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116000" y="765000"/>
            <a:ext cx="6769080" cy="525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части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лимпиадах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оревнованиях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1579680" cy="1579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948360" y="765000"/>
            <a:ext cx="1708200" cy="163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Times New Roman"/>
              </a:rPr>
              <a:t>Олимпиад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33303"/>
                </a:solidFill>
                <a:latin typeface="Times New Roman"/>
              </a:rPr>
              <a:t>Головина Юл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ородская олимпиада школьников по  физической культур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минация -«Гимнастика»-4 мес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минация -«Теоретическое тестирование»-6 мес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003 г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076720" y="1844640"/>
            <a:ext cx="327204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Times New Roman"/>
              </a:rPr>
              <a:t>Футбол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3303"/>
                </a:solidFill>
                <a:latin typeface="Times New Roman"/>
              </a:rPr>
              <a:t>Лаптев Дмитри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3303"/>
                </a:solidFill>
                <a:latin typeface="Times New Roman"/>
              </a:rPr>
              <a:t>2 место</a:t>
            </a:r>
            <a:r>
              <a:rPr b="1" lang="en-US" sz="2800" spc="-1" strike="noStrike">
                <a:solidFill>
                  <a:srgbClr val="e3330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ервенств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. Йошкар-Ол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изы клуб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«Кожаный мяч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3303"/>
                </a:solidFill>
                <a:latin typeface="Times New Roman"/>
              </a:rPr>
              <a:t>2002 г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148360" y="1773360"/>
            <a:ext cx="323676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1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5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Times New Roman"/>
              </a:rPr>
              <a:t>Спартакиад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628640"/>
            <a:ext cx="4102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3303"/>
                </a:solidFill>
                <a:latin typeface="Times New Roman"/>
              </a:rPr>
              <a:t>Рыбакова Ан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3303"/>
                </a:solidFill>
                <a:latin typeface="Times New Roman"/>
              </a:rPr>
              <a:t>3 мес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ородской легкоатлетический крос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3303"/>
                </a:solidFill>
                <a:latin typeface="Times New Roman"/>
              </a:rPr>
              <a:t>2003 г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435640" y="1844640"/>
            <a:ext cx="3181320" cy="4321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187280" y="3789360"/>
            <a:ext cx="3168720" cy="23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2997360"/>
            <a:ext cx="2237040" cy="3240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496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Дзюдо – Иванов Дени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443640" y="3068640"/>
            <a:ext cx="2195640" cy="3168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3492360" y="3068640"/>
            <a:ext cx="2235240" cy="31687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79280" y="1484280"/>
            <a:ext cx="88218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2 место в Кубке РМЭ, 46 кг, 2004 год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3 место на призы Администрации г. Волжска, 46 кг, 2004 год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2 место в зачёт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летней спартакиады, 50 кг, 2005 год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7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424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Дзюдо – Пашковский Дим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033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e33303"/>
                </a:solidFill>
                <a:latin typeface="Times New Roman"/>
              </a:rPr>
              <a:t>1 мест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в первенстве СДЮШОР по дзюд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3303"/>
                </a:solidFill>
                <a:latin typeface="Times New Roman"/>
              </a:rPr>
              <a:t>2005 г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355640" y="1413000"/>
            <a:ext cx="4103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 мест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в первенств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. Йошкар-О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33303"/>
                </a:solidFill>
                <a:latin typeface="Times New Roman"/>
              </a:rPr>
              <a:t>2004 г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187280" y="3068640"/>
            <a:ext cx="2376720" cy="33130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435640" y="3068640"/>
            <a:ext cx="2376360" cy="331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2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561440" cy="4789800"/>
          </a:xfrm>
          <a:prstGeom prst="rect">
            <a:avLst/>
          </a:prstGeom>
          <a:ln w="0">
            <a:solidFill>
              <a:srgbClr val="ffffff"/>
            </a:solidFill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Начало 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педагогической деятельн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00720" y="2349360"/>
            <a:ext cx="214200" cy="358920"/>
          </a:xfrm>
          <a:prstGeom prst="upArrow">
            <a:avLst>
              <a:gd name="adj1" fmla="val 50000"/>
              <a:gd name="adj2" fmla="val 41891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Times New Roman"/>
              </a:rPr>
              <a:t>Туризм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79280" y="1341360"/>
            <a:ext cx="8821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Чешуина Юлия, 1 место в первенстве ФСТ РМЭ, 2004 год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Чешуина Юлия, 3 место в первенстве г. Йошкар-Олы, 2004 год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Чешуина Юлия,1 место в Кубке ДЮЦ «Азимут», 2005 год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Иванова Екатерина, 2 место в Кубке ДЮЦ «Азимут», 2005 год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68360" y="3141720"/>
            <a:ext cx="1828800" cy="26622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2606760" y="3141720"/>
            <a:ext cx="1820880" cy="26636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788000" y="3141720"/>
            <a:ext cx="1871640" cy="26636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7020000" y="3141720"/>
            <a:ext cx="1787400" cy="266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1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4" dur="1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1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076720" y="3860640"/>
            <a:ext cx="3384720" cy="23274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411280" y="620640"/>
            <a:ext cx="4321440" cy="28767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826920" y="3933720"/>
            <a:ext cx="3384720" cy="230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8" dur="indefinite" restart="never" nodeType="tmRoot">
          <p:childTnLst>
            <p:seq>
              <p:cTn id="1019" dur="indefinite" nodeType="mainSeq">
                <p:childTnLst>
                  <p:par>
                    <p:cTn id="1020" fill="hold">
                      <p:stCondLst>
                        <p:cond delay="0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11280" y="4149720"/>
            <a:ext cx="3600360" cy="23036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859280" y="1268280"/>
            <a:ext cx="3673440" cy="23860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4932360" y="4076640"/>
            <a:ext cx="3672000" cy="23623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611280" y="1341360"/>
            <a:ext cx="3598920" cy="23511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280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Всероссийский кросс наций - 200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684360" y="765000"/>
            <a:ext cx="7920000" cy="410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Творческо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редо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95280" y="4437000"/>
            <a:ext cx="1935000" cy="19353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804000" y="443700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1" dur="indefinite" restart="never" nodeType="tmRoot">
          <p:childTnLst>
            <p:seq>
              <p:cTn id="1072" dur="indefinite" nodeType="mainSeq">
                <p:childTnLst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Участие в художественной самодеятельност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3372120" cy="20797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992840" y="1981080"/>
            <a:ext cx="3324240" cy="21114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826920" y="4365720"/>
            <a:ext cx="3313440" cy="21254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5076720" y="4365720"/>
            <a:ext cx="3240360" cy="211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Работа в социальном приют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3349800" cy="2232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148360" y="1628640"/>
            <a:ext cx="3193920" cy="22132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755640" y="4114800"/>
            <a:ext cx="3384720" cy="21938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5103720" y="4114800"/>
            <a:ext cx="3284640" cy="21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95280" y="907920"/>
            <a:ext cx="6985080" cy="47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а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нимание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236000" y="2349360"/>
            <a:ext cx="137160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8" dur="indefinite" restart="never" nodeType="tmRoot">
          <p:childTnLst>
            <p:seq>
              <p:cTn id="1149" dur="indefinite" nodeType="mainSeq">
                <p:childTnLst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Чесноков Александр Сергееви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32108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Образование высшее - МГПИ им. Н.К. Крупской, 1981 год Факультет физической культур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Специальность «Учитель физической культуры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Высшая категори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Педагогический стаж работы – 24 год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64000" y="1700280"/>
            <a:ext cx="329112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6312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Высшее образован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6769440" cy="4745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763640" y="2708280"/>
            <a:ext cx="2087640" cy="142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Высшая категори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3127320" cy="4465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076720" y="2637000"/>
            <a:ext cx="3240360" cy="284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424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Программы и учебные пособ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341000"/>
            <a:ext cx="8134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мплексная программа Министерства образования Российской Федерации «Физическое воспитание учащихся 1-11 классов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Москва, «Просвещение», 1996, 2006 г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«Программа и уроки по физическому воспитанию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Йошкар-Ола, МИО, 1997 г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093080" y="4797360"/>
            <a:ext cx="1549440" cy="15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61912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Награждени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33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чётная грамота Управления образования Администрации г. Йошкар-Олы за многолетний добросовестный труд, 2005 го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33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иплом  Комитета по физической культуре и спорту Администраци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г. Йошкар-Олы за большой вклад в развитие физической культуры, 2005 го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164360" y="404640"/>
            <a:ext cx="1387440" cy="14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3539880" cy="4969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932360" y="907920"/>
            <a:ext cx="3575160" cy="496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4:11:27Z</dcterms:created>
  <dc:creator>User</dc:creator>
  <dc:description/>
  <dc:language>en-US</dc:language>
  <cp:lastModifiedBy>Ирина</cp:lastModifiedBy>
  <dcterms:modified xsi:type="dcterms:W3CDTF">2007-01-14T07:30:08Z</dcterms:modified>
  <cp:revision>74</cp:revision>
  <dc:subject/>
  <dc:title>Федерация интернет Образования</dc:title>
</cp:coreProperties>
</file>