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3.jpeg" ContentType="image/jpeg"/>
  <Override PartName="/ppt/media/image38.jpeg" ContentType="image/jpeg"/>
  <Override PartName="/ppt/media/image97.jpeg" ContentType="image/jpeg"/>
  <Override PartName="/ppt/media/image126.wmf" ContentType="image/x-wmf"/>
  <Override PartName="/ppt/media/image34.jpeg" ContentType="image/jpeg"/>
  <Override PartName="/ppt/media/image56.jpeg" ContentType="image/jpeg"/>
  <Override PartName="/ppt/media/image32.jpeg" ContentType="image/jpeg"/>
  <Override PartName="/ppt/media/image30.jpeg" ContentType="image/jpeg"/>
  <Override PartName="/ppt/media/image6.wmf" ContentType="image/x-wmf"/>
  <Override PartName="/ppt/media/image12.jpeg" ContentType="image/jpeg"/>
  <Override PartName="/ppt/media/image88.jpeg" ContentType="image/jpeg"/>
  <Override PartName="/ppt/media/image108.jpeg" ContentType="image/jpeg"/>
  <Override PartName="/ppt/media/image53.jpeg" ContentType="image/jpeg"/>
  <Override PartName="/ppt/media/image10.gif" ContentType="image/gif"/>
  <Override PartName="/ppt/media/image52.jpeg" ContentType="image/jpeg"/>
  <Override PartName="/ppt/media/image31.gif" ContentType="image/gif"/>
  <Override PartName="/ppt/media/image74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23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05.jpeg" ContentType="image/jpeg"/>
  <Override PartName="/ppt/media/image47.jpeg" ContentType="image/jpeg"/>
  <Override PartName="/ppt/media/image25.wmf" ContentType="image/x-wmf"/>
  <Override PartName="/ppt/media/image19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7.gif" ContentType="image/gif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4.wmf" ContentType="image/x-wmf"/>
  <Override PartName="/ppt/media/image66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72.jpeg" ContentType="image/jpeg"/>
  <Override PartName="/ppt/media/image73.jpeg" ContentType="image/jpeg"/>
  <Override PartName="/ppt/media/image84.jpeg" ContentType="image/jpeg"/>
  <Override PartName="/ppt/media/image104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51.jpeg" ContentType="image/jpeg"/>
  <Override PartName="/ppt/media/image76.jpeg" ContentType="image/jpeg"/>
  <Override PartName="/ppt/media/image125.jpeg" ContentType="image/jpeg"/>
  <Override PartName="/ppt/media/image7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19.jpeg" ContentType="image/jpeg"/>
  <Override PartName="/ppt/media/image82.jpeg" ContentType="image/jpeg"/>
  <Override PartName="/ppt/media/image102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10.jpeg" ContentType="image/jpeg"/>
  <Override PartName="/ppt/media/image90.jpeg" ContentType="image/jpeg"/>
  <Override PartName="/ppt/media/image29.png" ContentType="image/png"/>
  <Override PartName="/ppt/media/image63.jpeg" ContentType="image/jpeg"/>
  <Override PartName="/ppt/media/image106.jpeg" ContentType="image/jpeg"/>
  <Override PartName="/ppt/media/image15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71.jpeg" ContentType="image/jpeg"/>
  <Override PartName="/ppt/media/image70.jpeg" ContentType="image/jpeg"/>
  <Override PartName="/ppt/media/image86.gif" ContentType="image/gif"/>
  <Override PartName="/ppt/media/image69.jpeg" ContentType="image/jpeg"/>
  <Override PartName="/ppt/media/image49.jpeg" ContentType="image/jpeg"/>
  <Override PartName="/ppt/media/image85.gif" ContentType="image/gif"/>
  <Override PartName="/ppt/media/image68.jpeg" ContentType="image/jpeg"/>
  <Override PartName="/ppt/media/image67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0.jpeg" ContentType="image/jpeg"/>
  <Override PartName="/ppt/media/image77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FC67-5381-45E3-8E76-643CBC44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FF6-37B0-4065-8D9A-462AEEBE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7D0F-7A9E-4661-ACEB-8ED3F5CF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CCEC-8B5B-4AAE-A92E-849F097D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87D2-648C-4260-B7D0-12F63DB7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3A4C-AE3B-404B-A50E-B0D53689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34D-DE1D-43A9-B9CA-D05566D0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142-5F89-4466-A197-53C2BDE4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BC0-53BD-46C3-A7FE-0BAF5C6E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130-9DAF-46C1-B564-316314E4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124-5BED-4436-B198-E0D54C5B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06B-4BC6-428C-8DD3-A3DB8D18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99D5-50EE-4D48-86F7-D82A6E8BD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image" Target="../media/image95.jpeg"/><Relationship Id="rId7" Type="http://schemas.openxmlformats.org/officeDocument/2006/relationships/image" Target="../media/image96.jpeg"/><Relationship Id="rId8" Type="http://schemas.openxmlformats.org/officeDocument/2006/relationships/image" Target="../media/image9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image" Target="../media/image106.jpeg"/><Relationship Id="rId6" Type="http://schemas.openxmlformats.org/officeDocument/2006/relationships/image" Target="../media/image107.jpeg"/><Relationship Id="rId7" Type="http://schemas.openxmlformats.org/officeDocument/2006/relationships/image" Target="../media/image108.jpeg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AA7-5EBA-4005-BDCC-021D292D9C8D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1958760" cy="280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04000" y="692280"/>
            <a:ext cx="1906560" cy="273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1901880" cy="27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1906560" cy="273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780000" y="692280"/>
            <a:ext cx="193176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D9F-A3CB-41B6-83D4-7150E1858E02}" type="slidenum">
              <a:t>10</a:t>
            </a:fld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За подготовку команд победителей и призёров городских и республиканских соревн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071800" cy="287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176200" cy="3024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219384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68360" y="3357720"/>
            <a:ext cx="2152800" cy="302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987640" y="3789360"/>
            <a:ext cx="2044800" cy="290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508720" y="2349360"/>
            <a:ext cx="2076480" cy="295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659640" y="3429000"/>
            <a:ext cx="18939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548-C924-4074-A6DA-6D69620E870C}" type="slidenum">
              <a:t>11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2276640"/>
            <a:ext cx="820908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выш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валификац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187164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C231-B806-4AFC-9442-E0991321F16C}" type="slidenum">
              <a:t>12</a:t>
            </a:fld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Новые подходы к содержанию и организации внеурочных форм физкультурно-оздоровительной и спортивной работ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равка №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 – 13 марта 2004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2DC-4878-430F-93C7-F0B3EB412474}" type="slidenum">
              <a:t>13</a:t>
            </a:fld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81800" cy="3892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800360" cy="174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C836-D623-4E3E-BD8B-7DED658F058C}" type="slidenum">
              <a:t>14</a:t>
            </a:fld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ребования охраны труда по программе обучения учителей физической культур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8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 – 24 марта 2005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E1E6-C1E9-4B74-AB7E-9685DDE380BD}" type="slidenum">
              <a:t>15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160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693-8933-46E2-A692-29D84B273D97}" type="slidenum">
              <a:t>16</a:t>
            </a:fld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ехнологические аспекты повышения профессионального мастерства учителей физической культуры по оздоровлению учащихс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31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 января – 4 феврал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77C-3B0E-4211-A57E-1F60A547994D}" type="slidenum">
              <a:t>17</a:t>
            </a:fld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692520" cy="525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4081320"/>
            <a:ext cx="1512720" cy="140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610080" cy="51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CEF-6C76-4558-81F7-7FCA7A192B38}" type="slidenum">
              <a:t>18</a:t>
            </a:fld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907920"/>
            <a:ext cx="79912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учно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тод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80000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4D82-0F75-4318-8AFA-B2BAB686A25E}" type="slidenum">
              <a:t>19</a:t>
            </a:fld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9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87280" y="620640"/>
            <a:ext cx="6840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ерстнёв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ей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алерьевич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581360"/>
            <a:ext cx="604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9CA-9FCD-4AA2-AA6F-FD04FED6FB70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de"/>
                </a:solidFill>
                <a:latin typeface="Times New Roman"/>
              </a:rPr>
              <a:t>Тем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33303"/>
                </a:solidFill>
                <a:latin typeface="Times New Roman"/>
              </a:rPr>
              <a:t>«Работа с одарёнными детьми в условиях общеобразовательной шко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подготовка победителей и призёров соревнований и олимпи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. Выявление одарённых детей, диагностика талантов, прогнозирование результа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2. Создание условий для совместной деятельности наставника и ребён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3. Целенаправленная работа по раскрытию внутреннего потенциала лич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Этапы рабо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. Убеждение детей и их родителей в необходимости раскрытия потенц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. Постоянный контакт с классными руководителями и администрацией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. Применение индивидуальных заданий на урок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. Дополнительные занятия в спортивных сек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5. Привлечение к работе высококвалифицированных специалис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6. Организация соревновательной практики и теоретических занят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. Своевременное применение восстановительных сред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8. Организация совместного досуга с учащими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885080" y="5130720"/>
            <a:ext cx="942840" cy="15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58D-0F9D-4807-A568-8A6678379EF5}" type="slidenum">
              <a:t>20</a:t>
            </a:fld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907920"/>
            <a:ext cx="792144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37A3-063E-4AEB-821A-1FCDE82B7FB4}" type="slidenum">
              <a:t>21</a:t>
            </a:fld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752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педсовете шк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воспитанию с одарёнными детьм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0.11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заседании МО учителей физкультуры г.Йошкар-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собенности организации и провед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лючительного этапа Всероссийской Олимпиады школьников по предмету «Физическая культура» в 2006 (г. Кисловодск) и 2007 (г. Ульяновск) годах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10de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24.08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 воспитанию с одарёнными детьм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5.12.2007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94A-BE1E-475F-A2D8-6E10AA697F65}" type="slidenum">
              <a:t>22</a:t>
            </a:fld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549360"/>
            <a:ext cx="8351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курс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фессиональн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стер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27CB-AEDA-4BDC-85FC-9E637F0BB359}" type="slidenum">
              <a:t>23</a:t>
            </a:fld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Действующий спортсме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военно-спортивным многоборь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ю активно участвовать в соревнованиях по лёгкой атлетике, плаванию, лыжным гонкам, стрельбе, военному пятиборью, офицерскому троеборью,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о становился победителем и призёром Чемпионатов РМЭ, России, Приволжско-Уральского военного округа и Вооружённых Сил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483E-4702-4AF1-94DA-99AA9837D934}" type="slidenum">
              <a:t>24</a:t>
            </a:fld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3622680" cy="250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600360" cy="248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600360" cy="244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7200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956-24F6-41F5-9588-4821CC5021E1}" type="slidenum">
              <a:t>25</a:t>
            </a:fld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205000" cy="338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4896000" cy="3301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4820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33360"/>
            <a:ext cx="85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Серебряный призёр молодёжн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Чемпионата Европы по военному пятибор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557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3303"/>
                </a:solidFill>
                <a:latin typeface="Times New Roman"/>
              </a:rPr>
              <a:t>Бельгия, г. Дист, 2000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4560" y="5734080"/>
            <a:ext cx="875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От тренировок</a:t>
            </a: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   –    </a:t>
            </a:r>
            <a:r>
              <a:rPr b="1" lang="en-US" sz="4000" spc="-1" strike="noStrike">
                <a:solidFill>
                  <a:srgbClr val="e33303"/>
                </a:solidFill>
                <a:latin typeface="Times New Roman"/>
              </a:rPr>
              <a:t>К   ПОБЕДЕ</a:t>
            </a:r>
            <a:r>
              <a:rPr b="1" lang="en-US" sz="4800" spc="-1" strike="noStrike">
                <a:solidFill>
                  <a:srgbClr val="e33303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9F3-B7FF-4EFD-9F0B-34A845283F08}" type="slidenum">
              <a:t>26</a:t>
            </a:fld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447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855880" cy="417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619280" y="1700280"/>
            <a:ext cx="2441520" cy="345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32000" y="3068640"/>
            <a:ext cx="25196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670-2307-46A0-8897-154A0F70170B}" type="slidenum">
              <a:t>27</a:t>
            </a:fld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едставитель сборной команды РМЭ на Российских олимпиадах школьников по предмету «Физическая культур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45600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7C1B-B3B5-48A2-ADEB-51E527ADC874}" type="slidenum">
              <a:t>28</a:t>
            </a:fld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3884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-26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г. Кисловод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360" y="260280"/>
            <a:ext cx="388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2007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14-19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г. Ульянов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2876760" cy="374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F2E-7787-4A68-8FC6-364B0C144F6C}" type="slidenum">
              <a:t>29</a:t>
            </a:fld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Шерстнёв Алексей Валерь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321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Факультет физической культуры, 1997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-  «Физическая культура и спорт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, 200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10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6720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009-A37F-446E-8EB9-1E0491AB6837}" type="slidenum">
              <a:t>3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0036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932360" y="476280"/>
            <a:ext cx="3673440" cy="26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A0E-F26D-4BB5-9236-589B4835FC07}" type="slidenum">
              <a:t>30</a:t>
            </a:fld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156120" cy="236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135900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73272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3527280" cy="2648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03280" y="134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Медовые водопад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1506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ра «Кольц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6560" y="3933720"/>
            <a:ext cx="177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мок Ковар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Любв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9337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натор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3303"/>
                </a:solidFill>
                <a:latin typeface="Times New Roman"/>
              </a:rPr>
              <a:t>«Москв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881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6165720"/>
            <a:ext cx="367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Бронзовый призёр Олимпиад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156E-3A9B-49E7-A293-D7B468EC1D94}" type="slidenum">
              <a:t>31</a:t>
            </a:fld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384720" cy="224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456000" cy="2433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2203200" cy="309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796000" y="5516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59706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ронзовый призёр Олимп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2136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ронзовый призё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лимпиа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521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убин Пав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12175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щее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1144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700360" y="5013360"/>
            <a:ext cx="2376360" cy="1581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92440" y="3422520"/>
            <a:ext cx="238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Слё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ПОБЕД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AF17-DB01-4760-A7E8-AA4674D980E2}" type="slidenum">
              <a:t>32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516720" y="404640"/>
            <a:ext cx="1944720" cy="259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348000" y="333360"/>
            <a:ext cx="2486160" cy="3313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132000" y="4221000"/>
            <a:ext cx="2951280" cy="22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C78-2187-44A1-A3C7-9BF421A1C370}" type="slidenum">
              <a:t>33</a:t>
            </a:fld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71640" y="3860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3097440" cy="2325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240360" cy="230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Награжд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8ED-933C-461E-8BB8-62877091736A}" type="slidenum">
              <a:t>34</a:t>
            </a:fld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61120" cy="4021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559240" cy="341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6920" y="404640"/>
            <a:ext cx="43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Талисм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олимпиад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BCD-CD96-4856-9151-3AFEBCDB811A}" type="slidenum">
              <a:t>35</a:t>
            </a:fld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549360"/>
            <a:ext cx="777528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роприят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208764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998E-D2E0-47AF-B91C-7FAEB7FC0145}" type="slidenum">
              <a:t>36</a:t>
            </a:fld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672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Спортивный праздн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«Папа, мама, я – спортивная семья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7 февраля 2007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Учащиеся 5-6 классов и их роди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680000" cy="31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488D-DA08-49E5-B620-679BB68F733E}" type="slidenum">
              <a:t>37</a:t>
            </a:fld>
          </a:p>
        </p:txBody>
      </p:sp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3671640" cy="2435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3600720" cy="239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E24-F0CA-4E19-966A-C23E365EA891}" type="slidenum">
              <a:t>38</a:t>
            </a:fld>
          </a:p>
        </p:txBody>
      </p:sp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Республиканский турнир по баскетболу среди школьников, посвящённый Дню Защитника Оте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24 февраля 2007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Спорткомплекс «Юбилейны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юношей городов и районов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9C4-053D-4A03-9BCC-2C513284B406}" type="slidenum">
              <a:t>39</a:t>
            </a:fld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18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олжностные обязанност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МОУ «Средняя общеобразовательная школа № 9 г. Йошкар-Олы» (3 – 11 классы) - 10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портивные секции: баскетбол (юноши), баскетбол (девуш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ружок «Олимпийское врем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енер-преподаватель ГОУ ДОД РМЭ СДЮШОР (отделение баскетбол) –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 1 сентября 2007 года - председатель МО учителей физкультуры г. Йошкар-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E7A-A955-42E5-8BB4-9EF8F80492A8}" type="slidenum">
              <a:t>4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Главный судья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413160" cy="489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157560" cy="2368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19640" y="4149720"/>
            <a:ext cx="3168720" cy="23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D4A-C4BE-4464-81A3-3C3B1FA7C1C9}" type="slidenum">
              <a:t>40</a:t>
            </a:fld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Первенство г. Йошкар-Олы среди школьников по легкоатлетическому кроссу в зачёт спартакиа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ентябрь 2007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омбатхей - «Осиновая рощ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школ г. Йошкар-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65D7-1C62-4428-A5D9-6AD31BEF0117}" type="slidenum">
              <a:t>41</a:t>
            </a:fld>
          </a:p>
        </p:txBody>
      </p:sp>
    </p:spTree>
  </p:cSld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7027-FDC2-462E-AEE0-516F61F75DE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4000" y="549360"/>
            <a:ext cx="748800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казате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524720" y="1628640"/>
            <a:ext cx="129060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7F5-29A5-4605-BAE7-658E8531FD43}" type="slidenum">
              <a:t>43</a:t>
            </a:fld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Успеваемость учащих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63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611280" y="2060640"/>
          <a:ext cx="7846920" cy="451476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0560"/>
                <a:gridCol w="1962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 обуч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 качества знаний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 уча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4-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5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6-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полугодие 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C1B1-1DCC-4974-889C-D45B30A7120B}" type="slidenum">
              <a:t>44</a:t>
            </a:fld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735D-D5EE-4090-A04E-2F7881A3CE5F}" type="slidenum">
              <a:t>45</a:t>
            </a:fld>
          </a:p>
        </p:txBody>
      </p: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Школа – постоянный участник Всероссийского кросса н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5516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EC4-35D5-448E-9DC5-171A7D281B03}" type="slidenum">
              <a:t>46</a:t>
            </a:fld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ородская спартакиада школьников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02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Школа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2000 по 2005 годы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ый  победитель и призёр в легкоатлетическом кроссе, эстафете по улицам города, в легкоатлетическом троеборье, лыжных гонках, баскетбол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скетбольная команда юношей трижды становилась победителем Первенства РМЭ (2004-2006 г.г.), а в 2007 г. стала Чемпионом РМЭ среди 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326-5745-4783-80A1-7DC9F55FC7B2}" type="slidenum">
              <a:t>47</a:t>
            </a:fld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Баскетбол</a:t>
            </a: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 - первенство </a:t>
            </a:r>
            <a:br>
              <a:rPr sz="4000"/>
            </a:b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г. Йошкар-Олы среди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4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796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Юно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3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1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887640" cy="2527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672000" cy="253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66E-F5C2-49CE-9657-49499B49D054}" type="slidenum">
              <a:t>48</a:t>
            </a:fld>
          </a:p>
        </p:txBody>
      </p:sp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30120" cy="2952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2103480" cy="2923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2057400" cy="2924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2012760" cy="2880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140360" y="476280"/>
            <a:ext cx="2000160" cy="2881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932360" y="1557360"/>
            <a:ext cx="1965240" cy="2879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5940360" y="2637000"/>
            <a:ext cx="1992240" cy="287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6804000" y="3645000"/>
            <a:ext cx="1995480" cy="28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143A-66E4-48DA-A609-E79AE87978D7}" type="slidenum">
              <a:t>49</a:t>
            </a:fld>
          </a:p>
        </p:txBody>
      </p:sp>
    </p:spTree>
  </p:cSld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23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13440" cy="460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871640" cy="12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952-D917-4F36-9C43-547CE612AE3B}" type="slidenum">
              <a:t>5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ребнев Антон,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46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г. Йошкар-Олы и РМЭ среди школьников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Чемпионата РМЭ среди мужчин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Республики Татарстан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Первенства России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1971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D5E-11DA-4495-B032-46BA47AD81CB}" type="slidenum">
              <a:t>50</a:t>
            </a:fld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97440" cy="568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745080" cy="2427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672000" cy="275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18E4-A708-4E6A-BAE6-83B9F7590276}" type="slidenum">
              <a:t>51</a:t>
            </a:fld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11280" y="692280"/>
            <a:ext cx="7921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ультур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F984-B5A9-4BC6-A451-46EA291C9FA5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Городская олимпиад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Команда школы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4 – 2005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4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5 – 2006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Семеро учащихся школы становились победителями и призёрами городской олимпиа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1E8-33E1-444C-B074-AF63756560B9}" type="slidenum">
              <a:t>53</a:t>
            </a:fld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3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Республиканская </a:t>
            </a:r>
            <a:br>
              <a:rPr sz="6600"/>
            </a:b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9898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Четверо учащихся школы становились победителями и призёр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чарников Илья       –  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лгополова Мария   – 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зонов Евгений         – 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ушутина Ольга        –  2005,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1999-46D9-47C0-B1DE-4BE2AC10E698}" type="slidenum">
              <a:t>54</a:t>
            </a:fld>
          </a:p>
        </p:txBody>
      </p:sp>
    </p:spTree>
  </p:cSld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Сазонов Евгений</a:t>
            </a: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,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1503360"/>
            <a:ext cx="3235320" cy="4805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1465200" cy="201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1513080" cy="213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148360" y="2708280"/>
            <a:ext cx="1469880" cy="2160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796000" y="3284640"/>
            <a:ext cx="1579680" cy="22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1598760" cy="22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093080" y="4292640"/>
            <a:ext cx="16239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63F-0384-461F-9D7A-243924340FEE}" type="slidenum">
              <a:t>55</a:t>
            </a:fld>
          </a:p>
        </p:txBody>
      </p:sp>
    </p:spTree>
  </p:cSld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0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Душутина </a:t>
            </a:r>
            <a:br>
              <a:rPr sz="6000"/>
            </a:b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Ольга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б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E05-C968-4A76-AF9E-1668B48C28BA}" type="slidenum">
              <a:t>56</a:t>
            </a:fld>
          </a:p>
        </p:txBody>
      </p:sp>
    </p:spTree>
  </p:cSld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708360" y="836280"/>
            <a:ext cx="4967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еоднократная   победительница городских и республиканских олимпиа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(Кисловодск-200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Ульяновск – 200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ладательница Гранта Президента Российской Федерации В.В.Пут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2665440" cy="3552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1513080" cy="13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CAA-4EAC-4703-A4EB-D860522C2840}" type="slidenum">
              <a:t>57</a:t>
            </a:fld>
          </a:p>
        </p:txBody>
      </p:sp>
    </p:spTree>
  </p:cSld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743120" cy="2521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25600" y="155736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1746000" cy="251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708360" y="3933720"/>
            <a:ext cx="1755720" cy="2449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859280" y="549360"/>
            <a:ext cx="1824120" cy="2519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5724360" y="1557360"/>
            <a:ext cx="1725840" cy="244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6588000" y="2852640"/>
            <a:ext cx="176868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3CB2-18AE-4004-B25F-30F897046190}" type="slidenum">
              <a:t>58</a:t>
            </a:fld>
          </a:p>
        </p:txBody>
      </p:sp>
    </p:spTree>
  </p:cSld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332160" cy="48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CE6-CAD6-4791-A0C7-62383E1F1B4D}" type="slidenum">
              <a:t>59</a:t>
            </a:fld>
          </a:p>
        </p:txBody>
      </p:sp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62592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05640" y="2133720"/>
            <a:ext cx="202068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6544-58DE-4335-9491-D3CAB82A0F60}" type="slidenum">
              <a:t>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16600" cy="468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CDB-6503-47BA-8201-845072DD4B19}" type="slidenum">
              <a:t>60</a:t>
            </a:fld>
          </a:p>
        </p:txBody>
      </p:sp>
    </p:spTree>
  </p:cSld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Грант Президента Р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114720" cy="4475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78000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095640" cy="23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0C85-4C82-4DC5-BAE8-A7C11B9C786C}" type="slidenum">
              <a:t>61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737080" cy="22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676-F9AE-49B8-A31A-1A64CDBA4B44}" type="slidenum">
              <a:t>62</a:t>
            </a:fld>
          </a:p>
        </p:txBody>
      </p:sp>
    </p:spTree>
  </p:cSld>
  <p:timing>
    <p:tnLst>
      <p:par>
        <p:cTn id="1968" dur="indefinite" restart="never" nodeType="tmRoot">
          <p:childTnLst>
            <p:seq>
              <p:cTn id="1969" dur="indefinite" nodeType="mainSeq">
                <p:childTnLst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064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Программа физического воспитания учащихся 1-11 классов, основанная на одном из видов спорта (баскетбол)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ленский М.Я., Литвинов Е.Н., Туркунов Б.И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Ф, 1996 го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Учебные пособ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-4 классы: Лях В.И. «Мой друг – физ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-7 классы: Виленский М.Я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-9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-11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20000" y="5589720"/>
            <a:ext cx="1798560" cy="10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160A-6A57-4F2A-9318-3C100FD69696}" type="slidenum">
              <a:t>7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Зв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4392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военно-спортивным многоборь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.11. 9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171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полиатло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.12.9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2616120" cy="366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589120" cy="3600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BBD-D410-461B-A611-9B15B885158A}" type="slidenum">
              <a:t>8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, 28.10.0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15.06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  Комитета по физической культуре и спорту Администрации г. Йошкар-Олы за большой вклад в развитие физической культуры, 27.08.0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 Министерства образования РМЭ, 05.12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ственное письмо Министерства образования РМЭ, февраль 200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60A-183E-48C7-AB58-CE0A437D4E06}" type="slidenum">
              <a:t>9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8-07T11:44:43Z</dcterms:modified>
  <cp:revision>113</cp:revision>
  <dc:subject/>
  <dc:title>Федерация интернет Образования</dc:title>
</cp:coreProperties>
</file>