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3.jpeg" ContentType="image/jpeg"/>
  <Override PartName="/ppt/media/image38.jpeg" ContentType="image/jpeg"/>
  <Override PartName="/ppt/media/image97.jpeg" ContentType="image/jpeg"/>
  <Override PartName="/ppt/media/image126.wmf" ContentType="image/x-wmf"/>
  <Override PartName="/ppt/media/image34.jpeg" ContentType="image/jpeg"/>
  <Override PartName="/ppt/media/image56.jpeg" ContentType="image/jpeg"/>
  <Override PartName="/ppt/media/image32.jpeg" ContentType="image/jpeg"/>
  <Override PartName="/ppt/media/image30.jpeg" ContentType="image/jpeg"/>
  <Override PartName="/ppt/media/image6.wmf" ContentType="image/x-wmf"/>
  <Override PartName="/ppt/media/image12.jpeg" ContentType="image/jpeg"/>
  <Override PartName="/ppt/media/image88.jpeg" ContentType="image/jpeg"/>
  <Override PartName="/ppt/media/image108.jpeg" ContentType="image/jpeg"/>
  <Override PartName="/ppt/media/image53.jpeg" ContentType="image/jpeg"/>
  <Override PartName="/ppt/media/image10.gif" ContentType="image/gif"/>
  <Override PartName="/ppt/media/image52.jpeg" ContentType="image/jpeg"/>
  <Override PartName="/ppt/media/image31.gif" ContentType="image/gif"/>
  <Override PartName="/ppt/media/image74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3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05.jpeg" ContentType="image/jpeg"/>
  <Override PartName="/ppt/media/image47.jpeg" ContentType="image/jpeg"/>
  <Override PartName="/ppt/media/image25.wmf" ContentType="image/x-wmf"/>
  <Override PartName="/ppt/media/image19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7.gif" ContentType="image/gif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4.wmf" ContentType="image/x-wmf"/>
  <Override PartName="/ppt/media/image66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72.jpeg" ContentType="image/jpeg"/>
  <Override PartName="/ppt/media/image73.jpeg" ContentType="image/jpeg"/>
  <Override PartName="/ppt/media/image84.jpeg" ContentType="image/jpeg"/>
  <Override PartName="/ppt/media/image104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51.jpeg" ContentType="image/jpe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19.jpeg" ContentType="image/jpeg"/>
  <Override PartName="/ppt/media/image82.jpeg" ContentType="image/jpeg"/>
  <Override PartName="/ppt/media/image102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10.jpeg" ContentType="image/jpeg"/>
  <Override PartName="/ppt/media/image90.jpeg" ContentType="image/jpeg"/>
  <Override PartName="/ppt/media/image29.png" ContentType="image/png"/>
  <Override PartName="/ppt/media/image63.jpeg" ContentType="image/jpeg"/>
  <Override PartName="/ppt/media/image106.jpeg" ContentType="image/jpeg"/>
  <Override PartName="/ppt/media/image15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71.jpeg" ContentType="image/jpeg"/>
  <Override PartName="/ppt/media/image70.jpeg" ContentType="image/jpeg"/>
  <Override PartName="/ppt/media/image86.gif" ContentType="image/gif"/>
  <Override PartName="/ppt/media/image69.jpeg" ContentType="image/jpeg"/>
  <Override PartName="/ppt/media/image49.jpeg" ContentType="image/jpeg"/>
  <Override PartName="/ppt/media/image85.gif" ContentType="image/gif"/>
  <Override PartName="/ppt/media/image68.jpeg" ContentType="image/jpeg"/>
  <Override PartName="/ppt/media/image67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0.jpeg" ContentType="image/jpeg"/>
  <Override PartName="/ppt/media/image77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C0E-DA8C-4E0A-9DDC-1E7FF3A4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532-901F-405C-A611-74413857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C06-2EC9-4F60-BDE2-8FE9F334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48A-7F9B-4BA2-AEB7-2060FC7D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559-715C-4130-A244-3022A632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41F-CED5-4A49-BA36-2933B3B4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003-0D45-4B19-850C-7DD0548B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8A9-E880-47F1-89C2-DFF20FA5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7D9-A162-49B1-8D7C-68EF1856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14A-1CC7-45AF-9C61-8BB38DC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DD1-E77A-4727-84EB-5D5BB6C9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187-0DFD-4514-B9F0-24C9D5CB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AEA-2D5A-4C24-A8B7-B09AB02B4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jpeg"/><Relationship Id="rId7" Type="http://schemas.openxmlformats.org/officeDocument/2006/relationships/image" Target="../media/image96.jpeg"/><Relationship Id="rId8" Type="http://schemas.openxmlformats.org/officeDocument/2006/relationships/image" Target="../media/image9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image" Target="../media/image106.jpeg"/><Relationship Id="rId6" Type="http://schemas.openxmlformats.org/officeDocument/2006/relationships/image" Target="../media/image107.jpeg"/><Relationship Id="rId7" Type="http://schemas.openxmlformats.org/officeDocument/2006/relationships/image" Target="../media/image108.jpeg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DF7-9B2E-4F92-B831-AAB873F7A5C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1958760" cy="280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04000" y="692280"/>
            <a:ext cx="1906560" cy="273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1901880" cy="27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1906560" cy="273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780000" y="692280"/>
            <a:ext cx="193176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11C-397E-4644-8FB2-30AB60E908CA}" type="slidenum">
              <a:t>10</a:t>
            </a:fld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За подготовку команд победителей и призёров городских и республиканских соревн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07180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17620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219384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68360" y="3357720"/>
            <a:ext cx="215280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987640" y="3789360"/>
            <a:ext cx="2044800" cy="290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508720" y="2349360"/>
            <a:ext cx="2076480" cy="295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659640" y="3429000"/>
            <a:ext cx="18939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679-2064-476B-9CE5-8707978DAF67}" type="slidenum">
              <a:t>11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2276640"/>
            <a:ext cx="820908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ыш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валифика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187164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29B-7F15-4B8A-A7EB-DD01904940F6}" type="slidenum">
              <a:t>12</a:t>
            </a:fld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Новые подходы к содержанию и организации внеурочных форм физкультурно-оздоровительной и спортивной работ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равка №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 – 13 марта 2004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30A-64F8-42A9-A41C-3DC859D89BE8}" type="slidenum">
              <a:t>13</a:t>
            </a:fld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81800" cy="3892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800360" cy="174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A19-AB24-427B-9637-1B529D4C5D40}" type="slidenum">
              <a:t>14</a:t>
            </a:fld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ребования охраны труда по программе обучения учителей физической культур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8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 – 24 марта 2005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B34-9E68-483F-B6A7-B5DAAC72BA99}" type="slidenum">
              <a:t>15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160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C13-4534-4F63-9EA9-3CCFA38D2842}" type="slidenum">
              <a:t>16</a:t>
            </a:fld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ехнологические аспекты повышения профессионального мастерства учителей физической культуры по оздоровлению учащихс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31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 января – 4 феврал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CDD-F256-4519-89C8-B8EFF3F9EB32}" type="slidenum">
              <a:t>17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692520" cy="525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4081320"/>
            <a:ext cx="1512720" cy="140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610080" cy="51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0CA-AFA5-4A25-A014-2A73CC0986EC}" type="slidenum">
              <a:t>18</a:t>
            </a:fld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907920"/>
            <a:ext cx="79912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учно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тод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80000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10D-C795-42BD-9E98-CB7631E4A3EB}" type="slidenum">
              <a:t>19</a:t>
            </a:fld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9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87280" y="620640"/>
            <a:ext cx="6840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ерстнёв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ей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алерьевич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581360"/>
            <a:ext cx="604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73E-EF36-4276-A5C4-E4BA616196B9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de"/>
                </a:solidFill>
                <a:latin typeface="Times New Roman"/>
              </a:rPr>
              <a:t>Тем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33303"/>
                </a:solidFill>
                <a:latin typeface="Times New Roman"/>
              </a:rPr>
              <a:t>«Работа с одарёнными детьми в условиях общеобразовательной шко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подготовка победителей и призёров соревнований и олимпи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. Выявление одарённых детей, диагностика талантов, прогнозирование результа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2. Создание условий для совместной деятельности наставника и ребён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3. Целенаправленная работа по раскрытию внутреннего потенциала лич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Этапы рабо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. Убеждение детей и их родителей в необходимости раскрытия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. Постоянный контакт с классными руководителями и администрацией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. Применение индивидуальных заданий на урок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. Дополнительные занятия в спортивных сек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5. Привлечение к работе высококвалифицированных специалис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6. Организация соревновательной практики и теоретических занят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. Своевременное применение восстановительных сред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8. Организация совместного досуга с учащими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5130720"/>
            <a:ext cx="942840" cy="15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CD5-B7C6-451B-8135-ABDB6C3F8484}" type="slidenum">
              <a:t>20</a:t>
            </a:fld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907920"/>
            <a:ext cx="79214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A5B-6842-4469-9377-2535F0846F21}" type="slidenum">
              <a:t>21</a:t>
            </a:fld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752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педсовете шк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воспитанию с одарёнными детьм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0.11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заседании МО учителей физкультуры г.Йошкар-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собенности организации и провед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лючительного этапа Всероссийской Олимпиады школьников по предмету «Физическая культура» в 2006 (г. Кисловодск) и 2007 (г. Ульяновск) года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10de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24.08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 воспитанию с одарёнными детьм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5.12.2007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5F0-5027-4E58-83B3-D0D37BF3DA75}" type="slidenum">
              <a:t>22</a:t>
            </a:fld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549360"/>
            <a:ext cx="8351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курс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фессиональн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стер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2E0-F65A-4EFA-8F0B-D6F333EA2B50}" type="slidenum">
              <a:t>23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Действующий спортсме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военно-спортивным многоборь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ю активно участвовать в соревнованиях по лёгкой атлетике, плаванию, лыжным гонкам, стрельбе, военному пятиборью, офицерскому троеборью,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о становился победителем и призёром Чемпионатов РМЭ, России, Приволжско-Уральского военного округа и Вооружённых Сил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855-7C38-4783-853B-B00803FB1472}" type="slidenum">
              <a:t>24</a:t>
            </a:fld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3622680" cy="250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600360" cy="248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600360" cy="244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7200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9CE-9F1B-4052-AEFD-B53E3A7B11AC}" type="slidenum">
              <a:t>25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205000" cy="338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4896000" cy="3301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48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5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Серебряный призёр молодёжн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Чемпионата Европы по военному пятибор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557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3303"/>
                </a:solidFill>
                <a:latin typeface="Times New Roman"/>
              </a:rPr>
              <a:t>Бельгия, г. Дист, 2000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4560" y="5734080"/>
            <a:ext cx="875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От тренировок</a:t>
            </a: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   –    </a:t>
            </a:r>
            <a:r>
              <a:rPr b="1" lang="en-US" sz="4000" spc="-1" strike="noStrike">
                <a:solidFill>
                  <a:srgbClr val="e33303"/>
                </a:solidFill>
                <a:latin typeface="Times New Roman"/>
              </a:rPr>
              <a:t>К   ПОБЕДЕ</a:t>
            </a:r>
            <a:r>
              <a:rPr b="1" lang="en-US" sz="4800" spc="-1" strike="noStrike">
                <a:solidFill>
                  <a:srgbClr val="e33303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41B-BD11-47DA-B622-CA397BD59A7E}" type="slidenum">
              <a:t>26</a:t>
            </a:fld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447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855880" cy="41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2441520" cy="345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32000" y="3068640"/>
            <a:ext cx="25196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885-ABDC-446C-9C40-B9C4C112CD91}" type="slidenum">
              <a:t>27</a:t>
            </a:fld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едставитель сборной команды РМЭ на Российских олимпиадах школьников по предмету «Физическая культур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45600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B76-BFEC-4813-87BD-936213D5307F}" type="slidenum">
              <a:t>28</a:t>
            </a:fld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3884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-26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г. Кисловод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388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2007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14-19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г. Ульянов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2876760" cy="374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D16-B88E-49D6-8D69-31CBCCD8D648}" type="slidenum">
              <a:t>29</a:t>
            </a:fld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Шерстнёв Алексей Валерь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321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Факультет физической культуры, 1997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-  «Физическая культура и спорт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, 200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10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6720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1FE-C241-44E1-A079-2D9C585E38AA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3673440" cy="26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2E7-7557-4ABE-9CB3-F475377DF540}" type="slidenum">
              <a:t>30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135900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73272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3527280" cy="2648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03280" y="134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Медовые водопад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506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ра «Кольц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6560" y="3933720"/>
            <a:ext cx="177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мок Кова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Люб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933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натор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3303"/>
                </a:solidFill>
                <a:latin typeface="Times New Roman"/>
              </a:rPr>
              <a:t>«Москв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881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6165720"/>
            <a:ext cx="367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Бронзовый призёр Олимпиад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099-03CF-4979-A072-F1054DE697E9}" type="slidenum">
              <a:t>31</a:t>
            </a:fld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384720" cy="224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456000" cy="2433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203200" cy="309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796000" y="551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59706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ронзовый призёр Олимп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2136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ронзовый призё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лимпиа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521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убин Пав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1217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щее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1144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700360" y="5013360"/>
            <a:ext cx="2376360" cy="1581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92440" y="3422520"/>
            <a:ext cx="238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Слё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ПОБЕД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A03-1E24-43C9-B302-F9D25556F6C9}" type="slidenum">
              <a:t>32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516720" y="40464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348000" y="333360"/>
            <a:ext cx="2486160" cy="3313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951280" cy="22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49A-BF47-4B1A-982B-AD7AD5571EB3}" type="slidenum">
              <a:t>33</a:t>
            </a:fld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097440" cy="232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240360" cy="230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Награжд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0FE-39F9-4A45-AFB3-381BF55CF148}" type="slidenum">
              <a:t>34</a:t>
            </a:fld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61120" cy="4021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559240" cy="341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6920" y="404640"/>
            <a:ext cx="43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Талисм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олимпиад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E92-3B14-4C41-967F-18A1846EDB41}" type="slidenum">
              <a:t>35</a:t>
            </a:fld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549360"/>
            <a:ext cx="777528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роприят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208764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512-FE1E-453C-A324-117AA3C91EE9}" type="slidenum">
              <a:t>36</a:t>
            </a:fld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672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Спортивный праздн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«Папа, мама, я – спортивная семья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7 февраля 2007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Учащиеся 5-6 классов и их роди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680000" cy="31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F82-895D-4BDB-892D-32E9B9193B47}" type="slidenum">
              <a:t>37</a:t>
            </a:fld>
          </a:p>
        </p:txBody>
      </p: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3671640" cy="2435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600720" cy="239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1D0-1B2D-4905-B791-C6327E388280}" type="slidenum">
              <a:t>38</a:t>
            </a:fld>
          </a:p>
        </p:txBody>
      </p:sp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Республиканский турнир по баскетболу среди школьников, посвящённый Дню Защитника Оте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24 февраля 2007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Спорткомплекс «Юбилейны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юношей городов и районов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1CB-B82E-4062-883B-058139D0BD9B}" type="slidenum">
              <a:t>39</a:t>
            </a:fld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18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олжностные обязаннос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МОУ «Средняя общеобразовательная школа № 9 г. Йошкар-Олы» (3 – 11 классы) - 10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портивные секции: баскетбол (юноши), баскетбол (девуш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ружок «Олимпийское врем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енер-преподаватель ГОУ ДОД РМЭ СДЮШОР (отделение баскетбол) –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1 сентября 2007 года - председатель МО учителей физкультуры г. Йошкар-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F76-0FF7-4F40-8C9D-549735ECA6CD}" type="slidenum">
              <a:t>4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Главный судья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413160" cy="489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157560" cy="2368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19640" y="4149720"/>
            <a:ext cx="3168720" cy="23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FF9-C1D1-4FE6-ADE9-EA685F9B8707}" type="slidenum">
              <a:t>40</a:t>
            </a:fld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Первенство г. Йошкар-Олы среди школьников по легкоатлетическому кроссу в зачёт спартакиа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ентябрь 2007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омбатхей - «Осиновая рощ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школ г. Йошкар-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712-AB0F-4984-998D-608187FF8498}" type="slidenum">
              <a:t>41</a:t>
            </a:fld>
          </a:p>
        </p:txBody>
      </p: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905-D239-4341-AA4C-CA132FEFF46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4000" y="549360"/>
            <a:ext cx="748800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казате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524720" y="1628640"/>
            <a:ext cx="129060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03D-6755-4C73-B6FB-951E48D0D4F7}" type="slidenum">
              <a:t>43</a:t>
            </a:fld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Успеваемость учащих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63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611280" y="2060640"/>
          <a:ext cx="7846920" cy="451476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0560"/>
                <a:gridCol w="1962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 обуч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качества знаний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 уча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4-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5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6-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полугодие 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52D-E559-4A57-A02C-E83B2D7D05AB}" type="slidenum">
              <a:t>44</a:t>
            </a:fld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23F-8F40-4873-9F4D-245F18ECB084}" type="slidenum">
              <a:t>45</a:t>
            </a:fld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Школа – постоянный участник Всероссийского кросса н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5516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5A6-F874-424E-AB49-3A54A952913A}" type="slidenum">
              <a:t>46</a:t>
            </a:fld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ородская спартакиада школьнико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02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кола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2000 по 2005 годы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ый  победитель и призёр в легкоатлетическом кроссе, эстафете по улицам города, в легкоатлетическом троеборье, лыжных гонках, баскетбол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скетбольная команда юношей трижды становилась победителем Первенства РМЭ (2004-2006 г.г.), а в 2007 г. стала Чемпионом РМЭ среди 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E6C-09BC-46FC-91BD-4860EDE6F2F7}" type="slidenum">
              <a:t>47</a:t>
            </a:fld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аскетбол</a:t>
            </a: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 - первенство </a:t>
            </a:r>
            <a:br>
              <a:rPr sz="4000"/>
            </a:b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г. Йошкар-Олы среди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4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796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Юно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3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1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887640" cy="252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672000" cy="253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D38-5127-4ED5-AD9B-EA2CFFE57FC2}" type="slidenum">
              <a:t>48</a:t>
            </a:fld>
          </a:p>
        </p:txBody>
      </p:sp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30120" cy="2952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2103480" cy="2923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2057400" cy="2924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2012760" cy="2880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140360" y="476280"/>
            <a:ext cx="2000160" cy="2881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932360" y="1557360"/>
            <a:ext cx="196524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5940360" y="2637000"/>
            <a:ext cx="1992240" cy="287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804000" y="3645000"/>
            <a:ext cx="199548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3A4-9D7E-4027-B596-A7683A7C404A}" type="slidenum">
              <a:t>49</a:t>
            </a:fld>
          </a:p>
        </p:txBody>
      </p:sp>
    </p:spTree>
  </p:cSld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23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13440" cy="460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71640" cy="12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242-13DE-4AFB-A8D9-5394EF4C5CC4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ребнев Антон,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46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г. Йошкар-Олы и РМЭ среди школьников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Чемпионата РМЭ среди мужчин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Республики Татарстан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Первенства России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1971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A4C-F5DE-4A6D-85BB-BAFDDFB0F0B6}" type="slidenum">
              <a:t>50</a:t>
            </a:fld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97440" cy="568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745080" cy="2427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672000" cy="27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336-39FA-4F5D-8BD2-E1692CE13F30}" type="slidenum">
              <a:t>51</a:t>
            </a:fld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1280" y="692280"/>
            <a:ext cx="792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ультур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C7D-C0A1-40AE-9611-DCBF0DA30EE6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Городская олимпиад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оманда школы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4 – 2005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4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5 – 2006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Семеро учащихся школы становились победителями и призёрами городской олимпиа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AB5-B986-46D4-A8D6-BD858CDF08AA}" type="slidenum">
              <a:t>53</a:t>
            </a:fld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Республиканская </a:t>
            </a:r>
            <a:br>
              <a:rPr sz="6600"/>
            </a:b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989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Четверо учащихся школы становились победителями и призёр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чарников Илья       –  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лгополова Мария   – 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зонов Евгений         – 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ушутина Ольга        –  2005,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088-01CA-4711-AE7E-4314145160C6}" type="slidenum">
              <a:t>54</a:t>
            </a:fld>
          </a:p>
        </p:txBody>
      </p:sp>
    </p:spTree>
  </p:cSld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Сазонов Евгений</a:t>
            </a: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,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1503360"/>
            <a:ext cx="3235320" cy="4805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1465200" cy="201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1513080" cy="213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148360" y="2708280"/>
            <a:ext cx="1469880" cy="2160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1579680" cy="22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159876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093080" y="4292640"/>
            <a:ext cx="16239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5B4-DCFF-4D78-BFC8-1C8536B65769}" type="slidenum">
              <a:t>55</a:t>
            </a:fld>
          </a:p>
        </p:txBody>
      </p:sp>
    </p:spTree>
  </p:cSld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0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Душутина </a:t>
            </a:r>
            <a:br>
              <a:rPr sz="6000"/>
            </a:b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Ольга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3C0-A341-4A16-B6AD-515644407F35}" type="slidenum">
              <a:t>56</a:t>
            </a:fld>
          </a:p>
        </p:txBody>
      </p:sp>
    </p:spTree>
  </p:cSld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708360" y="836280"/>
            <a:ext cx="4967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еоднократная   победительница городских и республиканских олимпиа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(Кисловодск-200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Ульяновск – 200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ладательница Гранта Президента Российской Федерации В.В.Пут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2665440" cy="3552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1513080" cy="13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0BC-5C12-4F79-BF62-19D0A1C02A7B}" type="slidenum">
              <a:t>57</a:t>
            </a:fld>
          </a:p>
        </p:txBody>
      </p:sp>
    </p:spTree>
  </p:cSld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743120" cy="2521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25600" y="155736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1746000" cy="251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708360" y="3933720"/>
            <a:ext cx="1755720" cy="2449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859280" y="549360"/>
            <a:ext cx="1824120" cy="2519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724360" y="1557360"/>
            <a:ext cx="1725840" cy="244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6588000" y="2852640"/>
            <a:ext cx="176868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BC6-7A64-4A76-8666-08285A57AB7E}" type="slidenum">
              <a:t>58</a:t>
            </a:fld>
          </a:p>
        </p:txBody>
      </p:sp>
    </p:spTree>
  </p:cSld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332160" cy="48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DC8-001C-43A1-8B2B-AB43E543C7A8}" type="slidenum">
              <a:t>59</a:t>
            </a:fld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62592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05640" y="2133720"/>
            <a:ext cx="202068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431-1F36-43F3-B833-9E56992A6C65}" type="slidenum">
              <a:t>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16600" cy="468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C8D-774A-443D-BADD-71D6D1A29F32}" type="slidenum">
              <a:t>60</a:t>
            </a:fld>
          </a:p>
        </p:txBody>
      </p:sp>
    </p:spTree>
  </p:cSld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Грант Президента Р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114720" cy="4475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D68-21AD-455B-A70C-880B2A3DC486}" type="slidenum">
              <a:t>61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737080" cy="22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8AA-09D2-4206-8DDD-9560DCB4555C}" type="slidenum">
              <a:t>62</a:t>
            </a:fld>
          </a:p>
        </p:txBody>
      </p:sp>
    </p:spTree>
  </p:cSld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064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Программа физического воспитания учащихся 1-11 классов, основанная на одном из видов спорта (баскетбол)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ленский М.Я., Литвинов Е.Н., Туркунов Б.И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Ф, 1996 го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Учебные пособ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-4 классы: Лях В.И. «Мой друг – физ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-7 классы: Виленский М.Я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-9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-11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20000" y="5589720"/>
            <a:ext cx="1798560" cy="10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C69-9DB7-4BBF-8918-56CED5B93567}" type="slidenum">
              <a:t>7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Зв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392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военно-спортивным многоборь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.11. 9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71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полиатло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.12.9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2616120" cy="366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589120" cy="3600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F56-78B8-45AA-B043-504DDDBF9938}" type="slidenum">
              <a:t>8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, 28.10.0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15.06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  Комитета по физической культуре и спорту Администрации г. Йошкар-Олы за большой вклад в развитие физической культуры, 27.08.0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 Министерства образования РМЭ, 05.12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ственное письмо Министерства образования РМЭ, февраль 200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F09-C58C-4E04-B7E5-B9A0573ED137}" type="slidenum">
              <a:t>9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8-07T11:44:43Z</dcterms:modified>
  <cp:revision>113</cp:revision>
  <dc:subject/>
  <dc:title>Федерация интернет Образования</dc:title>
</cp:coreProperties>
</file>