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0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5.gif" ContentType="image/gif"/>
  <Override PartName="/ppt/media/image43.jpeg" ContentType="image/jpeg"/>
  <Override PartName="/ppt/media/image38.jpeg" ContentType="image/jpeg"/>
  <Override PartName="/ppt/media/image97.jpeg" ContentType="image/jpeg"/>
  <Override PartName="/ppt/media/image126.wmf" ContentType="image/x-wmf"/>
  <Override PartName="/ppt/media/image34.jpeg" ContentType="image/jpeg"/>
  <Override PartName="/ppt/media/image56.jpeg" ContentType="image/jpeg"/>
  <Override PartName="/ppt/media/image32.jpeg" ContentType="image/jpeg"/>
  <Override PartName="/ppt/media/image30.jpeg" ContentType="image/jpeg"/>
  <Override PartName="/ppt/media/image6.wmf" ContentType="image/x-wmf"/>
  <Override PartName="/ppt/media/image12.jpeg" ContentType="image/jpeg"/>
  <Override PartName="/ppt/media/image88.jpeg" ContentType="image/jpeg"/>
  <Override PartName="/ppt/media/image108.jpeg" ContentType="image/jpeg"/>
  <Override PartName="/ppt/media/image53.jpeg" ContentType="image/jpeg"/>
  <Override PartName="/ppt/media/image10.gif" ContentType="image/gif"/>
  <Override PartName="/ppt/media/image52.jpeg" ContentType="image/jpeg"/>
  <Override PartName="/ppt/media/image31.gif" ContentType="image/gif"/>
  <Override PartName="/ppt/media/image74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23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105.jpeg" ContentType="image/jpeg"/>
  <Override PartName="/ppt/media/image47.jpeg" ContentType="image/jpeg"/>
  <Override PartName="/ppt/media/image25.wmf" ContentType="image/x-wmf"/>
  <Override PartName="/ppt/media/image19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7.gif" ContentType="image/gif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4.wmf" ContentType="image/x-wmf"/>
  <Override PartName="/ppt/media/image66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72.jpeg" ContentType="image/jpeg"/>
  <Override PartName="/ppt/media/image73.jpeg" ContentType="image/jpeg"/>
  <Override PartName="/ppt/media/image84.jpeg" ContentType="image/jpeg"/>
  <Override PartName="/ppt/media/image104.jpeg" ContentType="image/jpeg"/>
  <Override PartName="/ppt/media/image93.jpeg" ContentType="image/jpeg"/>
  <Override PartName="/ppt/media/image94.jpeg" ContentType="image/jpeg"/>
  <Override PartName="/ppt/media/image95.jpeg" ContentType="image/jpeg"/>
  <Override PartName="/ppt/media/image51.jpeg" ContentType="image/jpeg"/>
  <Override PartName="/ppt/media/image76.jpeg" ContentType="image/jpeg"/>
  <Override PartName="/ppt/media/image125.jpeg" ContentType="image/jpeg"/>
  <Override PartName="/ppt/media/image7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96.jpeg" ContentType="image/jpeg"/>
  <Override PartName="/ppt/media/image113.jpeg" ContentType="image/jpeg"/>
  <Override PartName="/ppt/media/image114.jpeg" ContentType="image/jpeg"/>
  <Override PartName="/ppt/media/image119.jpeg" ContentType="image/jpeg"/>
  <Override PartName="/ppt/media/image82.jpeg" ContentType="image/jpeg"/>
  <Override PartName="/ppt/media/image102.jpeg" ContentType="image/jpeg"/>
  <Override PartName="/ppt/media/image111.jpeg" ContentType="image/jpeg"/>
  <Override PartName="/ppt/media/image91.jpeg" ContentType="image/jpeg"/>
  <Override PartName="/ppt/media/image64.jpeg" ContentType="image/jpeg"/>
  <Override PartName="/ppt/media/image110.jpeg" ContentType="image/jpeg"/>
  <Override PartName="/ppt/media/image90.jpeg" ContentType="image/jpeg"/>
  <Override PartName="/ppt/media/image29.png" ContentType="image/png"/>
  <Override PartName="/ppt/media/image63.jpeg" ContentType="image/jpeg"/>
  <Override PartName="/ppt/media/image106.jpeg" ContentType="image/jpeg"/>
  <Override PartName="/ppt/media/image15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71.jpeg" ContentType="image/jpeg"/>
  <Override PartName="/ppt/media/image70.jpeg" ContentType="image/jpeg"/>
  <Override PartName="/ppt/media/image86.gif" ContentType="image/gif"/>
  <Override PartName="/ppt/media/image69.jpeg" ContentType="image/jpeg"/>
  <Override PartName="/ppt/media/image49.jpeg" ContentType="image/jpeg"/>
  <Override PartName="/ppt/media/image85.gif" ContentType="image/gif"/>
  <Override PartName="/ppt/media/image68.jpeg" ContentType="image/jpeg"/>
  <Override PartName="/ppt/media/image67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60.jpeg" ContentType="image/jpeg"/>
  <Override PartName="/ppt/media/image77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A24-DDE4-424B-8782-C346FD23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BBE-6D81-4D36-A1A4-2970E6FB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650-D601-4126-B9F2-9FEC9986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01B-AF37-4438-A696-2356E517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A3F-01F3-4D04-AE26-5051A919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06D-89B7-44A3-9E0D-9DBC356F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D35-E04F-45BB-B70C-A5833ECB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A870-ED6D-4BB7-8F84-9F8DF4D2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EB0-9FA1-4CB8-BEB7-16AFC91F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70E1-6038-4CCD-9C21-F3CE7DDA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9B8-12CB-4328-AA55-612C1B68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4D15-317A-4175-A47D-A902AF31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995E-08DE-48E7-8F38-D88D4D202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5.gif"/><Relationship Id="rId2" Type="http://schemas.openxmlformats.org/officeDocument/2006/relationships/image" Target="../media/image86.gi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image" Target="../media/image95.jpeg"/><Relationship Id="rId7" Type="http://schemas.openxmlformats.org/officeDocument/2006/relationships/image" Target="../media/image96.jpeg"/><Relationship Id="rId8" Type="http://schemas.openxmlformats.org/officeDocument/2006/relationships/image" Target="../media/image9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image" Target="../media/image105.jpeg"/><Relationship Id="rId5" Type="http://schemas.openxmlformats.org/officeDocument/2006/relationships/image" Target="../media/image106.jpeg"/><Relationship Id="rId6" Type="http://schemas.openxmlformats.org/officeDocument/2006/relationships/image" Target="../media/image107.jpeg"/><Relationship Id="rId7" Type="http://schemas.openxmlformats.org/officeDocument/2006/relationships/image" Target="../media/image108.jpeg"/><Relationship Id="rId8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image" Target="../media/image113.jpeg"/><Relationship Id="rId3" Type="http://schemas.openxmlformats.org/officeDocument/2006/relationships/image" Target="../media/image114.jpeg"/><Relationship Id="rId4" Type="http://schemas.openxmlformats.org/officeDocument/2006/relationships/image" Target="../media/image115.jpeg"/><Relationship Id="rId5" Type="http://schemas.openxmlformats.org/officeDocument/2006/relationships/image" Target="../media/image116.jpeg"/><Relationship Id="rId6" Type="http://schemas.openxmlformats.org/officeDocument/2006/relationships/image" Target="../media/image117.jpeg"/><Relationship Id="rId7" Type="http://schemas.openxmlformats.org/officeDocument/2006/relationships/image" Target="../media/image118.jpe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image" Target="../media/image122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jpe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484280"/>
            <a:ext cx="763272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брый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нь!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EFF-04B4-423F-A7F0-F98103BA87D1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1958760" cy="280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04000" y="692280"/>
            <a:ext cx="1906560" cy="273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364000" y="3716280"/>
            <a:ext cx="1901880" cy="273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195640" y="3716280"/>
            <a:ext cx="1906560" cy="2737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780000" y="692280"/>
            <a:ext cx="1931760" cy="27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3B2-5512-4E93-9D09-8186C2813450}" type="slidenum">
              <a:t>10</a:t>
            </a:fld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918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0de"/>
                </a:solidFill>
                <a:latin typeface="Times New Roman"/>
              </a:rPr>
              <a:t>За подготовку команд победителей и призёров городских и республиканских соревнов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2071800" cy="2879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2176200" cy="3024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619280" y="2924280"/>
            <a:ext cx="2193840" cy="3095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268360" y="3357720"/>
            <a:ext cx="2152800" cy="3024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987640" y="3789360"/>
            <a:ext cx="2044800" cy="290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508720" y="2349360"/>
            <a:ext cx="2076480" cy="295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6659640" y="3429000"/>
            <a:ext cx="1893960" cy="28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53BA-51E8-448A-B35F-8C9EEF4921DC}" type="slidenum">
              <a:t>11</a:t>
            </a:fld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2276640"/>
            <a:ext cx="820908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выш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валификац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35280" y="476280"/>
            <a:ext cx="1871640" cy="177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4F6-5E25-466F-A615-E4F2EFB34B74}" type="slidenum">
              <a:t>12</a:t>
            </a:fld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Новые подходы к содержанию и организации внеурочных форм физкультурно-оздоровительной и спортивной работ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 ча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правка №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 – 13 марта 2004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5F69-54B9-4E2C-B669-679C02A33ED7}" type="slidenum">
              <a:t>13</a:t>
            </a:fld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8281800" cy="3892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1800360" cy="174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C20-D746-4DE8-B922-C93607036784}" type="slidenum">
              <a:t>14</a:t>
            </a:fld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2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Требования охраны труда по программе обучения учителей физической культур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 ча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остоверение № 8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 – 24 марта 2005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5A00-3240-4B65-81CA-883FA0188614}" type="slidenum">
              <a:t>15</a:t>
            </a:fld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44000" cy="5160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380360" y="515772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355-6999-4C91-A978-0B8D195C0716}" type="slidenum">
              <a:t>16</a:t>
            </a:fld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3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Технологические аспекты повышения профессионального мастерства учителей физической культуры по оздоровлению учащихс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2 ча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остоверение № 315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3 января – 4 февраля 2006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18F-4CBF-420E-B522-A0FD26F9950D}" type="slidenum">
              <a:t>17</a:t>
            </a:fld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692520" cy="525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19280" y="4081320"/>
            <a:ext cx="1512720" cy="140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03640" y="981000"/>
            <a:ext cx="3610080" cy="518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419A-C14C-4EB1-A9D7-49254610E460}" type="slidenum">
              <a:t>18</a:t>
            </a:fld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68360" y="907920"/>
            <a:ext cx="799128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учно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тодиче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ятельн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800000" cy="165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26A-ECE2-4989-A3A2-F1B6DE8161F9}" type="slidenum">
              <a:t>19</a:t>
            </a:fld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4000" y="4724280"/>
            <a:ext cx="8640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МОУ «Средняя общеобразовательная школа № 9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6093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г. Йошкар-Ола, 2007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87280" y="620640"/>
            <a:ext cx="6840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ерстнёв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лексей 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алерьевич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4581360"/>
            <a:ext cx="604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ая культу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95E-6F6F-4A9D-B5B2-51781D62177A}" type="slidenum">
              <a:t>2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0de"/>
                </a:solidFill>
                <a:latin typeface="Times New Roman"/>
              </a:rPr>
              <a:t>Тема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33303"/>
                </a:solidFill>
                <a:latin typeface="Times New Roman"/>
              </a:rPr>
              <a:t>«Работа с одарёнными детьми в условиях общеобразовательной шко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Цел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– подготовка победителей и призёров соревнований и олимпи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3303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1. Выявление одарённых детей, диагностика талантов, прогнозирование результа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2. Создание условий для совместной деятельности наставника и ребёнк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3. Целенаправленная работа по раскрытию внутреннего потенциала лич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3303"/>
                </a:solidFill>
                <a:latin typeface="Times New Roman"/>
              </a:rPr>
              <a:t>Этапы работ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. Убеждение детей и их родителей в необходимости раскрытия потенци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. Постоянный контакт с классными руководителями и администрацией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3. Применение индивидуальных заданий на урок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. Дополнительные занятия в спортивных секц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5. Привлечение к работе высококвалифицированных специалис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6. Организация соревновательной практики и теоретических занят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7. Своевременное применение восстановительных сред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8. Организация совместного досуга с учащими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885080" y="5130720"/>
            <a:ext cx="942840" cy="15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D34-33D4-44CC-BAA3-2474731A2EE1}" type="slidenum">
              <a:t>20</a:t>
            </a:fld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907920"/>
            <a:ext cx="7921440" cy="468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спростран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дагогическ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ы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2000160" cy="160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246C-685C-4395-BD9A-325FD87DBC65}" type="slidenum">
              <a:t>21</a:t>
            </a:fld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Выступл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067280" y="1413000"/>
            <a:ext cx="4752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На педсовете школы по тем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Организация работы по физическому воспитанию с одарёнными детьми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e6"/>
                </a:solidFill>
                <a:latin typeface="Times New Roman"/>
              </a:rPr>
              <a:t>10.11.200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На заседании МО учителей физкультуры г.Йошкар-Олы по тем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Особенности организации и проведени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лючительного этапа Всероссийской Олимпиады школьников по предмету «Физическая культура» в 2006 (г. Кисловодск) и 2007 (г. Ульяновск) годах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10de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e6"/>
                </a:solidFill>
                <a:latin typeface="Times New Roman"/>
              </a:rPr>
              <a:t>24.08.200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В МИО на КПК для учителей физкультуры и тренеров РМЭ по тем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Организация работы по физическому  воспитанию с одарёнными детьм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e6"/>
                </a:solidFill>
                <a:latin typeface="Times New Roman"/>
              </a:rPr>
              <a:t>15.12.2007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52728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8F9-1A78-4792-9545-E96E1EDA03E8}" type="slidenum">
              <a:t>22</a:t>
            </a:fld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4000" y="549360"/>
            <a:ext cx="835164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астие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нкурс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фессиональн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стерст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A5B-175F-49FB-B864-DB5708BDB188}" type="slidenum">
              <a:t>23</a:t>
            </a:fld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Действующий спортсме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йствующий Мастер спорта России по военно-спортивным многоборь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йствующий Мастер спорта России по полиатло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аю активно участвовать в соревнованиях по лёгкой атлетике, плаванию, лыжным гонкам, стрельбе, военному пятиборью, офицерскому троеборью, полиатло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днократно становился победителем и призёром Чемпионатов РМЭ, России, Приволжско-Уральского военного округа и Вооружённых Сил Р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50D-2647-4D05-971A-D7652C1A7E5E}" type="slidenum">
              <a:t>24</a:t>
            </a:fld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3789360"/>
            <a:ext cx="3622680" cy="2509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3600360" cy="2489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932360" y="620640"/>
            <a:ext cx="3600360" cy="2449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72000" cy="25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40E-0F77-4EE0-AFBF-288CAF64BABB}" type="slidenum">
              <a:t>25</a:t>
            </a:fld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205000" cy="338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4896000" cy="3301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84820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333360"/>
            <a:ext cx="85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e6"/>
                </a:solidFill>
                <a:latin typeface="Times New Roman"/>
              </a:rPr>
              <a:t>Серебряный призёр молодёжн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e6"/>
                </a:solidFill>
                <a:latin typeface="Times New Roman"/>
              </a:rPr>
              <a:t>Чемпионата Европы по военному пятибор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1557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3303"/>
                </a:solidFill>
                <a:latin typeface="Times New Roman"/>
              </a:rPr>
              <a:t>Бельгия, г. Дист, 2000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94560" y="5734080"/>
            <a:ext cx="875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0de"/>
                </a:solidFill>
                <a:latin typeface="Times New Roman"/>
              </a:rPr>
              <a:t>От тренировок</a:t>
            </a:r>
            <a:r>
              <a:rPr b="1" lang="en-US" sz="4000" spc="-1" strike="noStrike">
                <a:solidFill>
                  <a:srgbClr val="1f10de"/>
                </a:solidFill>
                <a:latin typeface="Times New Roman"/>
              </a:rPr>
              <a:t>   –    </a:t>
            </a:r>
            <a:r>
              <a:rPr b="1" lang="en-US" sz="4000" spc="-1" strike="noStrike">
                <a:solidFill>
                  <a:srgbClr val="e33303"/>
                </a:solidFill>
                <a:latin typeface="Times New Roman"/>
              </a:rPr>
              <a:t>К   ПОБЕДЕ</a:t>
            </a:r>
            <a:r>
              <a:rPr b="1" lang="en-US" sz="4800" spc="-1" strike="noStrike">
                <a:solidFill>
                  <a:srgbClr val="e33303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8C7-D527-4DF2-A976-B2214C7C448D}" type="slidenum">
              <a:t>26</a:t>
            </a:fld>
          </a:p>
        </p:txBody>
      </p:sp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444760" cy="35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2855880" cy="4176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619280" y="1700280"/>
            <a:ext cx="2441520" cy="3454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32000" y="3068640"/>
            <a:ext cx="251964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822-2F77-43F4-A536-DD91A3D4BA08}" type="slidenum">
              <a:t>27</a:t>
            </a:fld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4680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редставитель сборной команды РМЭ на Российских олимпиадах школьников по предмету «Физическая культур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456000" cy="345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8333-AE37-4CBE-BBA4-FA8D65C04598}" type="slidenum">
              <a:t>28</a:t>
            </a:fld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3884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1f10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10de"/>
                </a:solidFill>
                <a:latin typeface="Times New Roman"/>
              </a:rPr>
              <a:t>2006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1f10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10de"/>
                </a:solidFill>
                <a:latin typeface="Times New Roman"/>
              </a:rPr>
              <a:t>20-26 апре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1f10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10de"/>
                </a:solidFill>
                <a:latin typeface="Times New Roman"/>
              </a:rPr>
              <a:t>г. Кисловодс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16360" y="260280"/>
            <a:ext cx="388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33303"/>
                </a:solidFill>
                <a:latin typeface="Times New Roman"/>
              </a:rPr>
              <a:t>2007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33303"/>
                </a:solidFill>
                <a:latin typeface="Times New Roman"/>
              </a:rPr>
              <a:t>14-19 апре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33303"/>
                </a:solidFill>
                <a:latin typeface="Times New Roman"/>
              </a:rPr>
              <a:t>г. Ульяновс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2876760" cy="3745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2841840" cy="36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3B5-E730-482A-A69C-37CF17BE94DB}" type="slidenum">
              <a:t>29</a:t>
            </a:fld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Шерстнёв Алексей Валерье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4321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Образование высшее - МГПИ им. Н.К. Крупской, Факультет физической культуры, 1997 го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пециальность -  «Физическая культура и спорт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ысшая категория, 2003 го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дагогический стаж работы – 10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32360" y="1341360"/>
            <a:ext cx="367200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AD6-6740-4562-B215-470C9AA5DCCB}" type="slidenum">
              <a:t>3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3600360" cy="27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932360" y="476280"/>
            <a:ext cx="3673440" cy="268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840-12F7-46E8-B047-D5C1F3AA739F}" type="slidenum">
              <a:t>30</a:t>
            </a:fld>
          </a:p>
        </p:txBody>
      </p:sp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Кисловодск - 200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3156120" cy="2367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19640" y="1359000"/>
            <a:ext cx="3157560" cy="2367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732720" y="4005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843280" y="3933720"/>
            <a:ext cx="3527280" cy="2648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03280" y="1341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Медовые водопад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15066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ора «Кольц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6560" y="3933720"/>
            <a:ext cx="177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Замок Ковар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 Любв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393372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анатор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3303"/>
                </a:solidFill>
                <a:latin typeface="Times New Roman"/>
              </a:rPr>
              <a:t>«Москв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38815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3303"/>
                </a:solidFill>
                <a:latin typeface="Times New Roman"/>
              </a:rPr>
              <a:t>Душутина Оль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6165720"/>
            <a:ext cx="3672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Бронзовый призёр Олимпиады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02E-FE58-4006-B343-86085C6BF355}" type="slidenum">
              <a:t>31</a:t>
            </a:fld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Ульяновск - 200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3384720" cy="2249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3456000" cy="2433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2203200" cy="309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796000" y="5516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ушутина Оль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59706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Бронзовый призёр Олимпи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21360"/>
            <a:ext cx="21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Бронзовый призё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Олимпиа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35211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Шубин Пав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19280" y="12175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щее ф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6720" y="11444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700360" y="5013360"/>
            <a:ext cx="2376360" cy="1581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92440" y="3422520"/>
            <a:ext cx="238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Слёз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ПОБЕДЫ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DA2-3D04-4908-A058-D03DAD68F597}" type="slidenum">
              <a:t>32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00720" y="3789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516720" y="404640"/>
            <a:ext cx="1944720" cy="2592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3348000" y="333360"/>
            <a:ext cx="2486160" cy="3313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132000" y="4221000"/>
            <a:ext cx="2951280" cy="22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9EF-AAE4-4096-ADAD-7CDE0F248CE7}" type="slidenum">
              <a:t>33</a:t>
            </a:fld>
          </a:p>
        </p:txBody>
      </p:sp>
    </p:spTree>
  </p:cSld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71640" y="386064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3097440" cy="2325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3240360" cy="2305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Награжде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A030-2137-4192-B0CE-F3E110B5F2A8}" type="slidenum">
              <a:t>34</a:t>
            </a:fld>
          </a:p>
        </p:txBody>
      </p:sp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5361120" cy="4021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227640" y="333360"/>
            <a:ext cx="2559240" cy="3411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26920" y="404640"/>
            <a:ext cx="43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Талисма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олимпиад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9B82-9E24-4619-B60F-65B041D44699}" type="slidenum">
              <a:t>35</a:t>
            </a:fld>
          </a:p>
        </p:txBody>
      </p:sp>
    </p:spTree>
  </p:cSld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4360" y="549360"/>
            <a:ext cx="777528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крыт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рок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роприят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516720" y="3284640"/>
            <a:ext cx="2087640" cy="156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216-B306-445A-8AC6-F8B3AC4F6229}" type="slidenum">
              <a:t>36</a:t>
            </a:fld>
          </a:p>
        </p:txBody>
      </p: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Открытое мероприят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3672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Спортивный праздни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«Папа, мама, я – спортивная семья!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17 февраля 2007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Учащиеся 5-6 классов и их родит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95640" y="2276640"/>
            <a:ext cx="4680000" cy="312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BC9-ED21-4623-80B6-FF3AAE9E24B7}" type="slidenum">
              <a:t>37</a:t>
            </a:fld>
          </a:p>
        </p:txBody>
      </p:sp>
    </p:spTree>
  </p:cSld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Моменты соревнова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3671640" cy="2435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76720" y="4076640"/>
            <a:ext cx="3600720" cy="2394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00360" y="1341360"/>
            <a:ext cx="3600360" cy="23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A245-74B7-439A-A865-2D305142488A}" type="slidenum">
              <a:t>38</a:t>
            </a:fld>
          </a:p>
        </p:txBody>
      </p:sp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Открытое мероприят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Республиканский турнир по баскетболу среди школьников, посвящённый Дню Защитника Отеч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24 февраля 2007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Спорткомплекс «Юбилейны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Участники - сборные команды юношей городов и районов РМ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4B5-CCBB-441B-8F26-E674F9CCCAC0}" type="slidenum">
              <a:t>39</a:t>
            </a:fld>
          </a:p>
        </p:txBody>
      </p:sp>
    </p:spTree>
  </p:cSld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518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Должностные обязанност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МОУ «Средняя общеобразовательная школа № 9 г. Йошкар-Олы» (3 – 11 классы) - 10 л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портивные секции: баскетбол (юноши), баскетбол (девуш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ружок «Олимпийское врем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енер-преподаватель ГОУ ДОД РМЭ СДЮШОР (отделение баскетбол) – 5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 1 сентября 2007 года - председатель МО учителей физкультуры г. Йошкар-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737080" cy="20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068-AB33-48BE-8311-EA81EC76326D}" type="slidenum">
              <a:t>4</a:t>
            </a:fld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10de"/>
                </a:solidFill>
                <a:latin typeface="Times New Roman"/>
              </a:rPr>
              <a:t>Главный судья соревнован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3413160" cy="4897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157560" cy="2368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219640" y="4149720"/>
            <a:ext cx="3168720" cy="236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D3D-E1EA-4D66-99E4-863DE3433728}" type="slidenum">
              <a:t>40</a:t>
            </a:fld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Открытое мероприят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Первенство г. Йошкар-Олы среди школьников по легкоатлетическому кроссу в зачёт спартакиа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Сентябрь 2007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Сомбатхей - «Осиновая рощ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Участники - сборные команды школ г. Йошкар-О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7FD-69B6-4C4E-8FCA-B9357F1958D3}" type="slidenum">
              <a:t>41</a:t>
            </a:fld>
          </a:p>
        </p:txBody>
      </p:sp>
    </p:spTree>
  </p:cSld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Моменты соревнова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F5F4-E6DB-4C97-A71C-C5900F646D9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4000" y="549360"/>
            <a:ext cx="748800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казател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зультат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ятельност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524720" y="1628640"/>
            <a:ext cx="129060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F41-6BA8-44EC-87AC-B25D4635C243}" type="slidenum">
              <a:t>43</a:t>
            </a:fld>
          </a:p>
        </p:txBody>
      </p:sp>
    </p:spTree>
  </p:cSld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34544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10de"/>
                </a:solidFill>
                <a:latin typeface="Times New Roman"/>
              </a:rPr>
              <a:t>Успеваемость учащих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063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611280" y="2060640"/>
          <a:ext cx="7846920" cy="451476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0560"/>
                <a:gridCol w="19620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 обуч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ь качества знаний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еваемость уча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2004-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4.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8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2005-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8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2006-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4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9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I </a:t>
                      </a:r>
                      <a:r>
                        <a:rPr b="1" lang="ru-RU" sz="20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полугодие 2007-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223-2100-4022-B274-A9D9B7F962A8}" type="slidenum">
              <a:t>44</a:t>
            </a:fld>
          </a:p>
        </p:txBody>
      </p:sp>
    </p:spTree>
  </p:cSld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116000" y="765000"/>
            <a:ext cx="676908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аст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лимпиад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ревнования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579680" cy="1579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948360" y="765000"/>
            <a:ext cx="1708200" cy="16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A63-21B3-4B18-A024-79C774B5E06D}" type="slidenum">
              <a:t>45</a:t>
            </a:fld>
          </a:p>
        </p:txBody>
      </p:sp>
    </p:spTree>
  </p:cSld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10de"/>
                </a:solidFill>
                <a:latin typeface="Times New Roman"/>
              </a:rPr>
              <a:t>Школа – постоянный участник Всероссийского кросса на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55164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F74-7FBD-42D8-A087-5DFEFFF27704}" type="slidenum">
              <a:t>46</a:t>
            </a:fld>
          </a:p>
        </p:txBody>
      </p:sp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918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e6"/>
                </a:solidFill>
                <a:latin typeface="Times New Roman"/>
              </a:rPr>
              <a:t>Городская спартакиада школьников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702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Школа №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2000 по 2005 годы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06 – 2007 учебный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днократный  победитель и призёр в легкоатлетическом кроссе, эстафете по улицам города, в легкоатлетическом троеборье, лыжных гонках, баскетболе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скетбольная команда юношей трижды становилась победителем Первенства РМЭ (2004-2006 г.г.), а в 2007 г. стала Чемпионом РМЭ среди школь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C43-C6E7-4B7A-B653-2EDC4B06AF41}" type="slidenum">
              <a:t>47</a:t>
            </a:fld>
          </a:p>
        </p:txBody>
      </p:sp>
    </p:spTree>
  </p:cSld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Баскетбол</a:t>
            </a:r>
            <a:r>
              <a:rPr b="1" lang="en-US" sz="4000" spc="-1" strike="noStrike">
                <a:solidFill>
                  <a:srgbClr val="0000e6"/>
                </a:solidFill>
                <a:latin typeface="Times New Roman"/>
              </a:rPr>
              <a:t> - первенство </a:t>
            </a:r>
            <a:br>
              <a:rPr sz="4000"/>
            </a:br>
            <a:r>
              <a:rPr b="1" lang="en-US" sz="4000" spc="-1" strike="noStrike">
                <a:solidFill>
                  <a:srgbClr val="0000e6"/>
                </a:solidFill>
                <a:latin typeface="Times New Roman"/>
              </a:rPr>
              <a:t>г. Йошкар-Олы среди школь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8098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Девуш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5 год – 2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6 год – 2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7 год – 4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7960" y="1700280"/>
            <a:ext cx="38098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Юнош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5 год – 3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6 год – 2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7 год – 1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3887640" cy="2527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3672000" cy="253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AAB-57BF-4B67-9726-060E1ECE51D6}" type="slidenum">
              <a:t>48</a:t>
            </a:fld>
          </a:p>
        </p:txBody>
      </p:sp>
    </p:spTree>
  </p:cSld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130120" cy="2952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2103480" cy="2923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908000" y="2492280"/>
            <a:ext cx="2057400" cy="2924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2843280" y="3573360"/>
            <a:ext cx="2012760" cy="2880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140360" y="476280"/>
            <a:ext cx="2000160" cy="2881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4932360" y="1557360"/>
            <a:ext cx="1965240" cy="2879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5940360" y="2637000"/>
            <a:ext cx="1992240" cy="2879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6804000" y="3645000"/>
            <a:ext cx="1995480" cy="287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E5F8-72F0-473E-808F-CA1802F0E0C4}" type="slidenum">
              <a:t>49</a:t>
            </a:fld>
          </a:p>
        </p:txBody>
      </p:sp>
    </p:spTree>
  </p:cSld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1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7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6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1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23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ее образо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13440" cy="4608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93080" y="260280"/>
            <a:ext cx="1871640" cy="127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91C-0B89-4426-BFEE-DA825E32BA74}" type="slidenum">
              <a:t>5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e6"/>
                </a:solidFill>
                <a:latin typeface="Times New Roman"/>
              </a:rPr>
              <a:t>Гребнев Антон,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б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46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мпион г. Йошкар-Олы и РМЭ среди школьников по баскетбо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зёр Чемпионата РМЭ среди мужчин по баскетбо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мпион Республики Татарстан среди юношей 1989-1990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зёр Первенства России среди юношей 1989-1990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19716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622E-7A5A-4CED-9610-5373E9C71339}" type="slidenum">
              <a:t>50</a:t>
            </a:fld>
          </a:p>
        </p:txBody>
      </p:sp>
    </p:spTree>
  </p:cSld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3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97440" cy="5688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859280" y="765000"/>
            <a:ext cx="3745080" cy="2427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932360" y="3500280"/>
            <a:ext cx="3672000" cy="275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521-D3F9-4AB4-9ECE-04691E3203FC}" type="slidenum">
              <a:t>51</a:t>
            </a:fld>
          </a:p>
        </p:txBody>
      </p:sp>
    </p:spTree>
  </p:cSld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11280" y="692280"/>
            <a:ext cx="792144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лимпиад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ой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ультур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4D4-9F94-4B69-BA3B-3F4FA8F82AF2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e6"/>
                </a:solidFill>
                <a:latin typeface="Times New Roman"/>
              </a:rPr>
              <a:t>Городская олимпиад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Команда школы №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004 – 2005 учебный год –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4 мес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005 – 2006 учебный год –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2 мес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006 – 2007 учебный год –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2 мес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Семеро учащихся школы становились победителями и призёрами городской олимпиа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BF1-A833-47A1-8ACA-4823E4B80449}" type="slidenum">
              <a:t>53</a:t>
            </a:fld>
          </a:p>
        </p:txBody>
      </p:sp>
    </p:spTree>
  </p:cSld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2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3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4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353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e6"/>
                </a:solidFill>
                <a:latin typeface="Times New Roman"/>
              </a:rPr>
              <a:t>Республиканская </a:t>
            </a:r>
            <a:br>
              <a:rPr sz="6600"/>
            </a:br>
            <a:r>
              <a:rPr b="1" lang="en-US" sz="6600" spc="-1" strike="noStrike">
                <a:solidFill>
                  <a:srgbClr val="0000e6"/>
                </a:solidFill>
                <a:latin typeface="Times New Roman"/>
              </a:rPr>
              <a:t>олимпиа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923920"/>
            <a:ext cx="79898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Четверо учащихся школы становились победителями и призёра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очарников Илья       –  2005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лгополова Мария   –  2006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зонов Евгений         –  2006, 2007 г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ушутина Ольга        –  2005, 2006, 2007 г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FFE-CD26-49DE-87E5-518D691C8B09}" type="slidenum">
              <a:t>54</a:t>
            </a:fld>
          </a:p>
        </p:txBody>
      </p:sp>
    </p:spTree>
  </p:cSld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3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e6"/>
                </a:solidFill>
                <a:latin typeface="Times New Roman"/>
              </a:rPr>
              <a:t>Сазонов Евгений</a:t>
            </a:r>
            <a:r>
              <a:rPr b="1" lang="en-US" sz="6000" spc="-1" strike="noStrike">
                <a:solidFill>
                  <a:srgbClr val="0000e6"/>
                </a:solidFill>
                <a:latin typeface="Times New Roman"/>
              </a:rPr>
              <a:t>,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4360" y="1503360"/>
            <a:ext cx="3235320" cy="4805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211640" y="1628640"/>
            <a:ext cx="1465200" cy="201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716360" y="2060640"/>
            <a:ext cx="1513080" cy="2133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148360" y="2708280"/>
            <a:ext cx="1469880" cy="2160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796000" y="3284640"/>
            <a:ext cx="1579680" cy="2232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6443640" y="3789360"/>
            <a:ext cx="1598760" cy="2232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7093080" y="4292640"/>
            <a:ext cx="1623960" cy="22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252E-80D8-462E-9565-DC70E69D35FB}" type="slidenum">
              <a:t>55</a:t>
            </a:fld>
          </a:p>
        </p:txBody>
      </p:sp>
    </p:spTree>
  </p:cSld>
  <p:timing>
    <p:tnLst>
      <p:par>
        <p:cTn id="1726" dur="indefinite" restart="never" nodeType="tmRoot">
          <p:childTnLst>
            <p:seq>
              <p:cTn id="1727" dur="indefinite" nodeType="mainSeq">
                <p:childTnLst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8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7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1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4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1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3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4032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e6"/>
                </a:solidFill>
                <a:latin typeface="Times New Roman"/>
              </a:rPr>
              <a:t>Душутина </a:t>
            </a:r>
            <a:br>
              <a:rPr sz="6000"/>
            </a:br>
            <a:r>
              <a:rPr b="1" i="1" lang="ru-RU" sz="6000" spc="-1" strike="noStrike">
                <a:solidFill>
                  <a:srgbClr val="0000e6"/>
                </a:solidFill>
                <a:latin typeface="Times New Roman"/>
              </a:rPr>
              <a:t>Ольга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б 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клас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427640" y="549360"/>
            <a:ext cx="4213080" cy="56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F23D-8AAF-4732-BD21-E1E124C0D412}" type="slidenum">
              <a:t>56</a:t>
            </a:fld>
          </a:p>
        </p:txBody>
      </p:sp>
    </p:spTree>
  </p:cSld>
  <p:timing>
    <p:tnLst>
      <p:par>
        <p:cTn id="1787" dur="indefinite" restart="never" nodeType="tmRoot">
          <p:childTnLst>
            <p:seq>
              <p:cTn id="1788" dur="indefinite" nodeType="mainSeq">
                <p:childTnLst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708360" y="836280"/>
            <a:ext cx="49672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Неоднократная   победительница городских и республиканских олимпиа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ронзовый призёр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Всероссиийской олимпиады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(Кисловодск-200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ронзовый призёр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Всероссиийской олимпиады</a:t>
            </a: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Ульяновск – 200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ладательница Гранта Президента Российской Федерации В.В.Пут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2665440" cy="3552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1513080" cy="139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D8E-7992-4096-AA64-7A69A8DBC284}" type="slidenum">
              <a:t>57</a:t>
            </a:fld>
          </a:p>
        </p:txBody>
      </p:sp>
    </p:spTree>
  </p:cSld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8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1743120" cy="2521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25600" y="155736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2556000" y="2924280"/>
            <a:ext cx="1746000" cy="2519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708360" y="3933720"/>
            <a:ext cx="1755720" cy="2449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4859280" y="549360"/>
            <a:ext cx="1824120" cy="2519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5724360" y="1557360"/>
            <a:ext cx="1725840" cy="2448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6588000" y="2852640"/>
            <a:ext cx="1768680" cy="24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9BE-674F-4A61-AD12-5E6234CAF477}" type="slidenum">
              <a:t>58</a:t>
            </a:fld>
          </a:p>
        </p:txBody>
      </p:sp>
    </p:spTree>
  </p:cSld>
  <p:timing>
    <p:tnLst>
      <p:par>
        <p:cTn id="1839" dur="indefinite" restart="never" nodeType="tmRoot">
          <p:childTnLst>
            <p:seq>
              <p:cTn id="1840" dur="indefinite" nodeType="mainSeq">
                <p:childTnLst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10de"/>
                </a:solidFill>
                <a:latin typeface="Times New Roman"/>
              </a:rPr>
              <a:t>Кисловодск - 200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332160" cy="482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58B-CBBB-4AC2-86E8-EA81104E276F}" type="slidenum">
              <a:t>59</a:t>
            </a:fld>
          </a:p>
        </p:txBody>
      </p:sp>
    </p:spTree>
  </p:cSld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ая категор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625920" cy="504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05640" y="2133720"/>
            <a:ext cx="202068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CD5-3C20-45BB-B958-A9F62FEEEB9C}" type="slidenum">
              <a:t>6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10de"/>
                </a:solidFill>
                <a:latin typeface="Times New Roman"/>
              </a:rPr>
              <a:t>Ульяновск - 200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216600" cy="4680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456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D64-5608-4B41-90DB-309E675EA4B9}" type="slidenum">
              <a:t>60</a:t>
            </a:fld>
          </a:p>
        </p:txBody>
      </p:sp>
    </p:spTree>
  </p:cSld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Грант Президента Р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114720" cy="4475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780000" y="407664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508720" y="1484280"/>
            <a:ext cx="3095640" cy="23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E25-AFF1-44D3-82B8-1AFDE67E6C65}" type="slidenum">
              <a:t>61</a:t>
            </a:fld>
          </a:p>
        </p:txBody>
      </p:sp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5280" y="907920"/>
            <a:ext cx="6985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иман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2737080" cy="222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86E-7B5D-4476-A12A-0F231DC7308D}" type="slidenum">
              <a:t>62</a:t>
            </a:fld>
          </a:p>
        </p:txBody>
      </p:sp>
    </p:spTree>
  </p:cSld>
  <p:timing>
    <p:tnLst>
      <p:par>
        <p:cTn id="1968" dur="indefinite" restart="never" nodeType="tmRoot">
          <p:childTnLst>
            <p:seq>
              <p:cTn id="1969" dur="indefinite" nodeType="mainSeq">
                <p:childTnLst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Программы и учебные пособ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064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Программа физического воспитания учащихся 1-11 классов, основанная на одном из видов спорта (баскетбол)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иленский М.Я., Литвинов Е.Н., Туркунов Б.И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РФ, 1996 го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Учебные пособ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-4 классы: Лях В.И. «Мой друг – физ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5-7 классы: Виленский М.Я. «Физическая 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-9 классы: Лях В.И. «Физическая 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0-11 классы: Лях В.И. «Физическая 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20000" y="5589720"/>
            <a:ext cx="1798560" cy="10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8C0-9A89-41E4-ADAA-18E62B3D99B3}" type="slidenum">
              <a:t>7</a:t>
            </a:fld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Зван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4392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стер спорта России по военно-спортивным многоборья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.11. 9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1716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тер спорта России по полиатло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0.12.98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2852640"/>
            <a:ext cx="2616120" cy="3662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2589120" cy="3600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DF7-17EE-4F11-9478-8B6114836AD4}" type="slidenum">
              <a:t>8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6191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Награжд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ётная грамота Управления образования Администрации г. Йошкар-Олы, 28.10.0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ётная грамота Управления образования Администрации г. Йошкар-Олы за многолетний добросовестный труд, 15.06.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мота  Комитета по физической культуре и спорту Администрации г. Йошкар-Олы за большой вклад в развитие физической культуры, 27.08.0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лагодарность Министерства образования РМЭ, 05.12.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лагодарственное письмо Министерства образования РМЭ, февраль 200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38744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5878-F1BF-490E-9122-5D2D461C50A8}" type="slidenum">
              <a:t>9</a:t>
            </a:fld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7-08-07T11:44:43Z</dcterms:modified>
  <cp:revision>113</cp:revision>
  <dc:subject/>
  <dc:title>Федерация интернет Образования</dc:title>
</cp:coreProperties>
</file>