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3.jpeg" ContentType="image/jpeg"/>
  <Override PartName="/ppt/media/image38.jpeg" ContentType="image/jpeg"/>
  <Override PartName="/ppt/media/image97.jpeg" ContentType="image/jpeg"/>
  <Override PartName="/ppt/media/image126.wmf" ContentType="image/x-wmf"/>
  <Override PartName="/ppt/media/image34.jpeg" ContentType="image/jpeg"/>
  <Override PartName="/ppt/media/image56.jpeg" ContentType="image/jpeg"/>
  <Override PartName="/ppt/media/image32.jpeg" ContentType="image/jpeg"/>
  <Override PartName="/ppt/media/image30.jpeg" ContentType="image/jpeg"/>
  <Override PartName="/ppt/media/image6.wmf" ContentType="image/x-wmf"/>
  <Override PartName="/ppt/media/image12.jpeg" ContentType="image/jpeg"/>
  <Override PartName="/ppt/media/image88.jpeg" ContentType="image/jpeg"/>
  <Override PartName="/ppt/media/image108.jpeg" ContentType="image/jpeg"/>
  <Override PartName="/ppt/media/image53.jpeg" ContentType="image/jpeg"/>
  <Override PartName="/ppt/media/image10.gif" ContentType="image/gif"/>
  <Override PartName="/ppt/media/image52.jpeg" ContentType="image/jpeg"/>
  <Override PartName="/ppt/media/image31.gif" ContentType="image/gif"/>
  <Override PartName="/ppt/media/image74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3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05.jpeg" ContentType="image/jpeg"/>
  <Override PartName="/ppt/media/image47.jpeg" ContentType="image/jpeg"/>
  <Override PartName="/ppt/media/image25.wmf" ContentType="image/x-wmf"/>
  <Override PartName="/ppt/media/image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7.gif" ContentType="image/gif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4.wmf" ContentType="image/x-wmf"/>
  <Override PartName="/ppt/media/image66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72.jpeg" ContentType="image/jpeg"/>
  <Override PartName="/ppt/media/image73.jpeg" ContentType="image/jpeg"/>
  <Override PartName="/ppt/media/image84.jpeg" ContentType="image/jpeg"/>
  <Override PartName="/ppt/media/image104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51.jpeg" ContentType="image/jpe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19.jpeg" ContentType="image/jpeg"/>
  <Override PartName="/ppt/media/image82.jpeg" ContentType="image/jpeg"/>
  <Override PartName="/ppt/media/image102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10.jpeg" ContentType="image/jpeg"/>
  <Override PartName="/ppt/media/image90.jpeg" ContentType="image/jpeg"/>
  <Override PartName="/ppt/media/image29.png" ContentType="image/png"/>
  <Override PartName="/ppt/media/image63.jpeg" ContentType="image/jpeg"/>
  <Override PartName="/ppt/media/image106.jpeg" ContentType="image/jpeg"/>
  <Override PartName="/ppt/media/image15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71.jpeg" ContentType="image/jpeg"/>
  <Override PartName="/ppt/media/image70.jpeg" ContentType="image/jpeg"/>
  <Override PartName="/ppt/media/image86.gif" ContentType="image/gif"/>
  <Override PartName="/ppt/media/image69.jpeg" ContentType="image/jpeg"/>
  <Override PartName="/ppt/media/image49.jpeg" ContentType="image/jpeg"/>
  <Override PartName="/ppt/media/image85.gif" ContentType="image/gif"/>
  <Override PartName="/ppt/media/image68.jpeg" ContentType="image/jpeg"/>
  <Override PartName="/ppt/media/image67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0.jpeg" ContentType="image/jpeg"/>
  <Override PartName="/ppt/media/image77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E51-914F-4B4D-801F-63B489C5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A5A-93A0-406D-A9B2-9CD3838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225-CE93-4E2E-B6B7-CCB06D78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4F5-1FEE-42EC-8F52-DECFEB88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0E6-27B9-457E-B440-EB439721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67E-75CE-489F-A753-BD5EEF9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F08-0E39-4996-8CE2-230FC2F5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F1F-2351-48B0-B3B8-0A328F6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78D-5C21-4EBD-90F8-2EE97008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BD3-27DF-4A07-969E-09564FED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18A-1B0E-471B-9112-C5B668D0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37A-42A3-4A75-B8D1-5A4081F9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122-A3CC-4164-9888-2E5084D61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image" Target="../media/image96.jpeg"/><Relationship Id="rId8" Type="http://schemas.openxmlformats.org/officeDocument/2006/relationships/image" Target="../media/image9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57E-862F-497D-BD0F-DF3C31EBF904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1958760" cy="280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04000" y="692280"/>
            <a:ext cx="1906560" cy="27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19018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190656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780000" y="692280"/>
            <a:ext cx="19317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6E4-3F19-4DDE-8ECE-574255167283}" type="slidenum">
              <a:t>10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За подготовку команд победителей и призёров городских и республиканских соревн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07180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17620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19384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68360" y="3357720"/>
            <a:ext cx="215280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987640" y="3789360"/>
            <a:ext cx="2044800" cy="290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207648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659640" y="3429000"/>
            <a:ext cx="18939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364-DB25-4C52-83AA-371343B6861B}" type="slidenum">
              <a:t>1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2276640"/>
            <a:ext cx="820908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ыш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валифика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187164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7D2-89C5-423A-8F7B-12404028D37E}" type="slidenum">
              <a:t>12</a:t>
            </a:fld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Новые подходы к содержанию и организации внеурочных форм физкультурно-оздоровительной и спортивной работ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равка №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 – 13 марта 2004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63D-FF75-4A54-8076-3A1444AC9F4B}" type="slidenum">
              <a:t>13</a:t>
            </a:fld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1800" cy="3892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800360" cy="174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3D5-5F27-4B9B-98A3-6342A53E66C9}" type="slidenum">
              <a:t>14</a:t>
            </a:fld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ребования охраны труда по программе обучения учителей физической культур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8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 – 24 марта 2005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672-4B84-4D25-A9A5-1B51D125F19B}" type="slidenum">
              <a:t>15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160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7FC-2B54-45E2-80D7-B3CC43478792}" type="slidenum">
              <a:t>16</a:t>
            </a:fld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ехнологические аспекты повышения профессионального мастерства учителей физической культуры по оздоровлению учащихс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3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 января – 4 феврал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70C-FBB9-45A6-A0EC-BBE7618AB9FF}" type="slidenum">
              <a:t>17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692520" cy="525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4081320"/>
            <a:ext cx="1512720" cy="140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61008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F85-7974-41E3-A5F2-8EDAF445E458}" type="slidenum">
              <a:t>18</a:t>
            </a:fld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907920"/>
            <a:ext cx="79912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учно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тод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0000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B42-F363-41E4-8B26-509297BFB1CC}" type="slidenum">
              <a:t>19</a:t>
            </a:fld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9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620640"/>
            <a:ext cx="6840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ерстнёв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ей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алерьевич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581360"/>
            <a:ext cx="604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5D8-B278-4FF5-9597-0ACF2B8C725C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de"/>
                </a:solidFill>
                <a:latin typeface="Times New Roman"/>
              </a:rPr>
              <a:t>Тем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33303"/>
                </a:solidFill>
                <a:latin typeface="Times New Roman"/>
              </a:rPr>
              <a:t>«Работа с одарёнными детьми в условиях общеобразовательной шко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подготовка победителей и призёров соревнований и олимпи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. Выявление одарённых детей, диагностика талантов, прогнозирование результа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2. Создание условий для совместной деятельности наставника и ребён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3. Целенаправленная работа по раскрытию внутреннего потенциала лич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Этапы рабо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 Убеждение детей и их родителей в необходимости раскрытия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. Постоянный контакт с классными руководителями и администрацией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. Применение индивидуальных заданий на уро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. Дополнительные занятия в спортивных сек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5. Привлечение к работе высококвалифицированных специалис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6. Организация соревновательной практики и теоретических заня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. Своевременное применение восстановительных сред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8. Организация совместного досуга с учащими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130720"/>
            <a:ext cx="942840" cy="15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F7D-BBC0-4284-B6A5-9B35417ED4D0}" type="slidenum">
              <a:t>20</a:t>
            </a:fld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907920"/>
            <a:ext cx="7921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01B-81A9-4B86-AF07-26E5A19760CD}" type="slidenum">
              <a:t>21</a:t>
            </a:fld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752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педсовете шк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воспитанию с одарёнными детьм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0.11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заседании МО учителей физкультуры г.Йошкар-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собенности организации и провед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лючительного этапа Всероссийской Олимпиады школьников по предмету «Физическая культура» в 2006 (г. Кисловодск) и 2007 (г. Ульяновск) года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10de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24.08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 воспитанию с одарёнными деть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5.12.2007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208-AD96-4CF0-AEBB-2643C38A2CE1}" type="slidenum">
              <a:t>22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549360"/>
            <a:ext cx="835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кур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ональн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стер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DE4-3F5D-45B0-934F-DC5EDBB8A3CB}" type="slidenum">
              <a:t>23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Действующий спортсме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военно-спортивным многоборь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ю активно участвовать в соревнованиях по лёгкой атлетике, плаванию, лыжным гонкам, стрельбе, военному пятиборью, офицерскому троеборью,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о становился победителем и призёром Чемпионатов РМЭ, России, Приволжско-Уральского военного округа и Вооружённых Сил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BDB-00C4-4A1F-AE2B-78F4AF7188FE}" type="slidenum">
              <a:t>24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3622680" cy="250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600360" cy="248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600360" cy="244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7200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E9F-3536-4A47-98B8-34D37B6E603F}" type="slidenum">
              <a:t>25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205000" cy="338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4896000" cy="3301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48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5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Серебряный призёр молодёж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Чемпионата Европы по военному пятибор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557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3303"/>
                </a:solidFill>
                <a:latin typeface="Times New Roman"/>
              </a:rPr>
              <a:t>Бельгия, г. Дист, 2000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4560" y="5734080"/>
            <a:ext cx="87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От тренировок</a:t>
            </a: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   –    </a:t>
            </a:r>
            <a:r>
              <a:rPr b="1" lang="en-US" sz="4000" spc="-1" strike="noStrike">
                <a:solidFill>
                  <a:srgbClr val="e33303"/>
                </a:solidFill>
                <a:latin typeface="Times New Roman"/>
              </a:rPr>
              <a:t>К   ПОБЕДЕ</a:t>
            </a:r>
            <a:r>
              <a:rPr b="1" lang="en-US" sz="4800" spc="-1" strike="noStrike">
                <a:solidFill>
                  <a:srgbClr val="e33303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E85-BF15-44C0-A250-CE1794A58240}" type="slidenum">
              <a:t>26</a:t>
            </a:fld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447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855880" cy="41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2441520" cy="345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25196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41C-2740-4EDA-B7F3-6270EC7CF83D}" type="slidenum">
              <a:t>27</a:t>
            </a:fld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едставитель сборной команды РМЭ на Российских олимпиадах школьников по предмету «Физическая культур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45600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927-BB32-49D7-A089-F7144600E695}" type="slidenum">
              <a:t>28</a:t>
            </a:fld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3884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-26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г. Кисловод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38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2007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14-19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г. Ульянов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2876760" cy="374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D9A-C264-45BF-B11F-3142BF9A87BA}" type="slidenum">
              <a:t>29</a:t>
            </a:fld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Шерстнёв Алексей Валерь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321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Факультет физической культуры, 1997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-  «Физическая культура и спорт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, 200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10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6720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FF7-2CC2-449B-9005-732A7F577109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367344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CA7-3E5B-4DEE-8911-560F733F7EB7}" type="slidenum">
              <a:t>30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135900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527280" cy="2648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3280" y="134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Медовые водопад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506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ра «Кольц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6560" y="3933720"/>
            <a:ext cx="177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мок Кова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Люб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933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натор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3303"/>
                </a:solidFill>
                <a:latin typeface="Times New Roman"/>
              </a:rPr>
              <a:t>«Москв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881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6165720"/>
            <a:ext cx="36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Бронзовый призёр Олимпиад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282-7117-4B30-84F8-535FE53DE232}" type="slidenum">
              <a:t>31</a:t>
            </a:fld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384720" cy="224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456000" cy="243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203200" cy="309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796000" y="551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59706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ронзовый призёр Олимп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21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ронзовый призё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лимпиа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521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убин Пав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17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щее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1144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00360" y="5013360"/>
            <a:ext cx="2376360" cy="1581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92440" y="3422520"/>
            <a:ext cx="238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Слё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ПОБЕД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402-0DD0-4AC6-A47D-AC7560AC101E}" type="slidenum">
              <a:t>32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516720" y="40464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348000" y="33336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C34-0C04-42EB-812A-6FAC060D0D86}" type="slidenum">
              <a:t>33</a:t>
            </a:fld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097440" cy="232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240360" cy="230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Награжд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559-DF80-4C1A-90D0-A0A89564434A}" type="slidenum">
              <a:t>34</a:t>
            </a:fld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61120" cy="4021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559240" cy="341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40464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Талисм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олимпиа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E9E-EC3C-4A74-99A5-0B1210DC48CA}" type="slidenum">
              <a:t>35</a:t>
            </a:fld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777528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роприят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F28-84C8-47B3-91FE-A3B73DECC67B}" type="slidenum">
              <a:t>36</a:t>
            </a:fld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672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Спортивный праздн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«Папа, мама, я – спортивная семья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7 февраля 2007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Учащиеся 5-6 классов и их 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680000" cy="31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B11-D2AB-4D2F-9E06-53D546863503}" type="slidenum">
              <a:t>37</a:t>
            </a:fld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3671640" cy="2435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600720" cy="239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E6E-8AC6-4735-9EA2-9B08639D2302}" type="slidenum">
              <a:t>38</a:t>
            </a:fld>
          </a:p>
        </p:txBody>
      </p: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Республиканский турнир по баскетболу среди школьников, посвящённый Дню Защитника Оте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24 февраля 2007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Спорткомплекс «Юбилейны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юношей городов и районов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BBF-4C34-4ACF-B368-1944E335143F}" type="slidenum">
              <a:t>39</a:t>
            </a:fld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олжностные обязанн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МОУ «Средняя общеобразовательная школа № 9 г. Йошкар-Олы» (3 – 11 классы) - 10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портивные секции: баскетбол (юноши), баскетбол (девуш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ружок «Олимпийское врем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енер-преподаватель ГОУ ДОД РМЭ СДЮШОР (отделение баскетбол) –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1 сентября 2007 года - председатель МО учителей физкультуры г. Йошкар-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F2C-E1E8-4E06-B349-5600943EE991}" type="slidenum">
              <a:t>4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Главный судья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413160" cy="489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157560" cy="2368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4149720"/>
            <a:ext cx="3168720" cy="23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078-4475-441F-BBE7-AE62628C91F2}" type="slidenum">
              <a:t>40</a:t>
            </a:fld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Первенство г. Йошкар-Олы среди школьников по легкоатлетическому кроссу в зачёт спартакиа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ентябрь 2007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омбатхей - «Осиновая рощ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школ г. Йошкар-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5A0-1880-44CA-B9F2-089D25D206CE}" type="slidenum">
              <a:t>41</a:t>
            </a:fld>
          </a:p>
        </p:txBody>
      </p: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9BF-94F7-4C03-B3C8-78A7B49C4C1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4000" y="549360"/>
            <a:ext cx="748800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казате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29060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A21-AB9E-4CC8-82DB-073D9162E221}" type="slidenum">
              <a:t>43</a:t>
            </a:fld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Успеваемость учащих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63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611280" y="2060640"/>
          <a:ext cx="7846920" cy="45147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0560"/>
                <a:gridCol w="1962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 обуч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качества знаний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 уча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4-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5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6-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полугодие 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E65-512B-4E00-BE16-7A25790F1A34}" type="slidenum">
              <a:t>44</a:t>
            </a:fld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9AE-3447-42B4-93FD-3922BA78D587}" type="slidenum">
              <a:t>45</a:t>
            </a:fld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Школа – постоянный участник Всероссийского кросса н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5516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4A5-7C8D-4DE9-A621-C7E22942F794}" type="slidenum">
              <a:t>46</a:t>
            </a:fld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ородская спартакиада школьнико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0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кола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2000 по 2005 годы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ый  победитель и призёр в легкоатлетическом кроссе, эстафете по улицам города, в легкоатлетическом троеборье, лыжных гонках, баскетбол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скетбольная команда юношей трижды становилась победителем Первенства РМЭ (2004-2006 г.г.), а в 2007 г. стала Чемпионом РМЭ среди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D67-8F1D-4080-9CD1-6B52B00F1948}" type="slidenum">
              <a:t>47</a:t>
            </a:fld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аскетбол</a:t>
            </a: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 - первенство </a:t>
            </a:r>
            <a:br>
              <a:rPr sz="4000"/>
            </a:b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г. Йошкар-Олы среди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4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796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Юн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3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1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887640" cy="252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672000" cy="253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045-CAAF-4D57-B989-657BA5D81706}" type="slidenum">
              <a:t>48</a:t>
            </a:fld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30120" cy="295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2103480" cy="2923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2057400" cy="2924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2012760" cy="288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140360" y="476280"/>
            <a:ext cx="2000160" cy="2881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932360" y="1557360"/>
            <a:ext cx="196524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5940360" y="263700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804000" y="3645000"/>
            <a:ext cx="199548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EF0-065B-4511-A4F7-A0C33A820406}" type="slidenum">
              <a:t>49</a:t>
            </a:fld>
          </a:p>
        </p:txBody>
      </p:sp>
    </p:spTree>
  </p:cSld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13440" cy="460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71640" cy="12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481-B255-4BD4-8DBA-4F2908F90754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ребнев Антон,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46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г. Йошкар-Олы и РМЭ среди школьников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Чемпионата РМЭ среди мужчин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Республики Татарстан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Первенства России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1971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13D-4843-46B3-B527-384880C52E6C}" type="slidenum">
              <a:t>50</a:t>
            </a:fld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97440" cy="568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745080" cy="2427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672000" cy="27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533-19E8-473C-9F0D-753249EE28F7}" type="slidenum">
              <a:t>51</a:t>
            </a:fld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1280" y="692280"/>
            <a:ext cx="792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ультур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A16-6293-4D7A-A352-F6C66F3CD1D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Городская олимпиад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оманда школы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4 – 2005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4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5 – 2006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Семеро учащихся школы становились победителями и призёрами городской олимпиа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132-E908-4A7A-822D-B31FE5B8393F}" type="slidenum">
              <a:t>53</a:t>
            </a:fld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Республиканская </a:t>
            </a:r>
            <a:br>
              <a:rPr sz="6600"/>
            </a:b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989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Четверо учащихся школы становились победителями и призёр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чарников Илья       –  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лгополова Мария   – 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зонов Евгений         – 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ушутина Ольга        –  2005,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60F-999E-41E5-A8FC-96A1808AC6B8}" type="slidenum">
              <a:t>54</a:t>
            </a:fld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Сазонов Евгений</a:t>
            </a: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,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1503360"/>
            <a:ext cx="3235320" cy="4805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1465200" cy="201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1513080" cy="213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148360" y="2708280"/>
            <a:ext cx="1469880" cy="216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1579680" cy="22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159876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093080" y="4292640"/>
            <a:ext cx="16239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551-6BDA-46E9-A603-C6489556E108}" type="slidenum">
              <a:t>55</a:t>
            </a:fld>
          </a:p>
        </p:txBody>
      </p:sp>
    </p:spTree>
  </p:cSld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0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Душутина </a:t>
            </a:r>
            <a:br>
              <a:rPr sz="6000"/>
            </a:b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Ольга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AE6-060D-4473-961A-4E3A3EFAB4D5}" type="slidenum">
              <a:t>56</a:t>
            </a:fld>
          </a:p>
        </p:txBody>
      </p:sp>
    </p:spTree>
  </p:cSld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708360" y="836280"/>
            <a:ext cx="4967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однократная   победительница городских и республиканских олимпиа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(Кисловодск-200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Ульяновск – 200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ладательница Гранта Президента Российской Федерации В.В.Пут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2665440" cy="3552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1513080" cy="13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665-8752-434B-8751-A0322438C423}" type="slidenum">
              <a:t>57</a:t>
            </a:fld>
          </a:p>
        </p:txBody>
      </p:sp>
    </p:spTree>
  </p:cSld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743120" cy="2521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25600" y="155736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1746000" cy="251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708360" y="3933720"/>
            <a:ext cx="1755720" cy="2449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859280" y="549360"/>
            <a:ext cx="1824120" cy="2519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724360" y="1557360"/>
            <a:ext cx="1725840" cy="244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6588000" y="2852640"/>
            <a:ext cx="176868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309-62AB-40A5-8867-49829862D703}" type="slidenum">
              <a:t>58</a:t>
            </a:fld>
          </a:p>
        </p:txBody>
      </p:sp>
    </p:spTree>
  </p:cSld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332160" cy="48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D01-8FB8-4AE5-9636-408E2012C978}" type="slidenum">
              <a:t>59</a:t>
            </a:fld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62592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05640" y="2133720"/>
            <a:ext cx="202068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1E5-B1F9-4E00-B132-D60426DAD603}" type="slidenum">
              <a:t>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16600" cy="468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B21-B567-4E41-B1D7-0FD967E6F916}" type="slidenum">
              <a:t>60</a:t>
            </a:fld>
          </a:p>
        </p:txBody>
      </p:sp>
    </p:spTree>
  </p:cSld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Грант Президента Р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114720" cy="4475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B15-4FD5-4F2C-98B1-C5C0444CDF26}" type="slidenum">
              <a:t>61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737080" cy="22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54D-D606-45D8-8FB6-4B87B4663E75}" type="slidenum">
              <a:t>62</a:t>
            </a:fld>
          </a:p>
        </p:txBody>
      </p:sp>
    </p:spTree>
  </p:cSld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064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Программа физического воспитания учащихся 1-11 классов, основанная на одном из видов спорта (баскетбол)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ленский М.Я., Литвинов Е.Н., Туркунов Б.И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Ф, 1996 го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Учебные пособ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-4 классы: Лях В.И. «Мой друг – физ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-7 классы: Виленский М.Я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-9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-11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798560" cy="10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101-3EEC-4669-88FC-73417B0D7749}" type="slidenum">
              <a:t>7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З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392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военно-спортивным многоборь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.11. 9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71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полиатл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.12.9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2616120" cy="366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589120" cy="360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733-65B8-40B3-A7A2-123B64A73944}" type="slidenum">
              <a:t>8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, 28.10.0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15.06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  Комитета по физической культуре и спорту Администрации г. Йошкар-Олы за большой вклад в развитие физической культуры, 27.08.0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 Министерства образования РМЭ, 05.12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ственное письмо Министерства образования РМЭ, февраль 200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6C4-F670-4A7C-8239-F94787EE4428}" type="slidenum">
              <a:t>9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8-07T11:44:43Z</dcterms:modified>
  <cp:revision>113</cp:revision>
  <dc:subject/>
  <dc:title>Федерация интернет Образования</dc:title>
</cp:coreProperties>
</file>