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7.png" ContentType="image/png"/>
  <Override PartName="/ppt/media/image30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78.gif" ContentType="image/gif"/>
  <Override PartName="/ppt/media/image123.jpeg" ContentType="image/jpeg"/>
  <Override PartName="/ppt/media/image115.jpeg" ContentType="image/jpeg"/>
  <Override PartName="/ppt/media/image67.png" ContentType="image/png"/>
  <Override PartName="/ppt/media/image134.wmf" ContentType="image/x-wmf"/>
  <Override PartName="/ppt/media/image114.jpeg" ContentType="image/jpeg"/>
  <Override PartName="/ppt/media/image113.jpeg" ContentType="image/jpeg"/>
  <Override PartName="/ppt/media/image109.jpeg" ContentType="image/jpeg"/>
  <Override PartName="/ppt/media/image20.jpeg" ContentType="image/jpeg"/>
  <Override PartName="/ppt/media/image182.jpeg" ContentType="image/jpeg"/>
  <Override PartName="/ppt/media/image117.jpeg" ContentType="image/jpeg"/>
  <Override PartName="/ppt/media/image100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22.png" ContentType="image/png"/>
  <Override PartName="/ppt/media/image111.jpeg" ContentType="image/jpeg"/>
  <Override PartName="/ppt/media/image162.wmf" ContentType="image/x-wmf"/>
  <Override PartName="/ppt/media/image91.jpeg" ContentType="image/jpeg"/>
  <Override PartName="/ppt/media/image110.jpeg" ContentType="image/jpeg"/>
  <Override PartName="/ppt/media/image152.wmf" ContentType="image/x-wmf"/>
  <Override PartName="/ppt/media/image90.jpeg" ContentType="image/jpeg"/>
  <Override PartName="/ppt/media/image105.jpeg" ContentType="image/jpeg"/>
  <Override PartName="/ppt/media/image27.wmf" ContentType="image/x-wmf"/>
  <Override PartName="/ppt/media/image85.jpeg" ContentType="image/jpeg"/>
  <Override PartName="/ppt/media/image103.jpeg" ContentType="image/jpeg"/>
  <Override PartName="/ppt/media/image83.jpeg" ContentType="image/jpeg"/>
  <Override PartName="/ppt/media/image119.jpeg" ContentType="image/jpeg"/>
  <Override PartName="/ppt/media/image192.jpeg" ContentType="image/jpeg"/>
  <Override PartName="/ppt/media/image102.jpeg" ContentType="image/jpeg"/>
  <Override PartName="/ppt/media/image82.jpeg" ContentType="image/jpeg"/>
  <Override PartName="/ppt/media/image79.wmf" ContentType="image/x-wmf"/>
  <Override PartName="/ppt/media/image75.jpeg" ContentType="image/jpeg"/>
  <Override PartName="/ppt/media/image73.jpeg" ContentType="image/jpeg"/>
  <Override PartName="/ppt/media/image15.png" ContentType="image/png"/>
  <Override PartName="/ppt/media/image150.wmf" ContentType="image/x-wmf"/>
  <Override PartName="/ppt/media/image72.jpeg" ContentType="image/jpeg"/>
  <Override PartName="/ppt/media/image140.wmf" ContentType="image/x-wmf"/>
  <Override PartName="/ppt/media/image71.jpeg" ContentType="image/jpeg"/>
  <Override PartName="/ppt/media/image70.jpeg" ContentType="image/jpeg"/>
  <Override PartName="/ppt/media/image68.jpeg" ContentType="image/jpeg"/>
  <Override PartName="/ppt/media/image65.jpeg" ContentType="image/jpeg"/>
  <Override PartName="/ppt/media/image64.jpeg" ContentType="image/jpeg"/>
  <Override PartName="/ppt/media/image63.jpeg" ContentType="image/jpeg"/>
  <Override PartName="/ppt/media/image43.wmf" ContentType="image/x-wmf"/>
  <Override PartName="/ppt/media/image62.jpeg" ContentType="image/jpeg"/>
  <Override PartName="/ppt/media/image33.wmf" ContentType="image/x-wmf"/>
  <Override PartName="/ppt/media/image78.jpeg" ContentType="image/jpeg"/>
  <Override PartName="/ppt/media/image61.jpeg" ContentType="image/jpeg"/>
  <Override PartName="/ppt/media/image108.jpeg" ContentType="image/jpeg"/>
  <Override PartName="/ppt/media/image88.jpeg" ContentType="image/jpeg"/>
  <Override PartName="/ppt/media/image32.wmf" ContentType="image/x-wmf"/>
  <Override PartName="/ppt/media/image29.jpeg" ContentType="image/jpeg"/>
  <Override PartName="/ppt/media/image7.gif" ContentType="image/gif"/>
  <Override PartName="/ppt/media/image159.gif" ContentType="image/gif"/>
  <Override PartName="/ppt/media/image121.jpeg" ContentType="image/jpeg"/>
  <Override PartName="/ppt/media/image104.jpeg" ContentType="image/jpeg"/>
  <Override PartName="/ppt/media/image17.wmf" ContentType="image/x-wmf"/>
  <Override PartName="/ppt/media/image84.jpeg" ContentType="image/jpeg"/>
  <Override PartName="/ppt/media/image25.jpeg" ContentType="image/jpeg"/>
  <Override PartName="/ppt/media/image187.jpeg" ContentType="image/jpeg"/>
  <Override PartName="/ppt/media/image35.gif" ContentType="image/gif"/>
  <Override PartName="/ppt/media/image44.jpeg" ContentType="image/jpeg"/>
  <Override PartName="/ppt/media/image47.jpeg" ContentType="image/jpeg"/>
  <Override PartName="/ppt/media/image8.gif" ContentType="image/gif"/>
  <Override PartName="/ppt/media/image54.jpeg" ContentType="image/jpeg"/>
  <Override PartName="/ppt/media/image153.wmf" ContentType="image/x-wmf"/>
  <Override PartName="/ppt/media/image74.jpeg" ContentType="image/jpeg"/>
  <Override PartName="/ppt/media/image57.jpeg" ContentType="image/jpeg"/>
  <Override PartName="/ppt/media/image183.wmf" ContentType="image/x-wmf"/>
  <Override PartName="/ppt/media/image21.wmf" ContentType="image/x-wmf"/>
  <Override PartName="/ppt/media/image60.jpeg" ContentType="image/jpeg"/>
  <Override PartName="/ppt/media/image46.jpeg" ContentType="image/jpeg"/>
  <Override PartName="/ppt/media/image3.wmf" ContentType="image/x-wmf"/>
  <Override PartName="/ppt/media/image155.wmf" ContentType="image/x-wmf"/>
  <Override PartName="/ppt/media/image194.wmf" ContentType="image/x-wmf"/>
  <Override PartName="/ppt/media/image101.jpeg" ContentType="image/jpeg"/>
  <Override PartName="/ppt/media/image129.wmf" ContentType="image/x-wmf"/>
  <Override PartName="/ppt/media/image175.jpeg" ContentType="image/jpeg"/>
  <Override PartName="/ppt/media/image50.jpeg" ContentType="image/jpeg"/>
  <Override PartName="/ppt/media/image176.gif" ContentType="image/gif"/>
  <Override PartName="/ppt/media/image14.gif" ContentType="image/gif"/>
  <Override PartName="/ppt/media/image98.jpeg" ContentType="image/jpeg"/>
  <Override PartName="/ppt/media/image120.jpeg" ContentType="image/jpeg"/>
  <Override PartName="/ppt/media/image185.wmf" ContentType="image/x-wmf"/>
  <Override PartName="/ppt/media/image136.wmf" ContentType="image/x-wmf"/>
  <Override PartName="/ppt/media/image195.jpeg" ContentType="image/jpeg"/>
  <Override PartName="/ppt/media/image39.jpeg" ContentType="image/jpeg"/>
  <Override PartName="/ppt/media/image128.wmf" ContentType="image/x-wmf"/>
  <Override PartName="/ppt/media/image58.png" ContentType="image/png"/>
  <Override PartName="/ppt/media/image193.wmf" ContentType="image/x-wmf"/>
  <Override PartName="/ppt/media/image40.jpeg" ContentType="image/jpeg"/>
  <Override PartName="/ppt/media/image174.gif" ContentType="image/gif"/>
  <Override PartName="/ppt/media/image12.gif" ContentType="image/gif"/>
  <Override PartName="/ppt/media/image112.jpeg" ContentType="image/jpeg"/>
  <Override PartName="/ppt/media/image137.gif" ContentType="image/gif"/>
  <Override PartName="/ppt/media/image131.jpeg" ContentType="image/jpeg"/>
  <Override PartName="/ppt/media/image172.gif" ContentType="image/gif"/>
  <Override PartName="/ppt/media/image10.gif" ContentType="image/gif"/>
  <Override PartName="/ppt/media/image168.wmf" ContentType="image/x-wmf"/>
  <Override PartName="/ppt/media/image56.jpeg" ContentType="image/jpeg"/>
  <Override PartName="/ppt/media/image173.wmf" ContentType="image/x-wmf"/>
  <Override PartName="/ppt/media/image11.wmf" ContentType="image/x-wmf"/>
  <Override PartName="/ppt/media/image76.jpeg" ContentType="image/jpeg"/>
  <Override PartName="/ppt/media/image177.gif" ContentType="image/gif"/>
  <Override PartName="/ppt/media/image42.jpeg" ContentType="image/jpeg"/>
  <Override PartName="/ppt/media/image179.gif" ContentType="image/gif"/>
  <Override PartName="/ppt/media/image135.wmf" ContentType="image/x-wmf"/>
  <Override PartName="/ppt/media/image81.png" ContentType="image/png"/>
  <Override PartName="/ppt/media/image139.gif" ContentType="image/gif"/>
  <Override PartName="/ppt/media/image191.jpeg" ContentType="image/jpeg"/>
  <Override PartName="/ppt/media/image118.jpeg" ContentType="image/jpeg"/>
  <Override PartName="/ppt/media/image164.wmf" ContentType="image/x-wmf"/>
  <Override PartName="/ppt/media/image141.wmf" ContentType="image/x-wmf"/>
  <Override PartName="/ppt/media/image144.gif" ContentType="image/gif"/>
  <Override PartName="/ppt/media/image130.png" ContentType="image/png"/>
  <Override PartName="/ppt/media/image166.jpeg" ContentType="image/jpeg"/>
  <Override PartName="/ppt/media/image169.wmf" ContentType="image/x-wmf"/>
  <Override PartName="/ppt/media/image158.wmf" ContentType="image/x-wmf"/>
  <Override PartName="/ppt/media/image184.gif" ContentType="image/gif"/>
  <Override PartName="/ppt/media/image170.gif" ContentType="image/gif"/>
  <Override PartName="/ppt/media/image181.gif" ContentType="image/gif"/>
  <Override PartName="/ppt/media/image189.jpeg" ContentType="image/jpeg"/>
  <Override PartName="/ppt/media/image151.wmf" ContentType="image/x-wmf"/>
  <Override PartName="/ppt/media/image148.wmf" ContentType="image/x-wmf"/>
  <Override PartName="/ppt/media/image161.jpeg" ContentType="image/jpeg"/>
  <Override PartName="/ppt/media/image132.jpeg" ContentType="image/jpeg"/>
  <Override PartName="/ppt/media/image142.wmf" ContentType="image/x-wmf"/>
  <Override PartName="/ppt/media/image23.png" ContentType="image/png"/>
  <Override PartName="/ppt/media/image160.gif" ContentType="image/gif"/>
  <Override PartName="/ppt/media/image51.jpeg" ContentType="image/jpeg"/>
  <Override PartName="/ppt/media/image146.wmf" ContentType="image/x-wmf"/>
  <Override PartName="/ppt/media/image154.gif" ContentType="image/gif"/>
  <Override PartName="/ppt/media/image167.jpeg" ContentType="image/jpeg"/>
  <Override PartName="/ppt/media/image149.wmf" ContentType="image/x-wmf"/>
  <Override PartName="/ppt/media/image147.wmf" ContentType="image/x-wmf"/>
  <Override PartName="/ppt/media/image145.wmf" ContentType="image/x-wmf"/>
  <Override PartName="/ppt/media/image26.png" ContentType="image/png"/>
  <Override PartName="/ppt/media/image138.gif" ContentType="image/gif"/>
  <Override PartName="/ppt/media/image55.jpeg" ContentType="image/jpeg"/>
  <Override PartName="/ppt/media/image163.wmf" ContentType="image/x-wmf"/>
  <Override PartName="/ppt/media/image24.wmf" ContentType="image/x-wmf"/>
  <Override PartName="/ppt/media/image186.wmf" ContentType="image/x-wmf"/>
  <Override PartName="/ppt/media/image38.jpeg" ContentType="image/jpeg"/>
  <Override PartName="/ppt/media/image97.jpeg" ContentType="image/jpeg"/>
  <Override PartName="/ppt/media/image53.jpeg" ContentType="image/jpeg"/>
  <Override PartName="/ppt/media/image143.wmf" ContentType="image/x-wmf"/>
  <Override PartName="/ppt/media/image6.gif" ContentType="image/gif"/>
  <Override PartName="/ppt/media/image122.jpeg" ContentType="image/jpeg"/>
  <Override PartName="/ppt/media/image52.jpeg" ContentType="image/jpeg"/>
  <Override PartName="/ppt/media/image133.wmf" ContentType="image/x-wmf"/>
  <Override PartName="/ppt/media/image18.wmf" ContentType="image/x-wmf"/>
  <Override PartName="/ppt/media/image48.jpeg" ContentType="image/jpeg"/>
  <Override PartName="/ppt/media/image77.jpeg" ContentType="image/jpeg"/>
  <Override PartName="/ppt/media/image190.wmf" ContentType="image/x-wmf"/>
  <Override PartName="/ppt/media/image157.wmf" ContentType="image/x-wmf"/>
  <Override PartName="/ppt/media/image5.wmf" ContentType="image/x-wmf"/>
  <Override PartName="/ppt/media/image80.wmf" ContentType="image/x-wmf"/>
  <Override PartName="/ppt/media/image86.jpeg" ContentType="image/jpeg"/>
  <Override PartName="/ppt/media/image106.jpeg" ContentType="image/jpeg"/>
  <Override PartName="/ppt/media/image31.gif" ContentType="image/gif"/>
  <Override PartName="/ppt/media/image9.gif" ContentType="image/gif"/>
  <Override PartName="/ppt/media/image69.jpeg" ContentType="image/jpeg"/>
  <Override PartName="/ppt/media/image13.gif" ContentType="image/gif"/>
  <Override PartName="/ppt/media/image37.jpeg" ContentType="image/jpeg"/>
  <Override PartName="/ppt/media/image49.jpeg" ContentType="image/jpeg"/>
  <Override PartName="/ppt/media/image28.wmf" ContentType="image/x-wmf"/>
  <Override PartName="/ppt/media/image36.jpeg" ContentType="image/jpeg"/>
  <Override PartName="/ppt/media/image2.jpeg" ContentType="image/jpeg"/>
  <Override PartName="/ppt/media/image34.wmf" ContentType="image/x-wmf"/>
  <Override PartName="/ppt/media/image156.wmf" ContentType="image/x-wmf"/>
  <Override PartName="/ppt/media/image4.wmf" ContentType="image/x-wmf"/>
  <Override PartName="/ppt/media/image41.jpeg" ContentType="image/jpeg"/>
  <Override PartName="/ppt/media/image16.wmf" ContentType="image/x-wmf"/>
  <Override PartName="/ppt/media/image66.jpeg" ContentType="image/jpeg"/>
  <Override PartName="/ppt/media/image87.jpeg" ContentType="image/jpeg"/>
  <Override PartName="/ppt/media/image107.jpeg" ContentType="image/jpeg"/>
  <Override PartName="/ppt/media/image180.jpeg" ContentType="image/jpeg"/>
  <Override PartName="/ppt/media/image165.wmf" ContentType="image/x-wmf"/>
  <Override PartName="/ppt/media/image1.jpeg" ContentType="image/jpeg"/>
  <Override PartName="/ppt/media/image89.jpeg" ContentType="image/jpeg"/>
  <Override PartName="/ppt/media/image45.jpeg" ContentType="image/jpeg"/>
  <Override PartName="/ppt/media/image92.jpeg" ContentType="image/jpeg"/>
  <Override PartName="/ppt/media/image19.jpeg" ContentType="image/jpeg"/>
  <Override PartName="/ppt/media/image188.jpeg" ContentType="image/jpeg"/>
  <Override PartName="/ppt/media/image171.gif" ContentType="image/gif"/>
  <Override PartName="/ppt/media/image59.wmf" ContentType="image/x-wmf"/>
  <Override PartName="/ppt/media/image11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124-ED46-4462-8C0F-DE83D6BA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565-9324-4460-87A8-2B5E7401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950-D86D-4087-BE1C-C4D0BF52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0F2-B369-4729-A6BF-1A7BEE98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3A6B-DBBE-471B-875A-FAABD7D7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A64E-965D-4E5D-9E55-ECD12D82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7630-D704-49DC-8439-7798563E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06D4-4A06-4D65-969E-14B2047A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5EB1-FFAA-45FF-B879-08043ECE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87AC-0B65-4AE4-8A1F-96DDCA22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1F46-639E-4A6D-9F8C-876E6FDD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C06-7BBC-45F4-9CDC-FAD7DA30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6FC6-B8B4-46C2-99AA-266C640C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7AC3-D46F-4B47-834F-79CDA44E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BDCA-7936-41DE-A497-82664890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BD48-04D0-44BB-8F57-3D263D4F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1361-62AF-4A46-B6DE-35B145B4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31091-08EA-4A91-9F96-FFD674C7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ABBDC-E88C-4378-BBDF-AB375636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07662-D97E-473E-BC74-A418A2A1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5CEA7-DA1E-4D69-972B-F44BCE9F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36F3C-AC0B-481C-9AF1-59613974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913-6356-4170-B471-1B5F8BFF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C194-0F75-4E98-9ECB-F2B13248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3628-8C97-4EC1-9FA3-770B7043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4B5D-683D-4626-8466-7870F888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0A194-86E7-4A7D-B506-1F14D9A8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B067F-7A66-4F89-83CC-3B814537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A7012-CF91-4B9B-AB61-3BE19542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D8AA8-12BD-41DB-93E7-85141E7B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FBE-1692-4269-97D2-89DCF7D0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96C-CB04-4F7A-991D-ECBABBE3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6227-D2DE-48A4-9906-745A0C8A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2B70-F9CA-4AA9-AEE5-880916B2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D5B-DB88-4539-ACA9-E185CE67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920-4693-4AAE-B795-814720E5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A04B-0B41-400C-9380-D63AFA712A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C11F-FF4F-4D2B-9F0E-56A49D4562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57EE-B8D0-4174-AAE4-4133250D0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2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image" Target="../media/image94.jpeg"/><Relationship Id="rId5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image" Target="../media/image109.jpeg"/><Relationship Id="rId4" Type="http://schemas.openxmlformats.org/officeDocument/2006/relationships/image" Target="../media/image110.jpeg"/><Relationship Id="rId5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image" Target="../media/image116.jpeg"/><Relationship Id="rId3" Type="http://schemas.openxmlformats.org/officeDocument/2006/relationships/image" Target="../media/image117.jpeg"/><Relationship Id="rId4" Type="http://schemas.openxmlformats.org/officeDocument/2006/relationships/image" Target="../media/image118.jpeg"/><Relationship Id="rId5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image" Target="../media/image121.jpeg"/><Relationship Id="rId4" Type="http://schemas.openxmlformats.org/officeDocument/2006/relationships/image" Target="../media/image122.jpeg"/><Relationship Id="rId5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jpe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7.png"/><Relationship Id="rId3" Type="http://schemas.openxmlformats.org/officeDocument/2006/relationships/image" Target="../media/image127.png"/><Relationship Id="rId4" Type="http://schemas.openxmlformats.org/officeDocument/2006/relationships/image" Target="../media/image127.png"/><Relationship Id="rId5" Type="http://schemas.openxmlformats.org/officeDocument/2006/relationships/image" Target="../media/image128.wmf"/><Relationship Id="rId6" Type="http://schemas.openxmlformats.org/officeDocument/2006/relationships/image" Target="../media/image3.wmf"/><Relationship Id="rId7" Type="http://schemas.openxmlformats.org/officeDocument/2006/relationships/image" Target="../media/image129.wmf"/><Relationship Id="rId8" Type="http://schemas.openxmlformats.org/officeDocument/2006/relationships/image" Target="../media/image130.png"/><Relationship Id="rId9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1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wmf"/><Relationship Id="rId3" Type="http://schemas.openxmlformats.org/officeDocument/2006/relationships/image" Target="../media/image134.wmf"/><Relationship Id="rId4" Type="http://schemas.openxmlformats.org/officeDocument/2006/relationships/image" Target="../media/image135.wmf"/><Relationship Id="rId5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gif"/><Relationship Id="rId3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8.gif"/><Relationship Id="rId2" Type="http://schemas.openxmlformats.org/officeDocument/2006/relationships/image" Target="../media/image139.gif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0.wmf"/><Relationship Id="rId2" Type="http://schemas.openxmlformats.org/officeDocument/2006/relationships/image" Target="../media/image141.wmf"/><Relationship Id="rId3" Type="http://schemas.openxmlformats.org/officeDocument/2006/relationships/image" Target="../media/image142.wmf"/><Relationship Id="rId4" Type="http://schemas.openxmlformats.org/officeDocument/2006/relationships/image" Target="../media/image143.wmf"/><Relationship Id="rId5" Type="http://schemas.openxmlformats.org/officeDocument/2006/relationships/image" Target="../media/image144.gif"/><Relationship Id="rId6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5.wmf"/><Relationship Id="rId2" Type="http://schemas.openxmlformats.org/officeDocument/2006/relationships/image" Target="../media/image146.wmf"/><Relationship Id="rId3" Type="http://schemas.openxmlformats.org/officeDocument/2006/relationships/image" Target="../media/image147.wmf"/><Relationship Id="rId4" Type="http://schemas.openxmlformats.org/officeDocument/2006/relationships/image" Target="../media/image148.wmf"/><Relationship Id="rId5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9.wmf"/><Relationship Id="rId2" Type="http://schemas.openxmlformats.org/officeDocument/2006/relationships/image" Target="../media/image150.wmf"/><Relationship Id="rId3" Type="http://schemas.openxmlformats.org/officeDocument/2006/relationships/image" Target="../media/image151.wmf"/><Relationship Id="rId4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52.wmf"/><Relationship Id="rId2" Type="http://schemas.openxmlformats.org/officeDocument/2006/relationships/image" Target="../media/image153.wmf"/><Relationship Id="rId3" Type="http://schemas.openxmlformats.org/officeDocument/2006/relationships/image" Target="../media/image154.gif"/><Relationship Id="rId4" Type="http://schemas.openxmlformats.org/officeDocument/2006/relationships/image" Target="../media/image155.wmf"/><Relationship Id="rId5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6.wmf"/><Relationship Id="rId2" Type="http://schemas.openxmlformats.org/officeDocument/2006/relationships/image" Target="../media/image157.wmf"/><Relationship Id="rId3" Type="http://schemas.openxmlformats.org/officeDocument/2006/relationships/image" Target="../media/image150.wmf"/><Relationship Id="rId4" Type="http://schemas.openxmlformats.org/officeDocument/2006/relationships/image" Target="../media/image158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9.gif"/><Relationship Id="rId3" Type="http://schemas.openxmlformats.org/officeDocument/2006/relationships/image" Target="../media/image160.gif"/><Relationship Id="rId4" Type="http://schemas.openxmlformats.org/officeDocument/2006/relationships/image" Target="../media/image161.jpeg"/><Relationship Id="rId5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2.wmf"/><Relationship Id="rId2" Type="http://schemas.openxmlformats.org/officeDocument/2006/relationships/image" Target="../media/image163.wmf"/><Relationship Id="rId3" Type="http://schemas.openxmlformats.org/officeDocument/2006/relationships/image" Target="../media/image164.wmf"/><Relationship Id="rId4" Type="http://schemas.openxmlformats.org/officeDocument/2006/relationships/image" Target="../media/image165.wmf"/><Relationship Id="rId5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66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7.jpeg"/><Relationship Id="rId2" Type="http://schemas.openxmlformats.org/officeDocument/2006/relationships/image" Target="../media/image168.wmf"/><Relationship Id="rId3" Type="http://schemas.openxmlformats.org/officeDocument/2006/relationships/image" Target="../media/image169.wmf"/><Relationship Id="rId4" Type="http://schemas.openxmlformats.org/officeDocument/2006/relationships/slideLayout" Target="../slideLayouts/slideLayout3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70.gif"/><Relationship Id="rId2" Type="http://schemas.openxmlformats.org/officeDocument/2006/relationships/image" Target="../media/image171.gif"/><Relationship Id="rId3" Type="http://schemas.openxmlformats.org/officeDocument/2006/relationships/image" Target="../media/image172.gif"/><Relationship Id="rId4" Type="http://schemas.openxmlformats.org/officeDocument/2006/relationships/image" Target="../media/image173.wmf"/><Relationship Id="rId5" Type="http://schemas.openxmlformats.org/officeDocument/2006/relationships/image" Target="../media/image174.gif"/><Relationship Id="rId6" Type="http://schemas.openxmlformats.org/officeDocument/2006/relationships/image" Target="../media/image175.jpeg"/><Relationship Id="rId7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6.gif"/><Relationship Id="rId2" Type="http://schemas.openxmlformats.org/officeDocument/2006/relationships/image" Target="../media/image177.gif"/><Relationship Id="rId3" Type="http://schemas.openxmlformats.org/officeDocument/2006/relationships/image" Target="../media/image178.gif"/><Relationship Id="rId4" Type="http://schemas.openxmlformats.org/officeDocument/2006/relationships/image" Target="../media/image179.gif"/><Relationship Id="rId5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81.gif"/><Relationship Id="rId3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2.jpeg"/><Relationship Id="rId2" Type="http://schemas.openxmlformats.org/officeDocument/2006/relationships/image" Target="../media/image183.wmf"/><Relationship Id="rId3" Type="http://schemas.openxmlformats.org/officeDocument/2006/relationships/image" Target="../media/image184.gif"/><Relationship Id="rId4" Type="http://schemas.openxmlformats.org/officeDocument/2006/relationships/image" Target="../media/image185.wmf"/><Relationship Id="rId5" Type="http://schemas.openxmlformats.org/officeDocument/2006/relationships/image" Target="../media/image186.wmf"/><Relationship Id="rId6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87.jpeg"/><Relationship Id="rId2" Type="http://schemas.openxmlformats.org/officeDocument/2006/relationships/image" Target="../media/image188.jpeg"/><Relationship Id="rId3" Type="http://schemas.openxmlformats.org/officeDocument/2006/relationships/image" Target="../media/image189.jpeg"/><Relationship Id="rId4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90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91.jpeg"/><Relationship Id="rId2" Type="http://schemas.openxmlformats.org/officeDocument/2006/relationships/image" Target="../media/image192.jpeg"/><Relationship Id="rId3" Type="http://schemas.openxmlformats.org/officeDocument/2006/relationships/image" Target="../media/image18.wmf"/><Relationship Id="rId4" Type="http://schemas.openxmlformats.org/officeDocument/2006/relationships/image" Target="../media/image159.gif"/><Relationship Id="rId5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93.wmf"/><Relationship Id="rId2" Type="http://schemas.openxmlformats.org/officeDocument/2006/relationships/image" Target="../media/image194.wmf"/><Relationship Id="rId3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9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685800"/>
            <a:ext cx="6408720" cy="55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95EAE-A210-40D0-89DA-16BB29E457C5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7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Футбол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как составляюща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здорового образа жизн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84480" y="4724280"/>
            <a:ext cx="1441440" cy="1729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8360" y="4869000"/>
            <a:ext cx="2016000" cy="1533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55640" y="347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МЕТОДИЧЕСКАЯ ТЕ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877080" y="4941720"/>
            <a:ext cx="1871640" cy="14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3E173-A18E-4705-8F44-5A57B55B093E}" type="slidenum">
              <a:t>10</a:t>
            </a:fld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219640" y="836640"/>
            <a:ext cx="367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Ничто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не дает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так дёшево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и не ценит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так дорог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ка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здоровье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659480" cy="54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71C1A-2950-45F5-8598-E64819670D63}" type="slidenum">
              <a:t>11</a:t>
            </a:fld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189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Степанов Владимир Викторо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1341360"/>
            <a:ext cx="42480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5 года ро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ние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сшее, 1993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дагогический ст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ты – 3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дёт занятия 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тболу в ЦДОД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группа - 1992-93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группа - 1995-96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нер по футбо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ортив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клас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Ш №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68360" y="1341360"/>
            <a:ext cx="3664080" cy="5040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08720" y="5300640"/>
            <a:ext cx="1513080" cy="129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1C121-B7AA-45A3-9F4E-EF2AFBF3A52E}" type="slidenum">
              <a:t>12</a:t>
            </a:fld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6120000" cy="529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F05A5-FEFF-48F6-B96D-DCFF98CE6FE6}" type="slidenum">
              <a:t>13</a:t>
            </a:fld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76280"/>
            <a:ext cx="698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360" y="2565360"/>
            <a:ext cx="74880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255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ОВАНИЕ</a:t>
            </a:r>
            <a:endParaRPr b="0" lang="en-US" sz="7200" spc="1" strike="noStrike">
              <a:ln w="255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932360" y="620640"/>
            <a:ext cx="3168720" cy="277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E665C-162E-4979-B17C-9A475D4CBAB7}" type="slidenum">
              <a:t>14</a:t>
            </a:fld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624720" cy="475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195640" y="18900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ысше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380360" y="133200"/>
            <a:ext cx="1168200" cy="108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7DD55-8683-4E69-AE0C-551634B6993F}" type="slidenum">
              <a:t>15</a:t>
            </a:fld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907920"/>
            <a:ext cx="806436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урсы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овышения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валификации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1631880" cy="1655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093080" y="620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850EE-B107-4921-B533-0A0396F35064}" type="slidenum">
              <a:t>16</a:t>
            </a:fld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По специальност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544032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изкультурно-оздоровительные технолог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оздоровление учащихся средствами физической культуры и с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84720" y="1628640"/>
            <a:ext cx="2571840" cy="3529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2563560" cy="3672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492360" y="2492280"/>
            <a:ext cx="2232000" cy="21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C5308-804C-45CB-8F11-74A7D1034F13}" type="slidenum">
              <a:t>17</a:t>
            </a:fld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50920" y="2708280"/>
            <a:ext cx="87138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АМООБРАЗОВ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020000" y="5084640"/>
            <a:ext cx="1439640" cy="1141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2101680" cy="1349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659640" y="333360"/>
            <a:ext cx="2016000" cy="1717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55640" y="404640"/>
            <a:ext cx="1003320" cy="17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7DEA8-2280-43F7-A8A1-82FACD5DE0D8}" type="slidenum">
              <a:t>18</a:t>
            </a:fld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гус Ж., «Шаг за шаго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ванов В.К., «Центральный круг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Липатов В.Г., «Правила игры в футбо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Лобановский В.В., «Бесконечный матч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тто И.А., «Это футбо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атини М., «Жизнь как матч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онедельник В.В., «Штрафная площадка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ассо Э., «Футбольный тренер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ушков М.П., «Футбольный театр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Фесуненко И.С., «Чаша Маракан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Филатов Л.И., «Тайна «Золотой богини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Харви Г., «Футбол для начинающих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Шумахер Т., «Свисток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Еженедельники «Футбо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EF22E-2A72-4E45-A485-8F393548C236}" type="slidenum">
              <a:t>19</a:t>
            </a:fld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2924280"/>
            <a:ext cx="849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993300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9933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447640" cy="20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9E4A-C800-4B55-955E-B2803DB3E47F}" type="slidenum">
              <a:t>2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26920" y="2060640"/>
            <a:ext cx="77058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Грамоты 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Благодарности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Награждения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584000" cy="1346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316640" y="333360"/>
            <a:ext cx="1387800" cy="14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76793-6178-4D42-B9A2-8AB526C3F87D}" type="slidenum">
              <a:t>20</a:t>
            </a:fld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76720" y="1773360"/>
            <a:ext cx="2593800" cy="3671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2548080" cy="3671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227640" y="1773360"/>
            <a:ext cx="2586240" cy="3671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9640" y="33336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омитет по физической культуре и спор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дминистрации городского округа «Город Йошкар-Ол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558972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рт 2006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6093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За большой вклад в развитие детского фут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BF9FD-0002-4830-85C3-6A8CD119549E}" type="slidenum">
              <a:t>21</a:t>
            </a:fld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4000" y="2276640"/>
            <a:ext cx="446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добросовест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в систе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воспит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рост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2744640" cy="381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24000" y="18900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правление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дминистрации городского округ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Город Йошкар-Ол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6360" y="611352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тябрь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3E5F4-D7C4-4982-BE14-E4A354D00C38}" type="slidenum">
              <a:t>22</a:t>
            </a:fld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79280" y="1717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 ноябре 2006 го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редставл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 г. Йошкар-О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на соискание стипенди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«Для детских тренеров и организаторов физкультурно-воспитательной работы по месту жительства»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учреждённой Российским благотворительным фондом спортивных программ «Новое поколение»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411280" y="4437000"/>
            <a:ext cx="4248360" cy="212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39E8-8985-49B0-9595-1AF375CA6FD5}" type="slidenum">
              <a:t>23</a:t>
            </a:fld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5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95280" y="333360"/>
            <a:ext cx="84978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ОТКРЫТЫЕ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МЕРОПРИЯТИЯ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2455920" cy="28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CA131-684A-4771-9278-3F5C97384B57}" type="slidenum">
              <a:t>24</a:t>
            </a:fld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5772240" cy="3795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24000" y="189000"/>
            <a:ext cx="81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Рождественский турни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по футболу на снег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среди дворовых коман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88000" y="3500280"/>
            <a:ext cx="20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Янв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006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59640" y="5589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мбатх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ADD77-75B9-4E2F-90C7-CE4A8B87FD50}" type="slidenum">
              <a:t>25</a:t>
            </a:fld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103640" cy="2641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4680000" cy="2990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788000" y="692280"/>
            <a:ext cx="3887640" cy="25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4727-14B6-4A8F-81CB-E2E099F5F914}" type="slidenum">
              <a:t>26</a:t>
            </a:fld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840720" cy="4438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50920" y="2556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Весенний кубок по мини-футбол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32000" y="59911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т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7ADCF-50D4-4823-9CC0-E3188C525D55}" type="slidenum">
              <a:t>27</a:t>
            </a:fld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103640" cy="2754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716360" y="404640"/>
            <a:ext cx="4103640" cy="2698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959280" cy="2638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716360" y="3645000"/>
            <a:ext cx="4032360" cy="265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95070-4382-489E-9FCE-3A4C85E48245}" type="slidenum">
              <a:t>28</a:t>
            </a:fld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1822320" cy="3200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673440" cy="2550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3635280" cy="2513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067280" y="3429000"/>
            <a:ext cx="4522680" cy="304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C6161-BB7F-4373-94A5-171B81166080}" type="slidenum">
              <a:t>29</a:t>
            </a:fld>
          </a:p>
        </p:txBody>
      </p:sp>
    </p:spTree>
  </p:cSld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360" y="2492280"/>
            <a:ext cx="82072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Творчески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тчё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0" y="566100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г. Йошкар-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7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64000" y="189000"/>
            <a:ext cx="2376360" cy="204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8A11B-FB5D-48C6-9FF5-8EF2A3F41B14}" type="slidenum">
              <a:t>3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4360" y="2635560"/>
            <a:ext cx="7848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Показатели и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результаты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деятельности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43512-AC9B-4984-9431-5F30D82AA9B3}" type="slidenum">
              <a:t>30</a:t>
            </a:fld>
          </a:p>
        </p:txBody>
      </p:sp>
    </p:spTree>
  </p:cSld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0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716000" y="692280"/>
            <a:ext cx="42483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Городские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соревнов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3630600" cy="5256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435640" y="3213000"/>
            <a:ext cx="3024000" cy="21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D90F4-258B-4587-A71F-EB8B90BB033E}" type="slidenum">
              <a:t>31</a:t>
            </a:fld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2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3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560680" cy="3600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84360" y="57340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ладшая групп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33336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Городской турнир на призы клуба «Кожаный мяч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2633760" cy="3671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443640" y="57340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редняя групп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3640" y="595008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Июнь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2997360"/>
            <a:ext cx="307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19192-BB9F-460D-BB13-5CC27DDB9C8D}" type="slidenum">
              <a:t>32</a:t>
            </a:fld>
          </a:p>
        </p:txBody>
      </p:sp>
    </p:spTree>
  </p:cSld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042920" y="357336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4716360" y="357336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859280" y="404640"/>
            <a:ext cx="3816360" cy="286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44CD4-5623-493F-9012-D2A60F0B6ABA}" type="slidenum">
              <a:t>33</a:t>
            </a:fld>
          </a:p>
        </p:txBody>
      </p:sp>
    </p:spTree>
  </p:cSld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0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417640" y="555480"/>
            <a:ext cx="34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Победа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273560" cy="5977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940360" y="2133720"/>
            <a:ext cx="2400480" cy="36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3E41E-E283-4FE9-A950-4382FBF9D822}" type="slidenum">
              <a:t>34</a:t>
            </a:fld>
          </a:p>
        </p:txBody>
      </p:sp>
    </p:spTree>
  </p:cSld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0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2144520" cy="3024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8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Растафари - 200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659640" y="3068640"/>
            <a:ext cx="2066760" cy="3025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614760" y="3068640"/>
            <a:ext cx="2136600" cy="3024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39640" y="2060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афон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1557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рафон -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43640" y="2060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афон -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92360" y="213372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I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мест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19640" y="6184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вгуст 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A3210-1AEF-4D3F-A12F-E9859FFC7ED6}" type="slidenum">
              <a:t>35</a:t>
            </a:fld>
          </a:p>
        </p:txBody>
      </p:sp>
    </p:spTree>
  </p:cSld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572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День физкультур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2544840" cy="34574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476360" y="59500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08.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651640" y="1700280"/>
            <a:ext cx="2520720" cy="3457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012000" y="59500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03.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63640" y="5300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2360" y="18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Спорт-экспрес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Йошкар-О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8560" y="5300640"/>
            <a:ext cx="14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46F22-4AFC-4502-A11D-26951810B972}" type="slidenum">
              <a:t>36</a:t>
            </a:fld>
          </a:p>
        </p:txBody>
      </p:sp>
    </p:spTree>
  </p:cSld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ервенство города среди школьник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о мини-футбол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997080" cy="432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42A13-B905-480B-A97F-81B952A7BCB6}" type="slidenum">
              <a:t>37</a:t>
            </a:fld>
          </a:p>
        </p:txBody>
      </p:sp>
    </p:spTree>
  </p:cSld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700360" y="3357720"/>
            <a:ext cx="3889440" cy="30445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1893960" cy="2808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877080" y="1989000"/>
            <a:ext cx="1967040" cy="28101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492360" y="2349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ен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«Марафон – 28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49417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пит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93080" y="494172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атар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1964B-9294-46C5-9E8A-B5FB277CD12A}" type="slidenum">
              <a:t>38</a:t>
            </a:fld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0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932360" y="3068640"/>
            <a:ext cx="4032360" cy="2940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3960720" cy="2984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79280" y="62928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Победители!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7236000" y="333360"/>
            <a:ext cx="146196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7A275-FD40-41EB-95FA-8BD3D09C0970}" type="slidenum">
              <a:t>39</a:t>
            </a:fld>
          </a:p>
        </p:txBody>
      </p:sp>
    </p:spTree>
  </p:cSld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640" y="765000"/>
            <a:ext cx="741672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Центр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дополнительного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бразования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детей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5877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004 - 2006 г.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48360" y="515772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9640" y="5084640"/>
            <a:ext cx="1728720" cy="1282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1728720" cy="1282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877080" y="333360"/>
            <a:ext cx="1800360" cy="133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B4B6E-5132-440A-9AC3-30174E7A2122}" type="slidenum">
              <a:t>4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Республиканские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турнир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771640" y="2492280"/>
          <a:ext cx="3541680" cy="360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492280"/>
                    <a:ext cx="354168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15FD9-8455-41AC-98F5-9E1D7588D0D4}" type="slidenum">
              <a:t>40</a:t>
            </a:fld>
          </a:p>
        </p:txBody>
      </p:sp>
    </p:spTree>
  </p:cSld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0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Турнир на призы клуба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«Кожаный мяч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501300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2 место по РМ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5904000" cy="1800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948360" y="2924280"/>
            <a:ext cx="174780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4209D-44DD-4927-B097-A731025549B5}" type="slidenum">
              <a:t>41</a:t>
            </a:fld>
          </a:p>
        </p:txBody>
      </p:sp>
    </p:spTree>
  </p:cSld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0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79280" y="3933720"/>
            <a:ext cx="748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Российские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соревновани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C3457-874F-4369-B22B-1903358F2F13}" type="slidenum">
              <a:t>42</a:t>
            </a:fld>
          </a:p>
        </p:txBody>
      </p:sp>
    </p:spTree>
  </p:cSld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0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911680" cy="43210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624560" y="1413000"/>
            <a:ext cx="4268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урни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город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волж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 приз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Д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 Спортив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осси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58920" y="6021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Нижний Новгород,  март 2006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2360" y="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CB4B5-7200-44F1-BD4E-04AD28D5B1A3}" type="slidenum">
              <a:t>43</a:t>
            </a:fld>
          </a:p>
        </p:txBody>
      </p:sp>
    </p:spTree>
  </p:cSld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0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1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9" dur="10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560" y="2420640"/>
            <a:ext cx="302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урнир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городов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волжья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372360" y="2205000"/>
            <a:ext cx="2328840" cy="3240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55840" y="6087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492360" y="2205000"/>
            <a:ext cx="2365560" cy="3311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327480" y="333360"/>
            <a:ext cx="498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88000" y="5805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Август 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2376720" cy="14162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27240" y="50846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г. Шумер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6B627-1C36-4DFE-99A5-84C9E8B32580}" type="slidenum">
              <a:t>44</a:t>
            </a:fld>
          </a:p>
        </p:txBody>
      </p:sp>
    </p:spTree>
  </p:cSld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0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4039920" cy="568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148360" y="758880"/>
            <a:ext cx="3456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Всероссийск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ональны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урни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н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риз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клуб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«Кожаный мяч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юль 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12E17-6D42-483B-8F4A-F0FC23FD6159}" type="slidenum">
              <a:t>45</a:t>
            </a:fld>
          </a:p>
        </p:txBody>
      </p:sp>
    </p:spTree>
  </p:cSld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0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0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10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272360" cy="54532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826920" y="5950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7-23 июля 2006 года - Стадион «Строител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63DFC-03F3-4877-A915-E3E52B2A80F7}" type="slidenum">
              <a:t>46</a:t>
            </a:fld>
          </a:p>
        </p:txBody>
      </p:sp>
    </p:spTree>
  </p:cSld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fill="hold">
                      <p:stCondLst>
                        <p:cond delay="0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971640" y="907920"/>
            <a:ext cx="7272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ФОТОРЕПОРТАЖ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орреспондента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газеты 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"Йошкар-Ола"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Андрея Антонова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1270080" cy="11937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44144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C52E2-8351-4340-860B-5597E6749B26}" type="slidenum">
              <a:t>47</a:t>
            </a:fld>
          </a:p>
        </p:txBody>
      </p:sp>
    </p:spTree>
  </p:cSld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0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932360" y="423720"/>
            <a:ext cx="3816360" cy="2772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3745080" cy="2862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889440" cy="28461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11280" y="404640"/>
            <a:ext cx="374472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C8EE0-38DF-4E83-AE15-7DD2B747BBA5}" type="slidenum">
              <a:t>48</a:t>
            </a:fld>
          </a:p>
        </p:txBody>
      </p:sp>
    </p:spTree>
  </p:cSld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fill="hold">
                      <p:stCondLst>
                        <p:cond delay="0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afterEffect" fill="hold" presetClass="entr" presetID="3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888000" cy="2846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807000" cy="28558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468360" y="3591000"/>
            <a:ext cx="3949560" cy="29620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4932360" y="3573360"/>
            <a:ext cx="3816360" cy="296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F469F-DFA0-4AC6-A618-4A7A85A377FE}" type="slidenum">
              <a:t>49</a:t>
            </a:fld>
          </a:p>
        </p:txBody>
      </p:sp>
    </p:spTree>
  </p:cSld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0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95280" y="836640"/>
            <a:ext cx="835344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тепан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лади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икторови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AE097-CAE4-48C9-BB0A-0153DD7FB7FD}" type="slidenum">
              <a:t>5</a:t>
            </a:fld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814560" cy="2808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4932360" y="364500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8D793-E2A7-44EC-8767-F8406C4C7391}" type="slidenum">
              <a:t>50</a:t>
            </a:fld>
          </a:p>
        </p:txBody>
      </p:sp>
    </p:spTree>
  </p:cSld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745080" cy="2736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003640" y="366084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7D9C9-EAD6-4698-84A3-0EE3606A49C0}" type="slidenum">
              <a:t>51</a:t>
            </a:fld>
          </a:p>
        </p:txBody>
      </p:sp>
    </p:spTree>
  </p:cSld>
  <p:timing>
    <p:tnLst>
      <p:par>
        <p:cTn id="1772" dur="indefinite" restart="never" nodeType="tmRoot">
          <p:childTnLst>
            <p:seq>
              <p:cTn id="1773" dur="indefinite" nodeType="mainSeq">
                <p:childTnLst>
                  <p:par>
                    <p:cTn id="1774" fill="hold">
                      <p:stCondLst>
                        <p:cond delay="0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539640" y="3627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4932360" y="3645000"/>
            <a:ext cx="3807000" cy="285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3EBC6-8531-482E-AE27-3E79A2F9F8D8}" type="slidenum">
              <a:t>52</a:t>
            </a:fld>
          </a:p>
        </p:txBody>
      </p:sp>
    </p:spTree>
  </p:cSld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0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878280" cy="29084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4859280" y="40464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2589A-8DFC-476E-845B-98798D671C76}" type="slidenum">
              <a:t>53</a:t>
            </a:fld>
          </a:p>
        </p:txBody>
      </p:sp>
    </p:spTree>
  </p:cSld>
  <p:timing>
    <p:tnLst>
      <p:par>
        <p:cTn id="1834" dur="indefinite" restart="never" nodeType="tmRoot">
          <p:childTnLst>
            <p:seq>
              <p:cTn id="1835" dur="indefinite" nodeType="mainSeq">
                <p:childTnLst>
                  <p:par>
                    <p:cTn id="1836" fill="hold">
                      <p:stCondLst>
                        <p:cond delay="0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745080" cy="28101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3745080" cy="2810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745080" cy="27385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4932360" y="3716280"/>
            <a:ext cx="3673440" cy="275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6223F-21F5-42BF-B3DA-24F256E57AD4}" type="slidenum">
              <a:t>54</a:t>
            </a:fld>
          </a:p>
        </p:txBody>
      </p:sp>
    </p:spTree>
  </p:cSld>
  <p:timing>
    <p:tnLst>
      <p:par>
        <p:cTn id="1865" dur="indefinite" restart="never" nodeType="tmRoot">
          <p:childTnLst>
            <p:seq>
              <p:cTn id="1866" dur="indefinite" nodeType="mainSeq">
                <p:childTnLst>
                  <p:par>
                    <p:cTn id="1867" fill="hold">
                      <p:stCondLst>
                        <p:cond delay="0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672000" cy="2736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4788000" y="364500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A48A7-6D58-4725-8F02-8520B8B14EA6}" type="slidenum">
              <a:t>55</a:t>
            </a:fld>
          </a:p>
        </p:txBody>
      </p:sp>
    </p:spTree>
  </p:cSld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0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2556000" y="3573360"/>
            <a:ext cx="4022640" cy="301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489FB-9BFB-43BD-B280-84781C97A440}" type="slidenum">
              <a:t>56</a:t>
            </a:fld>
          </a:p>
        </p:txBody>
      </p:sp>
    </p:spTree>
  </p:cSld>
  <p:timing>
    <p:tnLst>
      <p:par>
        <p:cTn id="1927" dur="indefinite" restart="never" nodeType="tmRoot">
          <p:childTnLst>
            <p:seq>
              <p:cTn id="1928" dur="indefinite" nodeType="mainSeq">
                <p:childTnLst>
                  <p:par>
                    <p:cTn id="1929" fill="hold">
                      <p:stCondLst>
                        <p:cond delay="0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256360" cy="37544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24000" y="15336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ННОВАЦИОННА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32000" y="551664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ДЕЯТЕЛЬНОСТ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43F1A-BAEA-4790-9F87-125E3B251D93}" type="slidenum">
              <a:t>57</a:t>
            </a:fld>
          </a:p>
        </p:txBody>
      </p:sp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0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8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3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5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68360" y="155736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Спортивный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класс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6732720" y="476280"/>
            <a:ext cx="1073160" cy="1197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6"/>
          <a:stretch/>
        </p:blipFill>
        <p:spPr>
          <a:xfrm>
            <a:off x="7093080" y="4365720"/>
            <a:ext cx="1631880" cy="1800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7"/>
          <a:stretch/>
        </p:blipFill>
        <p:spPr>
          <a:xfrm>
            <a:off x="468360" y="4076640"/>
            <a:ext cx="1616040" cy="2016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619280" y="434880"/>
            <a:ext cx="1584360" cy="127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51F38-ED1B-4FE5-91F5-163827626713}" type="slidenum">
              <a:t>58</a:t>
            </a:fld>
          </a:p>
        </p:txBody>
      </p:sp>
    </p:spTree>
  </p:cSld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276720" y="4653000"/>
            <a:ext cx="54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 1 сентября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Трен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футбольного 6 кл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школы № 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203640" y="333360"/>
            <a:ext cx="5400720" cy="404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A0B-77AF-4D74-AE92-18D104DBAE5C}" type="slidenum">
              <a:t>59</a:t>
            </a:fld>
          </a:p>
        </p:txBody>
      </p:sp>
    </p:spTree>
  </p:cSld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0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5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Физическая культур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4427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ичто та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ильно не разрушает человека, как продолжитель-ное физическое бездействие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Аристо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427640" y="1268280"/>
            <a:ext cx="4176720" cy="3992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237440" y="4437000"/>
            <a:ext cx="1359000" cy="13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C284F-14A8-457F-98C7-6756539EC743}" type="slidenum">
              <a:t>6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Директор школ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горный Сергей Ивано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иректор высшей категор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301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BCF7-2FB0-4EEE-880C-319FBB8C0F5E}" type="slidenum">
              <a:t>60</a:t>
            </a:fld>
          </a:p>
        </p:txBody>
      </p:sp>
    </p:spTree>
  </p:cSld>
  <p:timing>
    <p:tnLst>
      <p:par>
        <p:cTn id="2029" dur="indefinite" restart="never" nodeType="tmRoot">
          <p:childTnLst>
            <p:seq>
              <p:cTn id="2030" dur="indefinite" nodeType="mainSeq">
                <p:childTnLst>
                  <p:par>
                    <p:cTn id="2031" fill="hold">
                      <p:stCondLst>
                        <p:cond delay="0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132000" y="1413000"/>
            <a:ext cx="5546880" cy="37274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348000" y="537372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«Марафон - 28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84720" y="333360"/>
            <a:ext cx="33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Коман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381D-DB43-4BEE-84E2-85837A4F03AD}" type="slidenum">
              <a:t>61</a:t>
            </a:fld>
          </a:p>
        </p:txBody>
      </p:sp>
    </p:spTree>
  </p:cSld>
  <p:timing>
    <p:tnLst>
      <p:par>
        <p:cTn id="2061" dur="indefinite" restart="never" nodeType="tmRoot">
          <p:childTnLst>
            <p:seq>
              <p:cTn id="2062" dur="indefinite" nodeType="mainSeq">
                <p:childTnLst>
                  <p:par>
                    <p:cTn id="2063" fill="hold">
                      <p:stCondLst>
                        <p:cond delay="0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5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0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1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71640" y="620640"/>
            <a:ext cx="74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Тренер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воспитатель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друг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95280" y="4869000"/>
            <a:ext cx="1503360" cy="1584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084320" cy="1297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7451640" y="549360"/>
            <a:ext cx="1079640" cy="13446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1811520" cy="14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C5F5C-477B-4899-8E5B-E83C8D1D4E28}" type="slidenum">
              <a:t>62</a:t>
            </a:fld>
          </a:p>
        </p:txBody>
      </p:sp>
    </p:spTree>
  </p:cSld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0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1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4" dur="2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2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6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2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2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1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68360" y="765000"/>
            <a:ext cx="813600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жеднев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вухразов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рениров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882800" cy="2374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726920" cy="164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74324-BC03-41AF-AF89-E2926495197C}" type="slidenum">
              <a:t>63</a:t>
            </a:fld>
          </a:p>
        </p:txBody>
      </p:sp>
    </p:spTree>
  </p:cSld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907920"/>
            <a:ext cx="7993080" cy="547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оретическ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нят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948360" y="4005360"/>
            <a:ext cx="1873440" cy="2466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440000" cy="119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63122-4907-4517-8410-B5CFF58671E8}" type="slidenum">
              <a:t>64</a:t>
            </a:fld>
          </a:p>
        </p:txBody>
      </p:sp>
    </p:spTree>
  </p:cSld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24000" y="430200"/>
            <a:ext cx="1965240" cy="1628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1942920" cy="16686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427640" y="4869000"/>
            <a:ext cx="1500120" cy="1611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395280" y="0"/>
            <a:ext cx="7921800" cy="638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о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списанию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611280" y="2924280"/>
            <a:ext cx="1224000" cy="12189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7020000" y="404640"/>
            <a:ext cx="1511280" cy="89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05936-3EC1-41E4-8FB0-E684EC1148F6}" type="slidenum">
              <a:t>65</a:t>
            </a:fld>
          </a:p>
        </p:txBody>
      </p:sp>
    </p:spTree>
  </p:cSld>
  <p:timing>
    <p:tnLst>
      <p:par>
        <p:cTn id="2184" dur="indefinite" restart="never" nodeType="tmRoot">
          <p:childTnLst>
            <p:seq>
              <p:cTn id="2185" dur="indefinite" nodeType="mainSeq">
                <p:childTnLst>
                  <p:par>
                    <p:cTn id="2186" fill="hold">
                      <p:stCondLst>
                        <p:cond delay="0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692360" y="54936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7287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-396720" y="1700280"/>
            <a:ext cx="900108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рупп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длённог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н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6156360" y="4378320"/>
            <a:ext cx="2519280" cy="17859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539640" y="5084640"/>
            <a:ext cx="1944720" cy="14065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6732720" y="260280"/>
            <a:ext cx="1511280" cy="150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2AF78-9784-4F52-B548-3C5DF2D7C9E0}" type="slidenum">
              <a:t>66</a:t>
            </a:fld>
          </a:p>
        </p:txBody>
      </p:sp>
    </p:spTree>
  </p:cSld>
  <p:timing>
    <p:tnLst>
      <p:par>
        <p:cTn id="2233" dur="indefinite" restart="never" nodeType="tmRoot">
          <p:childTnLst>
            <p:seq>
              <p:cTn id="2234" dur="indefinite" nodeType="mainSeq">
                <p:childTnLst>
                  <p:par>
                    <p:cTn id="2235" fill="hold">
                      <p:stCondLst>
                        <p:cond delay="0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0" y="765000"/>
            <a:ext cx="817236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некласс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ероприят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211640" y="5013360"/>
            <a:ext cx="1728720" cy="14842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6588000" y="4962600"/>
            <a:ext cx="2165400" cy="16002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900000" y="404640"/>
            <a:ext cx="1160640" cy="139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B2CDD-B312-4819-9700-1E05BDA029AB}" type="slidenum">
              <a:t>67</a:t>
            </a:fld>
          </a:p>
        </p:txBody>
      </p:sp>
    </p:spTree>
  </p:cSld>
  <p:timing>
    <p:tnLst>
      <p:par>
        <p:cTn id="2274" dur="indefinite" restart="never" nodeType="tmRoot">
          <p:childTnLst>
            <p:seq>
              <p:cTn id="2275" dur="indefinite" nodeType="mainSeq">
                <p:childTnLst>
                  <p:par>
                    <p:cTn id="2276" fill="hold">
                      <p:stCondLst>
                        <p:cond delay="0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948360" y="4653000"/>
            <a:ext cx="1863720" cy="18493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779480" cy="1838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1900080" cy="16653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547640" y="1125360"/>
            <a:ext cx="60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п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настольном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теннис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E0219-F11E-446A-91D0-BF0A592EE36E}" type="slidenum">
              <a:t>68</a:t>
            </a:fld>
          </a:p>
        </p:txBody>
      </p:sp>
    </p:spTree>
  </p:cSld>
  <p:timing>
    <p:tnLst>
      <p:par>
        <p:cTn id="2307" dur="indefinite" restart="never" nodeType="tmRoot">
          <p:childTnLst>
            <p:seq>
              <p:cTn id="2308" dur="indefinite" nodeType="mainSeq">
                <p:childTnLst>
                  <p:par>
                    <p:cTn id="2309" fill="hold">
                      <p:stCondLst>
                        <p:cond delay="0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5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9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1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3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68360" y="290520"/>
            <a:ext cx="1763640" cy="1071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7093080" y="5141880"/>
            <a:ext cx="1800000" cy="13921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905120" y="1268280"/>
            <a:ext cx="5403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п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бильярд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7020000" y="40464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395280" y="4724280"/>
            <a:ext cx="1730520" cy="171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F4F9E-BD37-45B8-A473-251ACA5EA2F2}" type="slidenum">
              <a:t>69</a:t>
            </a:fld>
          </a:p>
        </p:txBody>
      </p:sp>
    </p:spTree>
  </p:cSld>
  <p:timing>
    <p:tnLst>
      <p:par>
        <p:cTn id="2366" dur="indefinite" restart="never" nodeType="tmRoot">
          <p:childTnLst>
            <p:seq>
              <p:cTn id="2367" dur="indefinite" nodeType="mainSeq">
                <p:childTnLst>
                  <p:par>
                    <p:cTn id="2368" fill="hold">
                      <p:stCondLst>
                        <p:cond delay="0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0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6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Физическое воспит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643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Недостаточно закалять душу ребёнка, столь же необходимо закалять и его мышц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. Монтен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27840" y="3927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066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E2065-F307-419E-99B1-DAA8748997A9}" type="slidenum">
              <a:t>7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905120" y="1268280"/>
            <a:ext cx="5403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п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футбол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800360" cy="13734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1612800" cy="16286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468360" y="4508640"/>
            <a:ext cx="1503360" cy="18716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7102440" y="4724280"/>
            <a:ext cx="1590840" cy="17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DD015-7646-4EC6-AD69-504E545277E9}" type="slidenum">
              <a:t>70</a:t>
            </a:fld>
          </a:p>
        </p:txBody>
      </p:sp>
    </p:spTree>
  </p:cSld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0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5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7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1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3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7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9" dur="1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fill="hold">
                      <p:stCondLst>
                        <p:cond delay="indefinite"/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547640" y="4005360"/>
            <a:ext cx="26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35280" y="981000"/>
            <a:ext cx="558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Стрельб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и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боевог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оруж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732720" y="4651200"/>
            <a:ext cx="2016000" cy="16718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7236000" y="404640"/>
            <a:ext cx="1393560" cy="2087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1303200" cy="21067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539640" y="620640"/>
            <a:ext cx="1581120" cy="15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FC4E8-B352-447D-AA7E-8B235EC360AB}" type="slidenum">
              <a:t>71</a:t>
            </a:fld>
          </a:p>
        </p:txBody>
      </p:sp>
    </p:spTree>
  </p:cSld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fill="hold">
                      <p:stCondLst>
                        <p:cond delay="0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1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950"/>
                            </p:stCondLst>
                            <p:childTnLst>
                              <p:par>
                                <p:cTn id="2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5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7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1950"/>
                            </p:stCondLst>
                            <p:childTnLst>
                              <p:par>
                                <p:cTn id="2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1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3" dur="1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4" fill="hold">
                            <p:stCondLst>
                              <p:cond delay="2950"/>
                            </p:stCondLst>
                            <p:childTnLst>
                              <p:par>
                                <p:cTn id="2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9" dur="1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3950"/>
                            </p:stCondLst>
                            <p:childTnLst>
                              <p:par>
                                <p:cTn id="2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5" dur="1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547640" y="4005360"/>
            <a:ext cx="26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42920" y="0"/>
            <a:ext cx="73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 шашкам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688000" cy="40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F2D4A-0811-4017-8C7F-4BF501087A6A}" type="slidenum">
              <a:t>72</a:t>
            </a:fld>
          </a:p>
        </p:txBody>
      </p:sp>
    </p:spTree>
  </p:cSld>
  <p:timing>
    <p:tnLst>
      <p:par>
        <p:cTn id="2538" dur="indefinite" restart="never" nodeType="tmRoot">
          <p:childTnLst>
            <p:seq>
              <p:cTn id="2539" dur="indefinite" nodeType="mainSeq">
                <p:childTnLst>
                  <p:par>
                    <p:cTn id="2540" fill="hold">
                      <p:stCondLst>
                        <p:cond delay="0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950"/>
                            </p:stCondLst>
                            <p:childTnLst>
                              <p:par>
                                <p:cTn id="2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1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3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1950"/>
                            </p:stCondLst>
                            <p:childTnLst>
                              <p:par>
                                <p:cTn id="2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7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268360" y="333360"/>
            <a:ext cx="6407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3300"/>
                </a:solidFill>
                <a:latin typeface="Times New Roman"/>
              </a:rPr>
              <a:t>Ледовый Дворец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632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Катание на коньк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Посещение хоккейных матч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6049800" cy="29019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1655640" cy="15066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132084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0D43D-E701-40FB-B630-7DF8B8A7D01A}" type="slidenum">
              <a:t>73</a:t>
            </a:fld>
          </a:p>
        </p:txBody>
      </p:sp>
    </p:spTree>
  </p:cSld>
  <p:timing>
    <p:tnLst>
      <p:par>
        <p:cTn id="2567" dur="indefinite" restart="never" nodeType="tmRoot">
          <p:childTnLst>
            <p:seq>
              <p:cTn id="2568" dur="indefinite" nodeType="mainSeq">
                <p:childTnLst>
                  <p:par>
                    <p:cTn id="2569" fill="hold">
                      <p:stCondLst>
                        <p:cond delay="0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fill="hold">
                      <p:stCondLst>
                        <p:cond delay="indefinite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Укрепление здоровь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4968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сещение сауны с купани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тание на лыж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сещение аквапарка города Каза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564000" y="5734080"/>
            <a:ext cx="936720" cy="8874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292720" y="5229360"/>
            <a:ext cx="1297080" cy="11682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3995640" y="2924280"/>
            <a:ext cx="1800360" cy="17143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7020000" y="4724280"/>
            <a:ext cx="1793880" cy="17989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6659640" y="3068640"/>
            <a:ext cx="1492200" cy="14256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6300720" y="1628640"/>
            <a:ext cx="1727280" cy="11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ED72D-BE8B-4D22-89FB-B9D307142DD8}" type="slidenum">
              <a:t>74</a:t>
            </a:fld>
          </a:p>
        </p:txBody>
      </p:sp>
    </p:spTree>
  </p:cSld>
  <p:timing>
    <p:tnLst>
      <p:par>
        <p:cTn id="2615" dur="indefinite" restart="never" nodeType="tmRoot">
          <p:childTnLst>
            <p:seq>
              <p:cTn id="2616" dur="indefinite" nodeType="mainSeq">
                <p:childTnLst>
                  <p:par>
                    <p:cTn id="2617" fill="hold">
                      <p:stCondLst>
                        <p:cond delay="0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8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9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0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2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3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4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3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4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5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03280" y="765000"/>
            <a:ext cx="648180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бота 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летних 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агерях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7164360" y="476280"/>
            <a:ext cx="1513080" cy="13618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324000" y="5300640"/>
            <a:ext cx="1692000" cy="11271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7740720" y="5516640"/>
            <a:ext cx="1008000" cy="9903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395280" y="620640"/>
            <a:ext cx="115236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4B865-50D4-425B-877D-0E90CB9C1DAB}" type="slidenum">
              <a:t>75</a:t>
            </a:fld>
          </a:p>
        </p:txBody>
      </p:sp>
    </p:spTree>
  </p:cSld>
  <p:timing>
    <p:tnLst>
      <p:par>
        <p:cTn id="2687" dur="indefinite" restart="never" nodeType="tmRoot">
          <p:childTnLst>
            <p:seq>
              <p:cTn id="2688" dur="indefinite" nodeType="mainSeq">
                <p:childTnLst>
                  <p:par>
                    <p:cTn id="2689" fill="hold">
                      <p:stCondLst>
                        <p:cond delay="0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2" fill="hold">
                      <p:stCondLst>
                        <p:cond delay="indefinite"/>
                      </p:stCondLst>
                      <p:childTnLst>
                        <p:par>
                          <p:cTn id="2713" fill="hold">
                            <p:stCondLst>
                              <p:cond delay="0"/>
                            </p:stCondLst>
                            <p:childTnLst>
                              <p:par>
                                <p:cTn id="27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0" fill="hold">
                      <p:stCondLst>
                        <p:cond delay="indefinite"/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54840" cy="46371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979640" y="33336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Тренируемся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7380360" y="404640"/>
            <a:ext cx="1192320" cy="157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F4D95-1F90-4D0A-83C8-FF9231BA2913}" type="slidenum">
              <a:t>76</a:t>
            </a:fld>
          </a:p>
        </p:txBody>
      </p:sp>
    </p:spTree>
  </p:cSld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0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2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2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6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050920" y="404640"/>
            <a:ext cx="51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Отдыхаем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769080" cy="44528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657440" cy="11476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7380360" y="404640"/>
            <a:ext cx="1368360" cy="11653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>
            <a:off x="6659640" y="3213000"/>
            <a:ext cx="720720" cy="65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E7571-0D98-4B8B-B909-B8A0C26FC486}" type="slidenum">
              <a:t>77</a:t>
            </a:fld>
          </a:p>
        </p:txBody>
      </p:sp>
    </p:spTree>
  </p:cSld>
  <p:timing>
    <p:tnLst>
      <p:par>
        <p:cTn id="2752" dur="indefinite" restart="never" nodeType="tmRoot">
          <p:childTnLst>
            <p:seq>
              <p:cTn id="2753" dur="indefinite" nodeType="mainSeq">
                <p:childTnLst>
                  <p:par>
                    <p:cTn id="2754" fill="hold">
                      <p:stCondLst>
                        <p:cond delay="0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3405240" cy="48243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5867280" y="3284640"/>
            <a:ext cx="2122560" cy="19731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619280" y="57340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За хорошую работу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5508720" y="836640"/>
            <a:ext cx="2663640" cy="198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602BA-95E0-4C37-90B7-89AFDD3722ED}" type="slidenum">
              <a:t>78</a:t>
            </a:fld>
          </a:p>
        </p:txBody>
      </p:sp>
    </p:spTree>
  </p:cSld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0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fill="hold">
                      <p:stCondLst>
                        <p:cond delay="indefinite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68360" y="1125360"/>
            <a:ext cx="8675640" cy="417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бщественная 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бота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5157720"/>
            <a:ext cx="5545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7164360" y="5300640"/>
            <a:ext cx="165744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01D3F-7F46-466C-9CA2-843122B7AB36}" type="slidenum">
              <a:t>79</a:t>
            </a:fld>
          </a:p>
        </p:txBody>
      </p:sp>
    </p:spTree>
  </p:cSld>
  <p:timing>
    <p:tnLst>
      <p:par>
        <p:cTn id="2828" dur="indefinite" restart="never" nodeType="tmRoot">
          <p:childTnLst>
            <p:seq>
              <p:cTn id="2829" dur="indefinite" nodeType="mainSeq">
                <p:childTnLst>
                  <p:par>
                    <p:cTn id="2830" fill="hold">
                      <p:stCondLst>
                        <p:cond delay="0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6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0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СПОР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5292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Хорошее здоровье, ощущение полноты и неистощимости физических си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ажнейший источник жизнерадостно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осприят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птимизма, готовности преодолеть любые трудности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В.А. Сухомлински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75480" y="3639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3384360" cy="33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52F8-E51E-4715-A01C-1C7403690EDE}" type="slidenum">
              <a:t>8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755640" y="1700280"/>
            <a:ext cx="8064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Благоустройств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школьного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стадио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324000" y="5157720"/>
            <a:ext cx="1800000" cy="13734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6734160" y="4437000"/>
            <a:ext cx="1827360" cy="184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6DEF4-1262-4B55-9616-7AA4529AA174}" type="slidenum">
              <a:t>80</a:t>
            </a:fld>
          </a:p>
        </p:txBody>
      </p:sp>
    </p:spTree>
  </p:cSld>
  <p:timing>
    <p:tnLst>
      <p:par>
        <p:cTn id="2854" dur="indefinite" restart="never" nodeType="tmRoot">
          <p:childTnLst>
            <p:seq>
              <p:cTn id="2855" dur="indefinite" nodeType="mainSeq">
                <p:childTnLst>
                  <p:par>
                    <p:cTn id="2856" fill="hold">
                      <p:stCondLst>
                        <p:cond delay="0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fill="hold">
                      <p:stCondLst>
                        <p:cond delay="indefinite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5280" y="260280"/>
            <a:ext cx="828036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обретение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дино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ртивно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1798560" cy="18730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6443640" y="4724280"/>
            <a:ext cx="2376360" cy="180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FDB5D-5634-479B-B1C7-BD0A26A0E40D}" type="slidenum">
              <a:t>81</a:t>
            </a:fld>
          </a:p>
        </p:txBody>
      </p:sp>
    </p:spTree>
  </p:cSld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fill="hold">
                      <p:stCondLst>
                        <p:cond delay="0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39640" y="692280"/>
            <a:ext cx="8209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55E53-1973-46A8-BD07-5809F84ED9BF}" type="slidenum">
              <a:t>82</a:t>
            </a:fld>
          </a:p>
        </p:txBody>
      </p:sp>
    </p:spTree>
  </p:cSld>
  <p:timing>
    <p:tnLst>
      <p:par>
        <p:cTn id="2920" dur="indefinite" restart="never" nodeType="tmRoot">
          <p:childTnLst>
            <p:seq>
              <p:cTn id="2921" dur="indefinite" nodeType="mainSeq">
                <p:childTnLst>
                  <p:par>
                    <p:cTn id="2922" fill="hold">
                      <p:stCondLst>
                        <p:cond delay="0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7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18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6856560" y="3860640"/>
            <a:ext cx="1982520" cy="272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EE459-CDD9-440D-AAB7-7AC6FCF84F7F}" type="slidenum">
              <a:t>83</a:t>
            </a:fld>
          </a:p>
        </p:txBody>
      </p:sp>
    </p:spTree>
  </p:cSld>
  <p:timing>
    <p:tnLst>
      <p:par>
        <p:cTn id="2928" dur="indefinite" restart="never" nodeType="tmRoot">
          <p:childTnLst>
            <p:seq>
              <p:cTn id="2929" dur="indefinite" nodeType="mainSeq">
                <p:childTnLst>
                  <p:par>
                    <p:cTn id="2930" fill="hold">
                      <p:stCondLst>
                        <p:cond delay="0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8360" y="692280"/>
            <a:ext cx="813600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утбол</a:t>
            </a:r>
            <a:endParaRPr b="1" lang="en-US" sz="6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2952720" cy="2438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596360" y="4797360"/>
            <a:ext cx="1255680" cy="18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A26DF-C188-43F6-AA89-8090232CF8A5}" type="slidenum">
              <a:t>9</a:t>
            </a:fld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7-01-21T17:50:23Z</dcterms:modified>
  <cp:revision>408</cp:revision>
  <dc:subject/>
  <dc:title>Федерация интернет Образования</dc:title>
</cp:coreProperties>
</file>