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7.png" ContentType="image/png"/>
  <Override PartName="/ppt/media/image30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78.gif" ContentType="image/gif"/>
  <Override PartName="/ppt/media/image123.jpeg" ContentType="image/jpeg"/>
  <Override PartName="/ppt/media/image115.jpeg" ContentType="image/jpeg"/>
  <Override PartName="/ppt/media/image67.png" ContentType="image/png"/>
  <Override PartName="/ppt/media/image134.wmf" ContentType="image/x-wmf"/>
  <Override PartName="/ppt/media/image114.jpeg" ContentType="image/jpeg"/>
  <Override PartName="/ppt/media/image113.jpeg" ContentType="image/jpeg"/>
  <Override PartName="/ppt/media/image109.jpeg" ContentType="image/jpeg"/>
  <Override PartName="/ppt/media/image20.jpeg" ContentType="image/jpeg"/>
  <Override PartName="/ppt/media/image182.jpeg" ContentType="image/jpeg"/>
  <Override PartName="/ppt/media/image117.jpeg" ContentType="image/jpeg"/>
  <Override PartName="/ppt/media/image100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22.png" ContentType="image/png"/>
  <Override PartName="/ppt/media/image111.jpeg" ContentType="image/jpeg"/>
  <Override PartName="/ppt/media/image162.wmf" ContentType="image/x-wmf"/>
  <Override PartName="/ppt/media/image91.jpeg" ContentType="image/jpeg"/>
  <Override PartName="/ppt/media/image110.jpeg" ContentType="image/jpeg"/>
  <Override PartName="/ppt/media/image152.wmf" ContentType="image/x-wmf"/>
  <Override PartName="/ppt/media/image90.jpeg" ContentType="image/jpeg"/>
  <Override PartName="/ppt/media/image105.jpeg" ContentType="image/jpeg"/>
  <Override PartName="/ppt/media/image27.wmf" ContentType="image/x-wmf"/>
  <Override PartName="/ppt/media/image85.jpeg" ContentType="image/jpeg"/>
  <Override PartName="/ppt/media/image103.jpeg" ContentType="image/jpeg"/>
  <Override PartName="/ppt/media/image83.jpeg" ContentType="image/jpeg"/>
  <Override PartName="/ppt/media/image119.jpeg" ContentType="image/jpeg"/>
  <Override PartName="/ppt/media/image192.jpeg" ContentType="image/jpeg"/>
  <Override PartName="/ppt/media/image102.jpeg" ContentType="image/jpeg"/>
  <Override PartName="/ppt/media/image82.jpeg" ContentType="image/jpeg"/>
  <Override PartName="/ppt/media/image79.wmf" ContentType="image/x-wmf"/>
  <Override PartName="/ppt/media/image75.jpeg" ContentType="image/jpeg"/>
  <Override PartName="/ppt/media/image73.jpeg" ContentType="image/jpeg"/>
  <Override PartName="/ppt/media/image15.png" ContentType="image/png"/>
  <Override PartName="/ppt/media/image150.wmf" ContentType="image/x-wmf"/>
  <Override PartName="/ppt/media/image72.jpeg" ContentType="image/jpeg"/>
  <Override PartName="/ppt/media/image140.wmf" ContentType="image/x-wmf"/>
  <Override PartName="/ppt/media/image71.jpeg" ContentType="image/jpeg"/>
  <Override PartName="/ppt/media/image70.jpeg" ContentType="image/jpeg"/>
  <Override PartName="/ppt/media/image68.jpeg" ContentType="image/jpeg"/>
  <Override PartName="/ppt/media/image65.jpeg" ContentType="image/jpeg"/>
  <Override PartName="/ppt/media/image64.jpeg" ContentType="image/jpeg"/>
  <Override PartName="/ppt/media/image63.jpeg" ContentType="image/jpeg"/>
  <Override PartName="/ppt/media/image43.wmf" ContentType="image/x-wmf"/>
  <Override PartName="/ppt/media/image62.jpeg" ContentType="image/jpeg"/>
  <Override PartName="/ppt/media/image33.wmf" ContentType="image/x-wmf"/>
  <Override PartName="/ppt/media/image78.jpeg" ContentType="image/jpeg"/>
  <Override PartName="/ppt/media/image61.jpeg" ContentType="image/jpeg"/>
  <Override PartName="/ppt/media/image108.jpeg" ContentType="image/jpeg"/>
  <Override PartName="/ppt/media/image88.jpeg" ContentType="image/jpeg"/>
  <Override PartName="/ppt/media/image32.wmf" ContentType="image/x-wmf"/>
  <Override PartName="/ppt/media/image29.jpeg" ContentType="image/jpeg"/>
  <Override PartName="/ppt/media/image7.gif" ContentType="image/gif"/>
  <Override PartName="/ppt/media/image159.gif" ContentType="image/gif"/>
  <Override PartName="/ppt/media/image121.jpeg" ContentType="image/jpeg"/>
  <Override PartName="/ppt/media/image104.jpeg" ContentType="image/jpeg"/>
  <Override PartName="/ppt/media/image17.wmf" ContentType="image/x-wmf"/>
  <Override PartName="/ppt/media/image84.jpeg" ContentType="image/jpeg"/>
  <Override PartName="/ppt/media/image25.jpeg" ContentType="image/jpeg"/>
  <Override PartName="/ppt/media/image187.jpeg" ContentType="image/jpeg"/>
  <Override PartName="/ppt/media/image35.gif" ContentType="image/gif"/>
  <Override PartName="/ppt/media/image44.jpeg" ContentType="image/jpeg"/>
  <Override PartName="/ppt/media/image47.jpeg" ContentType="image/jpeg"/>
  <Override PartName="/ppt/media/image8.gif" ContentType="image/gif"/>
  <Override PartName="/ppt/media/image54.jpeg" ContentType="image/jpeg"/>
  <Override PartName="/ppt/media/image153.wmf" ContentType="image/x-wmf"/>
  <Override PartName="/ppt/media/image74.jpeg" ContentType="image/jpeg"/>
  <Override PartName="/ppt/media/image57.jpeg" ContentType="image/jpeg"/>
  <Override PartName="/ppt/media/image183.wmf" ContentType="image/x-wmf"/>
  <Override PartName="/ppt/media/image21.wmf" ContentType="image/x-wmf"/>
  <Override PartName="/ppt/media/image60.jpeg" ContentType="image/jpeg"/>
  <Override PartName="/ppt/media/image46.jpeg" ContentType="image/jpeg"/>
  <Override PartName="/ppt/media/image3.wmf" ContentType="image/x-wmf"/>
  <Override PartName="/ppt/media/image155.wmf" ContentType="image/x-wmf"/>
  <Override PartName="/ppt/media/image194.wmf" ContentType="image/x-wmf"/>
  <Override PartName="/ppt/media/image101.jpeg" ContentType="image/jpeg"/>
  <Override PartName="/ppt/media/image129.wmf" ContentType="image/x-wmf"/>
  <Override PartName="/ppt/media/image175.jpeg" ContentType="image/jpeg"/>
  <Override PartName="/ppt/media/image50.jpeg" ContentType="image/jpeg"/>
  <Override PartName="/ppt/media/image176.gif" ContentType="image/gif"/>
  <Override PartName="/ppt/media/image14.gif" ContentType="image/gif"/>
  <Override PartName="/ppt/media/image98.jpeg" ContentType="image/jpeg"/>
  <Override PartName="/ppt/media/image120.jpeg" ContentType="image/jpeg"/>
  <Override PartName="/ppt/media/image185.wmf" ContentType="image/x-wmf"/>
  <Override PartName="/ppt/media/image136.wmf" ContentType="image/x-wmf"/>
  <Override PartName="/ppt/media/image195.jpeg" ContentType="image/jpeg"/>
  <Override PartName="/ppt/media/image39.jpeg" ContentType="image/jpeg"/>
  <Override PartName="/ppt/media/image128.wmf" ContentType="image/x-wmf"/>
  <Override PartName="/ppt/media/image58.png" ContentType="image/png"/>
  <Override PartName="/ppt/media/image193.wmf" ContentType="image/x-wmf"/>
  <Override PartName="/ppt/media/image40.jpeg" ContentType="image/jpeg"/>
  <Override PartName="/ppt/media/image174.gif" ContentType="image/gif"/>
  <Override PartName="/ppt/media/image12.gif" ContentType="image/gif"/>
  <Override PartName="/ppt/media/image112.jpeg" ContentType="image/jpeg"/>
  <Override PartName="/ppt/media/image137.gif" ContentType="image/gif"/>
  <Override PartName="/ppt/media/image131.jpeg" ContentType="image/jpeg"/>
  <Override PartName="/ppt/media/image172.gif" ContentType="image/gif"/>
  <Override PartName="/ppt/media/image10.gif" ContentType="image/gif"/>
  <Override PartName="/ppt/media/image168.wmf" ContentType="image/x-wmf"/>
  <Override PartName="/ppt/media/image56.jpeg" ContentType="image/jpeg"/>
  <Override PartName="/ppt/media/image173.wmf" ContentType="image/x-wmf"/>
  <Override PartName="/ppt/media/image11.wmf" ContentType="image/x-wmf"/>
  <Override PartName="/ppt/media/image76.jpeg" ContentType="image/jpeg"/>
  <Override PartName="/ppt/media/image177.gif" ContentType="image/gif"/>
  <Override PartName="/ppt/media/image42.jpeg" ContentType="image/jpeg"/>
  <Override PartName="/ppt/media/image179.gif" ContentType="image/gif"/>
  <Override PartName="/ppt/media/image135.wmf" ContentType="image/x-wmf"/>
  <Override PartName="/ppt/media/image81.png" ContentType="image/png"/>
  <Override PartName="/ppt/media/image139.gif" ContentType="image/gif"/>
  <Override PartName="/ppt/media/image191.jpeg" ContentType="image/jpeg"/>
  <Override PartName="/ppt/media/image118.jpeg" ContentType="image/jpeg"/>
  <Override PartName="/ppt/media/image164.wmf" ContentType="image/x-wmf"/>
  <Override PartName="/ppt/media/image141.wmf" ContentType="image/x-wmf"/>
  <Override PartName="/ppt/media/image144.gif" ContentType="image/gif"/>
  <Override PartName="/ppt/media/image130.png" ContentType="image/png"/>
  <Override PartName="/ppt/media/image166.jpeg" ContentType="image/jpeg"/>
  <Override PartName="/ppt/media/image169.wmf" ContentType="image/x-wmf"/>
  <Override PartName="/ppt/media/image158.wmf" ContentType="image/x-wmf"/>
  <Override PartName="/ppt/media/image184.gif" ContentType="image/gif"/>
  <Override PartName="/ppt/media/image170.gif" ContentType="image/gif"/>
  <Override PartName="/ppt/media/image181.gif" ContentType="image/gif"/>
  <Override PartName="/ppt/media/image189.jpeg" ContentType="image/jpeg"/>
  <Override PartName="/ppt/media/image151.wmf" ContentType="image/x-wmf"/>
  <Override PartName="/ppt/media/image148.wmf" ContentType="image/x-wmf"/>
  <Override PartName="/ppt/media/image161.jpeg" ContentType="image/jpeg"/>
  <Override PartName="/ppt/media/image132.jpeg" ContentType="image/jpeg"/>
  <Override PartName="/ppt/media/image142.wmf" ContentType="image/x-wmf"/>
  <Override PartName="/ppt/media/image23.png" ContentType="image/png"/>
  <Override PartName="/ppt/media/image160.gif" ContentType="image/gif"/>
  <Override PartName="/ppt/media/image51.jpeg" ContentType="image/jpeg"/>
  <Override PartName="/ppt/media/image146.wmf" ContentType="image/x-wmf"/>
  <Override PartName="/ppt/media/image154.gif" ContentType="image/gif"/>
  <Override PartName="/ppt/media/image167.jpeg" ContentType="image/jpeg"/>
  <Override PartName="/ppt/media/image149.wmf" ContentType="image/x-wmf"/>
  <Override PartName="/ppt/media/image147.wmf" ContentType="image/x-wmf"/>
  <Override PartName="/ppt/media/image145.wmf" ContentType="image/x-wmf"/>
  <Override PartName="/ppt/media/image26.png" ContentType="image/png"/>
  <Override PartName="/ppt/media/image138.gif" ContentType="image/gif"/>
  <Override PartName="/ppt/media/image55.jpeg" ContentType="image/jpeg"/>
  <Override PartName="/ppt/media/image163.wmf" ContentType="image/x-wmf"/>
  <Override PartName="/ppt/media/image24.wmf" ContentType="image/x-wmf"/>
  <Override PartName="/ppt/media/image186.wmf" ContentType="image/x-wmf"/>
  <Override PartName="/ppt/media/image38.jpeg" ContentType="image/jpeg"/>
  <Override PartName="/ppt/media/image97.jpeg" ContentType="image/jpeg"/>
  <Override PartName="/ppt/media/image53.jpeg" ContentType="image/jpeg"/>
  <Override PartName="/ppt/media/image143.wmf" ContentType="image/x-wmf"/>
  <Override PartName="/ppt/media/image6.gif" ContentType="image/gif"/>
  <Override PartName="/ppt/media/image122.jpeg" ContentType="image/jpeg"/>
  <Override PartName="/ppt/media/image52.jpeg" ContentType="image/jpeg"/>
  <Override PartName="/ppt/media/image133.wmf" ContentType="image/x-wmf"/>
  <Override PartName="/ppt/media/image18.wmf" ContentType="image/x-wmf"/>
  <Override PartName="/ppt/media/image48.jpeg" ContentType="image/jpeg"/>
  <Override PartName="/ppt/media/image77.jpeg" ContentType="image/jpeg"/>
  <Override PartName="/ppt/media/image190.wmf" ContentType="image/x-wmf"/>
  <Override PartName="/ppt/media/image157.wmf" ContentType="image/x-wmf"/>
  <Override PartName="/ppt/media/image5.wmf" ContentType="image/x-wmf"/>
  <Override PartName="/ppt/media/image80.wmf" ContentType="image/x-wmf"/>
  <Override PartName="/ppt/media/image86.jpeg" ContentType="image/jpeg"/>
  <Override PartName="/ppt/media/image106.jpeg" ContentType="image/jpeg"/>
  <Override PartName="/ppt/media/image31.gif" ContentType="image/gif"/>
  <Override PartName="/ppt/media/image9.gif" ContentType="image/gif"/>
  <Override PartName="/ppt/media/image69.jpeg" ContentType="image/jpeg"/>
  <Override PartName="/ppt/media/image13.gif" ContentType="image/gif"/>
  <Override PartName="/ppt/media/image37.jpeg" ContentType="image/jpeg"/>
  <Override PartName="/ppt/media/image49.jpeg" ContentType="image/jpeg"/>
  <Override PartName="/ppt/media/image28.wmf" ContentType="image/x-wmf"/>
  <Override PartName="/ppt/media/image36.jpeg" ContentType="image/jpeg"/>
  <Override PartName="/ppt/media/image2.jpeg" ContentType="image/jpeg"/>
  <Override PartName="/ppt/media/image34.wmf" ContentType="image/x-wmf"/>
  <Override PartName="/ppt/media/image156.wmf" ContentType="image/x-wmf"/>
  <Override PartName="/ppt/media/image4.wmf" ContentType="image/x-wmf"/>
  <Override PartName="/ppt/media/image41.jpeg" ContentType="image/jpeg"/>
  <Override PartName="/ppt/media/image16.wmf" ContentType="image/x-wmf"/>
  <Override PartName="/ppt/media/image66.jpeg" ContentType="image/jpeg"/>
  <Override PartName="/ppt/media/image87.jpeg" ContentType="image/jpeg"/>
  <Override PartName="/ppt/media/image107.jpeg" ContentType="image/jpeg"/>
  <Override PartName="/ppt/media/image180.jpeg" ContentType="image/jpeg"/>
  <Override PartName="/ppt/media/image165.wmf" ContentType="image/x-wmf"/>
  <Override PartName="/ppt/media/image1.jpeg" ContentType="image/jpeg"/>
  <Override PartName="/ppt/media/image89.jpeg" ContentType="image/jpeg"/>
  <Override PartName="/ppt/media/image45.jpeg" ContentType="image/jpeg"/>
  <Override PartName="/ppt/media/image92.jpeg" ContentType="image/jpeg"/>
  <Override PartName="/ppt/media/image19.jpeg" ContentType="image/jpeg"/>
  <Override PartName="/ppt/media/image188.jpeg" ContentType="image/jpeg"/>
  <Override PartName="/ppt/media/image171.gif" ContentType="image/gif"/>
  <Override PartName="/ppt/media/image59.wmf" ContentType="image/x-wmf"/>
  <Override PartName="/ppt/media/image1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494-FD39-4ABA-A637-2FBB1BE3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774-E6BC-4FEE-9479-0FF1EC46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F01-0B59-4B5D-82C6-11BB739E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E23-398F-4213-99FF-4F7ABE67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D514-AAE4-4D0D-B67A-3020BBFF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B789-E052-4429-A3A0-F58F57B2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4BF8-B1CA-437F-B117-C486DFB2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3A03-F637-4B89-800E-72AAE08C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B96B-0579-4F36-9EC2-8D27BCB1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FABB-D4AC-4BF9-BE2C-5EE837B3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3B7D-1E15-4B4A-AE66-6879256D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D4A-5481-456D-8FC9-195E808A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E1F5-496E-440F-BE2B-51D8DD58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AC5E-A299-4C57-BE6F-85DA9A24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3C21-CEAF-45FD-B98F-4A725008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1368-14D3-4852-938B-D31ADD89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A6C5-81E7-47FD-B64E-BE8B2DFA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927B-4D4D-41E2-A834-692451D8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19E8-D285-45BC-9FA1-41787691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6BCE-4F20-4922-BAD8-7B1BE87E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67B8D-530B-4CA0-BA82-BE4B8964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78C4-E6A2-4BA9-9CD8-393F767D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116-9522-4ED4-B55B-F04BEBAE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512F-C190-4462-B017-091D884C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E852-A534-4E93-9101-B70F7EB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62B9-8FCF-4A95-A81F-6CB94FC0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4984-C428-47A0-966E-801C213F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EE8A-7C8D-4B22-8C31-0A52548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D714-95C9-4614-AEA9-EFC3316F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E4AB-B68A-4086-9F15-E6DE27C5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9A5-7DAE-4037-B1D5-0DDF0CE2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2BC-982E-4C89-A0B6-885AC86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5BF-39B0-44FE-9B2A-FC76E119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990-19ED-4C30-9538-AD104739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7EE-0431-4FDE-A268-19BD3CC8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AAF-0A2C-459E-87B5-90BBC524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4E98-3039-485C-8530-F06ABD8CBC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B73-8B3F-4DD6-8549-85C4010C7A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1C23-61F9-489C-8328-476CFA80B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image" Target="../media/image118.jpeg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7.png"/><Relationship Id="rId3" Type="http://schemas.openxmlformats.org/officeDocument/2006/relationships/image" Target="../media/image127.png"/><Relationship Id="rId4" Type="http://schemas.openxmlformats.org/officeDocument/2006/relationships/image" Target="../media/image127.png"/><Relationship Id="rId5" Type="http://schemas.openxmlformats.org/officeDocument/2006/relationships/image" Target="../media/image128.wmf"/><Relationship Id="rId6" Type="http://schemas.openxmlformats.org/officeDocument/2006/relationships/image" Target="../media/image3.wmf"/><Relationship Id="rId7" Type="http://schemas.openxmlformats.org/officeDocument/2006/relationships/image" Target="../media/image129.wmf"/><Relationship Id="rId8" Type="http://schemas.openxmlformats.org/officeDocument/2006/relationships/image" Target="../media/image130.png"/><Relationship Id="rId9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1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gif"/><Relationship Id="rId3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8.gif"/><Relationship Id="rId2" Type="http://schemas.openxmlformats.org/officeDocument/2006/relationships/image" Target="../media/image139.gif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0.wmf"/><Relationship Id="rId2" Type="http://schemas.openxmlformats.org/officeDocument/2006/relationships/image" Target="../media/image141.wmf"/><Relationship Id="rId3" Type="http://schemas.openxmlformats.org/officeDocument/2006/relationships/image" Target="../media/image142.wmf"/><Relationship Id="rId4" Type="http://schemas.openxmlformats.org/officeDocument/2006/relationships/image" Target="../media/image143.wmf"/><Relationship Id="rId5" Type="http://schemas.openxmlformats.org/officeDocument/2006/relationships/image" Target="../media/image144.gif"/><Relationship Id="rId6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5.wmf"/><Relationship Id="rId2" Type="http://schemas.openxmlformats.org/officeDocument/2006/relationships/image" Target="../media/image146.wmf"/><Relationship Id="rId3" Type="http://schemas.openxmlformats.org/officeDocument/2006/relationships/image" Target="../media/image147.wmf"/><Relationship Id="rId4" Type="http://schemas.openxmlformats.org/officeDocument/2006/relationships/image" Target="../media/image148.wmf"/><Relationship Id="rId5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9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2.wmf"/><Relationship Id="rId2" Type="http://schemas.openxmlformats.org/officeDocument/2006/relationships/image" Target="../media/image153.wmf"/><Relationship Id="rId3" Type="http://schemas.openxmlformats.org/officeDocument/2006/relationships/image" Target="../media/image154.gif"/><Relationship Id="rId4" Type="http://schemas.openxmlformats.org/officeDocument/2006/relationships/image" Target="../media/image155.wmf"/><Relationship Id="rId5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0.wmf"/><Relationship Id="rId4" Type="http://schemas.openxmlformats.org/officeDocument/2006/relationships/image" Target="../media/image158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9.gif"/><Relationship Id="rId3" Type="http://schemas.openxmlformats.org/officeDocument/2006/relationships/image" Target="../media/image160.gif"/><Relationship Id="rId4" Type="http://schemas.openxmlformats.org/officeDocument/2006/relationships/image" Target="../media/image161.jpeg"/><Relationship Id="rId5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image" Target="../media/image164.wmf"/><Relationship Id="rId4" Type="http://schemas.openxmlformats.org/officeDocument/2006/relationships/image" Target="../media/image165.wmf"/><Relationship Id="rId5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6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image" Target="../media/image168.wmf"/><Relationship Id="rId3" Type="http://schemas.openxmlformats.org/officeDocument/2006/relationships/image" Target="../media/image169.wmf"/><Relationship Id="rId4" Type="http://schemas.openxmlformats.org/officeDocument/2006/relationships/slideLayout" Target="../slideLayouts/slideLayout3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0.gif"/><Relationship Id="rId2" Type="http://schemas.openxmlformats.org/officeDocument/2006/relationships/image" Target="../media/image171.gif"/><Relationship Id="rId3" Type="http://schemas.openxmlformats.org/officeDocument/2006/relationships/image" Target="../media/image172.gif"/><Relationship Id="rId4" Type="http://schemas.openxmlformats.org/officeDocument/2006/relationships/image" Target="../media/image173.wmf"/><Relationship Id="rId5" Type="http://schemas.openxmlformats.org/officeDocument/2006/relationships/image" Target="../media/image174.gif"/><Relationship Id="rId6" Type="http://schemas.openxmlformats.org/officeDocument/2006/relationships/image" Target="../media/image175.jpeg"/><Relationship Id="rId7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6.gif"/><Relationship Id="rId2" Type="http://schemas.openxmlformats.org/officeDocument/2006/relationships/image" Target="../media/image177.gif"/><Relationship Id="rId3" Type="http://schemas.openxmlformats.org/officeDocument/2006/relationships/image" Target="../media/image178.gif"/><Relationship Id="rId4" Type="http://schemas.openxmlformats.org/officeDocument/2006/relationships/image" Target="../media/image179.gif"/><Relationship Id="rId5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1.gif"/><Relationship Id="rId3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2.jpeg"/><Relationship Id="rId2" Type="http://schemas.openxmlformats.org/officeDocument/2006/relationships/image" Target="../media/image183.wmf"/><Relationship Id="rId3" Type="http://schemas.openxmlformats.org/officeDocument/2006/relationships/image" Target="../media/image184.gif"/><Relationship Id="rId4" Type="http://schemas.openxmlformats.org/officeDocument/2006/relationships/image" Target="../media/image185.wmf"/><Relationship Id="rId5" Type="http://schemas.openxmlformats.org/officeDocument/2006/relationships/image" Target="../media/image186.wmf"/><Relationship Id="rId6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87.jpeg"/><Relationship Id="rId2" Type="http://schemas.openxmlformats.org/officeDocument/2006/relationships/image" Target="../media/image188.jpeg"/><Relationship Id="rId3" Type="http://schemas.openxmlformats.org/officeDocument/2006/relationships/image" Target="../media/image189.jpeg"/><Relationship Id="rId4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1.jpeg"/><Relationship Id="rId2" Type="http://schemas.openxmlformats.org/officeDocument/2006/relationships/image" Target="../media/image192.jpeg"/><Relationship Id="rId3" Type="http://schemas.openxmlformats.org/officeDocument/2006/relationships/image" Target="../media/image18.wmf"/><Relationship Id="rId4" Type="http://schemas.openxmlformats.org/officeDocument/2006/relationships/image" Target="../media/image159.gif"/><Relationship Id="rId5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3.wmf"/><Relationship Id="rId2" Type="http://schemas.openxmlformats.org/officeDocument/2006/relationships/image" Target="../media/image194.wmf"/><Relationship Id="rId3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9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685800"/>
            <a:ext cx="6408720" cy="55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CAF2-8B5F-44C6-958E-301615EF1FFB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Футбол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как составляюща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здорового образа жизн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84480" y="4724280"/>
            <a:ext cx="1441440" cy="1729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2016000" cy="1533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55640" y="347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877080" y="494172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FE6D-C0B4-4BE2-80A0-AC14F9FECDAD}" type="slidenum">
              <a:t>10</a:t>
            </a:fld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219640" y="836640"/>
            <a:ext cx="367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Ничт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не дает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так дёшев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и не ценит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так дорог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ка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здоровье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659480" cy="54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9BB1-631D-4898-802C-D31174605889}" type="slidenum">
              <a:t>11</a:t>
            </a:fld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Степанов Владимир Викторо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341360"/>
            <a:ext cx="4248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5 год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шее, 199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ст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ты – 3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ёт занятия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тболу в ЦД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группа - 1992-93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группа - 1995-96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нер по фу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ортив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кла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Ш №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68360" y="1341360"/>
            <a:ext cx="3664080" cy="504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08720" y="5300640"/>
            <a:ext cx="1513080" cy="129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5D9F3-9875-4F42-BFAC-8460ABCD50AE}" type="slidenum">
              <a:t>12</a:t>
            </a:fld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6120000" cy="529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7C75-1A0A-49FF-B277-1829F1BBA564}" type="slidenum">
              <a:t>13</a:t>
            </a:fld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76280"/>
            <a:ext cx="698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2565360"/>
            <a:ext cx="7488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ОВАНИЕ</a:t>
            </a:r>
            <a:endParaRPr b="0" lang="en-US" sz="72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168720" cy="277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285B7-668F-46A9-A5CD-6FF8056A8211}" type="slidenum">
              <a:t>14</a:t>
            </a:fld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624720" cy="475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95640" y="18900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ысше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380360" y="133200"/>
            <a:ext cx="1168200" cy="10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CFCD6-AFE9-44A2-889F-5857FEBE010D}" type="slidenum">
              <a:t>15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907920"/>
            <a:ext cx="8064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урсы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овышения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валификации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63188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F467-49A9-4942-BDD9-9FFB6E3B02C7}" type="slidenum">
              <a:t>16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 специальност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54403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изкультурно-оздоровительные технолог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здоровление учащихся средствами физической культуры и 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571840" cy="35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563560" cy="367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2492280"/>
            <a:ext cx="2232000" cy="21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5650-DEAE-444E-AFF2-6606E6B9AB35}" type="slidenum">
              <a:t>17</a:t>
            </a:fld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2708280"/>
            <a:ext cx="871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АМООБРАЗОВ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439640" cy="1141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2101680" cy="1349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016000" cy="1717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55640" y="404640"/>
            <a:ext cx="1003320" cy="17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6020-73A6-430C-9FB0-AA0A1EB885B5}" type="slidenum">
              <a:t>18</a:t>
            </a:fld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гус Ж., «Шаг за шаго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ванов В.К., «Центральный круг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ипатов В.Г., «Правила игры в 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обановский В.В., «Бесконечный матч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тто И.А., «Это 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атини М., «Жизнь как матч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онедельник В.В., «Штрафная площадк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ссо Э., «Футбольный тренер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ушков М.П., «Футбольный театр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есуненко И.С., «Чаша Маракан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илатов Л.И., «Тайна «Золотой богини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Харви Г., «Футбол для начинающих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умахер Т., «Свисток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Еженедельники «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0885-5CEE-49E3-8467-BAFFEA79B5DF}" type="slidenum">
              <a:t>19</a:t>
            </a:fld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993300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9933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44764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E440-2A78-4E3D-95A0-7D805C7ADEC9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26920" y="2060640"/>
            <a:ext cx="77058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рамоты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Благодарности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Награждени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584000" cy="1346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316640" y="333360"/>
            <a:ext cx="138780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CB69-C821-41D0-8734-C63E436D5440}" type="slidenum">
              <a:t>20</a:t>
            </a:fld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2593800" cy="3671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548080" cy="367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2586240" cy="3671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9640" y="333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омитет по физической культуре и спор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дминистрации городского округа «Город Йошкар-Ол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5589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т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6093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 большой вклад в развитие детского фут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AB95-8115-4ACA-97BC-F39F392BB277}" type="slidenum">
              <a:t>21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2276640"/>
            <a:ext cx="446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добросовест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в систе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вос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рост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744640" cy="381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4000" y="18900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правление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дминистрации городского округ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Город Йошкар-Ол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611352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ябрь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6C16-2DEC-4ECC-B1B0-9AA14F7DEE5C}" type="slidenum">
              <a:t>22</a:t>
            </a:fld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9280" y="171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 ноябре 2006 го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едставл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 г. Йошкар-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а соискание стипенди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«Для детских тренеров и организаторов физкультурно-воспитательной работы по месту жительства»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учреждённой Российским благотворительным фондом спортивных программ «Новое поколение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11280" y="4437000"/>
            <a:ext cx="4248360" cy="212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9A60-70D6-44A6-B699-13B98F2BE4B6}" type="slidenum">
              <a:t>23</a:t>
            </a:fld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333360"/>
            <a:ext cx="84978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ОТКРЫТЫЕ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МЕРОПРИЯТИЯ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455920" cy="28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6DD1-158B-4507-A766-057342DC7294}" type="slidenum">
              <a:t>24</a:t>
            </a:fld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5772240" cy="3795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4000" y="189000"/>
            <a:ext cx="81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Рождественский турни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по футболу на снег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среди дворовых коман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88000" y="3500280"/>
            <a:ext cx="20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Янв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06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5589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мбатх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1C567-3AC6-4DF3-B417-C7F246D4A311}" type="slidenum">
              <a:t>25</a:t>
            </a:fld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103640" cy="264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680000" cy="299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7B0E-3BB7-44CA-932B-988AC605A8E0}" type="slidenum">
              <a:t>26</a:t>
            </a:fld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40720" cy="4438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50920" y="2556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Весенний кубок по мини-футбол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59911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т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53AC-AEE8-4A42-8049-D8AE83B59730}" type="slidenum">
              <a:t>27</a:t>
            </a:fld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03640" cy="2754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103640" cy="2698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959280" cy="2638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4032360" cy="265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B935B-8B74-472E-8D8E-C93A82C7FCB0}" type="slidenum">
              <a:t>28</a:t>
            </a:fld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1822320" cy="3200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673440" cy="2550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635280" cy="2513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067280" y="3429000"/>
            <a:ext cx="4522680" cy="304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2FF9-ECF3-4692-A0B4-E1EC02A05EEB}" type="slidenum">
              <a:t>29</a:t>
            </a:fld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2492280"/>
            <a:ext cx="82072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ворческ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тчё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5661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. Йошкар-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64000" y="189000"/>
            <a:ext cx="2376360" cy="204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071B-8918-4C0F-AA95-A91F7330202D}" type="slidenum">
              <a:t>3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2635560"/>
            <a:ext cx="784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Показатели и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результаты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деятельност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766E-B217-4C64-A423-D960B607081E}" type="slidenum">
              <a:t>30</a:t>
            </a:fld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16000" y="692280"/>
            <a:ext cx="4248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Городские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соревн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630600" cy="5256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3024000" cy="21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EB33A-264F-42D4-A18A-5627EBF8F0AB}" type="slidenum">
              <a:t>31</a:t>
            </a:fld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560680" cy="3600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84360" y="57340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ладшая групп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3333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ородской турнир на призы клуба «Кожаный мяч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633760" cy="3671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443640" y="5734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едняя групп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59500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Июнь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2997360"/>
            <a:ext cx="307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2491-B1E1-420D-9E86-7239A69F2108}" type="slidenum">
              <a:t>32</a:t>
            </a:fld>
          </a:p>
        </p:txBody>
      </p:sp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859280" y="404640"/>
            <a:ext cx="3816360" cy="286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EAA3-F4B2-4D1B-A39D-875FDEB14E67}" type="slidenum">
              <a:t>33</a:t>
            </a:fld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417640" y="55548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беда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273560" cy="5977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940360" y="2133720"/>
            <a:ext cx="2400480" cy="36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8B20-D778-46CC-B0E7-CCE463B50864}" type="slidenum">
              <a:t>34</a:t>
            </a:fld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0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144520" cy="3024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8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Растафари - 200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2066760" cy="3025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614760" y="3068640"/>
            <a:ext cx="2136600" cy="3024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9640" y="206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афон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1557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афон 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2060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афон -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21337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мест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6184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вгуст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D7B2-1064-4030-8056-66497DA6375C}" type="slidenum">
              <a:t>35</a:t>
            </a:fld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57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День физкультур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544840" cy="3457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76360" y="59500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08.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520720" cy="3457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012000" y="59500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03.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5300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Спорт-экспре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Йошкар-О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8560" y="5300640"/>
            <a:ext cx="14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D184-EBD9-4A5B-AF72-44485CF0D745}" type="slidenum">
              <a:t>36</a:t>
            </a:fld>
          </a:p>
        </p:txBody>
      </p:sp>
    </p:spTree>
  </p:cSld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ервенство города среди школьник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 мини-футбол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97080" cy="432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3267-180B-4EF7-A424-1593412A60A7}" type="slidenum">
              <a:t>37</a:t>
            </a:fld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700360" y="3357720"/>
            <a:ext cx="3889440" cy="3044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893960" cy="280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877080" y="1989000"/>
            <a:ext cx="1967040" cy="2810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360" y="2349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н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«Марафон – 28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4941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пит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4941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атар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BF54-888C-47EB-BAE3-634E32C57295}" type="slidenum">
              <a:t>38</a:t>
            </a:fld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4032360" cy="2940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3960720" cy="2984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79280" y="629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бедители!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236000" y="333360"/>
            <a:ext cx="146196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82C1C-32A5-47D9-84B1-53D25254392B}" type="slidenum">
              <a:t>39</a:t>
            </a:fld>
          </a:p>
        </p:txBody>
      </p:sp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765000"/>
            <a:ext cx="741672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Центр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дополнительного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разовани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детей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5877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04 - 2006 г.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48360" y="515772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9640" y="508464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77080" y="333360"/>
            <a:ext cx="1800360" cy="13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F076-1B99-4371-9B12-CF154EE42146}" type="slidenum">
              <a:t>4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Республиканские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турнир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771640" y="2492280"/>
          <a:ext cx="3541680" cy="36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92280"/>
                    <a:ext cx="354168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0160-E248-4A5D-96BB-B366872100AE}" type="slidenum">
              <a:t>40</a:t>
            </a:fld>
          </a:p>
        </p:txBody>
      </p:sp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Турнир на призы клуба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«Кожаный мяч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501300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 место по РМ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5904000" cy="1800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948360" y="2924280"/>
            <a:ext cx="174780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E46C-5B69-4113-B580-F483D9E20921}" type="slidenum">
              <a:t>41</a:t>
            </a:fld>
          </a:p>
        </p:txBody>
      </p:sp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9280" y="393372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Российски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соревнован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7569F-70D1-492B-A4CF-04A48DF6521D}" type="slidenum">
              <a:t>42</a:t>
            </a:fld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911680" cy="4321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24560" y="1413000"/>
            <a:ext cx="426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урни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ород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олж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приз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Д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 Спортив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сс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58920" y="6021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Нижний Новгород,  март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68A7-1655-4E8E-A6B0-D3434B127338}" type="slidenum">
              <a:t>43</a:t>
            </a:fld>
          </a:p>
        </p:txBody>
      </p:sp>
    </p:spTree>
  </p:cSld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302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урни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ород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волжья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328840" cy="3240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55840" y="6087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2365560" cy="3311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327480" y="333360"/>
            <a:ext cx="498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88000" y="5805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Август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2376720" cy="1416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7240" y="50846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г. Шумер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94C0-3A7B-47CC-B936-F8886F780953}" type="slidenum">
              <a:t>44</a:t>
            </a:fld>
          </a:p>
        </p:txBody>
      </p:sp>
    </p:spTree>
  </p:cSld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0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039920" cy="568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148360" y="758880"/>
            <a:ext cx="3456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сероссийс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ональ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урни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риз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луб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«Кожаный мяч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юль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B579-FC44-4EE0-941E-809E52A495AA}" type="slidenum">
              <a:t>45</a:t>
            </a:fld>
          </a:p>
        </p:txBody>
      </p:sp>
    </p:spTree>
  </p:cSld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0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-23 июля 2006 года - Стадион «Строител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BDE7-1FA3-4084-B7AD-75479471DAB5}" type="slidenum">
              <a:t>46</a:t>
            </a:fld>
          </a:p>
        </p:txBody>
      </p:sp>
    </p:spTree>
  </p:cSld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971640" y="907920"/>
            <a:ext cx="7272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ФОТОРЕПОРТАЖ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орреспондента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азеты 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"Йошкар-Ола"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Андрея Антонова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44144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BA61-8F6C-4183-9E20-B8159CB65EB5}" type="slidenum">
              <a:t>47</a:t>
            </a:fld>
          </a:p>
        </p:txBody>
      </p:sp>
    </p:spTree>
  </p:cSld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0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932360" y="423720"/>
            <a:ext cx="3816360" cy="2772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745080" cy="2862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889440" cy="28461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374472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A881-4284-44E2-8BAC-D87ABBDD08C5}" type="slidenum">
              <a:t>48</a:t>
            </a:fld>
          </a:p>
        </p:txBody>
      </p:sp>
    </p:spTree>
  </p:cSld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0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3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888000" cy="2846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807000" cy="28558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68360" y="3591000"/>
            <a:ext cx="3949560" cy="2962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3816360" cy="296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0D2C4-E7E6-4567-85A1-B373B3CDF9B8}" type="slidenum">
              <a:t>49</a:t>
            </a:fld>
          </a:p>
        </p:txBody>
      </p:sp>
    </p:spTree>
  </p:cSld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5280" y="836640"/>
            <a:ext cx="835344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тепан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лади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икторови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1617-96F1-4E02-B83D-66AFFEBEC0D6}" type="slidenum">
              <a:t>5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814560" cy="2808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ECE9-3701-48D6-B47B-82624AD6634E}" type="slidenum">
              <a:t>50</a:t>
            </a:fld>
          </a:p>
        </p:txBody>
      </p:sp>
    </p:spTree>
  </p:cSld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745080" cy="2736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003640" y="366084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0B41-7454-429B-BB6C-B4853DFCAAE4}" type="slidenum">
              <a:t>51</a:t>
            </a:fld>
          </a:p>
        </p:txBody>
      </p:sp>
    </p:spTree>
  </p:cSld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fill="hold">
                      <p:stCondLst>
                        <p:cond delay="0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39640" y="3627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807000" cy="285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AECE-3686-4FFD-9AE1-6F8A6DF5BC54}" type="slidenum">
              <a:t>52</a:t>
            </a:fld>
          </a:p>
        </p:txBody>
      </p:sp>
    </p:spTree>
  </p:cSld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0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78280" cy="29084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859280" y="40464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23F4-DC2E-44FE-9035-FA8A0E2771B4}" type="slidenum">
              <a:t>53</a:t>
            </a:fld>
          </a:p>
        </p:txBody>
      </p:sp>
    </p:spTree>
  </p:cSld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fill="hold">
                      <p:stCondLst>
                        <p:cond delay="0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745080" cy="27385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673440" cy="27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56CC-0BB8-41C0-A940-CCF208EE41FD}" type="slidenum">
              <a:t>54</a:t>
            </a:fld>
          </a:p>
        </p:txBody>
      </p:sp>
    </p:spTree>
  </p:cSld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0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672000" cy="2736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78800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F746-9F35-46A1-9101-9C6741396038}" type="slidenum">
              <a:t>55</a:t>
            </a:fld>
          </a:p>
        </p:txBody>
      </p:sp>
    </p:spTree>
  </p:cSld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0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2556000" y="3573360"/>
            <a:ext cx="4022640" cy="301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7DDA-FEF9-441D-B994-DBCF3E4F2458}" type="slidenum">
              <a:t>56</a:t>
            </a:fld>
          </a:p>
        </p:txBody>
      </p:sp>
    </p:spTree>
  </p:cSld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fill="hold">
                      <p:stCondLst>
                        <p:cond delay="0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256360" cy="3754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4000" y="15336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ННОВАЦИОН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32000" y="551664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ДЕЯТЕЛЬНОС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90D1F-4FD2-4C72-9D70-3DB8AA1800F7}" type="slidenum">
              <a:t>57</a:t>
            </a:fld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0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360" y="155736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портивный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ласс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6732720" y="476280"/>
            <a:ext cx="1073160" cy="1197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7093080" y="4365720"/>
            <a:ext cx="1631880" cy="1800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468360" y="4076640"/>
            <a:ext cx="1616040" cy="2016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619280" y="434880"/>
            <a:ext cx="1584360" cy="127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6BCE-89A1-47D3-9B63-9B1E99D30DDF}" type="slidenum">
              <a:t>58</a:t>
            </a:fld>
          </a:p>
        </p:txBody>
      </p:sp>
    </p:spTree>
  </p:cSld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76720" y="4653000"/>
            <a:ext cx="54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1 сентября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Трен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футбольного 6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школы №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5400720" cy="40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986-8293-430A-80AA-D9DABD435F07}" type="slidenum">
              <a:t>59</a:t>
            </a:fld>
          </a:p>
        </p:txBody>
      </p:sp>
    </p:spTree>
  </p:cSld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Физическая культур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442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ичто та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ильно не разрушает человека, как продолжитель-ное физическое бездействие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ристо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27640" y="1268280"/>
            <a:ext cx="4176720" cy="3992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237440" y="4437000"/>
            <a:ext cx="135900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88E8-384B-43FA-B7C8-0675E4B9C828}" type="slidenum">
              <a:t>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Директор школ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горный Сергей Иван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ректор высшей катего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01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42BF7-3A6A-41B3-B7CD-6632B3913234}" type="slidenum">
              <a:t>60</a:t>
            </a:fld>
          </a:p>
        </p:txBody>
      </p:sp>
    </p:spTree>
  </p:cSld>
  <p:timing>
    <p:tnLst>
      <p:par>
        <p:cTn id="2029" dur="indefinite" restart="never" nodeType="tmRoot">
          <p:childTnLst>
            <p:seq>
              <p:cTn id="2030" dur="indefinite" nodeType="mainSeq">
                <p:childTnLst>
                  <p:par>
                    <p:cTn id="2031" fill="hold">
                      <p:stCondLst>
                        <p:cond delay="0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5546880" cy="3727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348000" y="5373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«Марафон - 28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84720" y="33336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оман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69E-0B63-499D-9F29-6B64DA42EDC8}" type="slidenum">
              <a:t>61</a:t>
            </a:fld>
          </a:p>
        </p:txBody>
      </p:sp>
    </p:spTree>
  </p:cSld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fill="hold">
                      <p:stCondLst>
                        <p:cond delay="0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71640" y="62064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Тренер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воспитатель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друг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503360" cy="1584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084320" cy="1297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7451640" y="549360"/>
            <a:ext cx="1079640" cy="13446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1811520" cy="14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A0BE-9F43-4AAA-825C-1BD19C8B679B}" type="slidenum">
              <a:t>62</a:t>
            </a:fld>
          </a:p>
        </p:txBody>
      </p:sp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1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6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2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2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68360" y="765000"/>
            <a:ext cx="813600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жеднев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вухраз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ениров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82800" cy="2374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726920" cy="164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7E583-4B41-4C85-85FE-F431FC0DF013}" type="slidenum">
              <a:t>63</a:t>
            </a:fld>
          </a:p>
        </p:txBody>
      </p:sp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907920"/>
            <a:ext cx="799308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оретическ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нят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948360" y="4005360"/>
            <a:ext cx="1873440" cy="2466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440000" cy="119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455F-D50B-479D-9331-2708153F273C}" type="slidenum">
              <a:t>64</a:t>
            </a:fld>
          </a:p>
        </p:txBody>
      </p:sp>
    </p:spTree>
  </p:cSld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24000" y="430200"/>
            <a:ext cx="1965240" cy="1628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942920" cy="1668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427640" y="4869000"/>
            <a:ext cx="1500120" cy="1611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95280" y="0"/>
            <a:ext cx="7921800" cy="638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списани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1224000" cy="12189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7020000" y="404640"/>
            <a:ext cx="1511280" cy="89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C015-8D07-4997-9D37-D143A388D19E}" type="slidenum">
              <a:t>65</a:t>
            </a:fld>
          </a:p>
        </p:txBody>
      </p:sp>
    </p:spTree>
  </p:cSld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0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692360" y="549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728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-396720" y="1700280"/>
            <a:ext cx="9001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рупп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длённ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н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156360" y="437832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944720" cy="1406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6732720" y="260280"/>
            <a:ext cx="1511280" cy="150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5C29-B6D9-4A15-9BBB-D47503256CC2}" type="slidenum">
              <a:t>66</a:t>
            </a:fld>
          </a:p>
        </p:txBody>
      </p:sp>
    </p:spTree>
  </p:cSld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0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765000"/>
            <a:ext cx="8172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екласс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роприят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211640" y="5013360"/>
            <a:ext cx="1728720" cy="1484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588000" y="4962600"/>
            <a:ext cx="2165400" cy="1600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900000" y="404640"/>
            <a:ext cx="1160640" cy="13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FE459-A8BC-4B60-8695-9766B97CD842}" type="slidenum">
              <a:t>67</a:t>
            </a:fld>
          </a:p>
        </p:txBody>
      </p:sp>
    </p:spTree>
  </p:cSld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0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1863720" cy="18493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779480" cy="1838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1900080" cy="166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547640" y="1125360"/>
            <a:ext cx="60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настольном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теннис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849B6-EBCF-46B0-88FB-8EB8ADC51A7B}" type="slidenum">
              <a:t>68</a:t>
            </a:fld>
          </a:p>
        </p:txBody>
      </p:sp>
    </p:spTree>
  </p:cSld>
  <p:timing>
    <p:tnLst>
      <p:par>
        <p:cTn id="2307" dur="indefinite" restart="never" nodeType="tmRoot">
          <p:childTnLst>
            <p:seq>
              <p:cTn id="2308" dur="indefinite" nodeType="mainSeq">
                <p:childTnLst>
                  <p:par>
                    <p:cTn id="2309" fill="hold">
                      <p:stCondLst>
                        <p:cond delay="0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68360" y="290520"/>
            <a:ext cx="1763640" cy="1071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7093080" y="5141880"/>
            <a:ext cx="1800000" cy="13921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905120" y="1268280"/>
            <a:ext cx="540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бильярд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7020000" y="40464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395280" y="4724280"/>
            <a:ext cx="1730520" cy="171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8591-D816-4E25-9DC2-AD38E5F30375}" type="slidenum">
              <a:t>69</a:t>
            </a:fld>
          </a:p>
        </p:txBody>
      </p:sp>
    </p:spTree>
  </p:cSld>
  <p:timing>
    <p:tnLst>
      <p:par>
        <p:cTn id="2366" dur="indefinite" restart="never" nodeType="tmRoot">
          <p:childTnLst>
            <p:seq>
              <p:cTn id="2367" dur="indefinite" nodeType="mainSeq">
                <p:childTnLst>
                  <p:par>
                    <p:cTn id="2368" fill="hold">
                      <p:stCondLst>
                        <p:cond delay="0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0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Физическое воспит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64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Недостаточно закалять душу ребёнка, столь же необходимо закалять и его мышц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. Монтен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7840" y="392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66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FA1E-2E7C-4C9C-8668-8DF202A5C56C}" type="slidenum">
              <a:t>7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905120" y="1268280"/>
            <a:ext cx="540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футбол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800360" cy="1373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1612800" cy="16286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68360" y="4508640"/>
            <a:ext cx="1503360" cy="18716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7102440" y="4724280"/>
            <a:ext cx="1590840" cy="17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4A90-71D8-4EA5-AC5B-EA0594346B49}" type="slidenum">
              <a:t>70</a:t>
            </a:fld>
          </a:p>
        </p:txBody>
      </p:sp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9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547640" y="4005360"/>
            <a:ext cx="26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35280" y="981000"/>
            <a:ext cx="558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Стрельб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и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боевог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оруж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732720" y="4651200"/>
            <a:ext cx="2016000" cy="1671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393560" cy="2087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1303200" cy="2106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539640" y="620640"/>
            <a:ext cx="1581120" cy="15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FA07-4823-42C2-956C-8DDB72DC933E}" type="slidenum">
              <a:t>71</a:t>
            </a:fld>
          </a:p>
        </p:txBody>
      </p:sp>
    </p:spTree>
  </p:cSld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0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950"/>
                            </p:stCondLst>
                            <p:childTnLst>
                              <p:par>
                                <p:cTn id="2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1950"/>
                            </p:stCondLst>
                            <p:childTnLst>
                              <p:par>
                                <p:cTn id="2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1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fill="hold">
                            <p:stCondLst>
                              <p:cond delay="2950"/>
                            </p:stCondLst>
                            <p:childTnLst>
                              <p:par>
                                <p:cTn id="2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3950"/>
                            </p:stCondLst>
                            <p:childTnLst>
                              <p:par>
                                <p:cTn id="2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5" dur="1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47640" y="4005360"/>
            <a:ext cx="26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42920" y="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 шашка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688000" cy="40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B147-89A4-4E44-A82D-CC279ADAA679}" type="slidenum">
              <a:t>72</a:t>
            </a:fld>
          </a:p>
        </p:txBody>
      </p:sp>
    </p:spTree>
  </p:cSld>
  <p:timing>
    <p:tnLst>
      <p:par>
        <p:cTn id="2538" dur="indefinite" restart="never" nodeType="tmRoot">
          <p:childTnLst>
            <p:seq>
              <p:cTn id="2539" dur="indefinite" nodeType="mainSeq">
                <p:childTnLst>
                  <p:par>
                    <p:cTn id="2540" fill="hold">
                      <p:stCondLst>
                        <p:cond delay="0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950"/>
                            </p:stCondLst>
                            <p:childTnLst>
                              <p:par>
                                <p:cTn id="2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950"/>
                            </p:stCondLst>
                            <p:childTnLst>
                              <p:par>
                                <p:cTn id="2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268360" y="333360"/>
            <a:ext cx="6407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3300"/>
                </a:solidFill>
                <a:latin typeface="Times New Roman"/>
              </a:rPr>
              <a:t>Ледовый Дворец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Катание на коньк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Посещение хоккейных мат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6049800" cy="29019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1655640" cy="15066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32084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9450-BCF7-47BC-99E2-B394C862AF73}" type="slidenum">
              <a:t>73</a:t>
            </a:fld>
          </a:p>
        </p:txBody>
      </p:sp>
    </p:spTree>
  </p:cSld>
  <p:timing>
    <p:tnLst>
      <p:par>
        <p:cTn id="2567" dur="indefinite" restart="never" nodeType="tmRoot">
          <p:childTnLst>
            <p:seq>
              <p:cTn id="2568" dur="indefinite" nodeType="mainSeq">
                <p:childTnLst>
                  <p:par>
                    <p:cTn id="2569" fill="hold">
                      <p:stCondLst>
                        <p:cond delay="0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Укрепление здоровь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968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сещение сауны с купани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тание на лыж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сещение аквапарка города Каза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564000" y="5734080"/>
            <a:ext cx="936720" cy="8874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292720" y="5229360"/>
            <a:ext cx="1297080" cy="11682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995640" y="2924280"/>
            <a:ext cx="1800360" cy="1714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7020000" y="4724280"/>
            <a:ext cx="1793880" cy="17989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6659640" y="3068640"/>
            <a:ext cx="1492200" cy="1425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6300720" y="1628640"/>
            <a:ext cx="172728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7882-F97F-45A6-9BE3-B16BC30B7BE4}" type="slidenum">
              <a:t>74</a:t>
            </a:fld>
          </a:p>
        </p:txBody>
      </p:sp>
    </p:spTree>
  </p:cSld>
  <p:timing>
    <p:tnLst>
      <p:par>
        <p:cTn id="2615" dur="indefinite" restart="never" nodeType="tmRoot">
          <p:childTnLst>
            <p:seq>
              <p:cTn id="2616" dur="indefinite" nodeType="mainSeq">
                <p:childTnLst>
                  <p:par>
                    <p:cTn id="2617" fill="hold">
                      <p:stCondLst>
                        <p:cond delay="0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9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0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2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3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4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3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4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5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03280" y="765000"/>
            <a:ext cx="648180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летних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герях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1513080" cy="13618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1692000" cy="11271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740720" y="5516640"/>
            <a:ext cx="1008000" cy="990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95280" y="620640"/>
            <a:ext cx="115236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21DD-7FB7-4143-A45A-AE2A2FC5D6F1}" type="slidenum">
              <a:t>75</a:t>
            </a:fld>
          </a:p>
        </p:txBody>
      </p:sp>
    </p:spTree>
  </p:cSld>
  <p:timing>
    <p:tnLst>
      <p:par>
        <p:cTn id="2687" dur="indefinite" restart="never" nodeType="tmRoot">
          <p:childTnLst>
            <p:seq>
              <p:cTn id="2688" dur="indefinite" nodeType="mainSeq">
                <p:childTnLst>
                  <p:par>
                    <p:cTn id="2689" fill="hold">
                      <p:stCondLst>
                        <p:cond delay="0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fill="hold">
                      <p:stCondLst>
                        <p:cond delay="indefinite"/>
                      </p:stCondLst>
                      <p:childTnLst>
                        <p:par>
                          <p:cTn id="2713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54840" cy="4637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979640" y="333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Тренируемся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7380360" y="404640"/>
            <a:ext cx="1192320" cy="15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AFA7-75E9-4417-AC21-F0EAC68795A5}" type="slidenum">
              <a:t>76</a:t>
            </a:fld>
          </a:p>
        </p:txBody>
      </p:sp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6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050920" y="404640"/>
            <a:ext cx="51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Отдыхаем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769080" cy="44528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657440" cy="11476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7380360" y="404640"/>
            <a:ext cx="1368360" cy="11653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6659640" y="3213000"/>
            <a:ext cx="720720" cy="6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39F5-9D6D-48B9-BDC6-07ED5744EEB7}" type="slidenum">
              <a:t>77</a:t>
            </a:fld>
          </a:p>
        </p:txBody>
      </p:sp>
    </p:spTree>
  </p:cSld>
  <p:timing>
    <p:tnLst>
      <p:par>
        <p:cTn id="2752" dur="indefinite" restart="never" nodeType="tmRoot">
          <p:childTnLst>
            <p:seq>
              <p:cTn id="2753" dur="indefinite" nodeType="mainSeq">
                <p:childTnLst>
                  <p:par>
                    <p:cTn id="2754" fill="hold">
                      <p:stCondLst>
                        <p:cond delay="0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3405240" cy="48243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867280" y="3284640"/>
            <a:ext cx="2122560" cy="19731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619280" y="5734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За хорошую работу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5508720" y="836640"/>
            <a:ext cx="2663640" cy="19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EEC3-AF7B-4059-9738-8D518CFDFD10}" type="slidenum">
              <a:t>78</a:t>
            </a:fld>
          </a:p>
        </p:txBody>
      </p:sp>
    </p:spTree>
  </p:cSld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68360" y="1125360"/>
            <a:ext cx="867564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щественная 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5157720"/>
            <a:ext cx="554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164360" y="5300640"/>
            <a:ext cx="165744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E503-05E4-4348-A5BE-C2B5749871D0}" type="slidenum">
              <a:t>79</a:t>
            </a:fld>
          </a:p>
        </p:txBody>
      </p:sp>
    </p:spTree>
  </p:cSld>
  <p:timing>
    <p:tnLst>
      <p:par>
        <p:cTn id="2828" dur="indefinite" restart="never" nodeType="tmRoot">
          <p:childTnLst>
            <p:seq>
              <p:cTn id="2829" dur="indefinite" nodeType="mainSeq">
                <p:childTnLst>
                  <p:par>
                    <p:cTn id="2830" fill="hold">
                      <p:stCondLst>
                        <p:cond delay="0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0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СПОР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529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орошее здоровье, ощущение полноты и неистощимости физических си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ажнейший источник жизнерадост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сприят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птимизма, готовности преодолеть любые трудности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В.А. Сухомлински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5480" y="3639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B61D6-8488-4FDE-A454-CDB71DC92B2F}" type="slidenum">
              <a:t>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755640" y="1700280"/>
            <a:ext cx="806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Благоустройств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школьного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стадио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324000" y="5157720"/>
            <a:ext cx="1800000" cy="13734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6734160" y="4437000"/>
            <a:ext cx="1827360" cy="18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D7BE-0D85-4B9F-81CA-6C75F5B941ED}" type="slidenum">
              <a:t>80</a:t>
            </a:fld>
          </a:p>
        </p:txBody>
      </p:sp>
    </p:spTree>
  </p:cSld>
  <p:timing>
    <p:tnLst>
      <p:par>
        <p:cTn id="2854" dur="indefinite" restart="never" nodeType="tmRoot">
          <p:childTnLst>
            <p:seq>
              <p:cTn id="2855" dur="indefinite" nodeType="mainSeq">
                <p:childTnLst>
                  <p:par>
                    <p:cTn id="2856" fill="hold">
                      <p:stCondLst>
                        <p:cond delay="0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5280" y="260280"/>
            <a:ext cx="828036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обретен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о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ивно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798560" cy="1873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443640" y="4724280"/>
            <a:ext cx="2376360" cy="180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6BDB-0160-4BE3-9605-7BAF4BAB7ACE}" type="slidenum">
              <a:t>81</a:t>
            </a:fld>
          </a:p>
        </p:txBody>
      </p:sp>
    </p:spTree>
  </p:cSld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9688-E809-4531-9D54-74FE847291C0}" type="slidenum">
              <a:t>82</a:t>
            </a:fld>
          </a:p>
        </p:txBody>
      </p:sp>
    </p:spTree>
  </p:cSld>
  <p:timing>
    <p:tnLst>
      <p:par>
        <p:cTn id="2920" dur="indefinite" restart="never" nodeType="tmRoot">
          <p:childTnLst>
            <p:seq>
              <p:cTn id="2921" dur="indefinite" nodeType="mainSeq">
                <p:childTnLst>
                  <p:par>
                    <p:cTn id="2922" fill="hold">
                      <p:stCondLst>
                        <p:cond delay="0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18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856560" y="3860640"/>
            <a:ext cx="1982520" cy="27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C9D99-02B4-46B1-8ACC-78791BE4863D}" type="slidenum">
              <a:t>83</a:t>
            </a:fld>
          </a:p>
        </p:txBody>
      </p:sp>
    </p:spTree>
  </p:cSld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692280"/>
            <a:ext cx="813600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утбол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2952720" cy="2438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96360" y="4797360"/>
            <a:ext cx="125568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440C-F1AC-4336-8A3E-7EFBC9A8C77E}" type="slidenum">
              <a:t>9</a:t>
            </a:fld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1-21T17:50:23Z</dcterms:modified>
  <cp:revision>408</cp:revision>
  <dc:subject/>
  <dc:title>Федерация интернет Образования</dc:title>
</cp:coreProperties>
</file>