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7.png" ContentType="image/png"/>
  <Override PartName="/ppt/media/image30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78.gif" ContentType="image/gif"/>
  <Override PartName="/ppt/media/image123.jpeg" ContentType="image/jpeg"/>
  <Override PartName="/ppt/media/image115.jpeg" ContentType="image/jpeg"/>
  <Override PartName="/ppt/media/image67.png" ContentType="image/png"/>
  <Override PartName="/ppt/media/image134.wmf" ContentType="image/x-wmf"/>
  <Override PartName="/ppt/media/image114.jpeg" ContentType="image/jpeg"/>
  <Override PartName="/ppt/media/image113.jpeg" ContentType="image/jpeg"/>
  <Override PartName="/ppt/media/image109.jpeg" ContentType="image/jpeg"/>
  <Override PartName="/ppt/media/image20.jpeg" ContentType="image/jpeg"/>
  <Override PartName="/ppt/media/image182.jpeg" ContentType="image/jpeg"/>
  <Override PartName="/ppt/media/image117.jpeg" ContentType="image/jpeg"/>
  <Override PartName="/ppt/media/image100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22.png" ContentType="image/png"/>
  <Override PartName="/ppt/media/image111.jpeg" ContentType="image/jpeg"/>
  <Override PartName="/ppt/media/image162.wmf" ContentType="image/x-wmf"/>
  <Override PartName="/ppt/media/image91.jpeg" ContentType="image/jpeg"/>
  <Override PartName="/ppt/media/image110.jpeg" ContentType="image/jpeg"/>
  <Override PartName="/ppt/media/image152.wmf" ContentType="image/x-wmf"/>
  <Override PartName="/ppt/media/image90.jpeg" ContentType="image/jpeg"/>
  <Override PartName="/ppt/media/image105.jpeg" ContentType="image/jpeg"/>
  <Override PartName="/ppt/media/image27.wmf" ContentType="image/x-wmf"/>
  <Override PartName="/ppt/media/image85.jpeg" ContentType="image/jpeg"/>
  <Override PartName="/ppt/media/image103.jpeg" ContentType="image/jpeg"/>
  <Override PartName="/ppt/media/image83.jpeg" ContentType="image/jpeg"/>
  <Override PartName="/ppt/media/image119.jpeg" ContentType="image/jpeg"/>
  <Override PartName="/ppt/media/image192.jpeg" ContentType="image/jpeg"/>
  <Override PartName="/ppt/media/image102.jpeg" ContentType="image/jpeg"/>
  <Override PartName="/ppt/media/image82.jpeg" ContentType="image/jpeg"/>
  <Override PartName="/ppt/media/image79.wmf" ContentType="image/x-wmf"/>
  <Override PartName="/ppt/media/image75.jpeg" ContentType="image/jpeg"/>
  <Override PartName="/ppt/media/image73.jpeg" ContentType="image/jpeg"/>
  <Override PartName="/ppt/media/image15.png" ContentType="image/png"/>
  <Override PartName="/ppt/media/image150.wmf" ContentType="image/x-wmf"/>
  <Override PartName="/ppt/media/image72.jpeg" ContentType="image/jpeg"/>
  <Override PartName="/ppt/media/image140.wmf" ContentType="image/x-wmf"/>
  <Override PartName="/ppt/media/image71.jpeg" ContentType="image/jpeg"/>
  <Override PartName="/ppt/media/image70.jpeg" ContentType="image/jpeg"/>
  <Override PartName="/ppt/media/image68.jpeg" ContentType="image/jpeg"/>
  <Override PartName="/ppt/media/image65.jpeg" ContentType="image/jpeg"/>
  <Override PartName="/ppt/media/image64.jpeg" ContentType="image/jpeg"/>
  <Override PartName="/ppt/media/image63.jpeg" ContentType="image/jpeg"/>
  <Override PartName="/ppt/media/image43.wmf" ContentType="image/x-wmf"/>
  <Override PartName="/ppt/media/image62.jpeg" ContentType="image/jpeg"/>
  <Override PartName="/ppt/media/image33.wmf" ContentType="image/x-wmf"/>
  <Override PartName="/ppt/media/image78.jpeg" ContentType="image/jpeg"/>
  <Override PartName="/ppt/media/image61.jpeg" ContentType="image/jpeg"/>
  <Override PartName="/ppt/media/image108.jpeg" ContentType="image/jpeg"/>
  <Override PartName="/ppt/media/image88.jpeg" ContentType="image/jpeg"/>
  <Override PartName="/ppt/media/image32.wmf" ContentType="image/x-wmf"/>
  <Override PartName="/ppt/media/image29.jpeg" ContentType="image/jpeg"/>
  <Override PartName="/ppt/media/image7.gif" ContentType="image/gif"/>
  <Override PartName="/ppt/media/image159.gif" ContentType="image/gif"/>
  <Override PartName="/ppt/media/image121.jpeg" ContentType="image/jpeg"/>
  <Override PartName="/ppt/media/image104.jpeg" ContentType="image/jpeg"/>
  <Override PartName="/ppt/media/image17.wmf" ContentType="image/x-wmf"/>
  <Override PartName="/ppt/media/image84.jpeg" ContentType="image/jpeg"/>
  <Override PartName="/ppt/media/image25.jpeg" ContentType="image/jpeg"/>
  <Override PartName="/ppt/media/image187.jpeg" ContentType="image/jpeg"/>
  <Override PartName="/ppt/media/image35.gif" ContentType="image/gif"/>
  <Override PartName="/ppt/media/image44.jpeg" ContentType="image/jpeg"/>
  <Override PartName="/ppt/media/image47.jpeg" ContentType="image/jpeg"/>
  <Override PartName="/ppt/media/image8.gif" ContentType="image/gif"/>
  <Override PartName="/ppt/media/image54.jpeg" ContentType="image/jpeg"/>
  <Override PartName="/ppt/media/image153.wmf" ContentType="image/x-wmf"/>
  <Override PartName="/ppt/media/image74.jpeg" ContentType="image/jpeg"/>
  <Override PartName="/ppt/media/image57.jpeg" ContentType="image/jpeg"/>
  <Override PartName="/ppt/media/image183.wmf" ContentType="image/x-wmf"/>
  <Override PartName="/ppt/media/image21.wmf" ContentType="image/x-wmf"/>
  <Override PartName="/ppt/media/image60.jpeg" ContentType="image/jpeg"/>
  <Override PartName="/ppt/media/image46.jpeg" ContentType="image/jpeg"/>
  <Override PartName="/ppt/media/image3.wmf" ContentType="image/x-wmf"/>
  <Override PartName="/ppt/media/image155.wmf" ContentType="image/x-wmf"/>
  <Override PartName="/ppt/media/image194.wmf" ContentType="image/x-wmf"/>
  <Override PartName="/ppt/media/image101.jpeg" ContentType="image/jpeg"/>
  <Override PartName="/ppt/media/image129.wmf" ContentType="image/x-wmf"/>
  <Override PartName="/ppt/media/image175.jpeg" ContentType="image/jpeg"/>
  <Override PartName="/ppt/media/image50.jpeg" ContentType="image/jpeg"/>
  <Override PartName="/ppt/media/image176.gif" ContentType="image/gif"/>
  <Override PartName="/ppt/media/image14.gif" ContentType="image/gif"/>
  <Override PartName="/ppt/media/image98.jpeg" ContentType="image/jpeg"/>
  <Override PartName="/ppt/media/image120.jpeg" ContentType="image/jpeg"/>
  <Override PartName="/ppt/media/image185.wmf" ContentType="image/x-wmf"/>
  <Override PartName="/ppt/media/image136.wmf" ContentType="image/x-wmf"/>
  <Override PartName="/ppt/media/image195.jpeg" ContentType="image/jpeg"/>
  <Override PartName="/ppt/media/image39.jpeg" ContentType="image/jpeg"/>
  <Override PartName="/ppt/media/image128.wmf" ContentType="image/x-wmf"/>
  <Override PartName="/ppt/media/image58.png" ContentType="image/png"/>
  <Override PartName="/ppt/media/image193.wmf" ContentType="image/x-wmf"/>
  <Override PartName="/ppt/media/image40.jpeg" ContentType="image/jpeg"/>
  <Override PartName="/ppt/media/image174.gif" ContentType="image/gif"/>
  <Override PartName="/ppt/media/image12.gif" ContentType="image/gif"/>
  <Override PartName="/ppt/media/image112.jpeg" ContentType="image/jpeg"/>
  <Override PartName="/ppt/media/image137.gif" ContentType="image/gif"/>
  <Override PartName="/ppt/media/image131.jpeg" ContentType="image/jpeg"/>
  <Override PartName="/ppt/media/image172.gif" ContentType="image/gif"/>
  <Override PartName="/ppt/media/image10.gif" ContentType="image/gif"/>
  <Override PartName="/ppt/media/image168.wmf" ContentType="image/x-wmf"/>
  <Override PartName="/ppt/media/image56.jpeg" ContentType="image/jpeg"/>
  <Override PartName="/ppt/media/image173.wmf" ContentType="image/x-wmf"/>
  <Override PartName="/ppt/media/image11.wmf" ContentType="image/x-wmf"/>
  <Override PartName="/ppt/media/image76.jpeg" ContentType="image/jpeg"/>
  <Override PartName="/ppt/media/image177.gif" ContentType="image/gif"/>
  <Override PartName="/ppt/media/image42.jpeg" ContentType="image/jpeg"/>
  <Override PartName="/ppt/media/image179.gif" ContentType="image/gif"/>
  <Override PartName="/ppt/media/image135.wmf" ContentType="image/x-wmf"/>
  <Override PartName="/ppt/media/image81.png" ContentType="image/png"/>
  <Override PartName="/ppt/media/image139.gif" ContentType="image/gif"/>
  <Override PartName="/ppt/media/image191.jpeg" ContentType="image/jpeg"/>
  <Override PartName="/ppt/media/image118.jpeg" ContentType="image/jpeg"/>
  <Override PartName="/ppt/media/image164.wmf" ContentType="image/x-wmf"/>
  <Override PartName="/ppt/media/image141.wmf" ContentType="image/x-wmf"/>
  <Override PartName="/ppt/media/image144.gif" ContentType="image/gif"/>
  <Override PartName="/ppt/media/image130.png" ContentType="image/png"/>
  <Override PartName="/ppt/media/image166.jpeg" ContentType="image/jpeg"/>
  <Override PartName="/ppt/media/image169.wmf" ContentType="image/x-wmf"/>
  <Override PartName="/ppt/media/image158.wmf" ContentType="image/x-wmf"/>
  <Override PartName="/ppt/media/image184.gif" ContentType="image/gif"/>
  <Override PartName="/ppt/media/image170.gif" ContentType="image/gif"/>
  <Override PartName="/ppt/media/image181.gif" ContentType="image/gif"/>
  <Override PartName="/ppt/media/image189.jpeg" ContentType="image/jpeg"/>
  <Override PartName="/ppt/media/image151.wmf" ContentType="image/x-wmf"/>
  <Override PartName="/ppt/media/image148.wmf" ContentType="image/x-wmf"/>
  <Override PartName="/ppt/media/image161.jpeg" ContentType="image/jpeg"/>
  <Override PartName="/ppt/media/image132.jpeg" ContentType="image/jpeg"/>
  <Override PartName="/ppt/media/image142.wmf" ContentType="image/x-wmf"/>
  <Override PartName="/ppt/media/image23.png" ContentType="image/png"/>
  <Override PartName="/ppt/media/image160.gif" ContentType="image/gif"/>
  <Override PartName="/ppt/media/image51.jpeg" ContentType="image/jpeg"/>
  <Override PartName="/ppt/media/image146.wmf" ContentType="image/x-wmf"/>
  <Override PartName="/ppt/media/image154.gif" ContentType="image/gif"/>
  <Override PartName="/ppt/media/image167.jpeg" ContentType="image/jpeg"/>
  <Override PartName="/ppt/media/image149.wmf" ContentType="image/x-wmf"/>
  <Override PartName="/ppt/media/image147.wmf" ContentType="image/x-wmf"/>
  <Override PartName="/ppt/media/image145.wmf" ContentType="image/x-wmf"/>
  <Override PartName="/ppt/media/image26.png" ContentType="image/png"/>
  <Override PartName="/ppt/media/image138.gif" ContentType="image/gif"/>
  <Override PartName="/ppt/media/image55.jpeg" ContentType="image/jpeg"/>
  <Override PartName="/ppt/media/image163.wmf" ContentType="image/x-wmf"/>
  <Override PartName="/ppt/media/image24.wmf" ContentType="image/x-wmf"/>
  <Override PartName="/ppt/media/image186.wmf" ContentType="image/x-wmf"/>
  <Override PartName="/ppt/media/image38.jpeg" ContentType="image/jpeg"/>
  <Override PartName="/ppt/media/image97.jpeg" ContentType="image/jpeg"/>
  <Override PartName="/ppt/media/image53.jpeg" ContentType="image/jpeg"/>
  <Override PartName="/ppt/media/image143.wmf" ContentType="image/x-wmf"/>
  <Override PartName="/ppt/media/image6.gif" ContentType="image/gif"/>
  <Override PartName="/ppt/media/image122.jpeg" ContentType="image/jpeg"/>
  <Override PartName="/ppt/media/image52.jpeg" ContentType="image/jpeg"/>
  <Override PartName="/ppt/media/image133.wmf" ContentType="image/x-wmf"/>
  <Override PartName="/ppt/media/image18.wmf" ContentType="image/x-wmf"/>
  <Override PartName="/ppt/media/image48.jpeg" ContentType="image/jpeg"/>
  <Override PartName="/ppt/media/image77.jpeg" ContentType="image/jpeg"/>
  <Override PartName="/ppt/media/image190.wmf" ContentType="image/x-wmf"/>
  <Override PartName="/ppt/media/image157.wmf" ContentType="image/x-wmf"/>
  <Override PartName="/ppt/media/image5.wmf" ContentType="image/x-wmf"/>
  <Override PartName="/ppt/media/image80.wmf" ContentType="image/x-wmf"/>
  <Override PartName="/ppt/media/image86.jpeg" ContentType="image/jpeg"/>
  <Override PartName="/ppt/media/image106.jpeg" ContentType="image/jpeg"/>
  <Override PartName="/ppt/media/image31.gif" ContentType="image/gif"/>
  <Override PartName="/ppt/media/image9.gif" ContentType="image/gif"/>
  <Override PartName="/ppt/media/image69.jpeg" ContentType="image/jpeg"/>
  <Override PartName="/ppt/media/image13.gif" ContentType="image/gif"/>
  <Override PartName="/ppt/media/image37.jpeg" ContentType="image/jpeg"/>
  <Override PartName="/ppt/media/image49.jpeg" ContentType="image/jpeg"/>
  <Override PartName="/ppt/media/image28.wmf" ContentType="image/x-wmf"/>
  <Override PartName="/ppt/media/image36.jpeg" ContentType="image/jpeg"/>
  <Override PartName="/ppt/media/image2.jpeg" ContentType="image/jpeg"/>
  <Override PartName="/ppt/media/image34.wmf" ContentType="image/x-wmf"/>
  <Override PartName="/ppt/media/image156.wmf" ContentType="image/x-wmf"/>
  <Override PartName="/ppt/media/image4.wmf" ContentType="image/x-wmf"/>
  <Override PartName="/ppt/media/image41.jpeg" ContentType="image/jpeg"/>
  <Override PartName="/ppt/media/image16.wmf" ContentType="image/x-wmf"/>
  <Override PartName="/ppt/media/image66.jpeg" ContentType="image/jpeg"/>
  <Override PartName="/ppt/media/image87.jpeg" ContentType="image/jpeg"/>
  <Override PartName="/ppt/media/image107.jpeg" ContentType="image/jpeg"/>
  <Override PartName="/ppt/media/image180.jpeg" ContentType="image/jpeg"/>
  <Override PartName="/ppt/media/image165.wmf" ContentType="image/x-wmf"/>
  <Override PartName="/ppt/media/image1.jpeg" ContentType="image/jpeg"/>
  <Override PartName="/ppt/media/image89.jpeg" ContentType="image/jpeg"/>
  <Override PartName="/ppt/media/image45.jpeg" ContentType="image/jpeg"/>
  <Override PartName="/ppt/media/image92.jpeg" ContentType="image/jpeg"/>
  <Override PartName="/ppt/media/image19.jpeg" ContentType="image/jpeg"/>
  <Override PartName="/ppt/media/image188.jpeg" ContentType="image/jpeg"/>
  <Override PartName="/ppt/media/image171.gif" ContentType="image/gif"/>
  <Override PartName="/ppt/media/image59.wmf" ContentType="image/x-wmf"/>
  <Override PartName="/ppt/media/image1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8A9-F46D-4ACC-AB7B-4D8021A4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353-48F0-4965-AD96-E74B895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D9B-F731-4E51-AAC5-0C88196E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E66-585B-4D96-AC89-A5B8588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BE91-4A7C-49E1-84E4-C4340E6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4420-40AC-4C40-A84D-6033531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D31-262F-456D-BECD-81A04D1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154A-CBCD-4E4E-80A3-F9E641D0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5863-1C7B-45BE-AB73-A06AF16B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211-32CE-46F7-A442-40255790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782-C7AE-45FF-84AB-AD87D5F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D3A-4B76-4206-B105-F3C821A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F9A-DF55-4385-852B-FBDD083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EEEF-9711-458E-A222-BC0EBD1C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9349-7F50-4BBE-97E5-BD61B5A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5A7-EB25-4DB7-9962-839E017D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4785-93CD-449A-8428-C7361DE7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F04A-B139-4C6C-B8D1-4C0296C5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22D4-80FF-4F4C-8B1A-925F0C9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8E41-532F-47D2-9C13-5B467C00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F219-0ABC-4FC2-9B12-E457C8C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7014-FDA6-4CC8-854B-F7ACC0D6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7FA-A481-47C8-A169-F9B81650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D5E8-4A3C-4725-9E4D-B5B97FF6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D1DA-3D13-4F7D-B4AF-73EEB14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1141-B0B5-47F1-A72C-9DB69E5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D218-695A-491A-A40D-FF88187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AB54-16AA-405E-8143-26E32CF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4192D-61DA-47C9-A10D-5E97BBBC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2C31D-A1B8-4514-A485-99C44167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3E6-F7FC-47D1-9A12-989CDCC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1C2-7DEB-4559-8E70-63A2C1E1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7A2-5F35-4AE9-8542-CFCDFBAA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CB4-20CE-4BEC-B747-A842722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815-45E9-4B99-9F35-C88C351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81F-059C-40A1-BBB0-C0C6BCF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EBB3-7D5E-41F9-9E3B-ED2D8E4D99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8A2-7F52-4D7E-9812-82CE08FF74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179-8410-415A-A309-B68E96D4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image" Target="../media/image94.jpe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image" Target="../media/image110.jpe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jpeg"/><Relationship Id="rId3" Type="http://schemas.openxmlformats.org/officeDocument/2006/relationships/image" Target="../media/image117.jpeg"/><Relationship Id="rId4" Type="http://schemas.openxmlformats.org/officeDocument/2006/relationships/image" Target="../media/image118.jpe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7.png"/><Relationship Id="rId3" Type="http://schemas.openxmlformats.org/officeDocument/2006/relationships/image" Target="../media/image127.png"/><Relationship Id="rId4" Type="http://schemas.openxmlformats.org/officeDocument/2006/relationships/image" Target="../media/image127.png"/><Relationship Id="rId5" Type="http://schemas.openxmlformats.org/officeDocument/2006/relationships/image" Target="../media/image128.wmf"/><Relationship Id="rId6" Type="http://schemas.openxmlformats.org/officeDocument/2006/relationships/image" Target="../media/image3.wmf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wmf"/><Relationship Id="rId3" Type="http://schemas.openxmlformats.org/officeDocument/2006/relationships/image" Target="../media/image134.wmf"/><Relationship Id="rId4" Type="http://schemas.openxmlformats.org/officeDocument/2006/relationships/image" Target="../media/image135.wmf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gif"/><Relationship Id="rId3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8.gif"/><Relationship Id="rId2" Type="http://schemas.openxmlformats.org/officeDocument/2006/relationships/image" Target="../media/image139.gif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gif"/><Relationship Id="rId6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5.wmf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9.wmf"/><Relationship Id="rId2" Type="http://schemas.openxmlformats.org/officeDocument/2006/relationships/image" Target="../media/image150.wmf"/><Relationship Id="rId3" Type="http://schemas.openxmlformats.org/officeDocument/2006/relationships/image" Target="../media/image151.wmf"/><Relationship Id="rId4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image" Target="../media/image154.gif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0.wmf"/><Relationship Id="rId4" Type="http://schemas.openxmlformats.org/officeDocument/2006/relationships/image" Target="../media/image15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9.gif"/><Relationship Id="rId3" Type="http://schemas.openxmlformats.org/officeDocument/2006/relationships/image" Target="../media/image160.gif"/><Relationship Id="rId4" Type="http://schemas.openxmlformats.org/officeDocument/2006/relationships/image" Target="../media/image161.jpeg"/><Relationship Id="rId5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6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7.jpeg"/><Relationship Id="rId2" Type="http://schemas.openxmlformats.org/officeDocument/2006/relationships/image" Target="../media/image168.wmf"/><Relationship Id="rId3" Type="http://schemas.openxmlformats.org/officeDocument/2006/relationships/image" Target="../media/image169.wmf"/><Relationship Id="rId4" Type="http://schemas.openxmlformats.org/officeDocument/2006/relationships/slideLayout" Target="../slideLayouts/slideLayout3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0.gif"/><Relationship Id="rId2" Type="http://schemas.openxmlformats.org/officeDocument/2006/relationships/image" Target="../media/image171.gif"/><Relationship Id="rId3" Type="http://schemas.openxmlformats.org/officeDocument/2006/relationships/image" Target="../media/image172.gif"/><Relationship Id="rId4" Type="http://schemas.openxmlformats.org/officeDocument/2006/relationships/image" Target="../media/image173.wmf"/><Relationship Id="rId5" Type="http://schemas.openxmlformats.org/officeDocument/2006/relationships/image" Target="../media/image174.gif"/><Relationship Id="rId6" Type="http://schemas.openxmlformats.org/officeDocument/2006/relationships/image" Target="../media/image175.jpeg"/><Relationship Id="rId7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6.gif"/><Relationship Id="rId2" Type="http://schemas.openxmlformats.org/officeDocument/2006/relationships/image" Target="../media/image177.gif"/><Relationship Id="rId3" Type="http://schemas.openxmlformats.org/officeDocument/2006/relationships/image" Target="../media/image178.gif"/><Relationship Id="rId4" Type="http://schemas.openxmlformats.org/officeDocument/2006/relationships/image" Target="../media/image179.gif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gif"/><Relationship Id="rId3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2.jpeg"/><Relationship Id="rId2" Type="http://schemas.openxmlformats.org/officeDocument/2006/relationships/image" Target="../media/image183.wmf"/><Relationship Id="rId3" Type="http://schemas.openxmlformats.org/officeDocument/2006/relationships/image" Target="../media/image184.gif"/><Relationship Id="rId4" Type="http://schemas.openxmlformats.org/officeDocument/2006/relationships/image" Target="../media/image185.wmf"/><Relationship Id="rId5" Type="http://schemas.openxmlformats.org/officeDocument/2006/relationships/image" Target="../media/image186.wmf"/><Relationship Id="rId6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87.jpeg"/><Relationship Id="rId2" Type="http://schemas.openxmlformats.org/officeDocument/2006/relationships/image" Target="../media/image188.jpeg"/><Relationship Id="rId3" Type="http://schemas.openxmlformats.org/officeDocument/2006/relationships/image" Target="../media/image189.jpeg"/><Relationship Id="rId4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1.jpeg"/><Relationship Id="rId2" Type="http://schemas.openxmlformats.org/officeDocument/2006/relationships/image" Target="../media/image192.jpeg"/><Relationship Id="rId3" Type="http://schemas.openxmlformats.org/officeDocument/2006/relationships/image" Target="../media/image18.wmf"/><Relationship Id="rId4" Type="http://schemas.openxmlformats.org/officeDocument/2006/relationships/image" Target="../media/image159.gif"/><Relationship Id="rId5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685800"/>
            <a:ext cx="6408720" cy="55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A95A-F5BD-440B-97B3-2C33D4DE5DC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Футбол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как составляюща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здорового образа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84480" y="4724280"/>
            <a:ext cx="1441440" cy="172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4869000"/>
            <a:ext cx="2016000" cy="1533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5640" y="347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77080" y="494172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F9E7-9297-4140-8A58-2830DE76B481}" type="slidenum">
              <a:t>10</a:t>
            </a:fld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219640" y="836640"/>
            <a:ext cx="367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ич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не дае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ёшев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и не ценитс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так дорог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ка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здоровье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659480" cy="54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DE95-9E30-4452-89C7-62D96A8B5B7A}" type="slidenum">
              <a:t>11</a:t>
            </a:fld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епанов Владимир Викторо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341360"/>
            <a:ext cx="4248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5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шее, 199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боты – 3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занятия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тболу в ЦД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руппа - 1992-93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группа - 1995-96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нер по фу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ортив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Ш №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134136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513080" cy="129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EFCE-2E40-450A-91D1-56D6848D55E0}" type="slidenum">
              <a:t>12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120000" cy="529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C0E8-A0A8-41D7-9220-CC349FA171BB}" type="slidenum">
              <a:t>13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76280"/>
            <a:ext cx="698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2565360"/>
            <a:ext cx="7488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ОВАНИЕ</a:t>
            </a:r>
            <a:endParaRPr b="0" lang="en-US" sz="72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168720" cy="277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4564-D025-42DA-854F-66D06261210A}" type="slidenum">
              <a:t>14</a:t>
            </a:fld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4720" cy="475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95640" y="18900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ысше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80360" y="133200"/>
            <a:ext cx="1168200" cy="10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6735-988F-465F-89AD-C3D3B77AACCC}" type="slidenum">
              <a:t>15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урсы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овышения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валификаци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63188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206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8344-AECF-49F1-AB83-7A57FAFD8C94}" type="slidenum">
              <a:t>16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 специальност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54403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технолог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оздоровление учащихся средствам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7184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563560" cy="36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492360" y="2492280"/>
            <a:ext cx="2232000" cy="21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2472-2619-4837-825E-9909EA4A3662}" type="slidenum">
              <a:t>17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2708280"/>
            <a:ext cx="8713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МООБРАЗОВ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439640" cy="1141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101680" cy="134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016000" cy="1717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55640" y="404640"/>
            <a:ext cx="100332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4ADB5-C343-4634-9E76-67C70CBC9FE6}" type="slidenum">
              <a:t>18</a:t>
            </a:fld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гус Ж., «Шаг за шаго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ванов В.К., «Центральный круг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ипатов В.Г., «Правила игры в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Лобановский В.В., «Бесконечный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тто И.А., «Это 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атини М., «Жизнь как матч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онедельник В.В., «Штрафная площад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ссо Э., «Футбольный трене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ушков М.П., «Футбольный театр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есуненко И.С., «Чаша Маракан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илатов Л.И., «Тайна «Золотой богини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Харви Г., «Футбол для начинающих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умахер Т., «Свисток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женедельники «Футбол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FA5F5-0C89-4FC6-8C7A-A73872F2EAE1}" type="slidenum">
              <a:t>19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993300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9933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4764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A7D8-A1BF-42CE-98BB-C3A90AE107EF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26920" y="2060640"/>
            <a:ext cx="77058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рамоты 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Благодарности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Награжде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84000" cy="1346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316640" y="333360"/>
            <a:ext cx="13878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1C62-680C-4380-9108-463292A2F97B}" type="slidenum">
              <a:t>20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2593800" cy="367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548080" cy="36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1773360"/>
            <a:ext cx="2586240" cy="367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митет по физической культуре и спор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дминистрации городского округа «Город Йошкар-О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58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6093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 большой вклад в развитие детского футб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1A2D-376C-46A8-B269-0B18437FED64}" type="slidenum">
              <a:t>21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2276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добросовест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подрост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744640" cy="381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24000" y="18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вление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дминистрации городского округ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Город Йошкар-Ол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611352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0D9D0-4ACF-4639-8878-1384CB9850F8}" type="slidenum">
              <a:t>22</a:t>
            </a:fld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171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ноябре 2006 г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дстав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 г. Йошкар-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а соискание стипенд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«Для детских тренеров и организаторов физкультурно-воспитательной работы по месту жительства»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чреждённой Российским благотворительным фондом спортивных программ «Новое поколение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48360" cy="21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6ED1-7578-4371-B79E-91AC1946B92A}" type="slidenum">
              <a:t>23</a:t>
            </a:fld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455920" cy="28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2331-679C-4A14-81BA-66134321CB70}" type="slidenum">
              <a:t>24</a:t>
            </a:fld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5772240" cy="3795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4000" y="189000"/>
            <a:ext cx="81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Рождественский турни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по футболу на снег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реди дворовых коман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350028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Янв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6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5589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мбатх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DA4A7-FAFA-411E-8209-3BE68A8DCC94}" type="slidenum">
              <a:t>25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103640" cy="264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680000" cy="299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5E30-5A15-4C34-AA70-32BE47DF3137}" type="slidenum">
              <a:t>26</a:t>
            </a:fld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40720" cy="4438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0920" y="2556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Весенний кубок по мини-футб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9911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т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14FDC-8BB2-4C55-83A7-EDC4A644168A}" type="slidenum">
              <a:t>27</a:t>
            </a:fld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103640" cy="2754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103640" cy="269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638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32360" cy="265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C64F-0334-4332-8CCA-BD1279A04EAD}" type="slidenum">
              <a:t>28</a:t>
            </a:fld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82232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673440" cy="2550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35280" cy="2513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067280" y="3429000"/>
            <a:ext cx="4522680" cy="304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696C-3434-4491-A465-71AAFA03AA3E}" type="slidenum">
              <a:t>29</a:t>
            </a:fld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2492280"/>
            <a:ext cx="82072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ворче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тчё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5661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. Йошкар-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64000" y="189000"/>
            <a:ext cx="2376360" cy="20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63CB-94AE-4BEC-95A0-A54325CC5300}" type="slidenum">
              <a:t>3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263556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Показатели и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результаты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деятельност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8F3D-2CC5-40C4-82EE-4192FC7456E8}" type="slidenum">
              <a:t>30</a:t>
            </a:fld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16000" y="692280"/>
            <a:ext cx="4248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Городские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630600" cy="5256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3024000" cy="21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C17F-215A-457D-9A36-AA60E99452C0}" type="slidenum">
              <a:t>31</a:t>
            </a:fld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560680" cy="3600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84360" y="57340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адш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333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ской турнир на призы клуба «Кожаный мяч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633760" cy="3671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443640" y="5734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едня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5950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Июнь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2997360"/>
            <a:ext cx="30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9671-BF04-4C64-ABB6-C7BF9EAC9284}" type="slidenum">
              <a:t>32</a:t>
            </a:fld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16360" cy="286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6D23-559E-4BF1-8A8A-9D43FF5811E3}" type="slidenum">
              <a:t>33</a:t>
            </a:fld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17640" y="5554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а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73560" cy="597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940360" y="2133720"/>
            <a:ext cx="240048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3124-1544-4C88-A85B-4252C3EE8081}" type="slidenum">
              <a:t>34</a:t>
            </a:fld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2144520" cy="3024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8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астафари - 200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59640" y="3068640"/>
            <a:ext cx="2066760" cy="3025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614760" y="3068640"/>
            <a:ext cx="2136600" cy="3024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9640" y="206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1557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рафон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2060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афон 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2133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мес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6184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138B-EE06-44AA-8009-B26A3DE4B1F8}" type="slidenum">
              <a:t>35</a:t>
            </a:fld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57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День физкультур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44840" cy="3457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476360" y="59500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08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520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12000" y="5950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03.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5300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18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Спорт-экспре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Йошкар-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8560" y="5300640"/>
            <a:ext cx="14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3722-75C2-46AB-8F3D-57A2FC5500D7}" type="slidenum">
              <a:t>36</a:t>
            </a:fld>
          </a:p>
        </p:txBody>
      </p:sp>
    </p:spTree>
  </p:cSld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ервенство города среди школьни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мини-футбол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97080" cy="43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E18B-BB6C-4030-BFCF-2504B541BC16}" type="slidenum">
              <a:t>37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3044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893960" cy="2808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877080" y="1989000"/>
            <a:ext cx="1967040" cy="281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360" y="234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н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«Марафон – 28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4941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4941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атар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18E1-1D4C-4D20-8806-1248DFF2130B}" type="slidenum">
              <a:t>38</a:t>
            </a:fld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0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4032360" cy="29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3960720" cy="2984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9280" y="62928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бедители!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236000" y="333360"/>
            <a:ext cx="146196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0AB1-C9EB-4396-8048-23CF49513B9C}" type="slidenum">
              <a:t>39</a:t>
            </a:fld>
          </a:p>
        </p:txBody>
      </p:sp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765000"/>
            <a:ext cx="7416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Центр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ополнительного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образовани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детей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5877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4 - 2006 г.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77080" y="333360"/>
            <a:ext cx="18003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E12E-4803-41DA-BFAC-6B14D82D5D00}" type="slidenum">
              <a:t>4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Республиканские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турнир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771640" y="2492280"/>
          <a:ext cx="3541680" cy="36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92280"/>
                    <a:ext cx="354168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7D47-8BB4-4A2D-A9E2-D942D6E6C378}" type="slidenum">
              <a:t>40</a:t>
            </a:fld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0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урнир на призы клуба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2 место по РМ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5904000" cy="180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48360" y="2924280"/>
            <a:ext cx="174780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B4B2-282F-4169-9270-2D94F389AD87}" type="slidenum">
              <a:t>41</a:t>
            </a:fld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79280" y="3933720"/>
            <a:ext cx="74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Российски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соревнован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178A-6DBF-4A24-B98B-670B8F530699}" type="slidenum">
              <a:t>42</a:t>
            </a:fld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2911680" cy="4321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24560" y="1413000"/>
            <a:ext cx="426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ород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при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Д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 Спортив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сс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58920" y="602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Нижний Новгород,  март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385A-39F9-4AD9-91A1-34A62BF636C7}" type="slidenum">
              <a:t>43</a:t>
            </a:fld>
          </a:p>
        </p:txBody>
      </p:sp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302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урни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род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волжья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28840" cy="3240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5584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236556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27480" y="333360"/>
            <a:ext cx="49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ес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88000" y="580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Август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2376720" cy="1416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240" y="50846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г. Шумер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DA95-DB83-4F2B-AFE8-BAC059D15340}" type="slidenum">
              <a:t>44</a:t>
            </a:fld>
          </a:p>
        </p:txBody>
      </p:sp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0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039920" cy="568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148360" y="758880"/>
            <a:ext cx="3456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сероссий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он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урни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из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луб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Кожаный мяч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юль 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8703-FDF9-4521-B0BF-25E8369AA585}" type="slidenum">
              <a:t>45</a:t>
            </a:fld>
          </a:p>
        </p:txBody>
      </p:sp>
    </p:spTree>
  </p:cSld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0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595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-23 июля 2006 года - Стадион «Строител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9071-8481-4CD1-B76A-9349FE4D185A}" type="slidenum">
              <a:t>46</a:t>
            </a:fld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71640" y="907920"/>
            <a:ext cx="7272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ФОТОРЕПОРТАЖ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рреспондент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азеты 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"Йошкар-Ола"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Андрея Антонова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44144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76FE-BACC-43AE-9062-B5B864DCDE97}" type="slidenum">
              <a:t>47</a:t>
            </a:fld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932360" y="423720"/>
            <a:ext cx="3816360" cy="2772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745080" cy="2862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889440" cy="28461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74472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9C8E-CEFB-4E58-87C3-3EF29712002C}" type="slidenum">
              <a:t>48</a:t>
            </a:fld>
          </a:p>
        </p:txBody>
      </p:sp>
    </p:spTree>
  </p:cSld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0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3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888000" cy="2846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807000" cy="28558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468360" y="359100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816360" cy="29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8496-B58F-4043-AA0B-2027C430DB61}" type="slidenum">
              <a:t>49</a:t>
            </a:fld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836640"/>
            <a:ext cx="835344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тепан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икторо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F7FC-C4F5-4827-A3C0-9E84240F990D}" type="slidenum">
              <a:t>5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814560" cy="2808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68677-6CE3-4609-A7D4-64429473DE7F}" type="slidenum">
              <a:t>50</a:t>
            </a:fld>
          </a:p>
        </p:txBody>
      </p:sp>
    </p:spTree>
  </p:cSld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003640" y="36608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33B3-45C1-4664-87DA-F1059F97820B}" type="slidenum">
              <a:t>51</a:t>
            </a:fld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39640" y="3627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380700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3453-0A77-439E-BBC1-BD0B167E01A9}" type="slidenum">
              <a:t>52</a:t>
            </a:fld>
          </a:p>
        </p:txBody>
      </p:sp>
    </p:spTree>
  </p:cSld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878280" cy="2908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F2F3-CAF9-44C9-B24D-553CFF005F0C}" type="slidenum">
              <a:t>53</a:t>
            </a:fld>
          </a:p>
        </p:txBody>
      </p:sp>
    </p:spTree>
  </p:cSld>
  <p:timing>
    <p:tnLst>
      <p:par>
        <p:cTn id="1834" dur="indefinite" restart="never" nodeType="tmRoot">
          <p:childTnLst>
            <p:seq>
              <p:cTn id="1835" dur="indefinite" nodeType="mainSeq">
                <p:childTnLst>
                  <p:par>
                    <p:cTn id="1836" fill="hold">
                      <p:stCondLst>
                        <p:cond delay="0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45080" cy="2738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F8F8-CFBA-4D4A-9D85-CB25988E378B}" type="slidenum">
              <a:t>54</a:t>
            </a:fld>
          </a:p>
        </p:txBody>
      </p:sp>
    </p:spTree>
  </p:cSld>
  <p:timing>
    <p:tnLst>
      <p:par>
        <p:cTn id="1865" dur="indefinite" restart="never" nodeType="tmRoot">
          <p:childTnLst>
            <p:seq>
              <p:cTn id="1866" dur="indefinite" nodeType="mainSeq">
                <p:childTnLst>
                  <p:par>
                    <p:cTn id="1867" fill="hold">
                      <p:stCondLst>
                        <p:cond delay="0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73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788000" y="364500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65F1-3F7D-4F82-A154-99A569594599}" type="slidenum">
              <a:t>55</a:t>
            </a:fld>
          </a:p>
        </p:txBody>
      </p:sp>
    </p:spTree>
  </p:cSld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022640" cy="30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6E7D-FC26-439C-AAC6-2AB45494D6F6}" type="slidenum">
              <a:t>56</a:t>
            </a:fld>
          </a:p>
        </p:txBody>
      </p:sp>
    </p:spTree>
  </p:cSld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0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256360" cy="3754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4000" y="153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ННОВАЦИОН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32000" y="551664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ДЕЯТЕЛЬНОС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973A-F0F0-4A18-AC3F-BD0158FA9C2A}" type="slidenum">
              <a:t>57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360" y="1557360"/>
            <a:ext cx="820728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Спортивны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класс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732720" y="476280"/>
            <a:ext cx="1073160" cy="11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7093080" y="4365720"/>
            <a:ext cx="1631880" cy="1800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468360" y="4076640"/>
            <a:ext cx="1616040" cy="2016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619280" y="434880"/>
            <a:ext cx="158436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1017-3A32-4A3D-AE43-94828B200F36}" type="slidenum">
              <a:t>58</a:t>
            </a:fld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76720" y="4653000"/>
            <a:ext cx="54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1 сентября 2006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Трен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утбольного 6 кл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школы №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C03-239E-4750-8229-32B599E719B2}" type="slidenum">
              <a:t>59</a:t>
            </a:fld>
          </a:p>
        </p:txBody>
      </p:sp>
    </p:spTree>
  </p:cSld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Физическая культу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ичто т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льно не разрушает человека, как продолжитель-ное физическое бездействи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ристо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176720" cy="399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237440" y="4437000"/>
            <a:ext cx="135900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E103-CC1B-4976-A900-DD6A19376B59}" type="slidenum">
              <a:t>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иректор школ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горный Сергей Ивано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ректор высшей катего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01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F5A30-FEA2-4235-B0F8-2E7A7446C01E}" type="slidenum">
              <a:t>60</a:t>
            </a:fld>
          </a:p>
        </p:txBody>
      </p:sp>
    </p:spTree>
  </p:cSld>
  <p:timing>
    <p:tnLst>
      <p:par>
        <p:cTn id="2029" dur="indefinite" restart="never" nodeType="tmRoot">
          <p:childTnLst>
            <p:seq>
              <p:cTn id="2030" dur="indefinite" nodeType="mainSeq">
                <p:childTnLst>
                  <p:par>
                    <p:cTn id="2031" fill="hold">
                      <p:stCondLst>
                        <p:cond delay="0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546880" cy="3727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48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Марафон - 28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84720" y="33336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оман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D47-67E2-402B-B1CF-125C2E4CAEA0}" type="slidenum">
              <a:t>61</a:t>
            </a:fld>
          </a:p>
        </p:txBody>
      </p:sp>
    </p:spTree>
  </p:cSld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fill="hold">
                      <p:stCondLst>
                        <p:cond delay="0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71640" y="620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Тренер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воспитатель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друг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95280" y="4869000"/>
            <a:ext cx="1503360" cy="1584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84320" cy="1297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451640" y="549360"/>
            <a:ext cx="1079640" cy="13446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1811520" cy="14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B261-45C3-4E2A-BE09-95E3A78E7B60}" type="slidenum">
              <a:t>62</a:t>
            </a:fld>
          </a:p>
        </p:txBody>
      </p:sp>
    </p:spTree>
  </p:cSld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2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6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765000"/>
            <a:ext cx="8136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жеднев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ухраз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ениров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726920" cy="164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B2F4-F3D9-4E8C-8094-7BE6E8370746}" type="slidenum">
              <a:t>63</a:t>
            </a:fld>
          </a:p>
        </p:txBody>
      </p:sp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907920"/>
            <a:ext cx="799308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оретическ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н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948360" y="4005360"/>
            <a:ext cx="1873440" cy="24667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440000" cy="119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CAFA-2E9E-420D-84B4-FB58CE6B6F13}" type="slidenum">
              <a:t>64</a:t>
            </a:fld>
          </a:p>
        </p:txBody>
      </p:sp>
    </p:spTree>
  </p:cSld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430200"/>
            <a:ext cx="1965240" cy="1628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942920" cy="1668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1500120" cy="1611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395280" y="0"/>
            <a:ext cx="79218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списани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1224000" cy="1218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7020000" y="40464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FA2D-58D6-48C4-A55B-16EF5BA5447C}" type="slidenum">
              <a:t>65</a:t>
            </a:fld>
          </a:p>
        </p:txBody>
      </p:sp>
    </p:spTree>
  </p:cSld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0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728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-396720" y="1700280"/>
            <a:ext cx="90010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упп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длённог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н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6156360" y="4378320"/>
            <a:ext cx="2519280" cy="17859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944720" cy="1406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6732720" y="260280"/>
            <a:ext cx="1511280" cy="150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D19D-73AD-4B21-9BB2-D30AFB40A993}" type="slidenum">
              <a:t>66</a:t>
            </a:fld>
          </a:p>
        </p:txBody>
      </p:sp>
    </p:spTree>
  </p:cSld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0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0" y="765000"/>
            <a:ext cx="8172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некласс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роприят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11640" y="5013360"/>
            <a:ext cx="1728720" cy="1484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588000" y="4962600"/>
            <a:ext cx="2165400" cy="16002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116064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BD47-C130-4742-8362-6439CCD56469}" type="slidenum">
              <a:t>67</a:t>
            </a:fld>
          </a:p>
        </p:txBody>
      </p:sp>
    </p:spTree>
  </p:cSld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0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3720" cy="184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779480" cy="183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900080" cy="166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47640" y="1125360"/>
            <a:ext cx="60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настольном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теннис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C464-C420-4A25-A8DB-DA57256BB3F1}" type="slidenum">
              <a:t>68</a:t>
            </a:fld>
          </a:p>
        </p:txBody>
      </p:sp>
    </p:spTree>
  </p:cSld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0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68360" y="290520"/>
            <a:ext cx="1763640" cy="1071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7093080" y="5141880"/>
            <a:ext cx="1800000" cy="1392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бильярд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1730520" cy="171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694A-3935-4C64-9C8D-A96E4401101A}" type="slidenum">
              <a:t>69</a:t>
            </a:fld>
          </a:p>
        </p:txBody>
      </p:sp>
    </p:spTree>
  </p:cSld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Недостаточно закалять душу ребёнка, столь же необходимо закалять и его мышц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66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98E0-7DA8-44B1-8CB8-F4B7BB9BA753}" type="slidenum">
              <a:t>7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905120" y="1268280"/>
            <a:ext cx="5403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п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футбол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00360" cy="1373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1612800" cy="1628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68360" y="4508640"/>
            <a:ext cx="1503360" cy="18716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7102440" y="4724280"/>
            <a:ext cx="1590840" cy="17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752D-F390-4076-A9B8-3F36FE7A3DB4}" type="slidenum">
              <a:t>70</a:t>
            </a:fld>
          </a:p>
        </p:txBody>
      </p:sp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981000"/>
            <a:ext cx="558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Стрельб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и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боевог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оруж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732720" y="4651200"/>
            <a:ext cx="2016000" cy="16718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393560" cy="208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1303200" cy="2106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539640" y="620640"/>
            <a:ext cx="158112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5314-CB76-42B2-9479-367C2D976E10}" type="slidenum">
              <a:t>71</a:t>
            </a:fld>
          </a:p>
        </p:txBody>
      </p:sp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950"/>
                            </p:stCondLst>
                            <p:childTnLst>
                              <p:par>
                                <p:cTn id="2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8" fill="hold">
                            <p:stCondLst>
                              <p:cond delay="1950"/>
                            </p:stCondLst>
                            <p:childTnLst>
                              <p:par>
                                <p:cTn id="2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950"/>
                            </p:stCondLst>
                            <p:childTnLst>
                              <p:par>
                                <p:cTn id="2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3950"/>
                            </p:stCondLst>
                            <p:childTnLst>
                              <p:par>
                                <p:cTn id="2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47640" y="4005360"/>
            <a:ext cx="26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42920" y="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Турниры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 шашка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688000" cy="40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B8D9-1AFD-4BC4-B0D5-421ED71A0424}" type="slidenum">
              <a:t>72</a:t>
            </a:fld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50"/>
                            </p:stCondLst>
                            <p:childTnLst>
                              <p:par>
                                <p:cTn id="2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950"/>
                            </p:stCondLst>
                            <p:childTnLst>
                              <p:par>
                                <p:cTn id="25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68360" y="333360"/>
            <a:ext cx="6407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3300"/>
                </a:solidFill>
                <a:latin typeface="Times New Roman"/>
              </a:rPr>
              <a:t>Ледовый Дворец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2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атание на конь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Посещение хоккейных мат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6049800" cy="2901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1655640" cy="15066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32084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8D62-8E9E-46E9-BA38-C2D2CA18DF85}" type="slidenum">
              <a:t>73</a:t>
            </a:fld>
          </a:p>
        </p:txBody>
      </p:sp>
    </p:spTree>
  </p:cSld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0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Укрепление здоровь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96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сауны с куп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тание на лыж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сещение аквапарка города Каза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936720" cy="8874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292720" y="5229360"/>
            <a:ext cx="1297080" cy="1168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800360" cy="1714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7020000" y="4724280"/>
            <a:ext cx="1793880" cy="17989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6659640" y="3068640"/>
            <a:ext cx="1492200" cy="1425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6300720" y="1628640"/>
            <a:ext cx="172728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CCA7-E3BD-4193-9EC5-ED7023C68C32}" type="slidenum">
              <a:t>74</a:t>
            </a:fld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9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3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4" dur="8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3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4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5" dur="8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403280" y="765000"/>
            <a:ext cx="648180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летних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герях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1513080" cy="1361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1692000" cy="1127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40720" y="551664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395280" y="62064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68F6-78EB-4750-92BF-255827A2641C}" type="slidenum">
              <a:t>75</a:t>
            </a:fld>
          </a:p>
        </p:txBody>
      </p:sp>
    </p:spTree>
  </p:cSld>
  <p:timing>
    <p:tnLst>
      <p:par>
        <p:cTn id="2687" dur="indefinite" restart="never" nodeType="tmRoot">
          <p:childTnLst>
            <p:seq>
              <p:cTn id="2688" dur="indefinite" nodeType="mainSeq">
                <p:childTnLst>
                  <p:par>
                    <p:cTn id="2689" fill="hold">
                      <p:stCondLst>
                        <p:cond delay="0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fill="hold">
                      <p:stCondLst>
                        <p:cond delay="indefinite"/>
                      </p:stCondLst>
                      <p:childTnLst>
                        <p:par>
                          <p:cTn id="2713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0" fill="hold">
                      <p:stCondLst>
                        <p:cond delay="indefinite"/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54840" cy="4637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979640" y="333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Тренируемся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192320" cy="157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DDA9-E29F-48C5-8948-596833B36B80}" type="slidenum">
              <a:t>76</a:t>
            </a:fld>
          </a:p>
        </p:txBody>
      </p:sp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6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50920" y="404640"/>
            <a:ext cx="51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Отдыхаем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769080" cy="4452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657440" cy="11476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7380360" y="404640"/>
            <a:ext cx="136836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659640" y="3213000"/>
            <a:ext cx="72072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8575-EA8C-4F4B-8B55-698B525B40E3}" type="slidenum">
              <a:t>77</a:t>
            </a:fld>
          </a:p>
        </p:txBody>
      </p:sp>
    </p:spTree>
  </p:cSld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405240" cy="482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867280" y="3284640"/>
            <a:ext cx="2122560" cy="19731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61928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За хорошую работу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5508720" y="836640"/>
            <a:ext cx="2663640" cy="19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035C-28CC-457C-8025-2DC63C457332}" type="slidenum">
              <a:t>78</a:t>
            </a:fld>
          </a:p>
        </p:txBody>
      </p:sp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1125360"/>
            <a:ext cx="867564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бщественная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5157720"/>
            <a:ext cx="554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5300640"/>
            <a:ext cx="165744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7212-4905-46DD-950A-A67584669859}" type="slidenum">
              <a:t>79</a:t>
            </a:fld>
          </a:p>
        </p:txBody>
      </p:sp>
    </p:spTree>
  </p:cSld>
  <p:timing>
    <p:tnLst>
      <p:par>
        <p:cTn id="2828" dur="indefinite" restart="never" nodeType="tmRoot">
          <p:childTnLst>
            <p:seq>
              <p:cTn id="2829" dur="indefinite" nodeType="mainSeq">
                <p:childTnLst>
                  <p:par>
                    <p:cTn id="2830" fill="hold">
                      <p:stCondLst>
                        <p:cond delay="0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0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СПОР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292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орошее здоровье, ощущение полноты и неистощимости физических си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жнейший источник жизнерадос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осприят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птимизма, готовности преодолеть любые трудност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.А. Сухомлински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5480" y="3639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0FBB-F2F9-458F-ABE7-EE0E6461E609}" type="slidenum">
              <a:t>8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55640" y="1700280"/>
            <a:ext cx="806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Благоустрой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школьного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Impact"/>
              </a:rPr>
              <a:t>стадио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324000" y="5157720"/>
            <a:ext cx="1800000" cy="1373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6734160" y="4437000"/>
            <a:ext cx="1827360" cy="184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CCBD-9D13-465E-8A4E-E290F62FCC22}" type="slidenum">
              <a:t>80</a:t>
            </a:fld>
          </a:p>
        </p:txBody>
      </p:sp>
    </p:spTree>
  </p:cSld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0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60280"/>
            <a:ext cx="8280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обретен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о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798560" cy="1873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443640" y="4724280"/>
            <a:ext cx="2376360" cy="18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E163-7095-4E82-8CEA-24ABC479683F}" type="slidenum">
              <a:t>81</a:t>
            </a:fld>
          </a:p>
        </p:txBody>
      </p:sp>
    </p:spTree>
  </p:cSld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0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E41D-AAEC-49F1-8202-392460698FCB}" type="slidenum">
              <a:t>82</a:t>
            </a:fld>
          </a:p>
        </p:txBody>
      </p:sp>
    </p:spTree>
  </p:cSld>
  <p:timing>
    <p:tnLst>
      <p:par>
        <p:cTn id="2920" dur="indefinite" restart="never" nodeType="tmRoot">
          <p:childTnLst>
            <p:seq>
              <p:cTn id="2921" dur="indefinite" nodeType="mainSeq">
                <p:childTnLst>
                  <p:par>
                    <p:cTn id="2922" fill="hold">
                      <p:stCondLst>
                        <p:cond delay="0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1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6856560" y="3860640"/>
            <a:ext cx="1982520" cy="27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A42A-6D42-4639-B69D-D74C3AF72972}" type="slidenum">
              <a:t>83</a:t>
            </a:fld>
          </a:p>
        </p:txBody>
      </p:sp>
    </p:spTree>
  </p:cSld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a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692280"/>
            <a:ext cx="813600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утбол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2952720" cy="2438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125568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F89B-AE75-4668-88B4-267A6C69C1F7}" type="slidenum">
              <a:t>9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21T17:50:23Z</dcterms:modified>
  <cp:revision>408</cp:revision>
  <dc:subject/>
  <dc:title>Федерация интернет Образования</dc:title>
</cp:coreProperties>
</file>