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78.gif" ContentType="image/gif"/>
  <Override PartName="/ppt/media/image123.jpeg" ContentType="image/jpeg"/>
  <Override PartName="/ppt/media/image115.jpeg" ContentType="image/jpeg"/>
  <Override PartName="/ppt/media/image67.png" ContentType="image/png"/>
  <Override PartName="/ppt/media/image134.wmf" ContentType="image/x-wmf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182.jpeg" ContentType="image/jpeg"/>
  <Override PartName="/ppt/media/image117.jpeg" ContentType="image/jpeg"/>
  <Override PartName="/ppt/media/image100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22.png" ContentType="image/png"/>
  <Override PartName="/ppt/media/image111.jpeg" ContentType="image/jpeg"/>
  <Override PartName="/ppt/media/image162.wmf" ContentType="image/x-wmf"/>
  <Override PartName="/ppt/media/image91.jpeg" ContentType="image/jpeg"/>
  <Override PartName="/ppt/media/image110.jpeg" ContentType="image/jpeg"/>
  <Override PartName="/ppt/media/image152.wmf" ContentType="image/x-wmf"/>
  <Override PartName="/ppt/media/image90.jpeg" ContentType="image/jpeg"/>
  <Override PartName="/ppt/media/image105.jpeg" ContentType="image/jpeg"/>
  <Override PartName="/ppt/media/image27.wmf" ContentType="image/x-wmf"/>
  <Override PartName="/ppt/media/image85.jpeg" ContentType="image/jpeg"/>
  <Override PartName="/ppt/media/image103.jpeg" ContentType="image/jpeg"/>
  <Override PartName="/ppt/media/image83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79.wmf" ContentType="image/x-wmf"/>
  <Override PartName="/ppt/media/image75.jpeg" ContentType="image/jpeg"/>
  <Override PartName="/ppt/media/image73.jpeg" ContentType="image/jpeg"/>
  <Override PartName="/ppt/media/image15.png" ContentType="image/png"/>
  <Override PartName="/ppt/media/image150.wmf" ContentType="image/x-wmf"/>
  <Override PartName="/ppt/media/image72.jpeg" ContentType="image/jpeg"/>
  <Override PartName="/ppt/media/image140.wmf" ContentType="image/x-wmf"/>
  <Override PartName="/ppt/media/image71.jpeg" ContentType="image/jpeg"/>
  <Override PartName="/ppt/media/image70.jpeg" ContentType="image/jpeg"/>
  <Override PartName="/ppt/media/image68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43.wmf" ContentType="image/x-wmf"/>
  <Override PartName="/ppt/media/image62.jpeg" ContentType="image/jpeg"/>
  <Override PartName="/ppt/media/image33.wmf" ContentType="image/x-wmf"/>
  <Override PartName="/ppt/media/image78.jpeg" ContentType="image/jpeg"/>
  <Override PartName="/ppt/media/image61.jpeg" ContentType="image/jpeg"/>
  <Override PartName="/ppt/media/image108.jpeg" ContentType="image/jpeg"/>
  <Override PartName="/ppt/media/image88.jpeg" ContentType="image/jpeg"/>
  <Override PartName="/ppt/media/image32.wmf" ContentType="image/x-wmf"/>
  <Override PartName="/ppt/media/image29.jpeg" ContentType="image/jpeg"/>
  <Override PartName="/ppt/media/image7.gif" ContentType="image/gif"/>
  <Override PartName="/ppt/media/image159.gif" ContentType="image/gif"/>
  <Override PartName="/ppt/media/image121.jpeg" ContentType="image/jpeg"/>
  <Override PartName="/ppt/media/image104.jpeg" ContentType="image/jpeg"/>
  <Override PartName="/ppt/media/image17.wmf" ContentType="image/x-wmf"/>
  <Override PartName="/ppt/media/image84.jpeg" ContentType="image/jpeg"/>
  <Override PartName="/ppt/media/image25.jpeg" ContentType="image/jpeg"/>
  <Override PartName="/ppt/media/image187.jpeg" ContentType="image/jpeg"/>
  <Override PartName="/ppt/media/image35.gif" ContentType="image/gif"/>
  <Override PartName="/ppt/media/image44.jpeg" ContentType="image/jpeg"/>
  <Override PartName="/ppt/media/image47.jpeg" ContentType="image/jpeg"/>
  <Override PartName="/ppt/media/image8.gif" ContentType="image/gif"/>
  <Override PartName="/ppt/media/image54.jpeg" ContentType="image/jpeg"/>
  <Override PartName="/ppt/media/image153.wmf" ContentType="image/x-wmf"/>
  <Override PartName="/ppt/media/image74.jpeg" ContentType="image/jpeg"/>
  <Override PartName="/ppt/media/image57.jpeg" ContentType="image/jpeg"/>
  <Override PartName="/ppt/media/image183.wmf" ContentType="image/x-wmf"/>
  <Override PartName="/ppt/media/image21.wmf" ContentType="image/x-wmf"/>
  <Override PartName="/ppt/media/image60.jpeg" ContentType="image/jpeg"/>
  <Override PartName="/ppt/media/image46.jpeg" ContentType="image/jpeg"/>
  <Override PartName="/ppt/media/image3.wmf" ContentType="image/x-wmf"/>
  <Override PartName="/ppt/media/image155.wmf" ContentType="image/x-wmf"/>
  <Override PartName="/ppt/media/image194.wmf" ContentType="image/x-wmf"/>
  <Override PartName="/ppt/media/image101.jpeg" ContentType="image/jpeg"/>
  <Override PartName="/ppt/media/image129.wmf" ContentType="image/x-wmf"/>
  <Override PartName="/ppt/media/image175.jpeg" ContentType="image/jpeg"/>
  <Override PartName="/ppt/media/image50.jpeg" ContentType="image/jpeg"/>
  <Override PartName="/ppt/media/image176.gif" ContentType="image/gif"/>
  <Override PartName="/ppt/media/image14.gif" ContentType="image/gif"/>
  <Override PartName="/ppt/media/image98.jpeg" ContentType="image/jpeg"/>
  <Override PartName="/ppt/media/image120.jpeg" ContentType="image/jpeg"/>
  <Override PartName="/ppt/media/image185.wmf" ContentType="image/x-wmf"/>
  <Override PartName="/ppt/media/image136.wmf" ContentType="image/x-wmf"/>
  <Override PartName="/ppt/media/image195.jpeg" ContentType="image/jpeg"/>
  <Override PartName="/ppt/media/image39.jpeg" ContentType="image/jpeg"/>
  <Override PartName="/ppt/media/image128.wmf" ContentType="image/x-wmf"/>
  <Override PartName="/ppt/media/image58.png" ContentType="image/png"/>
  <Override PartName="/ppt/media/image193.wmf" ContentType="image/x-wmf"/>
  <Override PartName="/ppt/media/image40.jpeg" ContentType="image/jpeg"/>
  <Override PartName="/ppt/media/image174.gif" ContentType="image/gif"/>
  <Override PartName="/ppt/media/image12.gif" ContentType="image/gif"/>
  <Override PartName="/ppt/media/image112.jpeg" ContentType="image/jpeg"/>
  <Override PartName="/ppt/media/image137.gif" ContentType="image/gif"/>
  <Override PartName="/ppt/media/image131.jpeg" ContentType="image/jpeg"/>
  <Override PartName="/ppt/media/image172.gif" ContentType="image/gif"/>
  <Override PartName="/ppt/media/image10.gif" ContentType="image/gif"/>
  <Override PartName="/ppt/media/image168.wmf" ContentType="image/x-wmf"/>
  <Override PartName="/ppt/media/image56.jpeg" ContentType="image/jpeg"/>
  <Override PartName="/ppt/media/image173.wmf" ContentType="image/x-wmf"/>
  <Override PartName="/ppt/media/image11.wmf" ContentType="image/x-wmf"/>
  <Override PartName="/ppt/media/image76.jpeg" ContentType="image/jpeg"/>
  <Override PartName="/ppt/media/image177.gif" ContentType="image/gif"/>
  <Override PartName="/ppt/media/image42.jpeg" ContentType="image/jpeg"/>
  <Override PartName="/ppt/media/image179.gif" ContentType="image/gif"/>
  <Override PartName="/ppt/media/image135.wmf" ContentType="image/x-wmf"/>
  <Override PartName="/ppt/media/image81.png" ContentType="image/png"/>
  <Override PartName="/ppt/media/image139.gif" ContentType="image/gif"/>
  <Override PartName="/ppt/media/image191.jpeg" ContentType="image/jpeg"/>
  <Override PartName="/ppt/media/image118.jpeg" ContentType="image/jpeg"/>
  <Override PartName="/ppt/media/image164.wmf" ContentType="image/x-wmf"/>
  <Override PartName="/ppt/media/image141.wmf" ContentType="image/x-wmf"/>
  <Override PartName="/ppt/media/image144.gif" ContentType="image/gif"/>
  <Override PartName="/ppt/media/image130.png" ContentType="image/png"/>
  <Override PartName="/ppt/media/image166.jpeg" ContentType="image/jpeg"/>
  <Override PartName="/ppt/media/image169.wmf" ContentType="image/x-wmf"/>
  <Override PartName="/ppt/media/image158.wmf" ContentType="image/x-wmf"/>
  <Override PartName="/ppt/media/image184.gif" ContentType="image/gif"/>
  <Override PartName="/ppt/media/image170.gif" ContentType="image/gif"/>
  <Override PartName="/ppt/media/image181.gif" ContentType="image/gif"/>
  <Override PartName="/ppt/media/image189.jpeg" ContentType="image/jpeg"/>
  <Override PartName="/ppt/media/image151.wmf" ContentType="image/x-wmf"/>
  <Override PartName="/ppt/media/image148.wmf" ContentType="image/x-wmf"/>
  <Override PartName="/ppt/media/image161.jpeg" ContentType="image/jpeg"/>
  <Override PartName="/ppt/media/image132.jpeg" ContentType="image/jpeg"/>
  <Override PartName="/ppt/media/image142.wmf" ContentType="image/x-wmf"/>
  <Override PartName="/ppt/media/image23.png" ContentType="image/png"/>
  <Override PartName="/ppt/media/image160.gif" ContentType="image/gif"/>
  <Override PartName="/ppt/media/image51.jpeg" ContentType="image/jpeg"/>
  <Override PartName="/ppt/media/image146.wmf" ContentType="image/x-wmf"/>
  <Override PartName="/ppt/media/image154.gif" ContentType="image/gif"/>
  <Override PartName="/ppt/media/image167.jpeg" ContentType="image/jpeg"/>
  <Override PartName="/ppt/media/image149.wmf" ContentType="image/x-wmf"/>
  <Override PartName="/ppt/media/image147.wmf" ContentType="image/x-wmf"/>
  <Override PartName="/ppt/media/image145.wmf" ContentType="image/x-wmf"/>
  <Override PartName="/ppt/media/image26.png" ContentType="image/png"/>
  <Override PartName="/ppt/media/image138.gif" ContentType="image/gif"/>
  <Override PartName="/ppt/media/image55.jpeg" ContentType="image/jpeg"/>
  <Override PartName="/ppt/media/image163.wmf" ContentType="image/x-wmf"/>
  <Override PartName="/ppt/media/image24.wmf" ContentType="image/x-wmf"/>
  <Override PartName="/ppt/media/image186.wmf" ContentType="image/x-wmf"/>
  <Override PartName="/ppt/media/image38.jpeg" ContentType="image/jpeg"/>
  <Override PartName="/ppt/media/image97.jpeg" ContentType="image/jpeg"/>
  <Override PartName="/ppt/media/image53.jpeg" ContentType="image/jpeg"/>
  <Override PartName="/ppt/media/image143.wmf" ContentType="image/x-wmf"/>
  <Override PartName="/ppt/media/image6.gif" ContentType="image/gif"/>
  <Override PartName="/ppt/media/image122.jpeg" ContentType="image/jpeg"/>
  <Override PartName="/ppt/media/image52.jpeg" ContentType="image/jpeg"/>
  <Override PartName="/ppt/media/image133.wmf" ContentType="image/x-wmf"/>
  <Override PartName="/ppt/media/image18.wmf" ContentType="image/x-wmf"/>
  <Override PartName="/ppt/media/image48.jpeg" ContentType="image/jpeg"/>
  <Override PartName="/ppt/media/image77.jpeg" ContentType="image/jpeg"/>
  <Override PartName="/ppt/media/image190.wmf" ContentType="image/x-wmf"/>
  <Override PartName="/ppt/media/image157.wmf" ContentType="image/x-wmf"/>
  <Override PartName="/ppt/media/image5.wmf" ContentType="image/x-wmf"/>
  <Override PartName="/ppt/media/image80.wmf" ContentType="image/x-wmf"/>
  <Override PartName="/ppt/media/image86.jpeg" ContentType="image/jpeg"/>
  <Override PartName="/ppt/media/image106.jpeg" ContentType="image/jpeg"/>
  <Override PartName="/ppt/media/image31.gif" ContentType="image/gif"/>
  <Override PartName="/ppt/media/image9.gif" ContentType="image/gif"/>
  <Override PartName="/ppt/media/image69.jpeg" ContentType="image/jpeg"/>
  <Override PartName="/ppt/media/image13.gif" ContentType="image/gif"/>
  <Override PartName="/ppt/media/image37.jpeg" ContentType="image/jpeg"/>
  <Override PartName="/ppt/media/image49.jpeg" ContentType="image/jpeg"/>
  <Override PartName="/ppt/media/image2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156.wmf" ContentType="image/x-wmf"/>
  <Override PartName="/ppt/media/image4.wmf" ContentType="image/x-wmf"/>
  <Override PartName="/ppt/media/image41.jpeg" ContentType="image/jpeg"/>
  <Override PartName="/ppt/media/image16.wmf" ContentType="image/x-wmf"/>
  <Override PartName="/ppt/media/image66.jpeg" ContentType="image/jpeg"/>
  <Override PartName="/ppt/media/image87.jpeg" ContentType="image/jpeg"/>
  <Override PartName="/ppt/media/image107.jpeg" ContentType="image/jpeg"/>
  <Override PartName="/ppt/media/image180.jpeg" ContentType="image/jpeg"/>
  <Override PartName="/ppt/media/image165.wmf" ContentType="image/x-wmf"/>
  <Override PartName="/ppt/media/image1.jpeg" ContentType="image/jpeg"/>
  <Override PartName="/ppt/media/image89.jpeg" ContentType="image/jpeg"/>
  <Override PartName="/ppt/media/image45.jpeg" ContentType="image/jpeg"/>
  <Override PartName="/ppt/media/image92.jpeg" ContentType="image/jpeg"/>
  <Override PartName="/ppt/media/image19.jpeg" ContentType="image/jpeg"/>
  <Override PartName="/ppt/media/image188.jpeg" ContentType="image/jpeg"/>
  <Override PartName="/ppt/media/image171.gif" ContentType="image/gif"/>
  <Override PartName="/ppt/media/image59.wmf" ContentType="image/x-wmf"/>
  <Override PartName="/ppt/media/image1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0A8-1616-4A84-828B-7DC189ED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44B-8010-4D6F-BD90-85093F5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C2B-6B7A-4E88-84EA-FC555956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26E-93E2-49C7-AB7D-41344646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369-E2E6-4824-A8D9-48F27AA5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CEDB-71A9-463C-9295-952E54A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721C-E245-4FEC-B36C-6E2FCD8E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4BD-5A06-4221-9A3A-2E3EC90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6D4-594B-4A6B-9FDF-DF44401D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30D-3FA3-4869-B83E-AA39D070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30D5-F728-44C3-99B1-D30E93B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A2F-7D9E-4766-BDAF-D87D3D57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4F1-0156-4114-A833-29586DC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095-42AD-4D6B-9867-69A1E88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4A2-DED7-43F7-B9AD-BEB5362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FE39-C4E6-442A-AF0B-77FED7C4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9665-D56C-4D5C-A446-1FF6CA42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1EC8-3E64-4D6E-A8DF-AE916F35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794E-4851-436D-A1BD-F300A85B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F194-086F-4650-97D8-590C59D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7F7C-ACDA-4B81-8E00-AC46781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10B9-E685-45BC-BE7F-35B0CBC4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93A-5FB1-4986-99B5-57A303B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05D1-499C-40D9-9B2F-B6157E5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CAD3-8574-4661-B1B0-907DD06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AD8F-F891-464D-BD62-31B774A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9E10-9D0D-4BAE-99C2-42B3979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0B2B-14EF-41C2-B844-4C7DF94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5A87-9CB3-40EB-807C-2788514E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F1A3-1DD0-42AD-A1BC-6F3059D4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9D1-6717-4638-A01E-7AB37EE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9AC-6988-4F90-B191-459756C2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7C8-E16F-4E8B-977C-B71EAFF3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2A8-C9E0-4640-9DB1-96C4947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696-22ED-40EE-87D6-11D9A62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9D9-7FBE-4DD7-AD94-4D60489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205-9C2B-41B9-8BA1-B44EF3AE4D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227-9571-4B78-9338-BD9652B438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F34-3E51-4142-A08F-9C1D93BD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8.wmf"/><Relationship Id="rId6" Type="http://schemas.openxmlformats.org/officeDocument/2006/relationships/image" Target="../media/image3.wmf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gif"/><Relationship Id="rId3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8.gif"/><Relationship Id="rId2" Type="http://schemas.openxmlformats.org/officeDocument/2006/relationships/image" Target="../media/image139.gi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gif"/><Relationship Id="rId6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gif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0.wmf"/><Relationship Id="rId4" Type="http://schemas.openxmlformats.org/officeDocument/2006/relationships/image" Target="../media/image15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9.gif"/><Relationship Id="rId3" Type="http://schemas.openxmlformats.org/officeDocument/2006/relationships/image" Target="../media/image160.gif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6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wmf"/><Relationship Id="rId3" Type="http://schemas.openxmlformats.org/officeDocument/2006/relationships/image" Target="../media/image169.wmf"/><Relationship Id="rId4" Type="http://schemas.openxmlformats.org/officeDocument/2006/relationships/slideLayout" Target="../slideLayouts/slideLayout3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0.gif"/><Relationship Id="rId2" Type="http://schemas.openxmlformats.org/officeDocument/2006/relationships/image" Target="../media/image171.gif"/><Relationship Id="rId3" Type="http://schemas.openxmlformats.org/officeDocument/2006/relationships/image" Target="../media/image172.gif"/><Relationship Id="rId4" Type="http://schemas.openxmlformats.org/officeDocument/2006/relationships/image" Target="../media/image173.wmf"/><Relationship Id="rId5" Type="http://schemas.openxmlformats.org/officeDocument/2006/relationships/image" Target="../media/image174.gif"/><Relationship Id="rId6" Type="http://schemas.openxmlformats.org/officeDocument/2006/relationships/image" Target="../media/image175.jpeg"/><Relationship Id="rId7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6.gif"/><Relationship Id="rId2" Type="http://schemas.openxmlformats.org/officeDocument/2006/relationships/image" Target="../media/image177.gif"/><Relationship Id="rId3" Type="http://schemas.openxmlformats.org/officeDocument/2006/relationships/image" Target="../media/image178.gif"/><Relationship Id="rId4" Type="http://schemas.openxmlformats.org/officeDocument/2006/relationships/image" Target="../media/image179.gif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gi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wmf"/><Relationship Id="rId3" Type="http://schemas.openxmlformats.org/officeDocument/2006/relationships/image" Target="../media/image184.gi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8.jpeg"/><Relationship Id="rId3" Type="http://schemas.openxmlformats.org/officeDocument/2006/relationships/image" Target="../media/image189.jpeg"/><Relationship Id="rId4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1.jpeg"/><Relationship Id="rId2" Type="http://schemas.openxmlformats.org/officeDocument/2006/relationships/image" Target="../media/image192.jpeg"/><Relationship Id="rId3" Type="http://schemas.openxmlformats.org/officeDocument/2006/relationships/image" Target="../media/image18.wmf"/><Relationship Id="rId4" Type="http://schemas.openxmlformats.org/officeDocument/2006/relationships/image" Target="../media/image159.gif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685800"/>
            <a:ext cx="640872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910D-15A7-49FB-8644-089E61A64E3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Футбол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как составляюща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84480" y="4724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016000" cy="153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347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0A4B-D00D-4F4B-BC99-D690E706D929}" type="slidenum">
              <a:t>10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19640" y="836640"/>
            <a:ext cx="367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ич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е дае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ёшев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и не цени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орог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здоровье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94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127B-FD21-4263-B0D4-9C2D93B785B0}" type="slidenum">
              <a:t>11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епанов Владимир Виктор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34136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5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шее, 199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– 3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занятия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у в ЦД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руппа - 1992-93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руппа - 1995-96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нер по фу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Ш №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134136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513080" cy="12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6B5E-909F-414E-9F75-C751C3BB5258}" type="slidenum">
              <a:t>12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120000" cy="529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2E6E-A7CF-444E-8E6F-B8D2DB72E10A}" type="slidenum">
              <a:t>13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76280"/>
            <a:ext cx="698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2565360"/>
            <a:ext cx="748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</a:t>
            </a:r>
            <a:endParaRPr b="0" lang="en-US" sz="72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168720" cy="27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44A1-9FBC-403B-AF06-2C5632ECBD5C}" type="slidenum">
              <a:t>14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75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8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ысше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80360" y="133200"/>
            <a:ext cx="1168200" cy="10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F30F-DB3D-4E38-A945-122D87B67A18}" type="slidenum">
              <a:t>15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рс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ышения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валификац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813E-2BEF-405C-B529-F5B13B5735AE}" type="slidenum">
              <a:t>1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 специальност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4403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технолог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ление учащихся средствам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7184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63560" cy="36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49228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1803-649C-4F05-86D2-FFD6BA30D411}" type="slidenum">
              <a:t>17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2708280"/>
            <a:ext cx="871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ОБРА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101680" cy="134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01600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100332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FA48-B2AE-4AEE-B6C4-8F961271D92D}" type="slidenum">
              <a:t>18</a:t>
            </a:fld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гус Ж., «Шаг за шаго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ванов В.К., «Центральный кр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патов В.Г., «Правила игры в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обановский В.В., «Бесконечный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тто И.А., «Это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атини М., «Жизнь как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недельник В.В., «Штрафная площад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ссо Э., «Футбольный трене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шков М.П., «Футбольный теат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есуненко И.С., «Чаша Маракан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илатов Л.И., «Тайна «Золотой богини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арви Г., «Футбол для начинающих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умахер Т., «Свисток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женедельники «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3BE6-486E-486F-850A-1DF9597FC09F}" type="slidenum">
              <a:t>19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993300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99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6DB6-4E33-4B47-88AC-B5A266F5F5DD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26920" y="2060640"/>
            <a:ext cx="770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моты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лагодарност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Награжде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34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16640" y="333360"/>
            <a:ext cx="13878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BA39-78B8-4024-9A12-D1ED4B559A7F}" type="slidenum">
              <a:t>20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59380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548080" cy="36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586240" cy="367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митет по физической культуре и спор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дминистрации городского округа «Город Йошкар-О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58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большой вклад в развитие детского фут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929D-6D31-4A8E-8026-6E0B4016F3CB}" type="slidenum">
              <a:t>21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276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бросове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74464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вление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дминистрации городского округ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Город Йошкар-Ол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61135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6196-1E85-45D3-8E6E-638688EFAD35}" type="slidenum">
              <a:t>22</a:t>
            </a:fld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171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ноябре 2006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дстав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 г. Йошкар-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 соискание стипенд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«Для детских тренеров и организаторов физкультурно-воспитательной работы по месту жительства»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чреждённой Российским благотворительным фондом спортивных программ «Новое поколение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48360" cy="21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E942-C828-46DC-8B45-00636219EE8C}" type="slidenum">
              <a:t>23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45592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191C-5AAE-4913-A165-843AE7168EAA}" type="slidenum">
              <a:t>24</a:t>
            </a:fld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772240" cy="379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189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Рождественский турни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о футболу на снег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реди дворовых коман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350028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5589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мбатх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8759-399B-409C-8962-6C3B32A1FEA8}" type="slidenum">
              <a:t>25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03640" cy="264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680000" cy="299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FCC9-A917-4E2C-A8B6-0D2670E570CB}" type="slidenum">
              <a:t>26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4072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2556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есенний кубок по мини-футб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9911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0879-8C11-4868-83E8-456364C9A84E}" type="slidenum">
              <a:t>27</a:t>
            </a:fld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269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3236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08CB-2B2D-43CB-89E4-0E474030D267}" type="slidenum">
              <a:t>28</a:t>
            </a:fld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82232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673440" cy="2550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35280" cy="251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067280" y="3429000"/>
            <a:ext cx="4522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6E52-AA9D-4FDE-A83F-CE1F4C3F655D}" type="slidenum">
              <a:t>29</a:t>
            </a:fld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2492280"/>
            <a:ext cx="8207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тчё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566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. Йошкар-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376360" cy="20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DD9F-BD0C-4E86-9DFE-B01762401EE9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263556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Показатели и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результаты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деятельност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8959-3BB8-4F34-BB64-A0535DDBF1FD}" type="slidenum">
              <a:t>30</a:t>
            </a:fld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Городские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306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AE00-251E-4366-B82D-7D26A1F262D0}" type="slidenum">
              <a:t>31</a:t>
            </a:fld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56068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5734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ской турнир на призы клуба «Кожаный мя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633760" cy="367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4364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5950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Июн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97360"/>
            <a:ext cx="30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2873-E9DB-4F20-AFDD-14EB890F7806}" type="slidenum">
              <a:t>32</a:t>
            </a:fld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631D-CE05-4054-952B-D42AF2093D76}" type="slidenum">
              <a:t>33</a:t>
            </a:fld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17640" y="5554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а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73560" cy="597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40048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9BB3-E94D-4B49-AE1D-E82D6C1E0432}" type="slidenum">
              <a:t>34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144520" cy="3024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астафари - 200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66760" cy="302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614760" y="3068640"/>
            <a:ext cx="2136600" cy="302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9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155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афон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133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с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6184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C523-DB30-4898-B01D-DCEE38987228}" type="slidenum">
              <a:t>35</a:t>
            </a:fld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нь физкультур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44840" cy="3457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5950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08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20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12000" y="5950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03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порт-экспре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Йошкар-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8560" y="530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D0DC-65A8-421E-9D57-31A172603596}" type="slidenum">
              <a:t>36</a:t>
            </a:fld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венство города среди школьни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мини-футбол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9708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E825-3BA6-4DCC-9657-A2897105EBE9}" type="slidenum">
              <a:t>37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3044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893960" cy="28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1989000"/>
            <a:ext cx="196704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34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«Марафон – 28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941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41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ата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148C-27F3-4E59-B7C8-923258F5026D}" type="slidenum">
              <a:t>38</a:t>
            </a:fld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629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ители!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236000" y="333360"/>
            <a:ext cx="146196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7B18-CE5B-4E5C-A5B2-09CDB3206E31}" type="slidenum">
              <a:t>39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765000"/>
            <a:ext cx="7416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нтр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ополнительног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разова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етей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877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4 - 2006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77080" y="33336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D68F-F118-4DA6-BF0C-37DF9190E89B}" type="slidenum">
              <a:t>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еспубликанские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турнир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771640" y="2492280"/>
          <a:ext cx="354168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35416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74E2-2E03-4763-BAFA-E291B3834709}" type="slidenum">
              <a:t>40</a:t>
            </a:fld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урнир на призы клуба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 место по РМ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5904000" cy="180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74780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0C3E-8B97-49BB-B31A-D103679D376E}" type="slidenum">
              <a:t>41</a:t>
            </a:fld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393372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Российск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BB72-3DA0-41A3-88CC-43693DA37FD1}" type="slidenum">
              <a:t>42</a:t>
            </a:fld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911680" cy="4321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24560" y="1413000"/>
            <a:ext cx="426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при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Д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 Спортив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сс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жний Новгород,  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F9AF-5E28-4A90-A0BD-73D5D6A31571}" type="slidenum">
              <a:t>43</a:t>
            </a:fld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302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28840" cy="32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5584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36556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27480" y="333360"/>
            <a:ext cx="49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800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376720" cy="1416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240" y="50846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г. Шумер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E7FA-10FB-42FB-9CCC-E9FDB0747A4C}" type="slidenum">
              <a:t>44</a:t>
            </a:fld>
          </a:p>
        </p:txBody>
      </p:sp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039920" cy="568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148360" y="758880"/>
            <a:ext cx="345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сероссий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он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з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луб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юль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3756-D348-459E-BC7F-35DDEDC6E6B4}" type="slidenum">
              <a:t>45</a:t>
            </a:fld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-23 июля 2006 года - Стадион «Строител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25D7-FE51-407A-84DD-37F5F59F5C9F}" type="slidenum">
              <a:t>46</a:t>
            </a:fld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71640" y="907920"/>
            <a:ext cx="7272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ФОТОРЕПОРТАЖ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рреспондент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азеты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Йошкар-Ола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ндрея Антонов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44144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53EB-F767-4D36-9057-BA3C61557E03}" type="slidenum">
              <a:t>47</a:t>
            </a:fld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42372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62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89440" cy="28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A9FD-64BF-4A40-8A72-CFA64932E0D0}" type="slidenum">
              <a:t>48</a:t>
            </a:fld>
          </a:p>
        </p:txBody>
      </p:sp>
    </p:spTree>
  </p:cSld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2846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8360" y="359100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16360" cy="29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1735-8168-495E-AE9A-8230E673EA66}" type="slidenum">
              <a:t>49</a:t>
            </a:fld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836640"/>
            <a:ext cx="83534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епа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икторо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DCF9-D223-4614-B24D-E76FFE3F0305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8145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7724-EBE6-405B-9005-7A7A13FC6581}" type="slidenum">
              <a:t>50</a:t>
            </a:fld>
          </a:p>
        </p:txBody>
      </p:sp>
    </p:spTree>
  </p:cSld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003640" y="36608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E3D6-C662-4284-B352-5F3CFC2F6329}" type="slidenum">
              <a:t>51</a:t>
            </a:fld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62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80700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6E45-7D11-4ABA-A9E5-400CB5B2DE08}" type="slidenum">
              <a:t>52</a:t>
            </a:fld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78280" cy="2908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F6E9-1FD7-491A-A42C-7AFDC612ADFB}" type="slidenum">
              <a:t>53</a:t>
            </a:fld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2738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4AF9-D58E-440C-83E0-8E24196868A6}" type="slidenum">
              <a:t>54</a:t>
            </a:fld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145E-2729-4AF0-89EA-465BAD94FE2B}" type="slidenum">
              <a:t>55</a:t>
            </a:fld>
          </a:p>
        </p:txBody>
      </p:sp>
    </p:spTree>
  </p:cSld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022640" cy="30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3FF8-2A2C-4A8D-92CD-87E62E634628}" type="slidenum">
              <a:t>56</a:t>
            </a:fld>
          </a:p>
        </p:txBody>
      </p:sp>
    </p:spTree>
  </p:cSld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3754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4000" y="153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ННОВАЦИОН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5516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9C3A-48E2-403C-9BE5-E2DFE7B47309}" type="slidenum">
              <a:t>57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155736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ортивны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лас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732720" y="47628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7093080" y="4365720"/>
            <a:ext cx="1631880" cy="1800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1616040" cy="2016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619280" y="434880"/>
            <a:ext cx="158436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63CC-8F3D-4551-8DB7-05544D8E763F}" type="slidenum">
              <a:t>58</a:t>
            </a:fld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76720" y="465300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1 сентября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Тре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утбольного 6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школы №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13C-207A-49A9-BE22-FF758278631D}" type="slidenum">
              <a:t>59</a:t>
            </a:fld>
          </a:p>
        </p:txBody>
      </p:sp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Физическая культу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ичто т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льно не разрушает человека, как продолжитель-ное физическое бездействи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176720" cy="399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7440" y="4437000"/>
            <a:ext cx="13590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123B-2536-40EB-90DD-071CD1B0AE8C}" type="slidenum">
              <a:t>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иректор школ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горный Серге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ректор высшей катег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01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D485-DC14-4830-8A4C-1FEEB254721A}" type="slidenum">
              <a:t>60</a:t>
            </a:fld>
          </a:p>
        </p:txBody>
      </p:sp>
    </p:spTree>
  </p:cSld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0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546880" cy="372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48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Марафон - 28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333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оман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1D0-6E2F-47A4-9D20-0673FC770F28}" type="slidenum">
              <a:t>61</a:t>
            </a:fld>
          </a:p>
        </p:txBody>
      </p:sp>
    </p:spTree>
  </p:cSld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620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Тренер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воспитатель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друг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503360" cy="15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84320" cy="129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451640" y="549360"/>
            <a:ext cx="1079640" cy="1344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811520" cy="14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2A33-88FF-4199-9BAC-FED8B68B807A}" type="slidenum">
              <a:t>62</a:t>
            </a:fld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765000"/>
            <a:ext cx="8136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жеднев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храз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ров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26920" cy="164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587E-A046-4BA9-B509-730C317901B0}" type="slidenum">
              <a:t>63</a:t>
            </a:fld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907920"/>
            <a:ext cx="799308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оретическ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н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873440" cy="246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440000" cy="119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BDB9-B715-48E6-A6AC-4305A7F661A7}" type="slidenum">
              <a:t>64</a:t>
            </a:fld>
          </a:p>
        </p:txBody>
      </p:sp>
    </p:spTree>
  </p:cSld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430200"/>
            <a:ext cx="1965240" cy="1628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166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1500120" cy="161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0"/>
            <a:ext cx="79218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писан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1224000" cy="1218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020000" y="40464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05BD-2F96-4D1A-B664-2A8DC943660D}" type="slidenum">
              <a:t>65</a:t>
            </a:fld>
          </a:p>
        </p:txBody>
      </p:sp>
    </p:spTree>
  </p:cSld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728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-396720" y="1700280"/>
            <a:ext cx="90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уп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длён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156360" y="4378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944720" cy="14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511280" cy="15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36A4-E424-49C2-8E99-37EA0293464D}" type="slidenum">
              <a:t>66</a:t>
            </a:fld>
          </a:p>
        </p:txBody>
      </p:sp>
    </p:spTree>
  </p:cSld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765000"/>
            <a:ext cx="8172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екласс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опри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728720" cy="1484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4962600"/>
            <a:ext cx="21654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116064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33CB-68A4-42C5-A402-593B3D9D135E}" type="slidenum">
              <a:t>67</a:t>
            </a:fld>
          </a:p>
        </p:txBody>
      </p:sp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3720" cy="184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779480" cy="183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900080" cy="166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47640" y="1125360"/>
            <a:ext cx="60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настольном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еннис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FDC9-554E-458D-8E24-50996E0E496B}" type="slidenum">
              <a:t>68</a:t>
            </a:fld>
          </a:p>
        </p:txBody>
      </p:sp>
    </p:spTree>
  </p:cSld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90520"/>
            <a:ext cx="1763640" cy="1071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093080" y="5141880"/>
            <a:ext cx="1800000" cy="139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бильярд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730520" cy="17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FCD4-BC2B-4164-9CA5-1A03A3663FEC}" type="slidenum">
              <a:t>69</a:t>
            </a:fld>
          </a:p>
        </p:txBody>
      </p:sp>
    </p:spTree>
  </p:cSld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Недостаточно закалять душу ребёнка, столь же необходимо закалять и его мышц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66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5CEE-4D4F-4FB0-865F-FD4C0BA3B882}" type="slidenum">
              <a:t>7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футбол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0360" cy="1373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61280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1503360" cy="1871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7102440" y="4724280"/>
            <a:ext cx="159084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34FF-0AF0-4187-8A37-D23D2C03CAE1}" type="slidenum">
              <a:t>70</a:t>
            </a:fld>
          </a:p>
        </p:txBody>
      </p:sp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981000"/>
            <a:ext cx="55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Стрель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и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боевог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оруж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32720" y="465120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393560" cy="208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1303200" cy="2106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15811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E3DE-279A-43FE-9CE0-F36C35BB51CB}" type="slidenum">
              <a:t>71</a:t>
            </a:fld>
          </a:p>
        </p:txBody>
      </p:sp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95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195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950"/>
                            </p:stCondLst>
                            <p:childTnLst>
                              <p:par>
                                <p:cTn id="2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95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 шашка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88000" cy="40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BECA-44E6-422B-9B62-4685D76E68E1}" type="slidenum">
              <a:t>72</a:t>
            </a:fld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50"/>
                            </p:stCondLst>
                            <p:childTnLst>
                              <p:par>
                                <p:cTn id="2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2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68360" y="333360"/>
            <a:ext cx="6407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00"/>
                </a:solidFill>
                <a:latin typeface="Times New Roman"/>
              </a:rPr>
              <a:t>Ледовый Дворец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атание на конь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Посещение хоккейных мат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6049800" cy="2901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655640" cy="1506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3208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F44A-159C-437F-B967-76F9395FCA6A}" type="slidenum">
              <a:t>73</a:t>
            </a:fld>
          </a:p>
        </p:txBody>
      </p:sp>
    </p:spTree>
  </p:cSld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0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Укрепление здоровь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96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сауны с куп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тание на лыж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аквапарка города Каза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936720" cy="887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80036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020000" y="4724280"/>
            <a:ext cx="1793880" cy="1798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1492200" cy="1425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300720" y="1628640"/>
            <a:ext cx="17272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A378-140E-4B39-8CF5-D07D021AEEB6}" type="slidenum">
              <a:t>74</a:t>
            </a:fld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3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4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5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03280" y="765000"/>
            <a:ext cx="6481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летних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герях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1513080" cy="1361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1692000" cy="1127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4EE0-09B3-4BB7-B2E5-9C6F9BC6E1D6}" type="slidenum">
              <a:t>75</a:t>
            </a:fld>
          </a:p>
        </p:txBody>
      </p:sp>
    </p:spTree>
  </p:cSld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0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54840" cy="4637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79640" y="333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ренируемс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192320" cy="15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ABF9-8019-4A50-9CA7-DBE540B06492}" type="slidenum">
              <a:t>76</a:t>
            </a:fld>
          </a:p>
        </p:txBody>
      </p:sp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6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50920" y="40464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Отдыхаем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452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657440" cy="114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380360" y="404640"/>
            <a:ext cx="136836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659640" y="3213000"/>
            <a:ext cx="72072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EDD1-205F-4FD9-B20F-7A60F0BE8BD1}" type="slidenum">
              <a:t>77</a:t>
            </a:fld>
          </a:p>
        </p:txBody>
      </p:sp>
    </p:spTree>
  </p:cSld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0524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2122560" cy="1973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61928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За хорошую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663640" cy="19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6823-3C02-4ABE-AC47-44402F51B851}" type="slidenum">
              <a:t>78</a:t>
            </a:fld>
          </a:p>
        </p:txBody>
      </p:sp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1125360"/>
            <a:ext cx="8675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щественная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157720"/>
            <a:ext cx="554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74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B656-D779-4066-A3E9-14267C66474B}" type="slidenum">
              <a:t>79</a:t>
            </a:fld>
          </a:p>
        </p:txBody>
      </p:sp>
    </p:spTree>
  </p:cSld>
  <p:timing>
    <p:tnLst>
      <p:par>
        <p:cTn id="2828" dur="indefinite" restart="never" nodeType="tmRoot">
          <p:childTnLst>
            <p:seq>
              <p:cTn id="2829" dur="indefinite" nodeType="mainSeq">
                <p:childTnLst>
                  <p:par>
                    <p:cTn id="2830" fill="hold">
                      <p:stCondLst>
                        <p:cond delay="0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29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рошее здоровье, ощущение полноты и неистощимости физических с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жнейший источник жизнерадос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сприят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тимизма, готовности преодолеть любые трудност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.А. Сухомлинск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5480" y="3639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8F09-ACFF-4B27-8FFF-34FD4A020E88}" type="slidenum">
              <a:t>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55640" y="170028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Благоустрой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школьного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стади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24000" y="5157720"/>
            <a:ext cx="1800000" cy="1373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734160" y="4437000"/>
            <a:ext cx="182736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649C-9FDE-40A5-BBA6-0A6C5EDB951F}" type="slidenum">
              <a:t>80</a:t>
            </a:fld>
          </a:p>
        </p:txBody>
      </p:sp>
    </p:spTree>
  </p:cSld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0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60280"/>
            <a:ext cx="828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ретен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798560" cy="1873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DB10-E0B2-44E6-A19B-1FDD7C35C78A}" type="slidenum">
              <a:t>81</a:t>
            </a:fld>
          </a:p>
        </p:txBody>
      </p: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61A7-9497-41EB-AC64-3A7D00982CAA}" type="slidenum">
              <a:t>82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1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6560" y="3860640"/>
            <a:ext cx="198252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D72A-6523-4389-A10F-863D0598A889}" type="slidenum">
              <a:t>83</a:t>
            </a:fld>
          </a:p>
        </p:txBody>
      </p:sp>
    </p:spTree>
  </p:cSld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692280"/>
            <a:ext cx="81360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утбол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B254-6423-47D8-957E-A6D4283B0F02}" type="slidenum">
              <a:t>9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21T17:50:23Z</dcterms:modified>
  <cp:revision>408</cp:revision>
  <dc:subject/>
  <dc:title>Федерация интернет Образования</dc:title>
</cp:coreProperties>
</file>