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80.wmf" ContentType="image/x-wmf"/>
  <Override PartName="/ppt/media/image57.wmf" ContentType="image/x-wmf"/>
  <Override PartName="/ppt/media/image14.jpeg" ContentType="image/jpeg"/>
  <Override PartName="/ppt/media/image56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63.jpeg" ContentType="image/jpeg"/>
  <Override PartName="/ppt/media/image49.wmf" ContentType="image/x-wmf"/>
  <Override PartName="/ppt/media/image46.wmf" ContentType="image/x-wmf"/>
  <Override PartName="/ppt/media/image69.jpeg" ContentType="image/jpeg"/>
  <Override PartName="/ppt/media/image44.wmf" ContentType="image/x-wmf"/>
  <Override PartName="/ppt/media/image43.png" ContentType="image/png"/>
  <Override PartName="/ppt/media/image41.wmf" ContentType="image/x-wmf"/>
  <Override PartName="/ppt/media/image62.jpeg" ContentType="image/jpeg"/>
  <Override PartName="/ppt/media/image40.wmf" ContentType="image/x-wmf"/>
  <Override PartName="/ppt/media/image33.wmf" ContentType="image/x-wmf"/>
  <Override PartName="/ppt/media/image37.wmf" ContentType="image/x-wmf"/>
  <Override PartName="/ppt/media/image12.jpeg" ContentType="image/jpeg"/>
  <Override PartName="/ppt/media/image30.jpeg" ContentType="image/jpeg"/>
  <Override PartName="/ppt/media/image6.wmf" ContentType="image/x-wmf"/>
  <Override PartName="/ppt/media/image83.wmf" ContentType="image/x-wmf"/>
  <Override PartName="/ppt/media/image27.wmf" ContentType="image/x-wmf"/>
  <Override PartName="/ppt/media/image1.jpeg" ContentType="image/jpeg"/>
  <Override PartName="/ppt/media/image50.wmf" ContentType="image/x-wmf"/>
  <Override PartName="/ppt/media/image79.wmf" ContentType="image/x-wmf"/>
  <Override PartName="/ppt/media/image15.jpeg" ContentType="image/jpeg"/>
  <Override PartName="/ppt/media/image73.jpeg" ContentType="image/jpeg"/>
  <Override PartName="/ppt/media/image26.wmf" ContentType="image/x-wmf"/>
  <Override PartName="/ppt/media/image67.jpeg" ContentType="image/jpeg"/>
  <Override PartName="/ppt/media/image55.wmf" ContentType="image/x-wmf"/>
  <Override PartName="/ppt/media/image18.jpeg" ContentType="image/jpeg"/>
  <Override PartName="/ppt/media/image22.jpeg" ContentType="image/jpeg"/>
  <Override PartName="/ppt/media/image32.wmf" ContentType="image/x-wmf"/>
  <Override PartName="/ppt/media/image21.jpeg" ContentType="image/jpeg"/>
  <Override PartName="/ppt/media/image20.jpeg" ContentType="image/jpeg"/>
  <Override PartName="/ppt/media/image59.wmf" ContentType="image/x-wmf"/>
  <Override PartName="/ppt/media/image74.jpeg" ContentType="image/jpeg"/>
  <Override PartName="/ppt/media/image78.wmf" ContentType="image/x-wmf"/>
  <Override PartName="/ppt/media/image65.jpeg" ContentType="image/jpeg"/>
  <Override PartName="/ppt/media/image75.jpeg" ContentType="image/jpeg"/>
  <Override PartName="/ppt/media/image68.jpeg" ContentType="image/jpeg"/>
  <Override PartName="/ppt/media/image29.wmf" ContentType="image/x-wmf"/>
  <Override PartName="/ppt/media/image72.jpeg" ContentType="image/jpeg"/>
  <Override PartName="/ppt/media/image5.wmf" ContentType="image/x-wmf"/>
  <Override PartName="/ppt/media/image71.jpeg" ContentType="image/jpeg"/>
  <Override PartName="/ppt/media/image70.gif" ContentType="image/gif"/>
  <Override PartName="/ppt/media/image16.jpeg" ContentType="image/jpeg"/>
  <Override PartName="/ppt/media/image77.wmf" ContentType="image/x-wmf"/>
  <Override PartName="/ppt/media/image60.jpeg" ContentType="image/jpeg"/>
  <Override PartName="/ppt/media/image3.jpeg" ContentType="image/jpeg"/>
  <Override PartName="/ppt/media/image28.wmf" ContentType="image/x-wmf"/>
  <Override PartName="/ppt/media/image36.gif" ContentType="image/gif"/>
  <Override PartName="/ppt/media/image64.jpeg" ContentType="image/jpeg"/>
  <Override PartName="/ppt/media/image7.jpeg" ContentType="image/jpeg"/>
  <Override PartName="/ppt/media/image35.gif" ContentType="image/gif"/>
  <Override PartName="/ppt/media/image9.wmf" ContentType="image/x-wmf"/>
  <Override PartName="/ppt/media/image39.wmf" ContentType="image/x-wmf"/>
  <Override PartName="/ppt/media/image81.wmf" ContentType="image/x-wmf"/>
  <Override PartName="/ppt/media/image66.jpeg" ContentType="image/jpeg"/>
  <Override PartName="/ppt/media/image4.wmf" ContentType="image/x-wmf"/>
  <Override PartName="/ppt/media/image34.wmf" ContentType="image/x-wmf"/>
  <Override PartName="/ppt/media/image42.wmf" ContentType="image/x-wmf"/>
  <Override PartName="/ppt/media/image82.gif" ContentType="image/gif"/>
  <Override PartName="/ppt/media/image23.jpeg" ContentType="image/jpeg"/>
  <Override PartName="/ppt/media/image2.jpeg" ContentType="image/jpeg"/>
  <Override PartName="/ppt/media/image52.wmf" ContentType="image/x-wmf"/>
  <Override PartName="/ppt/media/image24.jpeg" ContentType="image/jpeg"/>
  <Override PartName="/ppt/media/image31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25.jpeg" ContentType="image/jpeg"/>
  <Override PartName="/ppt/media/image10.wmf" ContentType="image/x-wmf"/>
  <Override PartName="/ppt/media/image13.jpeg" ContentType="image/jpeg"/>
  <Override PartName="/ppt/media/image47.wmf" ContentType="image/x-wmf"/>
  <Override PartName="/ppt/media/image19.jpeg" ContentType="image/jpeg"/>
  <Override PartName="/ppt/media/image17.jpeg" ContentType="image/jpeg"/>
  <Override PartName="/ppt/media/image45.wmf" ContentType="image/x-wmf"/>
  <Override PartName="/ppt/media/image76.jpeg" ContentType="image/jpeg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D8C-CD19-4649-B4A6-99ED1621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9E4-1BD4-4EF7-A90C-1C15BC8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32B-1D6E-439D-83EF-B92B40E2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35D-A933-4AEF-9648-540E39CF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6164-5A36-46A1-BA24-6008A46B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997B-B34E-439F-9636-EF69545C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F5EF-F3B6-4ECF-ADCE-02FCE1E5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64F7-76FA-415B-BAE3-63947AA0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A355-CFDA-4CFA-B4AB-862FEEC6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F08-67B7-4A40-A97E-B8DDDA40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944D-C50A-49E7-AA30-FB41C141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22C-20CF-4404-B402-56E9869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5C47-E575-4F41-B7A8-945F065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2124-BE8E-4F78-B0D6-FB07C255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2197-D4E0-4494-883B-D3606D77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D96-FBBF-4FCD-B787-95860CDC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F613-5D5A-4DCA-B80A-1F4CECC7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097-149C-464E-A15B-9F1E2E86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29A-78FA-421C-B6EF-585C038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241-E293-42F5-B1FA-45E1D510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100-D528-43DF-B8D7-5196DF7B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F3B-ADB4-47BB-815B-D34FE136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39B-CAC0-4F2F-A8C0-66FE621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B3B-5997-4122-B422-C8A71B60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3F5A-8D53-4E2A-9AA2-BB7F5D48FF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8DE8-A42C-47D3-A6AE-61F46BA3E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92360" y="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обрый ден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16970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Изучение и внедрение методик и приёмов развивающего обучения, способствующего повышению качества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педагогического мастерства учителей и воспит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Развитие обучающихся с учетом их возрастных, физиологических, психологических и интеллектуальных особен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воспитательного процесса в формировании нравственных и трудовых нав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Организация работы в кружках по предметам и интере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Контроль за предметами гуманитарного цикла (русский язык, чтен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здоровьесберегающи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Внедрение ИКТ в процесс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3800" y="260280"/>
            <a:ext cx="73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Задачи М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129564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47628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276640"/>
            <a:ext cx="2087280" cy="165708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421000"/>
            <a:ext cx="201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Вариативное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содержание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начального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2565360"/>
            <a:ext cx="2521080" cy="165564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7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2781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Развитие творческого потенциала учащихся посредством кружков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4797360"/>
            <a:ext cx="3097440" cy="144000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4941720"/>
            <a:ext cx="28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Внедрение здоровьесберегающи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22680" y="2554200"/>
            <a:ext cx="2016720" cy="1622520"/>
            <a:chOff x="4522680" y="2554200"/>
            <a:chExt cx="2016720" cy="1622520"/>
          </a:xfrm>
        </p:grpSpPr>
        <p:sp>
          <p:nvSpPr>
            <p:cNvPr id="163" name=""/>
            <p:cNvSpPr/>
            <p:nvPr/>
          </p:nvSpPr>
          <p:spPr>
            <a:xfrm flipH="1" rot="17115600">
              <a:off x="5004720" y="2426400"/>
              <a:ext cx="676080" cy="12369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7115600">
              <a:off x="5783040" y="3449160"/>
              <a:ext cx="349920" cy="88380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7115600">
              <a:off x="6009480" y="3287160"/>
              <a:ext cx="418320" cy="55008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7115600">
              <a:off x="4901040" y="2499840"/>
              <a:ext cx="1168200" cy="167688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31640" y="2166840"/>
            <a:ext cx="1617840" cy="1895400"/>
            <a:chOff x="2231640" y="2166840"/>
            <a:chExt cx="1617840" cy="1895400"/>
          </a:xfrm>
        </p:grpSpPr>
        <p:sp>
          <p:nvSpPr>
            <p:cNvPr id="168" name=""/>
            <p:cNvSpPr/>
            <p:nvPr/>
          </p:nvSpPr>
          <p:spPr>
            <a:xfrm rot="4484400">
              <a:off x="2648880" y="2273760"/>
              <a:ext cx="916920" cy="91584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484400">
              <a:off x="2520720" y="3419640"/>
              <a:ext cx="474840" cy="6544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4484400">
              <a:off x="2218680" y="3070800"/>
              <a:ext cx="567360" cy="4071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4484400">
              <a:off x="2249640" y="2473560"/>
              <a:ext cx="1584360" cy="12416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752200" y="3247200"/>
            <a:ext cx="1316880" cy="1820520"/>
            <a:chOff x="2752200" y="3247200"/>
            <a:chExt cx="1316880" cy="1820520"/>
          </a:xfrm>
        </p:grpSpPr>
        <p:sp>
          <p:nvSpPr>
            <p:cNvPr id="173" name=""/>
            <p:cNvSpPr/>
            <p:nvPr/>
          </p:nvSpPr>
          <p:spPr>
            <a:xfrm rot="4484400">
              <a:off x="2972160" y="3444120"/>
              <a:ext cx="927720" cy="6843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4484400">
              <a:off x="2997000" y="4527360"/>
              <a:ext cx="480240" cy="4888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4484400">
              <a:off x="2722680" y="4133160"/>
              <a:ext cx="574200" cy="30420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4484400">
              <a:off x="2608920" y="3678840"/>
              <a:ext cx="1603440" cy="9277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076720" y="4653000"/>
            <a:ext cx="2951280" cy="172872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7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4724280"/>
            <a:ext cx="28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Внедрение информационно-коммуникативны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13040" y="3171600"/>
            <a:ext cx="1967040" cy="2057400"/>
            <a:chOff x="3713040" y="3171600"/>
            <a:chExt cx="1967040" cy="2057400"/>
          </a:xfrm>
        </p:grpSpPr>
        <p:sp>
          <p:nvSpPr>
            <p:cNvPr id="180" name=""/>
            <p:cNvSpPr/>
            <p:nvPr/>
          </p:nvSpPr>
          <p:spPr>
            <a:xfrm flipH="1" rot="17115600">
              <a:off x="4101120" y="3214800"/>
              <a:ext cx="959040" cy="11451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17115600">
              <a:off x="4816800" y="4472280"/>
              <a:ext cx="496440" cy="8182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7115600">
              <a:off x="5058720" y="4139640"/>
              <a:ext cx="593640" cy="50940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17115600">
              <a:off x="3850920" y="3399120"/>
              <a:ext cx="1657440" cy="15523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348000" y="3068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6381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одернизация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деятельности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1628640"/>
            <a:ext cx="3384720" cy="165744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Четырёхлет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нача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дготовительная ступ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годичная субботняя школа «Дошколёнок» для детей 6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этой ступ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одготовка и адаптация детей к обучению в школе, формирование у ребенка положительной установки на обучение и работу в коллективе. Занятия проводят учителя начальных классов, с тем чтобы продолжить обучение этих же детей в первом классе. Посещение школы на этом этапе не является обяз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ервая ступ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начальная школа (1-4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этой ступ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формирование базовых знаний и навыков, познавательной мотивации учения, навыков самостоятельного планирования и контроля познавательной деятельности, культуры общения и само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упенчатая модель начальн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079280" cy="10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ариативное содержание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начального образова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1в,  2б,в,  3б,в,  4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«Школа-2100»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1а,б,  2а,  3а,  4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Л.В. Занкова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4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128736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2729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277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доровьесберегающие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технолог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жегодные медицинские осмотры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овые диспанс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рганизация горячего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изкультминутки и физкультпаузы на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Зарядка для глаз на уроках и в Г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жедневная гимнастика до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Динамические па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ортивные часы в Г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ортивно-масс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ероприятия по суббо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451640" y="3789360"/>
            <a:ext cx="1347840" cy="1511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435640" y="4869000"/>
            <a:ext cx="1655640" cy="148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50920" y="5589720"/>
            <a:ext cx="1225440" cy="1058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7524720" y="1989000"/>
            <a:ext cx="135900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50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«Недостаточно закалять душу ребёнка, столь же необходимо закалять и его мышцы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2306520" cy="2879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266400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4247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нформационно-коммуникативные технолог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деют компьюте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8 учителей из 14  -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67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уют в работе Интер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шли курсы в МРЦ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ическая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электронных носите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ьютерные презен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632640" y="4149720"/>
            <a:ext cx="1987560" cy="221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588000" y="1844640"/>
            <a:ext cx="223056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Работа в кружках по предметам и интересам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26920" y="1773360"/>
          <a:ext cx="8066160" cy="4534920"/>
        </p:xfrm>
        <a:graphic>
          <a:graphicData uri="http://schemas.openxmlformats.org/drawingml/2006/table">
            <a:tbl>
              <a:tblPr/>
              <a:tblGrid>
                <a:gridCol w="3538800"/>
                <a:gridCol w="927000"/>
                <a:gridCol w="360036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звание круж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ковод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Волшебные кукл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аврилина Г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Здравствуй, сказка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а, 4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Шакирова Е.В., Скулкин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Творческая мастерск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урзенё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Помогай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удалаева Ф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Туристён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асютинская О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По дорогам сказ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а, 1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динцова Т.В., Кузюрина Н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Зани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вано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Умелые ру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рнова И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Умелые ру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Зверева Ф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Лог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агаутдинова Л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936720" cy="898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740720" y="69228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9280" y="5857920"/>
            <a:ext cx="172872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Уровень обученности учащихс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00000" y="1916280"/>
          <a:ext cx="775656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16280"/>
                    <a:ext cx="775656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667640" y="1844640"/>
            <a:ext cx="8222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Социально-психологическая служб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2960" y="1773360"/>
            <a:ext cx="7703640" cy="4278600"/>
            <a:chOff x="912960" y="1773360"/>
            <a:chExt cx="7703640" cy="4278600"/>
          </a:xfrm>
        </p:grpSpPr>
        <p:cxnSp>
          <p:nvCxnSpPr>
            <p:cNvPr id="225" name="_s306217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5864760" y="2412360"/>
              <a:ext cx="797040" cy="299952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" name="_s306215"/>
            <p:cNvCxnSpPr>
              <a:stCxn id="229" idx="0"/>
              <a:endCxn id="227" idx="2"/>
            </p:cNvCxnSpPr>
            <p:nvPr/>
          </p:nvCxnSpPr>
          <p:spPr>
            <a:xfrm flipV="1" rot="16200000">
              <a:off x="4865760" y="3411360"/>
              <a:ext cx="797040" cy="100152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06214"/>
            <p:cNvCxnSpPr>
              <a:stCxn id="231" idx="0"/>
              <a:endCxn id="227" idx="2"/>
            </p:cNvCxnSpPr>
            <p:nvPr/>
          </p:nvCxnSpPr>
          <p:spPr>
            <a:xfrm flipH="1" flipV="1" rot="5400000">
              <a:off x="3866760" y="3413520"/>
              <a:ext cx="797040" cy="99756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306213"/>
            <p:cNvCxnSpPr>
              <a:stCxn id="233" idx="0"/>
              <a:endCxn id="227" idx="2"/>
            </p:cNvCxnSpPr>
            <p:nvPr/>
          </p:nvCxnSpPr>
          <p:spPr>
            <a:xfrm flipH="1" flipV="1" rot="5400000">
              <a:off x="2868480" y="2415600"/>
              <a:ext cx="797040" cy="299340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7" name="_s306209"/>
            <p:cNvSpPr/>
            <p:nvPr/>
          </p:nvSpPr>
          <p:spPr>
            <a:xfrm>
              <a:off x="3907440" y="1773360"/>
              <a:ext cx="1712160" cy="1711440"/>
            </a:xfrm>
            <a:prstGeom prst="rect">
              <a:avLst/>
            </a:prstGeom>
            <a:solidFill>
              <a:srgbClr val="cccc99">
                <a:alpha val="50000"/>
              </a:srgbClr>
            </a:solidFill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Школьно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ПМП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06210"/>
            <p:cNvSpPr/>
            <p:nvPr/>
          </p:nvSpPr>
          <p:spPr>
            <a:xfrm>
              <a:off x="91296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06211"/>
            <p:cNvSpPr/>
            <p:nvPr/>
          </p:nvSpPr>
          <p:spPr>
            <a:xfrm>
              <a:off x="291060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Логопе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06212"/>
            <p:cNvSpPr/>
            <p:nvPr/>
          </p:nvSpPr>
          <p:spPr>
            <a:xfrm>
              <a:off x="490860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Медицин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работ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06216"/>
            <p:cNvSpPr/>
            <p:nvPr/>
          </p:nvSpPr>
          <p:spPr>
            <a:xfrm>
              <a:off x="6906600" y="4340520"/>
              <a:ext cx="171000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Инсп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ИД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02384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6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459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МОУ «Средняя</a:t>
            </a:r>
            <a:br>
              <a:rPr sz="800"/>
            </a:b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общеобразовательная школа № 10 г. Йошкар-Олы»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5689800" cy="3543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511280" cy="9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168912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5640" y="260280"/>
            <a:ext cx="1224000" cy="11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Курсы при МИО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Курсы при МРЦИО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Самообразование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55640" y="333360"/>
            <a:ext cx="81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вышение квалифик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26920" y="4797360"/>
            <a:ext cx="2087640" cy="1793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582560" cy="14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4-2005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Праздник «Золотая осе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ворческий отчёт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5-2006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«Совместный методсов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Ш 10,    ДДУ 32, 79, 15, 10, 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6-2007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«Детсад-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День открытых дверей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ДДУ 79, 32,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920" y="26028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ткрытые меропри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20872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5640" y="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еемственность Д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 начальн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2476440" cy="4032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403380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79480" y="333360"/>
            <a:ext cx="79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вместные мероприя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77336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Совместные методические со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Открытые уроки учителей для методи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оспитателей и психологов Д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Открытые занятия воспита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ДДУ для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Праздники, концерты, экскур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«Знакомство со школ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Игры, конкурсы, викто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ыступление учителей перед родителями Д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7093080" y="2781360"/>
            <a:ext cx="186192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79480" y="1890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Концер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364000" y="170028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9480" y="1890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Празд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448000" cy="1938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2519640" cy="188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6156360" y="443700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79640" y="18900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Конкур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870280" cy="4248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389400" cy="4032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844560" cy="1125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78732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08200" y="136440"/>
            <a:ext cx="77245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Победители и призёры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конкурсо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олимпи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00720" y="3789360"/>
            <a:ext cx="4322520" cy="2575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185840" cy="1655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219640" y="1844640"/>
            <a:ext cx="1174680" cy="1655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187280" y="4508640"/>
            <a:ext cx="187200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Международный конкурс «Кенгуру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расова Саша 4-а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регион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Васютинская О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XIV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регион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Международный конкурс «Русский медвежонок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лов Николай 4-а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городу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Васютинская О.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75 баллов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Городская олимпиада по математик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I-III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Городская олимпиада по начальному техническому моделированию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Шестакова Маша 4-а кл. и 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мандное  место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я Васютинская О.В. и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8200" y="260280"/>
            <a:ext cx="76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3-2004 учебный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6491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4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1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5" dur="1000"/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ждународный конкурс «Кенгур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ерникова Евгения 4-а кл.,64 балла, в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, в регионе – 66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ждународный конкурс «Русский медвежонок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урина Анастасия 4-а кл., 75 баллов, в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сто, в регионе 37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ская олимпиада по русскому язы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урина Анастасия 4-а кл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сто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ская олимпиада по начальному техническому моделиров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сильева Екатерина и Дружинина Мария, 4-а класс, команд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ыставка-конкурс по декоративно- прикладному искусст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ыставка вышивки) в ГУК «Республиканский музей изобразительных искусств» 2-а кл.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9640" y="201600"/>
            <a:ext cx="641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004-2005 учебный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11456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3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6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9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2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5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1587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ическое объединение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учителей начальной шк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5-2006 учебный год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3141720" cy="3600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421164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0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1583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манова Екатерина, 2а, работа по т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a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Как дать   бумаге вторую жизнь»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 мес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Курзенев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п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За лучший проект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Шарнина Полина, 1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работу по теме: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Игрушки для всех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п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За лучший коллективный проект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б класс, за работу по тем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Если бы не вымерли динозавры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Васютинская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232000" cy="2205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96800" y="115920"/>
            <a:ext cx="8035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Республиканский конкур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научно-исследовательских проек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e9"/>
                </a:solidFill>
                <a:latin typeface="Times New Roman"/>
              </a:rPr>
              <a:t>«Я - исследов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6438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дународный конкурс «Кенгуру»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40" y="1652040"/>
            <a:ext cx="8022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еркушина Мария 2 «а», 1-е место по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ушкарева Анастасия 2 «а», 2-е место по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учалова Елена 2 «а», 3-е место по школ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  Курзенёва Н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огинова Александра 3 «а», 1-е мес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Никитина Анна 3 «а», 3-е мес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ригорьев Алексей  3 «б», 1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Будалаева Ф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ванов Сергей 4 «а», 2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Одинцова Т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еселов Роман 4 «б», 1-е мес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ошин Илья 4 «б», 3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Гаврилина Г.В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96000" y="3068640"/>
            <a:ext cx="31687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еждународный конкурс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Русский медвежонок»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182628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акова Татьяна 4 «в» класс, 1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шин Илья 4 «б» класс, 1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Гаврил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селов Роман 4 «б» кла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Гаврил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24360" y="3586320"/>
            <a:ext cx="305928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0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42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Никитина Анна 3 «А»,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1 место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в олимпиаде по английскому языку и страноведению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огомолов Кирилл 4 «В» участник биологического конкурса, 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2 грамоты в номинациях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асильева Анна и Тимакова Екатерина, 4 «В», участники конкурса английского языка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Макеев Владислав, 4 «А», участник олимпийских игр по английскому языку, 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1 место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Одинцова Т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асильева Анна, театр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ояринцев Алексей и Вохминцев Владислав, 3 «б», участники конкурса «Орлята России» в г. Туапсе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Будалаева Ф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Городские и российски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03968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fill="hold">
                      <p:stCondLst>
                        <p:cond delay="0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48200" y="2276640"/>
            <a:ext cx="3841920" cy="4340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4968720" cy="3726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71640" y="40464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0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2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Состав МО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85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В нашей се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работа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14 учите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08108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224000" cy="97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592720" cy="141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4630680"/>
            <a:ext cx="223344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«Отличники народного просвещения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2867040" cy="381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2000" y="1576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773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верева Ф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1793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алаева Ф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64000" y="2349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«Почётные работники общего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бразования РФ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270036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1916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цова Т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191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26082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ителя высшей катег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1513080" cy="20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0000" y="1989000"/>
            <a:ext cx="1511280" cy="20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1600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кир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рзенё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1557360"/>
            <a:ext cx="19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аврилин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149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асютинская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4149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ндель Т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розова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95640" y="4653000"/>
            <a:ext cx="156204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067280" y="1989000"/>
            <a:ext cx="144468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55412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116000" y="4581360"/>
            <a:ext cx="16495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ителя 1 катег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87480" y="3284640"/>
            <a:ext cx="1730160" cy="23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1617480" cy="216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96200" y="2730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ван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77640" y="15066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к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7288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гаутдинова Л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4149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зюрина Н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924360" y="4653000"/>
            <a:ext cx="16002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«Формирование высокого уровня качества образования и нравственного воспитания учащихся, посредством развивающего обучения и кружковой рабо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08720" y="5661000"/>
            <a:ext cx="1656000" cy="107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1800360" cy="1168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8000" y="5229360"/>
            <a:ext cx="1820880" cy="1509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380360" y="2421000"/>
            <a:ext cx="1441440" cy="13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20:14:50Z</dcterms:created>
  <dc:creator>User</dc:creator>
  <dc:description/>
  <dc:language>en-US</dc:language>
  <cp:lastModifiedBy>Ирина</cp:lastModifiedBy>
  <dcterms:modified xsi:type="dcterms:W3CDTF">2006-11-29T18:56:19Z</dcterms:modified>
  <cp:revision>65</cp:revision>
  <dc:subject/>
  <dc:title>Слайд 1</dc:title>
</cp:coreProperties>
</file>