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wmf" ContentType="image/x-wmf"/>
  <Override PartName="/ppt/media/image14.jpeg" ContentType="image/jpeg"/>
  <Override PartName="/ppt/media/image56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63.jpeg" ContentType="image/jpeg"/>
  <Override PartName="/ppt/media/image49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43.png" ContentType="image/png"/>
  <Override PartName="/ppt/media/image41.wmf" ContentType="image/x-wmf"/>
  <Override PartName="/ppt/media/image62.jpeg" ContentType="image/jpeg"/>
  <Override PartName="/ppt/media/image40.wmf" ContentType="image/x-wmf"/>
  <Override PartName="/ppt/media/image33.wmf" ContentType="image/x-wmf"/>
  <Override PartName="/ppt/media/image37.wmf" ContentType="image/x-wmf"/>
  <Override PartName="/ppt/media/image12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27.wmf" ContentType="image/x-wmf"/>
  <Override PartName="/ppt/media/image1.jpeg" ContentType="image/jpeg"/>
  <Override PartName="/ppt/media/image50.wmf" ContentType="image/x-wmf"/>
  <Override PartName="/ppt/media/image79.wmf" ContentType="image/x-wmf"/>
  <Override PartName="/ppt/media/image15.jpeg" ContentType="image/jpeg"/>
  <Override PartName="/ppt/media/image73.jpeg" ContentType="image/jpeg"/>
  <Override PartName="/ppt/media/image26.wmf" ContentType="image/x-wmf"/>
  <Override PartName="/ppt/media/image67.jpeg" ContentType="image/jpeg"/>
  <Override PartName="/ppt/media/image55.wmf" ContentType="image/x-wmf"/>
  <Override PartName="/ppt/media/image18.jpeg" ContentType="image/jpeg"/>
  <Override PartName="/ppt/media/image22.jpeg" ContentType="image/jpeg"/>
  <Override PartName="/ppt/media/image32.wmf" ContentType="image/x-wmf"/>
  <Override PartName="/ppt/media/image21.jpeg" ContentType="image/jpeg"/>
  <Override PartName="/ppt/media/image20.jpeg" ContentType="image/jpeg"/>
  <Override PartName="/ppt/media/image59.wmf" ContentType="image/x-wmf"/>
  <Override PartName="/ppt/media/image74.jpeg" ContentType="image/jpeg"/>
  <Override PartName="/ppt/media/image78.wmf" ContentType="image/x-wmf"/>
  <Override PartName="/ppt/media/image65.jpeg" ContentType="image/jpeg"/>
  <Override PartName="/ppt/media/image75.jpeg" ContentType="image/jpeg"/>
  <Override PartName="/ppt/media/image68.jpeg" ContentType="image/jpeg"/>
  <Override PartName="/ppt/media/image29.wmf" ContentType="image/x-wmf"/>
  <Override PartName="/ppt/media/image72.jpeg" ContentType="image/jpeg"/>
  <Override PartName="/ppt/media/image5.wmf" ContentType="image/x-wmf"/>
  <Override PartName="/ppt/media/image71.jpeg" ContentType="image/jpeg"/>
  <Override PartName="/ppt/media/image70.gif" ContentType="image/gif"/>
  <Override PartName="/ppt/media/image16.jpeg" ContentType="image/jpeg"/>
  <Override PartName="/ppt/media/image77.wmf" ContentType="image/x-wmf"/>
  <Override PartName="/ppt/media/image60.jpeg" ContentType="image/jpeg"/>
  <Override PartName="/ppt/media/image3.jpeg" ContentType="image/jpeg"/>
  <Override PartName="/ppt/media/image28.wmf" ContentType="image/x-wmf"/>
  <Override PartName="/ppt/media/image36.gif" ContentType="image/gif"/>
  <Override PartName="/ppt/media/image64.jpeg" ContentType="image/jpeg"/>
  <Override PartName="/ppt/media/image7.jpeg" ContentType="image/jpeg"/>
  <Override PartName="/ppt/media/image35.gif" ContentType="image/gif"/>
  <Override PartName="/ppt/media/image9.wmf" ContentType="image/x-wmf"/>
  <Override PartName="/ppt/media/image39.wmf" ContentType="image/x-wmf"/>
  <Override PartName="/ppt/media/image81.wmf" ContentType="image/x-wmf"/>
  <Override PartName="/ppt/media/image66.jpeg" ContentType="image/jpeg"/>
  <Override PartName="/ppt/media/image4.wmf" ContentType="image/x-wmf"/>
  <Override PartName="/ppt/media/image34.wmf" ContentType="image/x-wmf"/>
  <Override PartName="/ppt/media/image42.wmf" ContentType="image/x-wmf"/>
  <Override PartName="/ppt/media/image82.gif" ContentType="image/gif"/>
  <Override PartName="/ppt/media/image23.jpeg" ContentType="image/jpeg"/>
  <Override PartName="/ppt/media/image2.jpeg" ContentType="image/jpeg"/>
  <Override PartName="/ppt/media/image52.wmf" ContentType="image/x-wmf"/>
  <Override PartName="/ppt/media/image24.jpeg" ContentType="image/jpeg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25.jpeg" ContentType="image/jpeg"/>
  <Override PartName="/ppt/media/image10.wmf" ContentType="image/x-wmf"/>
  <Override PartName="/ppt/media/image13.jpeg" ContentType="image/jpeg"/>
  <Override PartName="/ppt/media/image47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76.jpeg" ContentType="image/jpe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F51-3684-4502-B5F6-8233D116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847-9544-4684-9C0F-D85BF24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D6C-62D2-4C32-AE85-AD2ECD6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5DA-1B6D-4387-8B81-F52443FD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DAC3-111C-42B9-A189-9B483284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2BDD-D12F-477F-8642-58475EA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489B-A0ED-4288-982C-E9E06BA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FEBE-6B02-4CE4-861B-F826B01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8806-438D-4F15-88D8-ABEAE29A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C9F0-B4EE-48C0-BD6D-330604EB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8B74-90E5-4FC8-BC58-4C65B25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142-DFEC-4442-836A-977AABA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3C3-99D8-4870-AAC6-86225E1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713C-4DB2-4BA5-ACBB-BDE7BAC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390B-9501-496A-B100-C83089B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F75-23BB-4C53-A536-7BC90CB6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C8A3-8BDD-4226-89AE-145F754D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435-8D01-48AA-A3DD-1AA86D56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92B-EA94-486E-A6BB-D212DD3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AD5-5878-4DA0-929D-DDFF90B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01E-FCC7-4D8F-912E-198E8D7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156-7148-40A3-BF9B-3F00ACA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DB9-5686-461D-B21D-4064092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1CD-D256-4780-A51A-379BE48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64C-229B-410D-B74F-4200D6393A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C34-F3A6-4CC3-8966-1AE3B2F3B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236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обрый ден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6970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учение и внедрение методик и приёмов развивающего обучения, способствующего повышению качества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педагогического мастерства учителей и воспит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Развитие обучающихся с учетом их возрастных, физиологических, психологических и интеллектуальных особен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воспитательного процесса в формировании нравственных и трудовых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Организация работы в кружках по предметам и интере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Контроль за предметами гуманитарного цикла (русский язык, чте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Внедрение ИКТ в процесс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3800" y="260280"/>
            <a:ext cx="73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Задачи 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129564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47628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276640"/>
            <a:ext cx="2087280" cy="165708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421000"/>
            <a:ext cx="201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Вариативно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содержани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начального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565360"/>
            <a:ext cx="2521080" cy="16556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278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азвитие творческого потенциала учащихся посредством кружк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797360"/>
            <a:ext cx="3097440" cy="144000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941720"/>
            <a:ext cx="28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22680" y="2554200"/>
            <a:ext cx="2016720" cy="1622520"/>
            <a:chOff x="4522680" y="2554200"/>
            <a:chExt cx="2016720" cy="1622520"/>
          </a:xfrm>
        </p:grpSpPr>
        <p:sp>
          <p:nvSpPr>
            <p:cNvPr id="163" name=""/>
            <p:cNvSpPr/>
            <p:nvPr/>
          </p:nvSpPr>
          <p:spPr>
            <a:xfrm flipH="1" rot="17115600">
              <a:off x="5004720" y="2426400"/>
              <a:ext cx="676080" cy="12369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115600">
              <a:off x="5783040" y="3449160"/>
              <a:ext cx="349920" cy="88380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7115600">
              <a:off x="6009480" y="3287160"/>
              <a:ext cx="418320" cy="55008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7115600">
              <a:off x="4901040" y="2499840"/>
              <a:ext cx="1168200" cy="167688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31640" y="2166840"/>
            <a:ext cx="1617840" cy="1895400"/>
            <a:chOff x="2231640" y="2166840"/>
            <a:chExt cx="1617840" cy="1895400"/>
          </a:xfrm>
        </p:grpSpPr>
        <p:sp>
          <p:nvSpPr>
            <p:cNvPr id="168" name=""/>
            <p:cNvSpPr/>
            <p:nvPr/>
          </p:nvSpPr>
          <p:spPr>
            <a:xfrm rot="4484400">
              <a:off x="2648880" y="2273760"/>
              <a:ext cx="916920" cy="9158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484400">
              <a:off x="2520720" y="3419640"/>
              <a:ext cx="474840" cy="654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4484400">
              <a:off x="2218680" y="3070800"/>
              <a:ext cx="567360" cy="4071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484400">
              <a:off x="2249640" y="2473560"/>
              <a:ext cx="1584360" cy="12416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52200" y="3247200"/>
            <a:ext cx="1316880" cy="1820520"/>
            <a:chOff x="2752200" y="3247200"/>
            <a:chExt cx="1316880" cy="1820520"/>
          </a:xfrm>
        </p:grpSpPr>
        <p:sp>
          <p:nvSpPr>
            <p:cNvPr id="173" name=""/>
            <p:cNvSpPr/>
            <p:nvPr/>
          </p:nvSpPr>
          <p:spPr>
            <a:xfrm rot="4484400">
              <a:off x="2972160" y="3444120"/>
              <a:ext cx="927720" cy="6843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484400">
              <a:off x="2997000" y="4527360"/>
              <a:ext cx="480240" cy="4888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4484400">
              <a:off x="2722680" y="4133160"/>
              <a:ext cx="574200" cy="3042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484400">
              <a:off x="2608920" y="3678840"/>
              <a:ext cx="1603440" cy="927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76720" y="4653000"/>
            <a:ext cx="2951280" cy="172872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724280"/>
            <a:ext cx="28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информационно-коммуникативны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13040" y="3171600"/>
            <a:ext cx="1967040" cy="2057400"/>
            <a:chOff x="3713040" y="3171600"/>
            <a:chExt cx="1967040" cy="2057400"/>
          </a:xfrm>
        </p:grpSpPr>
        <p:sp>
          <p:nvSpPr>
            <p:cNvPr id="180" name=""/>
            <p:cNvSpPr/>
            <p:nvPr/>
          </p:nvSpPr>
          <p:spPr>
            <a:xfrm flipH="1" rot="17115600">
              <a:off x="4101120" y="3214800"/>
              <a:ext cx="959040" cy="11451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7115600">
              <a:off x="4816800" y="4472280"/>
              <a:ext cx="496440" cy="8182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7115600">
              <a:off x="5058720" y="4139640"/>
              <a:ext cx="593640" cy="5094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7115600">
              <a:off x="3850920" y="3399120"/>
              <a:ext cx="1657440" cy="1552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48000" y="3068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6381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одернизация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деятельности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3384720" cy="16574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Четырёхлет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нач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дготовительн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годичная субботняя школа «Дошколёнок» для детей 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дготовка и адаптация детей к обучению в школе, формирование у ребенка положительной установки на обучение и работу в коллективе. Занятия проводят учителя начальных классов, с тем чтобы продолжить обучение этих же детей в первом классе. Посещение школы на этом этапе не является обяз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ерв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начальная школа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формирование базовых знаний и навыков, познавательной мотивации учения, навыков самостоятельного планирования и контроля познавательной деятельности, культуры общения и само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упенчатая модель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07928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ариативное содержан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чального образ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в,  2б,в,  3б,в,  4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-2100»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а,б,  2а,  3а,  4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.В. Занков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4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128736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72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277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доровьесберегающ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годные медицинские осмотр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овые диспанс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рганизация горяче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культминутки и физкультпаузы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арядка для глаз на уроках и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дневная гимнастика до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Динамические па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ые часы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о-масс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ероприятия по суб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347840" cy="151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435640" y="4869000"/>
            <a:ext cx="1655640" cy="148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50920" y="5589720"/>
            <a:ext cx="1225440" cy="1058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7524720" y="1989000"/>
            <a:ext cx="135900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Недостаточно закалять душу ребёнка, столь же необходимо закалять и его мышцы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306520" cy="287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66400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424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формационно-коммуникативные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деют компью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 учителей из 14 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6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уют в работе 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шли курсы в МР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ическ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лектронных нос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ьютерные презен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632640" y="4149720"/>
            <a:ext cx="1987560" cy="22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588000" y="1844640"/>
            <a:ext cx="223056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абота в кружках по предметам и интереса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73360"/>
          <a:ext cx="8066160" cy="4534920"/>
        </p:xfrm>
        <a:graphic>
          <a:graphicData uri="http://schemas.openxmlformats.org/drawingml/2006/table">
            <a:tbl>
              <a:tblPr/>
              <a:tblGrid>
                <a:gridCol w="3538800"/>
                <a:gridCol w="927000"/>
                <a:gridCol w="36003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звание круж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ковод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Волшебные кукл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врилина Г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дравствуй, сказка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а, 4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Шакирова Е.В., Скулкин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ворческая мастер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урзенё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могай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удала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уристё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асютинская О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 дорогам сказ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а, 1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динцова Т.В., Кузюрина Н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ани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ван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рнов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вер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Лог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агаутдинова Л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936720" cy="89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740720" y="69228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5857920"/>
            <a:ext cx="1728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Уровень обученности учащихс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00000" y="1916280"/>
          <a:ext cx="775656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775656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822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оциально-психологическая служб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2960" y="1773360"/>
            <a:ext cx="7703640" cy="4278600"/>
            <a:chOff x="912960" y="1773360"/>
            <a:chExt cx="7703640" cy="4278600"/>
          </a:xfrm>
        </p:grpSpPr>
        <p:cxnSp>
          <p:nvCxnSpPr>
            <p:cNvPr id="225" name="_s30621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864760" y="2412360"/>
              <a:ext cx="797040" cy="2999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306215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4865760" y="3411360"/>
              <a:ext cx="797040" cy="1001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06214"/>
            <p:cNvCxnSpPr>
              <a:stCxn id="231" idx="0"/>
              <a:endCxn id="227" idx="2"/>
            </p:cNvCxnSpPr>
            <p:nvPr/>
          </p:nvCxnSpPr>
          <p:spPr>
            <a:xfrm flipH="1" flipV="1" rot="5400000">
              <a:off x="3866760" y="3413520"/>
              <a:ext cx="797040" cy="99756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306213"/>
            <p:cNvCxnSpPr>
              <a:stCxn id="233" idx="0"/>
              <a:endCxn id="227" idx="2"/>
            </p:cNvCxnSpPr>
            <p:nvPr/>
          </p:nvCxnSpPr>
          <p:spPr>
            <a:xfrm flipH="1" flipV="1" rot="5400000">
              <a:off x="2868480" y="2415600"/>
              <a:ext cx="797040" cy="299340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306209"/>
            <p:cNvSpPr/>
            <p:nvPr/>
          </p:nvSpPr>
          <p:spPr>
            <a:xfrm>
              <a:off x="3907440" y="1773360"/>
              <a:ext cx="1712160" cy="1711440"/>
            </a:xfrm>
            <a:prstGeom prst="rect">
              <a:avLst/>
            </a:prstGeom>
            <a:solidFill>
              <a:srgbClr val="cccc99">
                <a:alpha val="50000"/>
              </a:srgbClr>
            </a:solidFill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Школьно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ПМП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6210"/>
            <p:cNvSpPr/>
            <p:nvPr/>
          </p:nvSpPr>
          <p:spPr>
            <a:xfrm>
              <a:off x="91296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06211"/>
            <p:cNvSpPr/>
            <p:nvPr/>
          </p:nvSpPr>
          <p:spPr>
            <a:xfrm>
              <a:off x="2910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Логопе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06212"/>
            <p:cNvSpPr/>
            <p:nvPr/>
          </p:nvSpPr>
          <p:spPr>
            <a:xfrm>
              <a:off x="4908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Медицин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рабо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06216"/>
            <p:cNvSpPr/>
            <p:nvPr/>
          </p:nvSpPr>
          <p:spPr>
            <a:xfrm>
              <a:off x="6906600" y="4340520"/>
              <a:ext cx="171000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нсп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Д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02384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МОУ «Средняя</a:t>
            </a:r>
            <a:br>
              <a:rPr sz="800"/>
            </a:b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общеобразовательная школа № 10 г. Йошкар-Олы»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689800" cy="3543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168912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640" y="260280"/>
            <a:ext cx="122400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РЦ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Самообразование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333360"/>
            <a:ext cx="81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вышение квалифик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2087640" cy="179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58256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Праздник «Золотая ос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кий отчёт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Совместный методсов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Ш 10,    ДДУ 32, 79, 15, 10,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6-200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Детсад-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День открытых дверей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ДДУ 79, 32,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6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крытые меро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2087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емственность Д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476440" cy="403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403380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9480" y="333360"/>
            <a:ext cx="79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вместные меропри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7733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Совместные методически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уроки учителей для метод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оспитателей и психологов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занятия воспит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ДДУ для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Праздники, концерты, экскур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«Знакомство со школ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Игры, конкурсы, 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ыступление учителей перед родителями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093080" y="2781360"/>
            <a:ext cx="1861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цер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Празд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448000" cy="193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2519640" cy="188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79640" y="189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кур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87028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389400" cy="4032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844560" cy="112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7873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08200" y="136440"/>
            <a:ext cx="77245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Победители и призёры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конкур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олимпи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00720" y="3789360"/>
            <a:ext cx="4322520" cy="2575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185840" cy="16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11746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87280" y="4508640"/>
            <a:ext cx="18720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расова Саша 4-а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лов Николай 4-а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городу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75 баллов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математик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-III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Шестакова Маша 4-а кл. и 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андное  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я Васютинская О.В. и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8200" y="260280"/>
            <a:ext cx="76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3-2004 учебн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6491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1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5" dur="10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рникова Евгения 4-а кл.,64 балла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в регионе – 66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75 баллов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в регионе 37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русскому язы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сильева Екатерина и Дружинина Мария, 4-а класс, команд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ставка-конкурс по декоративно- прикладному искус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авка вышивки) в ГУК «Республиканский музей изобразительных искусств» 2-а кл.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9640" y="201600"/>
            <a:ext cx="64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1145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2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5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587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ическое объединение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учителей начальн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141720" cy="360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42116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583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манова Екатерина, 2а, работа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a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Как дать   бумаге вторую жизнь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 мес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Курзен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проект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нина Полина, 1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работу по теме: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Игрушки для все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коллективный проект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б класс, за работу по тем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Если бы не вымерли динозавры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232000" cy="220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96800" y="115920"/>
            <a:ext cx="8035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Республиканский конкур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научно-исследовательских проек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e9"/>
                </a:solidFill>
                <a:latin typeface="Times New Roman"/>
              </a:rPr>
              <a:t>«Я -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дународный конкурс «Кенгуру»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40" y="1652040"/>
            <a:ext cx="8022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ркушина Мария 2 «а», 1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ушкарева Анастасия 2 «а», 2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учалова Елена 2 «а», 3-е место по школ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  Курзенёва Н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гинова Александра 3 «а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икитина Анна 3 «а», 3-е мес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ригорьев Алексей  3 «б», 1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ванов Сергей 4 «а», 2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еселов Роман 4 «б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шин Илья 4 «б», 3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Гаврилина Г.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8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еждународный конкурс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Русский медвежонок»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182628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акова Татьяна 4 «в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шин Илья 4 «б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елов Роман 4 «б»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3586320"/>
            <a:ext cx="305928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икитина Анна 3 «А»,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в олимпиаде по английскому языку и страноведению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гомолов Кирилл 4 «В» участник биологического конкурса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2 грамоты в номинация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 и Тимакова Екатерина, 4 «В», участники конкурса английского языка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акеев Владислав, 4 «А», участник олимпийских игр по английскому языку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, театр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яринцев Алексей и Вохминцев Владислав, 3 «б», участники конкурса «Орлята России» в г. Туапсе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Городские и 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396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0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48200" y="2276640"/>
            <a:ext cx="3841920" cy="4340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7164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Состав МО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В нашей се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работ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14 учи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810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224000" cy="97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592720" cy="141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630680"/>
            <a:ext cx="223344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Отличники народного просвещения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2867040" cy="381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2000" y="1576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773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вер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793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ала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Почётные работники общего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бразования РФ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1916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цова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191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6082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высшей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151308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511280" cy="20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1600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кир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зен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55736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аврили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14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сютинская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ндель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розов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5640" y="4653000"/>
            <a:ext cx="156204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067280" y="1989000"/>
            <a:ext cx="144468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55412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16495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1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87480" y="3284640"/>
            <a:ext cx="17301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1617480" cy="216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96200" y="2730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ва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77640" y="15066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28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гаутдинова Л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149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зюрина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16002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«Формирование высокого уровня качества образования и нравственного воспитания учащихся, посредством развивающего обучения и кружковой раб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5661000"/>
            <a:ext cx="1656000" cy="107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800360" cy="116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80360" y="2421000"/>
            <a:ext cx="144144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20:14:50Z</dcterms:created>
  <dc:creator>User</dc:creator>
  <dc:description/>
  <dc:language>en-US</dc:language>
  <cp:lastModifiedBy>Ирина</cp:lastModifiedBy>
  <dcterms:modified xsi:type="dcterms:W3CDTF">2006-11-29T18:56:19Z</dcterms:modified>
  <cp:revision>65</cp:revision>
  <dc:subject/>
  <dc:title>Слайд 1</dc:title>
</cp:coreProperties>
</file>