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80.wmf" ContentType="image/x-wmf"/>
  <Override PartName="/ppt/media/image57.wmf" ContentType="image/x-wmf"/>
  <Override PartName="/ppt/media/image14.jpeg" ContentType="image/jpeg"/>
  <Override PartName="/ppt/media/image56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63.jpeg" ContentType="image/jpeg"/>
  <Override PartName="/ppt/media/image49.wmf" ContentType="image/x-wmf"/>
  <Override PartName="/ppt/media/image46.wmf" ContentType="image/x-wmf"/>
  <Override PartName="/ppt/media/image69.jpeg" ContentType="image/jpeg"/>
  <Override PartName="/ppt/media/image44.wmf" ContentType="image/x-wmf"/>
  <Override PartName="/ppt/media/image43.png" ContentType="image/png"/>
  <Override PartName="/ppt/media/image41.wmf" ContentType="image/x-wmf"/>
  <Override PartName="/ppt/media/image62.jpeg" ContentType="image/jpeg"/>
  <Override PartName="/ppt/media/image40.wmf" ContentType="image/x-wmf"/>
  <Override PartName="/ppt/media/image33.wmf" ContentType="image/x-wmf"/>
  <Override PartName="/ppt/media/image37.wmf" ContentType="image/x-wmf"/>
  <Override PartName="/ppt/media/image12.jpeg" ContentType="image/jpeg"/>
  <Override PartName="/ppt/media/image30.jpeg" ContentType="image/jpeg"/>
  <Override PartName="/ppt/media/image6.wmf" ContentType="image/x-wmf"/>
  <Override PartName="/ppt/media/image83.wmf" ContentType="image/x-wmf"/>
  <Override PartName="/ppt/media/image27.wmf" ContentType="image/x-wmf"/>
  <Override PartName="/ppt/media/image1.jpeg" ContentType="image/jpeg"/>
  <Override PartName="/ppt/media/image50.wmf" ContentType="image/x-wmf"/>
  <Override PartName="/ppt/media/image79.wmf" ContentType="image/x-wmf"/>
  <Override PartName="/ppt/media/image15.jpeg" ContentType="image/jpeg"/>
  <Override PartName="/ppt/media/image73.jpeg" ContentType="image/jpeg"/>
  <Override PartName="/ppt/media/image26.wmf" ContentType="image/x-wmf"/>
  <Override PartName="/ppt/media/image67.jpeg" ContentType="image/jpeg"/>
  <Override PartName="/ppt/media/image55.wmf" ContentType="image/x-wmf"/>
  <Override PartName="/ppt/media/image18.jpeg" ContentType="image/jpeg"/>
  <Override PartName="/ppt/media/image22.jpeg" ContentType="image/jpeg"/>
  <Override PartName="/ppt/media/image32.wmf" ContentType="image/x-wmf"/>
  <Override PartName="/ppt/media/image21.jpeg" ContentType="image/jpeg"/>
  <Override PartName="/ppt/media/image20.jpeg" ContentType="image/jpeg"/>
  <Override PartName="/ppt/media/image59.wmf" ContentType="image/x-wmf"/>
  <Override PartName="/ppt/media/image74.jpeg" ContentType="image/jpeg"/>
  <Override PartName="/ppt/media/image78.wmf" ContentType="image/x-wmf"/>
  <Override PartName="/ppt/media/image65.jpeg" ContentType="image/jpeg"/>
  <Override PartName="/ppt/media/image75.jpeg" ContentType="image/jpeg"/>
  <Override PartName="/ppt/media/image68.jpeg" ContentType="image/jpeg"/>
  <Override PartName="/ppt/media/image29.wmf" ContentType="image/x-wmf"/>
  <Override PartName="/ppt/media/image72.jpeg" ContentType="image/jpeg"/>
  <Override PartName="/ppt/media/image5.wmf" ContentType="image/x-wmf"/>
  <Override PartName="/ppt/media/image71.jpeg" ContentType="image/jpeg"/>
  <Override PartName="/ppt/media/image70.gif" ContentType="image/gif"/>
  <Override PartName="/ppt/media/image16.jpeg" ContentType="image/jpeg"/>
  <Override PartName="/ppt/media/image77.wmf" ContentType="image/x-wmf"/>
  <Override PartName="/ppt/media/image60.jpeg" ContentType="image/jpeg"/>
  <Override PartName="/ppt/media/image3.jpeg" ContentType="image/jpeg"/>
  <Override PartName="/ppt/media/image28.wmf" ContentType="image/x-wmf"/>
  <Override PartName="/ppt/media/image36.gif" ContentType="image/gif"/>
  <Override PartName="/ppt/media/image64.jpeg" ContentType="image/jpeg"/>
  <Override PartName="/ppt/media/image7.jpeg" ContentType="image/jpeg"/>
  <Override PartName="/ppt/media/image35.gif" ContentType="image/gif"/>
  <Override PartName="/ppt/media/image9.wmf" ContentType="image/x-wmf"/>
  <Override PartName="/ppt/media/image39.wmf" ContentType="image/x-wmf"/>
  <Override PartName="/ppt/media/image81.wmf" ContentType="image/x-wmf"/>
  <Override PartName="/ppt/media/image66.jpeg" ContentType="image/jpeg"/>
  <Override PartName="/ppt/media/image4.wmf" ContentType="image/x-wmf"/>
  <Override PartName="/ppt/media/image34.wmf" ContentType="image/x-wmf"/>
  <Override PartName="/ppt/media/image42.wmf" ContentType="image/x-wmf"/>
  <Override PartName="/ppt/media/image82.gif" ContentType="image/gif"/>
  <Override PartName="/ppt/media/image23.jpeg" ContentType="image/jpeg"/>
  <Override PartName="/ppt/media/image2.jpeg" ContentType="image/jpeg"/>
  <Override PartName="/ppt/media/image52.wmf" ContentType="image/x-wmf"/>
  <Override PartName="/ppt/media/image24.jpeg" ContentType="image/jpeg"/>
  <Override PartName="/ppt/media/image31.wmf" ContentType="image/x-wmf"/>
  <Override PartName="/ppt/media/image61.jpeg" ContentType="image/jpeg"/>
  <Override PartName="/ppt/media/image8.wmf" ContentType="image/x-wmf"/>
  <Override PartName="/ppt/media/image38.wmf" ContentType="image/x-wmf"/>
  <Override PartName="/ppt/media/image25.jpeg" ContentType="image/jpeg"/>
  <Override PartName="/ppt/media/image10.wmf" ContentType="image/x-wmf"/>
  <Override PartName="/ppt/media/image13.jpeg" ContentType="image/jpeg"/>
  <Override PartName="/ppt/media/image47.wmf" ContentType="image/x-wmf"/>
  <Override PartName="/ppt/media/image19.jpeg" ContentType="image/jpeg"/>
  <Override PartName="/ppt/media/image17.jpeg" ContentType="image/jpeg"/>
  <Override PartName="/ppt/media/image45.wmf" ContentType="image/x-wmf"/>
  <Override PartName="/ppt/media/image76.jpeg" ContentType="image/jpeg"/>
  <Override PartName="/ppt/media/image11.wmf" ContentType="image/x-wmf"/>
  <Override PartName="/ppt/media/image4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771-83E2-45EB-B67B-67DACA5D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224-CE44-47B7-A32E-28E77D16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E24-AD9C-4DB8-8AE1-AEDBA434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08D-434E-4C7A-A593-80E61277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1EE3-1401-42A5-AEB8-09DC2159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0CF5-49DB-4911-B58B-97194895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40EB-D61A-4691-B960-4A644678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7EBF-994B-4A7B-8F5D-10125CC0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57DB-BE23-4FD0-8AF6-005FF887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4A3E-F209-4BBF-9D40-7779EF34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6820-CDC3-4122-AF98-28C70564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8B7-FE9E-4CD7-A770-D08B3A45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71C9-85F1-422D-ADE7-DA7CB24F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9B1A-E053-4211-8B75-536BB1F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D137-7611-479C-92BB-D18F2D3D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D570-8161-4F97-A0CF-4B6BCD24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8815-D29C-45FF-B044-250EB2049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4CC-2E96-475E-8EC2-21AA0E26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7B0-FA2D-4790-968B-0CD21E66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F47C-26F2-4937-895E-DCE7469E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5730-0DEE-4CD0-AFE9-D960986D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3D5-6F64-47C6-8D21-67253DF6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FE50-B74E-47C1-B78B-4482D562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322D-1375-408E-981F-C4BBDF95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CE0D-A135-4FC9-A15D-E6FB877CBE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1F9E-98D5-4A4F-8EAF-E1E838386F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8.png"/><Relationship Id="rId7" Type="http://schemas.openxmlformats.org/officeDocument/2006/relationships/image" Target="../media/image59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gif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2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92360" y="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Добрый день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80000" y="2637000"/>
            <a:ext cx="169704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640" y="155700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Изучение и внедрение методик и приёмов развивающего обучения, способствующего повышению качества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Совершенствование педагогического мастерства учителей и воспит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Развитие обучающихся с учетом их возрастных, физиологических, психологических и интеллектуальных особен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Совершенствование воспитательного процесса в формировании нравственных и трудовых навы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Организация работы в кружках по предметам и интерес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Контроль за предметами гуманитарного цикла (русский язык, чтени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Совершенствование здоровьесберегающих технолог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Внедрение ИКТ в процесс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3800" y="260280"/>
            <a:ext cx="73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Задачи М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368360" cy="1068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26920" y="189000"/>
            <a:ext cx="1295640" cy="11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0920" y="47628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2276640"/>
            <a:ext cx="2087280" cy="165708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421000"/>
            <a:ext cx="2016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Вариативное</a:t>
            </a:r>
            <a:br>
              <a:rPr sz="2100"/>
            </a:b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содержание</a:t>
            </a:r>
            <a:br>
              <a:rPr sz="2100"/>
            </a:b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начального</a:t>
            </a:r>
            <a:br>
              <a:rPr sz="2100"/>
            </a:b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образова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2565360"/>
            <a:ext cx="2521080" cy="165564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7f8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27813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Развитие творческого потенциала учащихся посредством кружков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4797360"/>
            <a:ext cx="3097440" cy="144000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4941720"/>
            <a:ext cx="28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Внедрение здоровьесберегающих технолог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22680" y="2554200"/>
            <a:ext cx="2016720" cy="1622520"/>
            <a:chOff x="4522680" y="2554200"/>
            <a:chExt cx="2016720" cy="1622520"/>
          </a:xfrm>
        </p:grpSpPr>
        <p:sp>
          <p:nvSpPr>
            <p:cNvPr id="163" name=""/>
            <p:cNvSpPr/>
            <p:nvPr/>
          </p:nvSpPr>
          <p:spPr>
            <a:xfrm flipH="1" rot="17115600">
              <a:off x="5004720" y="2426400"/>
              <a:ext cx="676080" cy="123696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17115600">
              <a:off x="5783040" y="3449160"/>
              <a:ext cx="349920" cy="88380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17115600">
              <a:off x="6009480" y="3287160"/>
              <a:ext cx="418320" cy="55008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17115600">
              <a:off x="4901040" y="2499840"/>
              <a:ext cx="1168200" cy="167688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31640" y="2166840"/>
            <a:ext cx="1617840" cy="1895400"/>
            <a:chOff x="2231640" y="2166840"/>
            <a:chExt cx="1617840" cy="1895400"/>
          </a:xfrm>
        </p:grpSpPr>
        <p:sp>
          <p:nvSpPr>
            <p:cNvPr id="168" name=""/>
            <p:cNvSpPr/>
            <p:nvPr/>
          </p:nvSpPr>
          <p:spPr>
            <a:xfrm rot="4484400">
              <a:off x="2648880" y="2273760"/>
              <a:ext cx="916920" cy="91584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4484400">
              <a:off x="2520720" y="3419640"/>
              <a:ext cx="474840" cy="6544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4484400">
              <a:off x="2218680" y="3070800"/>
              <a:ext cx="567360" cy="40716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4484400">
              <a:off x="2249640" y="2473560"/>
              <a:ext cx="1584360" cy="124164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752200" y="3247200"/>
            <a:ext cx="1316880" cy="1820520"/>
            <a:chOff x="2752200" y="3247200"/>
            <a:chExt cx="1316880" cy="1820520"/>
          </a:xfrm>
        </p:grpSpPr>
        <p:sp>
          <p:nvSpPr>
            <p:cNvPr id="173" name=""/>
            <p:cNvSpPr/>
            <p:nvPr/>
          </p:nvSpPr>
          <p:spPr>
            <a:xfrm rot="4484400">
              <a:off x="2972160" y="3444120"/>
              <a:ext cx="927720" cy="68436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4484400">
              <a:off x="2997000" y="4527360"/>
              <a:ext cx="480240" cy="4888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4484400">
              <a:off x="2722680" y="4133160"/>
              <a:ext cx="574200" cy="30420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4484400">
              <a:off x="2608920" y="3678840"/>
              <a:ext cx="1603440" cy="92772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076720" y="4653000"/>
            <a:ext cx="2951280" cy="172872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7f8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76720" y="4724280"/>
            <a:ext cx="28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Внедрение информационно-коммуникативных технолог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713040" y="3171600"/>
            <a:ext cx="1967040" cy="2057400"/>
            <a:chOff x="3713040" y="3171600"/>
            <a:chExt cx="1967040" cy="2057400"/>
          </a:xfrm>
        </p:grpSpPr>
        <p:sp>
          <p:nvSpPr>
            <p:cNvPr id="180" name=""/>
            <p:cNvSpPr/>
            <p:nvPr/>
          </p:nvSpPr>
          <p:spPr>
            <a:xfrm flipH="1" rot="17115600">
              <a:off x="4101120" y="3214800"/>
              <a:ext cx="959040" cy="114516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rot="17115600">
              <a:off x="4816800" y="4472280"/>
              <a:ext cx="496440" cy="8182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17115600">
              <a:off x="5058720" y="4139640"/>
              <a:ext cx="593640" cy="50940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rot="17115600">
              <a:off x="3850920" y="3399120"/>
              <a:ext cx="1657440" cy="155232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348000" y="3068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63817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0"/>
            <a:ext cx="813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Модернизация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деятельности начальн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1628640"/>
            <a:ext cx="3384720" cy="165744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Четырёхлет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нача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4000" y="1700280"/>
            <a:ext cx="8002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одготовительная ступ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годичная субботняя школа «Дошколёнок» для детей 6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этой ступ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подготовка и адаптация детей к обучению в школе, формирование у ребенка положительной установки на обучение и работу в коллективе. Занятия проводят учителя начальных классов, с тем чтобы продолжить обучение этих же детей в первом классе. Посещение школы на этом этапе не является обяза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ервая ступ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начальная школа (1-4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этой ступ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формирование базовых знаний и навыков, познавательной мотивации учения, навыков самостоятельного планирования и контроля познавательной деятельности, культуры общения и само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Ступенчатая модель начальной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079280" cy="10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ариативное содержание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начального образования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ограмма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«Школ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1в,  2б,в,  3б,в,  4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ограмма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«Школа-2100»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1а,б,  2а,  3а,  4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ограмма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Л.В. Занкова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4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4000" y="5300640"/>
            <a:ext cx="1287360" cy="1368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596360" y="5229360"/>
            <a:ext cx="127296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7640" y="2775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доровьесберегающие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технолог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91592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Ежегодные медицинские осмотры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лановые диспансер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Организация горячего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Физкультминутки и физкультпаузы на у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Зарядка для глаз на уроках и в ГП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Ежедневная гимнастика до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Динамические пау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портивные часы в ГП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портивно-масс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ероприятия по суббо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792000" cy="723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451640" y="3789360"/>
            <a:ext cx="1347840" cy="1511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435640" y="4869000"/>
            <a:ext cx="1655640" cy="1488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250920" y="5589720"/>
            <a:ext cx="1225440" cy="1058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7524720" y="1989000"/>
            <a:ext cx="135900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850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0000"/>
                </a:solidFill>
                <a:latin typeface="Times New Roman"/>
              </a:rPr>
              <a:t>Физическое воспитание</a:t>
            </a: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«Недостаточно закалять душу ребёнка, столь же необходимо закалять и его мышцы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. Монтен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27840" y="392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58920" y="3284640"/>
            <a:ext cx="2306520" cy="2879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940360" y="3357720"/>
            <a:ext cx="2664000" cy="27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42472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Информационно-коммуникативные технолог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ладеют компьюте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8 учителей из 14  -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67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уют в работе Интер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шли курсы в МРЦИ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тодическая информ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электронных носител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ьютерные презент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6632640" y="4149720"/>
            <a:ext cx="1987560" cy="2212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6588000" y="1844640"/>
            <a:ext cx="2230560" cy="19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Работа в кружках по предметам и интересам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826920" y="1773360"/>
          <a:ext cx="8066160" cy="4534920"/>
        </p:xfrm>
        <a:graphic>
          <a:graphicData uri="http://schemas.openxmlformats.org/drawingml/2006/table">
            <a:tbl>
              <a:tblPr/>
              <a:tblGrid>
                <a:gridCol w="3538800"/>
                <a:gridCol w="927000"/>
                <a:gridCol w="360036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звание круж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ковод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Волшебные кукл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аврилина Г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Здравствуй, сказка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а, 4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Шакирова Е.В., Скулкина Е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Творческая мастерск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урзенёва Н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Помогай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удалаева Ф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Туристёно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асютинская О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По дорогам сказ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а, 1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Одинцова Т.В., Кузюрина Н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Занимат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Иванова Н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Умелые ру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ернова И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Умелые ру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Зверева Ф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Лог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агаутдинова Л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936720" cy="898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740720" y="69228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79280" y="5857920"/>
            <a:ext cx="172872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Уровень обученности учащихс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00000" y="1916280"/>
          <a:ext cx="7756560" cy="42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16280"/>
                    <a:ext cx="7756560" cy="42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7667640" y="1844640"/>
            <a:ext cx="82224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Социально-психологическая служб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2960" y="1773360"/>
            <a:ext cx="7703640" cy="4278600"/>
            <a:chOff x="912960" y="1773360"/>
            <a:chExt cx="7703640" cy="4278600"/>
          </a:xfrm>
        </p:grpSpPr>
        <p:cxnSp>
          <p:nvCxnSpPr>
            <p:cNvPr id="225" name="_s306217"/>
            <p:cNvCxnSpPr>
              <a:stCxn id="226" idx="0"/>
              <a:endCxn id="227" idx="2"/>
            </p:cNvCxnSpPr>
            <p:nvPr/>
          </p:nvCxnSpPr>
          <p:spPr>
            <a:xfrm flipV="1" rot="16200000">
              <a:off x="5864760" y="2412360"/>
              <a:ext cx="797040" cy="2999520"/>
            </a:xfrm>
            <a:prstGeom prst="bentConnector3">
              <a:avLst>
                <a:gd name="adj1" fmla="val 142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8" name="_s306215"/>
            <p:cNvCxnSpPr>
              <a:stCxn id="229" idx="0"/>
              <a:endCxn id="227" idx="2"/>
            </p:cNvCxnSpPr>
            <p:nvPr/>
          </p:nvCxnSpPr>
          <p:spPr>
            <a:xfrm flipV="1" rot="16200000">
              <a:off x="4865760" y="3411360"/>
              <a:ext cx="797040" cy="1001520"/>
            </a:xfrm>
            <a:prstGeom prst="bentConnector3">
              <a:avLst>
                <a:gd name="adj1" fmla="val 142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06214"/>
            <p:cNvCxnSpPr>
              <a:stCxn id="231" idx="0"/>
              <a:endCxn id="227" idx="2"/>
            </p:cNvCxnSpPr>
            <p:nvPr/>
          </p:nvCxnSpPr>
          <p:spPr>
            <a:xfrm flipH="1" flipV="1" rot="5400000">
              <a:off x="3866760" y="3413520"/>
              <a:ext cx="797040" cy="997560"/>
            </a:xfrm>
            <a:prstGeom prst="bentConnector3">
              <a:avLst>
                <a:gd name="adj1" fmla="val 142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2" name="_s306213"/>
            <p:cNvCxnSpPr>
              <a:stCxn id="233" idx="0"/>
              <a:endCxn id="227" idx="2"/>
            </p:cNvCxnSpPr>
            <p:nvPr/>
          </p:nvCxnSpPr>
          <p:spPr>
            <a:xfrm flipH="1" flipV="1" rot="5400000">
              <a:off x="2868480" y="2415600"/>
              <a:ext cx="797040" cy="2993400"/>
            </a:xfrm>
            <a:prstGeom prst="bentConnector3">
              <a:avLst>
                <a:gd name="adj1" fmla="val 142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7" name="_s306209"/>
            <p:cNvSpPr/>
            <p:nvPr/>
          </p:nvSpPr>
          <p:spPr>
            <a:xfrm>
              <a:off x="3907440" y="1773360"/>
              <a:ext cx="1712160" cy="1711440"/>
            </a:xfrm>
            <a:prstGeom prst="rect">
              <a:avLst/>
            </a:prstGeom>
            <a:solidFill>
              <a:srgbClr val="cccc99">
                <a:alpha val="50000"/>
              </a:srgbClr>
            </a:solidFill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Школьно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ПМП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306210"/>
            <p:cNvSpPr/>
            <p:nvPr/>
          </p:nvSpPr>
          <p:spPr>
            <a:xfrm>
              <a:off x="912960" y="4340520"/>
              <a:ext cx="1712160" cy="1711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Психол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06211"/>
            <p:cNvSpPr/>
            <p:nvPr/>
          </p:nvSpPr>
          <p:spPr>
            <a:xfrm>
              <a:off x="2910600" y="4340520"/>
              <a:ext cx="1712160" cy="1711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Логопе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306212"/>
            <p:cNvSpPr/>
            <p:nvPr/>
          </p:nvSpPr>
          <p:spPr>
            <a:xfrm>
              <a:off x="4908600" y="4340520"/>
              <a:ext cx="1712160" cy="1711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Медицин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работ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306216"/>
            <p:cNvSpPr/>
            <p:nvPr/>
          </p:nvSpPr>
          <p:spPr>
            <a:xfrm>
              <a:off x="6906600" y="4340520"/>
              <a:ext cx="1710000" cy="1711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Инсп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ИД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093080" y="2060640"/>
            <a:ext cx="1023840" cy="129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109692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6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7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7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7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7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4596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0000"/>
                </a:solidFill>
                <a:latin typeface="Times New Roman"/>
              </a:rPr>
              <a:t>МОУ «Средняя</a:t>
            </a:r>
            <a:br>
              <a:rPr sz="800"/>
            </a:br>
            <a:r>
              <a:rPr b="1" lang="en-US" sz="4700" spc="-1" strike="noStrike">
                <a:solidFill>
                  <a:srgbClr val="ff0000"/>
                </a:solidFill>
                <a:latin typeface="Times New Roman"/>
              </a:rPr>
              <a:t>общеобразовательная школа № 10 г. Йошкар-Олы»</a:t>
            </a: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5689800" cy="3543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511280" cy="9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26920" y="4365720"/>
            <a:ext cx="168912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55640" y="260280"/>
            <a:ext cx="1224000" cy="115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Курсы при МИО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Курсы при МРЦИО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Самообразование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55640" y="333360"/>
            <a:ext cx="813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овышение квалифик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26920" y="4797360"/>
            <a:ext cx="2087640" cy="1793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020000" y="4941720"/>
            <a:ext cx="1582560" cy="14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4-2005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Праздник «Золотая осе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ворческий отчёт уч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5-2006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«Совместный методсов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Ш 10,    ДДУ 32, 79, 15, 10, 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6-2007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«Детсад-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День открытых дверей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ля ДДУ 79, 32,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6920" y="260280"/>
            <a:ext cx="79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ткрытые мероприя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732720" y="1989000"/>
            <a:ext cx="208728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2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2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2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55640" y="0"/>
            <a:ext cx="820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реемственность ДД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и начальной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12000" y="2060640"/>
            <a:ext cx="2476440" cy="4032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42920" y="3068640"/>
            <a:ext cx="4033800" cy="27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0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91440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79480" y="333360"/>
            <a:ext cx="794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Совместные мероприят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77336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Совместные методические со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Открытые уроки учителей для методис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воспитателей и психологов Д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Открытые занятия воспита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ДДУ для учителей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Праздники, концерты, экскур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«Знакомство со школ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Игры, конкурсы, викто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Выступление учителей перед родителями Д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7093080" y="2781360"/>
            <a:ext cx="186192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3095640" cy="23223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879480" y="189000"/>
            <a:ext cx="794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a00"/>
                </a:solidFill>
                <a:latin typeface="Times New Roman"/>
              </a:rPr>
              <a:t>Концер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5364000" y="170028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79480" y="189000"/>
            <a:ext cx="794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a00"/>
                </a:solidFill>
                <a:latin typeface="Times New Roman"/>
              </a:rPr>
              <a:t>Праздн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448000" cy="19386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2592720" cy="1944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227640" y="1844640"/>
            <a:ext cx="2519640" cy="1889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826920" y="436572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6156360" y="4437000"/>
            <a:ext cx="2519280" cy="18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0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979640" y="189000"/>
            <a:ext cx="55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a00"/>
                </a:solidFill>
                <a:latin typeface="Times New Roman"/>
              </a:rPr>
              <a:t>Конкурс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2870280" cy="4248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389400" cy="4032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844560" cy="1125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1042920" y="189000"/>
            <a:ext cx="78732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08200" y="136440"/>
            <a:ext cx="77245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0000"/>
                </a:solidFill>
                <a:latin typeface="Times New Roman"/>
              </a:rPr>
              <a:t>Победители и призёры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конкурсо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олимпиа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00720" y="3789360"/>
            <a:ext cx="4322520" cy="2575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093080" y="1844640"/>
            <a:ext cx="1185840" cy="1655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219640" y="1844640"/>
            <a:ext cx="1174680" cy="1655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1187280" y="4508640"/>
            <a:ext cx="1872000" cy="17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Международный конкурс «Кенгуру»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расова Саша 4-а кл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место по региону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Васютинская О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емёнова Ксения 4-б кл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XIV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место по региону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Курзенёва Н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Международный конкурс «Русский медвежонок»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рлов Николай 4-а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место по городу,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Васютинская О.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емёнова Ксения 4-б кл., 75 баллов,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Курзенёва Н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Городская олимпиада по математик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емёнова Ксения 4-б кл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I-III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есто,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Курзенёва Н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Городская олимпиада по начальному техническому моделированию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Шестакова Маша 4-а кл. и Семёнова Ксения 4-б кл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мандное  место,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я Васютинская О.В. и Курзенёва Н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8200" y="260280"/>
            <a:ext cx="765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003-2004 учебный г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093080" y="1700280"/>
            <a:ext cx="164916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0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4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1" dur="1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2" dur="1000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5" dur="1000"/>
                                        <p:tgtEl>
                                          <p:spTgt spid="2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еждународный конкурс «Кенгуру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дерникова Евгения 4-а кл.,64 балла, в шко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, в регионе – 66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еждународный конкурс «Русский медвежонок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шурина Анастасия 4-а кл., 75 баллов, в шко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сто, в регионе 37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ородская олимпиада по русскому язы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шурина Анастасия 4-а кл.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сто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ородская олимпиада по начальному техническому моделирова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сильева Екатерина и Дружинина Мария, 4-а класс, командно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ыставка-конкурс по декоративно- прикладному искусст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ыставка вышивки) в ГУК «Республиканский музей изобразительных искусств» 2-а кл.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Шакиров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09640" y="201600"/>
            <a:ext cx="641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2004-2005 учебный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11456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3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6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9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2" dur="1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5" dur="10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1280" y="15876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етодическое объединение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учителей начальной шко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005-2006 учебный год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3141720" cy="3600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572000" y="2708280"/>
            <a:ext cx="421164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4" dur="indefinite" restart="never" nodeType="tmRoot">
          <p:childTnLst>
            <p:seq>
              <p:cTn id="1625" dur="indefinite" nodeType="mainSeq">
                <p:childTnLst>
                  <p:par>
                    <p:cTn id="1626" fill="hold">
                      <p:stCondLst>
                        <p:cond delay="0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1583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рманова Екатерина, 2а, работа по тем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a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fa00"/>
                </a:solidFill>
                <a:latin typeface="Times New Roman"/>
              </a:rPr>
              <a:t>«Как дать   бумаге вторую жизнь»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 мес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учитель Курзенева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ипло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За лучший проект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Шарнина Полина, 1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работу по теме: </a:t>
            </a:r>
            <a:r>
              <a:rPr b="0" i="1" lang="en-US" sz="2800" spc="-1" strike="noStrike">
                <a:solidFill>
                  <a:srgbClr val="00fa00"/>
                </a:solidFill>
                <a:latin typeface="Times New Roman"/>
              </a:rPr>
              <a:t>«Игрушки для всех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ипло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За лучший коллективный проект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б класс, за работу по теме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fa00"/>
                </a:solidFill>
                <a:latin typeface="Times New Roman"/>
              </a:rPr>
              <a:t>«Если бы не вымерли динозавры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учитель Васютинская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516720" y="4437000"/>
            <a:ext cx="2232000" cy="2205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96800" y="115920"/>
            <a:ext cx="8035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Республиканский конкур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научно-исследовательских проект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e9"/>
                </a:solidFill>
                <a:latin typeface="Times New Roman"/>
              </a:rPr>
              <a:t>«Я - исследова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2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6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6438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Международный конкурс «Кенгуру»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40" y="1652040"/>
            <a:ext cx="8022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Меркушина Мария 2 «а», 1-е место по шко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ушкарева Анастасия 2 «а», 2-е место по шко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Чучалова Елена 2 «а», 3-е место по школ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  Курзенёва Н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Логинова Александра 3 «а», 1-е мес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Никитина Анна 3 «а», 3-е мес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Шакирова Е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Григорьев Алексей  3 «б», 1-е мест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Будалаева Ф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ванов Сергей 4 «а», 2-е мест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Одинцова Т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еселов Роман 4 «б», 1-е мес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ошин Илья 4 «б», 3-е мест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Гаврилина Г.В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96000" y="3068640"/>
            <a:ext cx="3168720" cy="27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2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7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2" dur="1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6" dur="10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8" dur="1000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5" dur="1000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Международный конкурс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«Русский медвежонок»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00000" y="182628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акова Татьяна 4 «в» класс, 1-е мес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учитель Кузюрина Н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шин Илья 4 «б» класс, 1-е мес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учитель Гаврилина Г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селов Роман 4 «б» клас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е мес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учитель Гаврилина Г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724360" y="3586320"/>
            <a:ext cx="305928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fill="hold">
                      <p:stCondLst>
                        <p:cond delay="0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5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6" dur="1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539280" y="1844280"/>
            <a:ext cx="842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Никитина Анна 3 «А»,</a:t>
            </a:r>
            <a:r>
              <a:rPr b="0" lang="en-US" sz="2300" spc="-1" strike="noStrike">
                <a:solidFill>
                  <a:srgbClr val="1111e9"/>
                </a:solidFill>
                <a:latin typeface="Times New Roman"/>
              </a:rPr>
              <a:t>1 место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в олимпиаде по английскому языку и страноведению,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Шакирова Е.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Богомолов Кирилл 4 «В» участник биологического конкурса, </a:t>
            </a:r>
            <a:r>
              <a:rPr b="0" lang="en-US" sz="2300" spc="-1" strike="noStrike">
                <a:solidFill>
                  <a:srgbClr val="1111e9"/>
                </a:solidFill>
                <a:latin typeface="Times New Roman"/>
              </a:rPr>
              <a:t>2 грамоты в номинациях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Кузюрина Н.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асильева Анна и Тимакова Екатерина, 4 «В», участники конкурса английского языка,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Кузюрина Н.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Макеев Владислав, 4 «А», участник олимпийских игр по английскому языку, </a:t>
            </a:r>
            <a:r>
              <a:rPr b="0" lang="en-US" sz="2300" spc="-1" strike="noStrike">
                <a:solidFill>
                  <a:srgbClr val="1111e9"/>
                </a:solidFill>
                <a:latin typeface="Times New Roman"/>
              </a:rPr>
              <a:t>1 место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Одинцова Т.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асильева Анна, театр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Кузюрина Н.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Бояринцев Алексей и Вохминцев Владислав, 3 «б», участники конкурса «Орлята России» в г. Туапсе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Будалаева Ф.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0"/>
            <a:ext cx="64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Городские и российские меро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03968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9" dur="indefinite" restart="never" nodeType="tmRoot">
          <p:childTnLst>
            <p:seq>
              <p:cTn id="1920" dur="indefinite" nodeType="mainSeq">
                <p:childTnLst>
                  <p:par>
                    <p:cTn id="1921" fill="hold">
                      <p:stCondLst>
                        <p:cond delay="0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7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1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8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5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2" dur="1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948200" y="2276640"/>
            <a:ext cx="3841920" cy="43401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4968720" cy="3726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971640" y="404640"/>
            <a:ext cx="78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970" dur="indefinite" restart="never" nodeType="tmRoot">
          <p:childTnLst>
            <p:seq>
              <p:cTn id="1971" dur="indefinite" nodeType="mainSeq">
                <p:childTnLst>
                  <p:par>
                    <p:cTn id="1972" fill="hold">
                      <p:stCondLst>
                        <p:cond delay="0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2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Состав МО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85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В нашей сек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работаю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14 учител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081080" cy="1076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1224000" cy="97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084720" y="4869000"/>
            <a:ext cx="2592720" cy="1412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11280" y="4630680"/>
            <a:ext cx="223344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«Отличники народного просвещения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2867040" cy="3816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02000" y="1576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1773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верева Ф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17938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алаева Ф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64000" y="2349360"/>
            <a:ext cx="28083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«Почётные работники общего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образования РФ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2700360" cy="3600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35280" y="1916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инцова Т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1916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рно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26082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Учителя высшей категор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1513080" cy="201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20000" y="1989000"/>
            <a:ext cx="1511280" cy="20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16000" y="155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Шакир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155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рзенё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1557360"/>
            <a:ext cx="19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аврилина Г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4149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асютинская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48360" y="4149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ндель Т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42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розова Л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995640" y="4653000"/>
            <a:ext cx="1562040" cy="1944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067280" y="1989000"/>
            <a:ext cx="144468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020000" y="4653000"/>
            <a:ext cx="1554120" cy="1944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116000" y="4581360"/>
            <a:ext cx="16495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Учителя 1 категор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87480" y="3284640"/>
            <a:ext cx="1730160" cy="2305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674720" cy="2232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924360" y="1916280"/>
            <a:ext cx="1617480" cy="216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96200" y="2730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ван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77640" y="150660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кин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27288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агаутдинова Л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4149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зюрина Н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924360" y="4653000"/>
            <a:ext cx="160020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етодическая тем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«Формирование высокого уровня качества образования и нравственного воспитания учащихся, посредством развивающего обучения и кружковой работ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08720" y="5661000"/>
            <a:ext cx="1656000" cy="1077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1800360" cy="1168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8000" y="5229360"/>
            <a:ext cx="1820880" cy="1509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380360" y="2421000"/>
            <a:ext cx="1441440" cy="139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20:14:50Z</dcterms:created>
  <dc:creator>User</dc:creator>
  <dc:description/>
  <dc:language>en-US</dc:language>
  <cp:lastModifiedBy>Ирина</cp:lastModifiedBy>
  <dcterms:modified xsi:type="dcterms:W3CDTF">2006-11-29T18:56:19Z</dcterms:modified>
  <cp:revision>65</cp:revision>
  <dc:subject/>
  <dc:title>Слайд 1</dc:title>
</cp:coreProperties>
</file>