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57.jpeg" ContentType="image/jpeg"/>
  <Override PartName="/ppt/media/image20.wmf" ContentType="image/x-wmf"/>
  <Override PartName="/ppt/media/image56.jpeg" ContentType="image/jpeg"/>
  <Override PartName="/ppt/media/image55.jpeg" ContentType="image/jpeg"/>
  <Override PartName="/ppt/media/image54.jpeg" ContentType="image/jpeg"/>
  <Override PartName="/ppt/media/image53.wmf" ContentType="image/x-wmf"/>
  <Override PartName="/ppt/media/image49.wmf" ContentType="image/x-wmf"/>
  <Override PartName="/ppt/media/image48.jpeg" ContentType="image/jpeg"/>
  <Override PartName="/ppt/media/image35.wmf" ContentType="image/x-wmf"/>
  <Override PartName="/ppt/media/image46.wmf" ContentType="image/x-wmf"/>
  <Override PartName="/ppt/media/image45.wmf" ContentType="image/x-wmf"/>
  <Override PartName="/ppt/media/image44.jpeg" ContentType="image/jpeg"/>
  <Override PartName="/ppt/media/image60.wmf" ContentType="image/x-wmf"/>
  <Override PartName="/ppt/media/image43.wmf" ContentType="image/x-wmf"/>
  <Override PartName="/ppt/media/image42.wmf" ContentType="image/x-wmf"/>
  <Override PartName="/ppt/media/image102.jpeg" ContentType="image/jpeg"/>
  <Override PartName="/ppt/media/image40.jpeg" ContentType="image/jpeg"/>
  <Override PartName="/ppt/media/image13.wmf" ContentType="image/x-wmf"/>
  <Override PartName="/ppt/media/image1.wmf" ContentType="image/x-wmf"/>
  <Override PartName="/ppt/media/image47.jpeg" ContentType="image/jpeg"/>
  <Override PartName="/ppt/media/image25.wmf" ContentType="image/x-wmf"/>
  <Override PartName="/ppt/media/image36.wmf" ContentType="image/x-wmf"/>
  <Override PartName="/ppt/media/image34.wmf" ContentType="image/x-wmf"/>
  <Override PartName="/ppt/media/image33.jpeg" ContentType="image/jpeg"/>
  <Override PartName="/ppt/media/image37.wmf" ContentType="image/x-wmf"/>
  <Override PartName="/ppt/media/image12.jpeg" ContentType="image/jpeg"/>
  <Override PartName="/ppt/media/image29.jpeg" ContentType="image/jpeg"/>
  <Override PartName="/ppt/media/image108.jpeg" ContentType="image/jpeg"/>
  <Override PartName="/ppt/media/image30.jpeg" ContentType="image/jpeg"/>
  <Override PartName="/ppt/media/image18.wmf" ContentType="image/x-wmf"/>
  <Override PartName="/ppt/media/image83.wmf" ContentType="image/x-wmf"/>
  <Override PartName="/ppt/media/image10.jpeg" ContentType="image/jpeg"/>
  <Override PartName="/ppt/media/image27.jpeg" ContentType="image/jpeg"/>
  <Override PartName="/ppt/media/image82.wmf" ContentType="image/x-wmf"/>
  <Override PartName="/ppt/media/image86.jpeg" ContentType="image/jpeg"/>
  <Override PartName="/ppt/media/image106.jpeg" ContentType="image/jpeg"/>
  <Override PartName="/ppt/media/image41.wmf" ContentType="image/x-wmf"/>
  <Override PartName="/ppt/media/image62.jpeg" ContentType="image/jpeg"/>
  <Override PartName="/ppt/media/image39.jpeg" ContentType="image/jpeg"/>
  <Override PartName="/ppt/media/image14.gif" ContentType="image/gif"/>
  <Override PartName="/ppt/media/image17.png" ContentType="image/png"/>
  <Override PartName="/ppt/media/image98.jpeg" ContentType="image/jpeg"/>
  <Override PartName="/ppt/media/image8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92.wmf" ContentType="image/x-wmf"/>
  <Override PartName="/ppt/media/image107.jpeg" ContentType="image/jpeg"/>
  <Override PartName="/ppt/media/image9.jpeg" ContentType="image/jpeg"/>
  <Override PartName="/ppt/media/image51.jpeg" ContentType="image/jpeg"/>
  <Override PartName="/ppt/media/image23.wmf" ContentType="image/x-wmf"/>
  <Override PartName="/ppt/media/image50.jpeg" ContentType="image/jpeg"/>
  <Override PartName="/ppt/media/image112.wmf" ContentType="image/x-wmf"/>
  <Override PartName="/ppt/media/image5.jpeg" ContentType="image/jpeg"/>
  <Override PartName="/ppt/media/image38.wmf" ContentType="image/x-wmf"/>
  <Override PartName="/ppt/media/image32.jpeg" ContentType="image/jpeg"/>
  <Override PartName="/ppt/media/image4.jpeg" ContentType="image/jpeg"/>
  <Override PartName="/ppt/media/image71.jpeg" ContentType="image/jpeg"/>
  <Override PartName="/ppt/media/image85.wmf" ContentType="image/x-wmf"/>
  <Override PartName="/ppt/media/image74.jpeg" ContentType="image/jpeg"/>
  <Override PartName="/ppt/media/image76.wmf" ContentType="image/x-wmf"/>
  <Override PartName="/ppt/media/image75.jpeg" ContentType="image/jpeg"/>
  <Override PartName="/ppt/media/image111.wmf" ContentType="image/x-wmf"/>
  <Override PartName="/ppt/media/image79.wmf" ContentType="image/x-wmf"/>
  <Override PartName="/ppt/media/image113.gif" ContentType="image/gif"/>
  <Override PartName="/ppt/media/image96.jpeg" ContentType="image/jpeg"/>
  <Override PartName="/ppt/media/image116.wmf" ContentType="image/x-wmf"/>
  <Override PartName="/ppt/media/image99.jpeg" ContentType="image/jpeg"/>
  <Override PartName="/ppt/media/image88.wmf" ContentType="image/x-wmf"/>
  <Override PartName="/ppt/media/image110.wmf" ContentType="image/x-wmf"/>
  <Override PartName="/ppt/media/image24.wmf" ContentType="image/x-wmf"/>
  <Override PartName="/ppt/media/image59.jpeg" ContentType="image/jpeg"/>
  <Override PartName="/ppt/media/image73.jpeg" ContentType="image/jpeg"/>
  <Override PartName="/ppt/media/image109.jpeg" ContentType="image/jpeg"/>
  <Override PartName="/ppt/media/image115.gif" ContentType="image/gif"/>
  <Override PartName="/ppt/media/image89.jpeg" ContentType="image/jpeg"/>
  <Override PartName="/ppt/media/image105.jpeg" ContentType="image/jpeg"/>
  <Override PartName="/ppt/media/image95.jpeg" ContentType="image/jpeg"/>
  <Override PartName="/ppt/media/image69.wmf" ContentType="image/x-wmf"/>
  <Override PartName="/ppt/media/image103.jpeg" ContentType="image/jpeg"/>
  <Override PartName="/ppt/media/image84.jpeg" ContentType="image/jpeg"/>
  <Override PartName="/ppt/media/image104.jpeg" ContentType="image/jpeg"/>
  <Override PartName="/ppt/media/image97.jpeg" ContentType="image/jpeg"/>
  <Override PartName="/ppt/media/image81.jpeg" ContentType="image/jpeg"/>
  <Override PartName="/ppt/media/image101.jpeg" ContentType="image/jpeg"/>
  <Override PartName="/ppt/media/image114.wmf" ContentType="image/x-wmf"/>
  <Override PartName="/ppt/media/image90.jpeg" ContentType="image/jpeg"/>
  <Override PartName="/ppt/media/image63.jpeg" ContentType="image/jpeg"/>
  <Override PartName="/ppt/media/image6.jpeg" ContentType="image/jpeg"/>
  <Override PartName="/ppt/media/image58.wmf" ContentType="image/x-wmf"/>
  <Override PartName="/ppt/media/image94.jpeg" ContentType="image/jpeg"/>
  <Override PartName="/ppt/media/image93.jpeg" ContentType="image/jpeg"/>
  <Override PartName="/ppt/media/image26.wmf" ContentType="image/x-wmf"/>
  <Override PartName="/ppt/media/image91.wmf" ContentType="image/x-wmf"/>
  <Override PartName="/ppt/media/image70.jpeg" ContentType="image/jpeg"/>
  <Override PartName="/ppt/media/image68.wmf" ContentType="image/x-wmf"/>
  <Override PartName="/ppt/media/image64.jpeg" ContentType="image/jpeg"/>
  <Override PartName="/ppt/media/image7.jpeg" ContentType="image/jpeg"/>
  <Override PartName="/ppt/media/image67.wmf" ContentType="image/x-wmf"/>
  <Override PartName="/ppt/media/image66.wmf" ContentType="image/x-wmf"/>
  <Override PartName="/ppt/media/image21.wmf" ContentType="image/x-wmf"/>
  <Override PartName="/ppt/media/image77.jpeg" ContentType="image/jpeg"/>
  <Override PartName="/ppt/media/image65.jpeg" ContentType="image/jpeg"/>
  <Override PartName="/ppt/media/image78.jpeg" ContentType="image/jpeg"/>
  <Override PartName="/ppt/media/image61.jpeg" ContentType="image/jpeg"/>
  <Override PartName="/ppt/media/image22.wmf" ContentType="image/x-wmf"/>
  <Override PartName="/ppt/media/image100.jpeg" ContentType="image/jpeg"/>
  <Override PartName="/ppt/media/image80.jpeg" ContentType="image/jpeg"/>
  <Override PartName="/ppt/media/image19.wmf" ContentType="image/x-wmf"/>
  <Override PartName="/ppt/media/image16.wmf" ContentType="image/x-wmf"/>
  <Override PartName="/ppt/media/image2.png" ContentType="image/png"/>
  <Override PartName="/ppt/media/image72.jpeg" ContentType="image/jpeg"/>
  <Override PartName="/ppt/media/image31.jpeg" ContentType="image/jpeg"/>
  <Override PartName="/ppt/media/image15.wmf" ContentType="image/x-wmf"/>
  <Override PartName="/ppt/media/image3.wmf" ContentType="image/x-wmf"/>
  <Override PartName="/ppt/media/image5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9AB8-4251-4BF6-A52C-DA4EF3AA7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7B90-985D-4AFB-AFCE-C7B52A8B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80EC-85B3-4D2B-ADAB-56F853850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5FFA-5B16-4E6D-974F-C20A1303C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0B8D-033D-495A-8EC7-11B5CDFB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1A7D-8F4D-4200-8DCE-7549AC96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746A-2641-43A5-9903-B30C7F73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55BC-5BFC-4B6E-A7D1-F2326CA3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E97B-FA01-40E6-8950-F2DAC1DF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23D8-3E04-4DCA-AB2A-DC446615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B39A-BC96-4DB1-AC8A-97DE1962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6B5A-64FA-40BB-BA87-3C251A8F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1BD9-53BA-4351-8DCF-D50CB3B3C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wmf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68.wmf"/><Relationship Id="rId3" Type="http://schemas.openxmlformats.org/officeDocument/2006/relationships/image" Target="../media/image69.wmf"/><Relationship Id="rId4" Type="http://schemas.openxmlformats.org/officeDocument/2006/relationships/image" Target="../media/image70.jpeg"/><Relationship Id="rId5" Type="http://schemas.openxmlformats.org/officeDocument/2006/relationships/image" Target="../media/image71.jpeg"/><Relationship Id="rId6" Type="http://schemas.openxmlformats.org/officeDocument/2006/relationships/image" Target="../media/image72.jpeg"/><Relationship Id="rId7" Type="http://schemas.openxmlformats.org/officeDocument/2006/relationships/image" Target="../media/image73.jpeg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wmf"/><Relationship Id="rId4" Type="http://schemas.openxmlformats.org/officeDocument/2006/relationships/image" Target="../media/image83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image" Target="../media/image8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jpeg"/><Relationship Id="rId3" Type="http://schemas.openxmlformats.org/officeDocument/2006/relationships/image" Target="../media/image88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90.jpeg"/><Relationship Id="rId3" Type="http://schemas.openxmlformats.org/officeDocument/2006/relationships/image" Target="../media/image91.wm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4.jpeg"/><Relationship Id="rId2" Type="http://schemas.openxmlformats.org/officeDocument/2006/relationships/image" Target="../media/image105.jpeg"/><Relationship Id="rId3" Type="http://schemas.openxmlformats.org/officeDocument/2006/relationships/image" Target="../media/image106.jpeg"/><Relationship Id="rId4" Type="http://schemas.openxmlformats.org/officeDocument/2006/relationships/image" Target="../media/image107.jpe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08.jpeg"/><Relationship Id="rId2" Type="http://schemas.openxmlformats.org/officeDocument/2006/relationships/image" Target="../media/image109.jpeg"/><Relationship Id="rId3" Type="http://schemas.openxmlformats.org/officeDocument/2006/relationships/image" Target="../media/image110.wmf"/><Relationship Id="rId4" Type="http://schemas.openxmlformats.org/officeDocument/2006/relationships/image" Target="../media/image111.wmf"/><Relationship Id="rId5" Type="http://schemas.openxmlformats.org/officeDocument/2006/relationships/image" Target="../media/image112.wmf"/><Relationship Id="rId6" Type="http://schemas.openxmlformats.org/officeDocument/2006/relationships/image" Target="../media/image113.gif"/><Relationship Id="rId7" Type="http://schemas.openxmlformats.org/officeDocument/2006/relationships/image" Target="../media/image114.wmf"/><Relationship Id="rId8" Type="http://schemas.openxmlformats.org/officeDocument/2006/relationships/image" Target="../media/image115.gif"/><Relationship Id="rId9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16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920" y="3213000"/>
            <a:ext cx="871380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33"/>
                    </a:gs>
                    <a:gs pos="100000">
                      <a:srgbClr val="ebe74f"/>
                    </a:gs>
                  </a:gsLst>
                  <a:lin ang="5400000"/>
                </a:gradFill>
                <a:latin typeface="Times New Roman"/>
              </a:rPr>
              <a:t>Добрый день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9933"/>
                  </a:gs>
                  <a:gs pos="100000">
                    <a:srgbClr val="ebe74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012000" y="333360"/>
          <a:ext cx="2549520" cy="259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2000" y="333360"/>
                    <a:ext cx="254952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35A9-2A59-4F2B-B0EF-2A5C5CEB377E}" type="slidenum">
              <a:t>1</a:t>
            </a:fld>
          </a:p>
        </p:txBody>
      </p:sp>
    </p:spTree>
  </p:cSld>
  <p:transition spd="med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4083120" cy="583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076720" y="1341360"/>
            <a:ext cx="352764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Министерств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образ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и нау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Республи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Марий Э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Июл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00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1947-33F7-4E86-868C-BC48125BC1B6}" type="slidenum">
              <a:t>10</a:t>
            </a:fld>
          </a:p>
        </p:txBody>
      </p:sp>
    </p:spTree>
  </p:cSld>
  <p:transition advTm="1000">
    <p:wheel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5832360" cy="3875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84360" y="111240"/>
            <a:ext cx="79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Городские соревнова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по туристическому многоборь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24000" y="595008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ктябрь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028000" y="5734080"/>
            <a:ext cx="900000" cy="930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588000" y="1959120"/>
            <a:ext cx="2232000" cy="36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0000"/>
                </a:solidFill>
                <a:latin typeface="Times New Roman"/>
              </a:rPr>
              <a:t>II </a:t>
            </a:r>
            <a:r>
              <a:rPr b="1" lang="ru-RU" sz="2800" spc="-1" strike="noStrike">
                <a:solidFill>
                  <a:srgbClr val="f20000"/>
                </a:solidFill>
                <a:latin typeface="Times New Roman"/>
              </a:rPr>
              <a:t>ме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252597"/>
                </a:solidFill>
                <a:latin typeface="Times New Roman"/>
              </a:rPr>
              <a:t>в обще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2597"/>
                </a:solidFill>
                <a:latin typeface="Times New Roman"/>
              </a:rPr>
              <a:t>зачё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изёр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2597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2597"/>
                </a:solidFill>
                <a:latin typeface="Times New Roman"/>
              </a:rPr>
              <a:t>отдельн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2597"/>
                </a:solidFill>
                <a:latin typeface="Times New Roman"/>
              </a:rPr>
              <a:t>номинациях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701640" cy="907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B73C-D855-4264-A9E6-155AE9F69063}" type="slidenum">
              <a:t>11</a:t>
            </a:fld>
          </a:p>
        </p:txBody>
      </p:sp>
    </p:spTree>
  </p:cSld>
  <p:transition advTm="1000">
    <p:wheel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95280" y="333360"/>
            <a:ext cx="8497800" cy="58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ff3300"/>
                </a:solidFill>
                <a:latin typeface="Times New Roman"/>
              </a:rPr>
              <a:t>ОТКРЫТЫЕ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7600" spc="-1" strike="noStrike">
                <a:solidFill>
                  <a:srgbClr val="ff3300"/>
                </a:solidFill>
                <a:latin typeface="Times New Roman"/>
              </a:rPr>
              <a:t>УРОКИ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ff3300"/>
                </a:solidFill>
                <a:latin typeface="Times New Roman"/>
              </a:rPr>
              <a:t>МЕРОПРИЯТИЯ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372360" y="2565360"/>
            <a:ext cx="2344680" cy="2521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68360" y="2565360"/>
            <a:ext cx="2379600" cy="2379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FF2E-9DD5-4C48-BF65-ED62797E1F07}" type="slidenum">
              <a:t>12</a:t>
            </a:fld>
          </a:p>
        </p:txBody>
      </p:sp>
    </p:spTree>
  </p:cSld>
  <p:transition spd="med" advTm="1000">
    <p:wheel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Кривобок В.Н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– «Ордена – почётные награды за воинские отличия и заслуги в бою и в воинской службе» - 21.10.2005 года (11а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Кривобок В.Н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– «Приборы химической разведки и дозиметрического контроля» - для руководителей учебных заведений РМЭ – 16.04.2006 год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7308720" y="2808360"/>
            <a:ext cx="1656000" cy="133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AF3D-1EFD-4AD3-801F-14DCA97798BA}" type="slidenum">
              <a:t>13</a:t>
            </a:fld>
          </a:p>
        </p:txBody>
      </p:sp>
    </p:spTree>
  </p:cSld>
  <p:transition advTm="1000">
    <p:wheel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68360" y="907920"/>
            <a:ext cx="8064360" cy="496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Курсы</a:t>
            </a:r>
            <a:endParaRPr b="1" lang="en-US" sz="4800" spc="1" strike="noStrike">
              <a:ln w="255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US" sz="4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повышения</a:t>
            </a:r>
            <a:endParaRPr b="1" lang="en-US" sz="4800" spc="1" strike="noStrike">
              <a:ln w="255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US" sz="4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квалификации</a:t>
            </a:r>
            <a:endParaRPr b="1" lang="en-US" sz="4800" spc="1" strike="noStrike">
              <a:ln w="255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81080" y="260280"/>
            <a:ext cx="2270160" cy="2303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659640" y="549360"/>
            <a:ext cx="2232000" cy="175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045C-5028-4B41-8FFB-4CCBBB4B0111}" type="slidenum">
              <a:t>14</a:t>
            </a:fld>
          </a:p>
        </p:txBody>
      </p:sp>
    </p:spTree>
  </p:cSld>
  <p:transition>
    <p:wheel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1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13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15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496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Кривобок В.Н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– курсы по охране труда - декабрь 2005 год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Кривобок В.Н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– курсы по гражданской обороне – март 2006 год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79280" y="5445000"/>
            <a:ext cx="1944720" cy="1214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812000" y="1700280"/>
            <a:ext cx="1138320" cy="1225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219640" y="5445000"/>
            <a:ext cx="1368360" cy="1133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627280" y="5516640"/>
            <a:ext cx="1511280" cy="1041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7451640" y="5229360"/>
            <a:ext cx="1339920" cy="143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C43F-E0AF-42DD-812A-3EFD94A5C043}" type="slidenum">
              <a:t>15</a:t>
            </a:fld>
          </a:p>
        </p:txBody>
      </p:sp>
    </p:spTree>
  </p:cSld>
  <p:transition spd="slow">
    <p:cover dir="ru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984920" y="31352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413000"/>
            <a:ext cx="20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24000" y="907920"/>
            <a:ext cx="856908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СНОВЫ</a:t>
            </a:r>
            <a:endParaRPr b="1" lang="en-US" sz="24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ЕЗОПАСНОСТИ</a:t>
            </a:r>
            <a:endParaRPr b="1" lang="en-US" sz="24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ЖИЗНЕДЕЯТЕЛЬНОСТИ</a:t>
            </a:r>
            <a:endParaRPr b="1" lang="en-US" sz="24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411280" cy="2127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659640" y="404640"/>
            <a:ext cx="2147760" cy="216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58FD-E23F-4A03-B486-1E14D604E3C5}" type="slidenum">
              <a:t>16</a:t>
            </a:fld>
          </a:p>
        </p:txBody>
      </p:sp>
    </p:spTree>
  </p:cSld>
  <p:transition advTm="1000">
    <p:wheel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340000" y="1562040"/>
            <a:ext cx="4537080" cy="3324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948360" y="260280"/>
            <a:ext cx="1908360" cy="1297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7093080" y="4797360"/>
            <a:ext cx="1706400" cy="1706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539640" y="5373720"/>
            <a:ext cx="2697120" cy="1036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468360" y="260280"/>
            <a:ext cx="1655640" cy="1623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7380360" y="2565360"/>
            <a:ext cx="1104840" cy="1584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684360" y="2637000"/>
            <a:ext cx="1009440" cy="165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BBB6-FC58-4175-9069-AB583DBDBD42}" type="slidenum">
              <a:t>17</a:t>
            </a:fld>
          </a:p>
        </p:txBody>
      </p:sp>
    </p:spTree>
  </p:cSld>
  <p:transition advTm="1000">
    <p:wheel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0000"/>
                </a:solidFill>
                <a:latin typeface="Times New Roman"/>
              </a:rPr>
              <a:t>МЕТОДИЧЕСКАЯ ТЕМА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036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Психология действия человека в экстремальной ситуаци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132000" y="4653000"/>
            <a:ext cx="1125720" cy="1819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227640" y="2708280"/>
            <a:ext cx="1817640" cy="1262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003640" y="4653000"/>
            <a:ext cx="1176480" cy="1762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732720" y="4869000"/>
            <a:ext cx="1753920" cy="1454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539640" y="4797360"/>
            <a:ext cx="1548000" cy="165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B427-AB81-4224-A2AB-D1A9F2710981}" type="slidenum">
              <a:t>18</a:t>
            </a:fld>
          </a:p>
        </p:txBody>
      </p:sp>
    </p:spTree>
  </p:cSld>
  <p:transition advTm="1000">
    <p:pull dir="ru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68360" y="620640"/>
            <a:ext cx="8207280" cy="547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50000">
                      <a:srgbClr val="ffffff"/>
                    </a:gs>
                    <a:gs pos="100000">
                      <a:srgbClr val="0000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ециалист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50000">
                    <a:srgbClr val="ffffff"/>
                  </a:gs>
                  <a:gs pos="100000">
                    <a:srgbClr val="0000c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50000">
                      <a:srgbClr val="ffffff"/>
                    </a:gs>
                    <a:gs pos="100000">
                      <a:srgbClr val="0000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50000">
                    <a:srgbClr val="ffffff"/>
                  </a:gs>
                  <a:gs pos="100000">
                    <a:srgbClr val="0000c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50000">
                      <a:srgbClr val="ffffff"/>
                    </a:gs>
                    <a:gs pos="100000">
                      <a:srgbClr val="0000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хран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50000">
                    <a:srgbClr val="ffffff"/>
                  </a:gs>
                  <a:gs pos="100000">
                    <a:srgbClr val="0000c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50000">
                      <a:srgbClr val="ffffff"/>
                    </a:gs>
                    <a:gs pos="100000">
                      <a:srgbClr val="0000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руд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50000">
                    <a:srgbClr val="ffffff"/>
                  </a:gs>
                  <a:gs pos="100000">
                    <a:srgbClr val="0000c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50000">
                      <a:srgbClr val="ffffff"/>
                    </a:gs>
                    <a:gs pos="100000">
                      <a:srgbClr val="0000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50000">
                    <a:srgbClr val="ffffff"/>
                  </a:gs>
                  <a:gs pos="100000">
                    <a:srgbClr val="0000c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50000">
                      <a:srgbClr val="ffffff"/>
                    </a:gs>
                    <a:gs pos="100000">
                      <a:srgbClr val="0000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резвычайным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50000">
                    <a:srgbClr val="ffffff"/>
                  </a:gs>
                  <a:gs pos="100000">
                    <a:srgbClr val="0000c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50000">
                      <a:srgbClr val="ffffff"/>
                    </a:gs>
                    <a:gs pos="100000">
                      <a:srgbClr val="0000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итуациям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50000">
                    <a:srgbClr val="ffffff"/>
                  </a:gs>
                  <a:gs pos="100000">
                    <a:srgbClr val="0000c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786F-ABA9-418E-9A10-E2DA1CD45D3F}" type="slidenum">
              <a:t>19</a:t>
            </a:fld>
          </a:p>
        </p:txBody>
      </p:sp>
    </p:spTree>
  </p:cSld>
  <p:transition advTm="1000">
    <p:wheel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79280" y="3068640"/>
            <a:ext cx="87138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20000"/>
                    </a:gs>
                    <a:gs pos="100000">
                      <a:srgbClr val="252597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Презентация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20000"/>
                  </a:gs>
                  <a:gs pos="100000">
                    <a:srgbClr val="252597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635280" y="333360"/>
            <a:ext cx="2038320" cy="295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D3E9-9C16-4A36-BAB7-4A4C82C4AE82}" type="slidenum">
              <a:t>2</a:t>
            </a:fld>
          </a:p>
        </p:txBody>
      </p:sp>
    </p:spTree>
  </p:cSld>
  <p:transition>
    <p:wheel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95280" y="2781360"/>
            <a:ext cx="4178160" cy="3135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716360" y="2781360"/>
            <a:ext cx="4105440" cy="3079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4000" y="0"/>
            <a:ext cx="85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Организация и проведе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классных часов и других мероприят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по предмету «ОБЖ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76360" y="58928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«Огонь – друг, огонь – враг…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68360" y="1484280"/>
            <a:ext cx="1022400" cy="1206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7451640" y="1557360"/>
            <a:ext cx="1073160" cy="107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8C64-37D3-4892-B801-38414C4A6E34}" type="slidenum">
              <a:t>20</a:t>
            </a:fld>
          </a:p>
        </p:txBody>
      </p:sp>
    </p:spTree>
  </p:cSld>
  <p:transition advTm="1000">
    <p:wheel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24000" y="260280"/>
            <a:ext cx="8661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Член методического совета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ГМО учителей ОБ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0920" y="4724280"/>
            <a:ext cx="1697040" cy="1933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596360" y="4724280"/>
            <a:ext cx="1307880" cy="1801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763640" y="1604880"/>
            <a:ext cx="5545080" cy="3695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3107-631D-4064-BB3E-BDBDF4207ED2}" type="slidenum">
              <a:t>21</a:t>
            </a:fld>
          </a:p>
        </p:txBody>
      </p:sp>
    </p:spTree>
  </p:cSld>
  <p:transition advTm="1000">
    <p:wheel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5502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МЕРОПРИЯТИ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28036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оревнования по стрельбе из пневматического пистолета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 сентября 2005 года (11 классы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днодневный похо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Ориентирование на местности. Способы разведения костра)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нтябрь 2005 года (11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«День призывника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6 ноября 2005 г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Тематический вече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«Этих дней не смолкнет слава»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январь 2006 год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библиотека Х. Колумб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студенты МарГУ и 11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Выезд в в/ч 05 20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с проведением соревнований между 10, 11классами и военнослужащи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«А ну-ка, парни!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2 февраля 2006 года (10-11 классы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Выступление Д. Шипунов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евраль 2006 года (9 классы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арад юнармейце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9 мая 2006 г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Участие в туристическом многоборье среди учителей города</a:t>
            </a: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ктябрь 2005 года –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III 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место</a:t>
            </a: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Республиканские соревнования «Школа безопасности»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юнь 2006 года (10б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0079"/>
                </a:solidFill>
                <a:latin typeface="Times New Roman"/>
              </a:rPr>
              <a:t>Презентация музея боевой слав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– август 2006 года – курсы повышения квалификации МИ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5400720" cy="4977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451640" y="189000"/>
            <a:ext cx="1413000" cy="102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9884-A2E4-4C9B-A8BF-63F29EAF5885}" type="slidenum">
              <a:t>22</a:t>
            </a:fld>
          </a:p>
        </p:txBody>
      </p:sp>
    </p:spTree>
  </p:cSld>
  <p:transition advTm="1000">
    <p:wheel/>
  </p:transition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0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2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2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2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2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2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2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2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2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4248000" cy="28400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8360" y="3645000"/>
            <a:ext cx="4319640" cy="2889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200560" y="90324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76720" y="620640"/>
            <a:ext cx="3672000" cy="58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b0d24"/>
                </a:solidFill>
                <a:uFillTx/>
                <a:latin typeface="Times New Roman"/>
              </a:rPr>
              <a:t>Мероприят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b0d24"/>
                </a:solidFill>
                <a:uFillTx/>
                <a:latin typeface="Times New Roman"/>
              </a:rPr>
              <a:t>для работни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b0d24"/>
                </a:solidFill>
                <a:uFillTx/>
                <a:latin typeface="Times New Roman"/>
              </a:rPr>
              <a:t>культуры РМ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Тематически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ече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«Театр одного солдата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20000"/>
                </a:solidFill>
                <a:latin typeface="Times New Roman"/>
              </a:rPr>
              <a:t>Библиот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20000"/>
                </a:solidFill>
                <a:latin typeface="Times New Roman"/>
              </a:rPr>
              <a:t>им. Колумб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20000"/>
                </a:solidFill>
                <a:latin typeface="Times New Roman"/>
              </a:rPr>
              <a:t>Апрель -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61DA-C3E2-46DF-8946-C7DE8D585A7A}" type="slidenum">
              <a:t>23</a:t>
            </a:fld>
          </a:p>
        </p:txBody>
      </p:sp>
    </p:spTree>
  </p:cSld>
  <p:transition advTm="1000">
    <p:wheel/>
  </p:transition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Республиканские соревнования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«Школа безопасности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80000" y="2565360"/>
            <a:ext cx="3313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удья этапа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«Основ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безопас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жизнедеятельност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867280" y="4581360"/>
            <a:ext cx="2376720" cy="15908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5113440" cy="383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D926-40AE-44E6-AE0B-670FE871EF13}" type="slidenum">
              <a:t>24</a:t>
            </a:fld>
          </a:p>
        </p:txBody>
      </p:sp>
    </p:spTree>
  </p:cSld>
  <p:transition advTm="1000">
    <p:wheel/>
  </p:transition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7488360" cy="4986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700360" y="5445000"/>
            <a:ext cx="36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 служб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8 мая  2004 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F71B-33CC-4237-85E0-B3C6449FCB59}" type="slidenum">
              <a:t>25</a:t>
            </a:fld>
          </a:p>
        </p:txBody>
      </p:sp>
    </p:spTree>
  </p:cSld>
  <p:transition advTm="1000">
    <p:wheel/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1280" y="4508640"/>
            <a:ext cx="316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Парад юнармейце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9 мая 2006 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140360" y="3500280"/>
            <a:ext cx="4716360" cy="31100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596360" y="404640"/>
            <a:ext cx="1063440" cy="2737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4697640" cy="31352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148360" y="134136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Пост №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603E-DDC8-48EC-82BC-FCFE41DF6AD9}" type="slidenum">
              <a:t>26</a:t>
            </a:fld>
          </a:p>
        </p:txBody>
      </p:sp>
    </p:spTree>
  </p:cSld>
  <p:transition advTm="1000">
    <p:wheel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704000" cy="5097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68360" y="18900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Клуб «Будущий воин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E40E-4419-41AA-8BA7-AC08D0BFA996}" type="slidenum">
              <a:t>27</a:t>
            </a:fld>
          </a:p>
        </p:txBody>
      </p:sp>
    </p:spTree>
  </p:cSld>
  <p:transition advTm="1000">
    <p:wheel/>
  </p:transition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0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273560" cy="2813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606920" y="3716280"/>
            <a:ext cx="4537080" cy="29876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Лучшие члены клуба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4581360"/>
            <a:ext cx="35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Как всегда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девушки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6012000" y="1268280"/>
            <a:ext cx="1796760" cy="180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AA65-E5A3-4B22-B8E3-31E65E6A3715}" type="slidenum">
              <a:t>28</a:t>
            </a:fld>
          </a:p>
        </p:txBody>
      </p:sp>
    </p:spTree>
  </p:cSld>
  <p:transition advTm="1000">
    <p:wheel/>
  </p:transition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0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1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556000" y="1628640"/>
            <a:ext cx="6048360" cy="4537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95280" y="3284640"/>
            <a:ext cx="1639800" cy="2265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476360" y="18900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Зачёт по физподготовк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0339-B7FB-4EAC-8301-F5DA6C62B8A2}" type="slidenum">
              <a:t>29</a:t>
            </a:fld>
          </a:p>
        </p:txBody>
      </p:sp>
    </p:spTree>
  </p:cSld>
  <p:transition advTm="1000">
    <p:wheel/>
  </p:transition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11280" y="765000"/>
            <a:ext cx="7921440" cy="496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616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ивобо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6161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616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ладими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6161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616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иколаевич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6161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2795-F561-4652-AB0C-CDEB36C7104C}" type="slidenum">
              <a:t>3</a:t>
            </a:fld>
          </a:p>
        </p:txBody>
      </p:sp>
    </p:spTree>
  </p:cSld>
  <p:transition>
    <p:wheel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15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6" dur="15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" dur="15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4174920" cy="3129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572000" y="3500280"/>
            <a:ext cx="4176720" cy="3132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116000" y="3716280"/>
            <a:ext cx="2050920" cy="27352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643280" y="1341360"/>
            <a:ext cx="39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Тяжело в учении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легко в бою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3293-91E1-4D60-807C-E333A1205099}" type="slidenum">
              <a:t>30</a:t>
            </a:fld>
          </a:p>
        </p:txBody>
      </p:sp>
    </p:spTree>
  </p:cSld>
  <p:transition advTm="1000">
    <p:wheel/>
  </p:transition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4319640" cy="28767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927840" y="50068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643280" y="3809880"/>
            <a:ext cx="4289760" cy="2830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679840" y="0"/>
            <a:ext cx="383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В поход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32000" y="4869000"/>
            <a:ext cx="29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Переноск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неного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32360" y="1628640"/>
            <a:ext cx="223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Цыган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шумною  толпою…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7020000" y="260280"/>
            <a:ext cx="1838160" cy="156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9A9E-31A1-4D2B-8640-6A0A9AACFFF6}" type="slidenum">
              <a:t>31</a:t>
            </a:fld>
          </a:p>
        </p:txBody>
      </p:sp>
    </p:spTree>
  </p:cSld>
  <p:transition advTm="1000">
    <p:wheel/>
  </p:transition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0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569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Подготовка к военной служб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24000" y="4581360"/>
            <a:ext cx="2962080" cy="1484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948360" y="3789360"/>
            <a:ext cx="1660680" cy="2600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4065480" y="2421000"/>
            <a:ext cx="1557360" cy="2376360"/>
          </a:xfrm>
          <a:prstGeom prst="rect">
            <a:avLst/>
          </a:prstGeom>
          <a:ln w="0">
            <a:noFill/>
          </a:ln>
        </p:spPr>
      </p:pic>
      <p:sp>
        <p:nvSpPr>
          <p:cNvPr id="159" name="phone3"/>
          <p:cNvSpPr/>
          <p:nvPr/>
        </p:nvSpPr>
        <p:spPr>
          <a:xfrm>
            <a:off x="3708360" y="5229360"/>
            <a:ext cx="1224000" cy="1150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5219640" y="5373720"/>
            <a:ext cx="1270080" cy="8510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6443640" y="1557360"/>
            <a:ext cx="2232000" cy="1668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4211640" y="1125360"/>
            <a:ext cx="932040" cy="11512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7"/>
          <a:stretch/>
        </p:blipFill>
        <p:spPr>
          <a:xfrm>
            <a:off x="900000" y="1413000"/>
            <a:ext cx="1917720" cy="266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FC26-6488-4B90-AD6A-5CD047326956}" type="slidenum">
              <a:t>32</a:t>
            </a:fld>
          </a:p>
        </p:txBody>
      </p:sp>
    </p:spTree>
  </p:cSld>
  <p:transition advTm="1000">
    <p:wheel/>
  </p:transition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4103640" cy="27068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68360" y="26028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Воинская часть 05203-ОСО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1557360"/>
            <a:ext cx="424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нятие по защи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т оруж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ссово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раж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788000" y="3832200"/>
            <a:ext cx="4133880" cy="27241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908000" y="4724280"/>
            <a:ext cx="266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нятие п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изическ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дготов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324000" y="4941720"/>
            <a:ext cx="1584000" cy="1006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1056-80DB-4841-AF51-8FB96B4E0BF9}" type="slidenum">
              <a:t>33</a:t>
            </a:fld>
          </a:p>
        </p:txBody>
      </p:sp>
    </p:spTree>
  </p:cSld>
  <p:transition advTm="1000">
    <p:wheel/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0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3608280" cy="5426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284720" y="3068640"/>
            <a:ext cx="4565520" cy="30081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500720" y="1197000"/>
            <a:ext cx="29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нятие п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дико-санитар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дготов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7667640" y="260280"/>
            <a:ext cx="1163520" cy="182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A0F5-EAFD-4063-9036-5BEA5653EE95}" type="slidenum">
              <a:t>34</a:t>
            </a:fld>
          </a:p>
        </p:txBody>
      </p:sp>
    </p:spTree>
  </p:cSld>
  <p:transition advTm="1000">
    <p:wheel/>
  </p:transition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0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4394160" cy="28972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356000" y="3614760"/>
            <a:ext cx="4500720" cy="29671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547640" y="4005360"/>
            <a:ext cx="266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оревнования п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иревому спорт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11840" y="1557360"/>
            <a:ext cx="333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ятно держать 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уках настояще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оевое оруж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179280" y="5373720"/>
            <a:ext cx="1727280" cy="1243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5292720" y="404640"/>
            <a:ext cx="3038400" cy="109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CFF1-4D6E-4595-9D89-15A5EAAD68DF}" type="slidenum">
              <a:t>35</a:t>
            </a:fld>
          </a:p>
        </p:txBody>
      </p:sp>
    </p:spTree>
  </p:cSld>
  <p:transition advTm="1000">
    <p:wheel/>
  </p:transition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0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11280" y="284040"/>
            <a:ext cx="5905440" cy="3934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63480" y="4292640"/>
            <a:ext cx="7869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Выступление перед 9-классник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Дмитрия Шипунова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командира поискового отряд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«ДЕМОС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948360" y="260280"/>
            <a:ext cx="1943280" cy="1427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F381-3803-4B86-9E5C-041C720572AF}" type="slidenum">
              <a:t>36</a:t>
            </a:fld>
          </a:p>
        </p:txBody>
      </p:sp>
    </p:spTree>
  </p:cSld>
  <p:transition advTm="1000">
    <p:wheel/>
  </p:transition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31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478400" cy="29908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427640" y="3573360"/>
            <a:ext cx="4464000" cy="29638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003640" y="765000"/>
            <a:ext cx="295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Выстав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фотографи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и наход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с места раскоп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5280" y="4359240"/>
            <a:ext cx="1747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32000" y="458136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Откровенны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разгово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179280" y="5445000"/>
            <a:ext cx="1584360" cy="1166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A842-BE16-4DFC-BF46-9FAB1EE8A853}" type="slidenum">
              <a:t>37</a:t>
            </a:fld>
          </a:p>
        </p:txBody>
      </p:sp>
    </p:spTree>
  </p:cSld>
  <p:transition advTm="1000">
    <p:wheel/>
  </p:transition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4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3584520" cy="53402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067280" y="2997360"/>
            <a:ext cx="4825800" cy="31762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408560" y="549360"/>
            <a:ext cx="3692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Ученик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вниматель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слушаю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выступ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Д. Шипуно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7667640" y="189000"/>
            <a:ext cx="1044720" cy="1112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651E-382D-482A-BA53-6CCB160696BC}" type="slidenum">
              <a:t>38</a:t>
            </a:fld>
          </a:p>
        </p:txBody>
      </p:sp>
    </p:spTree>
  </p:cSld>
  <p:transition advTm="1000">
    <p:wheel/>
  </p:transition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187280" y="2924280"/>
            <a:ext cx="698508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абочий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абинет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132000" y="260280"/>
            <a:ext cx="3311640" cy="272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6B3E-0ACA-4F7F-9E77-FF78D675BBD5}" type="slidenum">
              <a:t>39</a:t>
            </a:fld>
          </a:p>
        </p:txBody>
      </p:sp>
    </p:spTree>
  </p:cSld>
  <p:transition advTm="1000">
    <p:wheel/>
  </p:transition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Кривобок Владимир Николаеви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140360" y="1341000"/>
            <a:ext cx="4464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50 года рожд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разование высшее, МВИЗРУ ПВО страны, военный инженер, 1974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читель высшей катег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едагогический стаж работы 32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дполковник запа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дали за заслуги перед Отечеств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едёт уроки ОБЖ в 9-11 класс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740720" y="5157720"/>
            <a:ext cx="1230120" cy="1459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3291120" cy="506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64AB-8752-444F-A48A-A16AF6A5592A}" type="slidenum">
              <a:t>4</a:t>
            </a:fld>
          </a:p>
        </p:txBody>
      </p:sp>
    </p:spTree>
  </p:cSld>
  <p:transition spd="med" advTm="1000">
    <p:newsflash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539640" y="441360"/>
            <a:ext cx="8136000" cy="610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D749-CB9F-4F74-B08A-5D4E9FF92E14}" type="slidenum">
              <a:t>40</a:t>
            </a:fld>
          </a:p>
        </p:txBody>
      </p:sp>
    </p:spTree>
  </p:cSld>
  <p:transition advTm="1000">
    <p:wheel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050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82C2-F9E4-413B-9D1A-6B05B2FCADAC}" type="slidenum">
              <a:t>41</a:t>
            </a:fld>
          </a:p>
        </p:txBody>
      </p:sp>
    </p:spTree>
  </p:cSld>
  <p:transition advTm="1000">
    <p:wheel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09080" cy="615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FBDB-DBF4-4692-BC1D-EDBE46CD608A}" type="slidenum">
              <a:t>42</a:t>
            </a:fld>
          </a:p>
        </p:txBody>
      </p:sp>
    </p:spTree>
  </p:cSld>
  <p:transition advTm="1000">
    <p:wheel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187280" y="765000"/>
            <a:ext cx="6985080" cy="54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Музе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боево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слав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DB93-0705-4B38-A8B3-149A132EC768}" type="slidenum">
              <a:t>43</a:t>
            </a:fld>
          </a:p>
        </p:txBody>
      </p:sp>
    </p:spTree>
  </p:cSld>
  <p:transition advTm="1000">
    <p:wheel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17080" cy="623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DDE8-8847-4B05-93F1-CB7BB5EDE719}" type="slidenum">
              <a:t>44</a:t>
            </a:fld>
          </a:p>
        </p:txBody>
      </p:sp>
    </p:spTree>
  </p:cSld>
  <p:transition advTm="1000">
    <p:wheel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993080" cy="5995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B7DA-3E92-48BD-97C6-578400A573DF}" type="slidenum">
              <a:t>45</a:t>
            </a:fld>
          </a:p>
        </p:txBody>
      </p:sp>
    </p:spTree>
  </p:cSld>
  <p:transition advTm="1000">
    <p:wheel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7991640" cy="5992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D24D-7A33-442B-8296-15414A4A2712}" type="slidenum">
              <a:t>46</a:t>
            </a:fld>
          </a:p>
        </p:txBody>
      </p:sp>
    </p:spTree>
  </p:cSld>
  <p:transition advTm="1000">
    <p:wheel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7993080" cy="5992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9833-3330-4AE8-B8A5-8A0BF375E32F}" type="slidenum">
              <a:t>47</a:t>
            </a:fld>
          </a:p>
        </p:txBody>
      </p:sp>
    </p:spTree>
  </p:cSld>
  <p:transition advTm="1000">
    <p:wheel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850160" cy="5886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BD17-2D24-460E-9C5C-1D09AC0E2DE0}" type="slidenum">
              <a:t>48</a:t>
            </a:fld>
          </a:p>
        </p:txBody>
      </p:sp>
    </p:spTree>
  </p:cSld>
  <p:transition advTm="1000">
    <p:wheel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848360" cy="588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A70D-0227-4DAE-B7FA-4B83D5116793}" type="slidenum">
              <a:t>49</a:t>
            </a:fld>
          </a:p>
        </p:txBody>
      </p:sp>
    </p:spTree>
  </p:cSld>
  <p:transition advTm="1000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95280" y="404640"/>
            <a:ext cx="8497800" cy="532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36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рамоты </a:t>
            </a:r>
            <a:endParaRPr b="0" lang="en-US" sz="8000" spc="1" strike="noStrike">
              <a:ln w="12600">
                <a:solidFill>
                  <a:srgbClr val="ff0000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лагодарности</a:t>
            </a:r>
            <a:endParaRPr b="0" lang="en-US" sz="8000" spc="1" strike="noStrike">
              <a:ln w="12600">
                <a:solidFill>
                  <a:srgbClr val="ff0000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9813-B63B-4BA9-BC07-75E2ECD2A825}" type="slidenum">
              <a:t>5</a:t>
            </a:fld>
          </a:p>
        </p:txBody>
      </p:sp>
    </p:spTree>
  </p:cSld>
  <p:transition advTm="1000">
    <p:wheel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632720" cy="572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ECBA-F9A8-44AB-916B-E6880FA161C6}" type="slidenum">
              <a:t>50</a:t>
            </a:fld>
          </a:p>
        </p:txBody>
      </p:sp>
    </p:spTree>
  </p:cSld>
  <p:transition advTm="1000">
    <p:wheel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993080" cy="5995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B64C-E0B1-44E6-BDFB-8304016F1BAE}" type="slidenum">
              <a:t>51</a:t>
            </a:fld>
          </a:p>
        </p:txBody>
      </p:sp>
    </p:spTree>
  </p:cSld>
  <p:transition advTm="1000">
    <p:wheel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68360" y="2637000"/>
            <a:ext cx="6912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20000"/>
                    </a:gs>
                    <a:gs pos="100000">
                      <a:srgbClr val="3333c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УВЛЕЧЕНИЯ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20000"/>
                  </a:gs>
                  <a:gs pos="100000">
                    <a:srgbClr val="3333cc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DB60-FC06-4524-8883-8C6123249ABE}" type="slidenum">
              <a:t>52</a:t>
            </a:fld>
          </a:p>
        </p:txBody>
      </p:sp>
    </p:spTree>
  </p:cSld>
  <p:transition advTm="1000">
    <p:wheel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6769440" cy="44830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476360" y="260280"/>
            <a:ext cx="597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Внештатны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фотокорреспонден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1441440" cy="10526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7524720" y="333360"/>
            <a:ext cx="1270080" cy="11937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250920" y="3933720"/>
            <a:ext cx="1460520" cy="244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CB36-7C19-45CC-A28E-25757DFCFDF3}" type="slidenum">
              <a:t>53</a:t>
            </a:fld>
          </a:p>
        </p:txBody>
      </p:sp>
    </p:spTree>
  </p:cSld>
  <p:transition advTm="1000">
    <p:wheel/>
  </p:transition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0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7" dur="1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2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4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7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9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2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7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851280" y="3354480"/>
            <a:ext cx="4981680" cy="32986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4643280" cy="30747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5148360" y="1143000"/>
            <a:ext cx="216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На рыбал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87280" y="467208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В поход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7236000" y="189000"/>
            <a:ext cx="1665000" cy="1700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324000" y="5734080"/>
            <a:ext cx="1331640" cy="9223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1692360" y="765000"/>
            <a:ext cx="792000" cy="7160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1619280" y="16286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3708360" y="1700280"/>
            <a:ext cx="658800" cy="15127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8"/>
          <a:stretch/>
        </p:blipFill>
        <p:spPr>
          <a:xfrm>
            <a:off x="324000" y="2349360"/>
            <a:ext cx="1371600" cy="914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AF58-6469-4ACE-9642-48708C653147}" type="slidenum">
              <a:t>54</a:t>
            </a:fld>
          </a:p>
        </p:txBody>
      </p:sp>
    </p:spTree>
  </p:cSld>
  <p:transition advTm="1000">
    <p:wheel/>
  </p:transition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539640" y="692280"/>
            <a:ext cx="820908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fc4254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100000">
                    <a:srgbClr val="fc4254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fc4254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100000">
                    <a:srgbClr val="fc4254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fc4254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нимание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100000">
                    <a:srgbClr val="fc4254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486F-F0A4-498F-9C1A-F99EF2757DF1}" type="slidenum">
              <a:t>55</a:t>
            </a:fld>
          </a:p>
        </p:txBody>
      </p:sp>
    </p:spTree>
  </p:cSld>
  <p:transition advTm="1000">
    <p:wheel/>
  </p:transition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4708800" cy="6597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2124000" y="1557360"/>
            <a:ext cx="1544760" cy="23763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084720" y="5877000"/>
            <a:ext cx="18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b28a1"/>
                </a:solidFill>
                <a:latin typeface="Times New Roman"/>
              </a:rPr>
              <a:t>2006 го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2B21-6852-4C8D-83DF-9D7E8206802E}" type="slidenum">
              <a:t>56</a:t>
            </a:fld>
          </a:p>
        </p:txBody>
      </p:sp>
    </p:spTree>
  </p:cSld>
  <p:transition advTm="1000">
    <p:wheel/>
  </p:transition>
  <p:timing>
    <p:tnLst>
      <p:par>
        <p:cTn id="1310" dur="indefinite" restart="never" nodeType="tmRoot">
          <p:childTnLst>
            <p:seq>
              <p:cTn id="1311" dur="indefinite" nodeType="mainSeq">
                <p:childTnLst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351640" cy="6265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FF9C-A6AC-43B6-9E42-EC9C2D3FBA36}" type="slidenum">
              <a:t>6</a:t>
            </a:fld>
          </a:p>
        </p:txBody>
      </p:sp>
    </p:spTree>
  </p:cSld>
  <p:transition advTm="1000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3854520" cy="5139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788000" y="907920"/>
            <a:ext cx="3854520" cy="513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2907-25AD-45AF-8EEE-8B8F9201E18E}" type="slidenum">
              <a:t>7</a:t>
            </a:fld>
          </a:p>
        </p:txBody>
      </p:sp>
    </p:spTree>
  </p:cSld>
  <p:transition advTm="1000">
    <p:wheel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3348360" cy="4464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48360" y="1341360"/>
            <a:ext cx="3295440" cy="4392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258920" y="6021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лагодар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16200" y="189000"/>
            <a:ext cx="572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Воинская часть 052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56360" y="60148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ам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08360" y="5877000"/>
            <a:ext cx="21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004 го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5FFD-5404-41DA-AA1C-821E741239BE}" type="slidenum">
              <a:t>8</a:t>
            </a:fld>
          </a:p>
        </p:txBody>
      </p:sp>
    </p:spTree>
  </p:cSld>
  <p:transition advTm="1000">
    <p:wheel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00720" y="476280"/>
            <a:ext cx="4240080" cy="5975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11280" y="1052640"/>
            <a:ext cx="3446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Управл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образова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администр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городско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окру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«Город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Йошкар-Ол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Октябр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722B-FB2D-4E25-A946-76DBA41D9D9A}" type="slidenum">
              <a:t>9</a:t>
            </a:fld>
          </a:p>
        </p:txBody>
      </p:sp>
    </p:spTree>
  </p:cSld>
  <p:transition advTm="1000">
    <p:wheel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4:11:27Z</dcterms:created>
  <dc:creator>User</dc:creator>
  <dc:description/>
  <dc:language>en-US</dc:language>
  <cp:lastModifiedBy>Ирина</cp:lastModifiedBy>
  <dcterms:modified xsi:type="dcterms:W3CDTF">2006-11-23T18:15:03Z</dcterms:modified>
  <cp:revision>360</cp:revision>
  <dc:subject/>
  <dc:title>Федерация интернет Образования</dc:title>
</cp:coreProperties>
</file>