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57.jpeg" ContentType="image/jpeg"/>
  <Override PartName="/ppt/media/image20.wmf" ContentType="image/x-wmf"/>
  <Override PartName="/ppt/media/image56.jpeg" ContentType="image/jpeg"/>
  <Override PartName="/ppt/media/image55.jpeg" ContentType="image/jpeg"/>
  <Override PartName="/ppt/media/image54.jpeg" ContentType="image/jpeg"/>
  <Override PartName="/ppt/media/image53.wmf" ContentType="image/x-wmf"/>
  <Override PartName="/ppt/media/image49.wmf" ContentType="image/x-wmf"/>
  <Override PartName="/ppt/media/image48.jpeg" ContentType="image/jpeg"/>
  <Override PartName="/ppt/media/image35.wmf" ContentType="image/x-wmf"/>
  <Override PartName="/ppt/media/image46.wmf" ContentType="image/x-wmf"/>
  <Override PartName="/ppt/media/image45.wmf" ContentType="image/x-wmf"/>
  <Override PartName="/ppt/media/image44.jpeg" ContentType="image/jpeg"/>
  <Override PartName="/ppt/media/image60.wmf" ContentType="image/x-wmf"/>
  <Override PartName="/ppt/media/image43.wmf" ContentType="image/x-wmf"/>
  <Override PartName="/ppt/media/image42.wmf" ContentType="image/x-wmf"/>
  <Override PartName="/ppt/media/image102.jpeg" ContentType="image/jpeg"/>
  <Override PartName="/ppt/media/image40.jpeg" ContentType="image/jpeg"/>
  <Override PartName="/ppt/media/image13.wmf" ContentType="image/x-wmf"/>
  <Override PartName="/ppt/media/image1.wmf" ContentType="image/x-wmf"/>
  <Override PartName="/ppt/media/image47.jpeg" ContentType="image/jpeg"/>
  <Override PartName="/ppt/media/image25.wmf" ContentType="image/x-wmf"/>
  <Override PartName="/ppt/media/image36.wmf" ContentType="image/x-wmf"/>
  <Override PartName="/ppt/media/image34.wmf" ContentType="image/x-wmf"/>
  <Override PartName="/ppt/media/image33.jpeg" ContentType="image/jpeg"/>
  <Override PartName="/ppt/media/image37.wmf" ContentType="image/x-wmf"/>
  <Override PartName="/ppt/media/image12.jpeg" ContentType="image/jpeg"/>
  <Override PartName="/ppt/media/image29.jpeg" ContentType="image/jpeg"/>
  <Override PartName="/ppt/media/image108.jpeg" ContentType="image/jpeg"/>
  <Override PartName="/ppt/media/image30.jpeg" ContentType="image/jpeg"/>
  <Override PartName="/ppt/media/image18.wmf" ContentType="image/x-wmf"/>
  <Override PartName="/ppt/media/image83.wmf" ContentType="image/x-wmf"/>
  <Override PartName="/ppt/media/image10.jpeg" ContentType="image/jpeg"/>
  <Override PartName="/ppt/media/image27.jpeg" ContentType="image/jpeg"/>
  <Override PartName="/ppt/media/image82.wmf" ContentType="image/x-wmf"/>
  <Override PartName="/ppt/media/image86.jpeg" ContentType="image/jpeg"/>
  <Override PartName="/ppt/media/image106.jpeg" ContentType="image/jpeg"/>
  <Override PartName="/ppt/media/image41.wmf" ContentType="image/x-wmf"/>
  <Override PartName="/ppt/media/image62.jpeg" ContentType="image/jpeg"/>
  <Override PartName="/ppt/media/image39.jpeg" ContentType="image/jpeg"/>
  <Override PartName="/ppt/media/image14.gif" ContentType="image/gif"/>
  <Override PartName="/ppt/media/image17.png" ContentType="image/png"/>
  <Override PartName="/ppt/media/image98.jpeg" ContentType="image/jpeg"/>
  <Override PartName="/ppt/media/image8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92.wmf" ContentType="image/x-wmf"/>
  <Override PartName="/ppt/media/image107.jpeg" ContentType="image/jpeg"/>
  <Override PartName="/ppt/media/image9.jpeg" ContentType="image/jpeg"/>
  <Override PartName="/ppt/media/image51.jpeg" ContentType="image/jpeg"/>
  <Override PartName="/ppt/media/image23.wmf" ContentType="image/x-wmf"/>
  <Override PartName="/ppt/media/image50.jpeg" ContentType="image/jpeg"/>
  <Override PartName="/ppt/media/image112.wmf" ContentType="image/x-wmf"/>
  <Override PartName="/ppt/media/image5.jpeg" ContentType="image/jpeg"/>
  <Override PartName="/ppt/media/image38.wmf" ContentType="image/x-wmf"/>
  <Override PartName="/ppt/media/image32.jpeg" ContentType="image/jpeg"/>
  <Override PartName="/ppt/media/image4.jpeg" ContentType="image/jpeg"/>
  <Override PartName="/ppt/media/image71.jpeg" ContentType="image/jpeg"/>
  <Override PartName="/ppt/media/image85.wmf" ContentType="image/x-wmf"/>
  <Override PartName="/ppt/media/image74.jpeg" ContentType="image/jpeg"/>
  <Override PartName="/ppt/media/image76.wmf" ContentType="image/x-wmf"/>
  <Override PartName="/ppt/media/image75.jpeg" ContentType="image/jpeg"/>
  <Override PartName="/ppt/media/image111.wmf" ContentType="image/x-wmf"/>
  <Override PartName="/ppt/media/image79.wmf" ContentType="image/x-wmf"/>
  <Override PartName="/ppt/media/image113.gif" ContentType="image/gif"/>
  <Override PartName="/ppt/media/image96.jpeg" ContentType="image/jpeg"/>
  <Override PartName="/ppt/media/image116.wmf" ContentType="image/x-wmf"/>
  <Override PartName="/ppt/media/image99.jpeg" ContentType="image/jpeg"/>
  <Override PartName="/ppt/media/image88.wmf" ContentType="image/x-wmf"/>
  <Override PartName="/ppt/media/image110.wmf" ContentType="image/x-wmf"/>
  <Override PartName="/ppt/media/image24.wmf" ContentType="image/x-wmf"/>
  <Override PartName="/ppt/media/image59.jpeg" ContentType="image/jpeg"/>
  <Override PartName="/ppt/media/image73.jpeg" ContentType="image/jpeg"/>
  <Override PartName="/ppt/media/image109.jpeg" ContentType="image/jpeg"/>
  <Override PartName="/ppt/media/image115.gif" ContentType="image/gif"/>
  <Override PartName="/ppt/media/image89.jpeg" ContentType="image/jpeg"/>
  <Override PartName="/ppt/media/image105.jpeg" ContentType="image/jpeg"/>
  <Override PartName="/ppt/media/image95.jpeg" ContentType="image/jpeg"/>
  <Override PartName="/ppt/media/image69.wmf" ContentType="image/x-wmf"/>
  <Override PartName="/ppt/media/image103.jpeg" ContentType="image/jpeg"/>
  <Override PartName="/ppt/media/image84.jpeg" ContentType="image/jpeg"/>
  <Override PartName="/ppt/media/image104.jpeg" ContentType="image/jpeg"/>
  <Override PartName="/ppt/media/image97.jpeg" ContentType="image/jpeg"/>
  <Override PartName="/ppt/media/image81.jpeg" ContentType="image/jpeg"/>
  <Override PartName="/ppt/media/image101.jpeg" ContentType="image/jpeg"/>
  <Override PartName="/ppt/media/image114.wmf" ContentType="image/x-wmf"/>
  <Override PartName="/ppt/media/image90.jpeg" ContentType="image/jpeg"/>
  <Override PartName="/ppt/media/image63.jpeg" ContentType="image/jpeg"/>
  <Override PartName="/ppt/media/image6.jpeg" ContentType="image/jpeg"/>
  <Override PartName="/ppt/media/image58.wmf" ContentType="image/x-wmf"/>
  <Override PartName="/ppt/media/image94.jpeg" ContentType="image/jpeg"/>
  <Override PartName="/ppt/media/image93.jpeg" ContentType="image/jpeg"/>
  <Override PartName="/ppt/media/image26.wmf" ContentType="image/x-wmf"/>
  <Override PartName="/ppt/media/image91.wmf" ContentType="image/x-wmf"/>
  <Override PartName="/ppt/media/image70.jpeg" ContentType="image/jpeg"/>
  <Override PartName="/ppt/media/image68.wmf" ContentType="image/x-wmf"/>
  <Override PartName="/ppt/media/image64.jpeg" ContentType="image/jpeg"/>
  <Override PartName="/ppt/media/image7.jpeg" ContentType="image/jpeg"/>
  <Override PartName="/ppt/media/image67.wmf" ContentType="image/x-wmf"/>
  <Override PartName="/ppt/media/image66.wmf" ContentType="image/x-wmf"/>
  <Override PartName="/ppt/media/image21.wmf" ContentType="image/x-wmf"/>
  <Override PartName="/ppt/media/image77.jpeg" ContentType="image/jpeg"/>
  <Override PartName="/ppt/media/image65.jpeg" ContentType="image/jpeg"/>
  <Override PartName="/ppt/media/image78.jpeg" ContentType="image/jpeg"/>
  <Override PartName="/ppt/media/image61.jpeg" ContentType="image/jpeg"/>
  <Override PartName="/ppt/media/image22.wmf" ContentType="image/x-wmf"/>
  <Override PartName="/ppt/media/image100.jpeg" ContentType="image/jpeg"/>
  <Override PartName="/ppt/media/image80.jpeg" ContentType="image/jpeg"/>
  <Override PartName="/ppt/media/image19.wmf" ContentType="image/x-wmf"/>
  <Override PartName="/ppt/media/image16.wmf" ContentType="image/x-wmf"/>
  <Override PartName="/ppt/media/image2.png" ContentType="image/png"/>
  <Override PartName="/ppt/media/image72.jpeg" ContentType="image/jpeg"/>
  <Override PartName="/ppt/media/image31.jpeg" ContentType="image/jpeg"/>
  <Override PartName="/ppt/media/image15.wmf" ContentType="image/x-wmf"/>
  <Override PartName="/ppt/media/image3.wmf" ContentType="image/x-wmf"/>
  <Override PartName="/ppt/media/image5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8976-A5FC-4323-8466-B790782E9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F7194-8122-490E-B89B-9C9D1138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F060-95EF-44D9-9C48-F9E506BA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22-BA5C-43C8-8210-326BA0A48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9DA1-930F-4D5B-8A9A-075736D79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F295-3192-4857-9C61-939E1070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31E3-3137-4876-B83E-27EF0752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002A-B911-414E-8812-FC2134AF7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F3E1-7F79-4C41-A57A-3ED397325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6E4C-4F60-4873-B789-3662FD7B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8935-DD5D-4A11-868B-FF476ADF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8295-EDAD-4586-AFBF-D2729705E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3CEE-F16A-46F8-9313-113A4291D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wm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wmf"/><Relationship Id="rId3" Type="http://schemas.openxmlformats.org/officeDocument/2006/relationships/image" Target="../media/image5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wm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image" Target="../media/image62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image" Target="../media/image66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7.wmf"/><Relationship Id="rId2" Type="http://schemas.openxmlformats.org/officeDocument/2006/relationships/image" Target="../media/image68.wmf"/><Relationship Id="rId3" Type="http://schemas.openxmlformats.org/officeDocument/2006/relationships/image" Target="../media/image69.wmf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image" Target="../media/image72.jpeg"/><Relationship Id="rId7" Type="http://schemas.openxmlformats.org/officeDocument/2006/relationships/image" Target="../media/image73.jpe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76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8.jpeg"/><Relationship Id="rId3" Type="http://schemas.openxmlformats.org/officeDocument/2006/relationships/image" Target="../media/image79.wmf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wmf"/><Relationship Id="rId4" Type="http://schemas.openxmlformats.org/officeDocument/2006/relationships/image" Target="../media/image83.wmf"/><Relationship Id="rId5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jpeg"/><Relationship Id="rId3" Type="http://schemas.openxmlformats.org/officeDocument/2006/relationships/image" Target="../media/image88.wmf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9.jpeg"/><Relationship Id="rId2" Type="http://schemas.openxmlformats.org/officeDocument/2006/relationships/image" Target="../media/image90.jpeg"/><Relationship Id="rId3" Type="http://schemas.openxmlformats.org/officeDocument/2006/relationships/image" Target="../media/image91.wmf"/><Relationship Id="rId4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3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4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0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0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image" Target="../media/image105.jpeg"/><Relationship Id="rId3" Type="http://schemas.openxmlformats.org/officeDocument/2006/relationships/image" Target="../media/image106.jpeg"/><Relationship Id="rId4" Type="http://schemas.openxmlformats.org/officeDocument/2006/relationships/image" Target="../media/image107.jpeg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08.jpeg"/><Relationship Id="rId2" Type="http://schemas.openxmlformats.org/officeDocument/2006/relationships/image" Target="../media/image109.jpeg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gif"/><Relationship Id="rId7" Type="http://schemas.openxmlformats.org/officeDocument/2006/relationships/image" Target="../media/image114.wmf"/><Relationship Id="rId8" Type="http://schemas.openxmlformats.org/officeDocument/2006/relationships/image" Target="../media/image115.gif"/><Relationship Id="rId9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16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920" y="3213000"/>
            <a:ext cx="871380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9933"/>
                    </a:gs>
                    <a:gs pos="100000">
                      <a:srgbClr val="ebe74f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9933"/>
                  </a:gs>
                  <a:gs pos="100000">
                    <a:srgbClr val="ebe74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6012000" y="333360"/>
          <a:ext cx="2549520" cy="259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2000" y="333360"/>
                    <a:ext cx="254952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FB82-B62B-40F2-9EB4-F759625AAA1B}" type="slidenum">
              <a:t>1</a:t>
            </a:fld>
          </a:p>
        </p:txBody>
      </p:sp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11280" y="549360"/>
            <a:ext cx="4083120" cy="58323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076720" y="1341360"/>
            <a:ext cx="352764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инистерств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образов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и нау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Республи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Марий Э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Ию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EBCF-4A9C-407B-938D-36CD31310D07}" type="slidenum">
              <a:t>10</a:t>
            </a:fld>
          </a:p>
        </p:txBody>
      </p:sp>
    </p:spTree>
  </p:cSld>
  <p:transition advTm="1000">
    <p:wheel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5832360" cy="38750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84360" y="111240"/>
            <a:ext cx="792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Городские соревн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по туристическому многоборь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24000" y="5950080"/>
            <a:ext cx="27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ктябрь 200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28000" y="5734080"/>
            <a:ext cx="900000" cy="930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588000" y="1959120"/>
            <a:ext cx="2232000" cy="36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20000"/>
                </a:solidFill>
                <a:latin typeface="Times New Roman"/>
              </a:rPr>
              <a:t>II </a:t>
            </a:r>
            <a:r>
              <a:rPr b="1" lang="ru-RU" sz="2800" spc="-1" strike="noStrike">
                <a:solidFill>
                  <a:srgbClr val="f20000"/>
                </a:solidFill>
                <a:latin typeface="Times New Roman"/>
              </a:rPr>
              <a:t>мест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 обще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зачё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ризё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отдель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52597"/>
                </a:solidFill>
                <a:latin typeface="Times New Roman"/>
              </a:rPr>
              <a:t>номинациях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701640" cy="907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5B70-79C2-48AC-A6A0-BD7AA3545A21}" type="slidenum">
              <a:t>11</a:t>
            </a:fld>
          </a:p>
        </p:txBody>
      </p:sp>
    </p:spTree>
  </p:cSld>
  <p:transition advTm="1000">
    <p:wheel/>
  </p:transition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95280" y="333360"/>
            <a:ext cx="8497800" cy="58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ОТКРЫТЫЕ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УРОКИ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ff3300"/>
                </a:solidFill>
                <a:latin typeface="Times New Roman"/>
              </a:rPr>
              <a:t>МЕРОПРИЯТИЯ</a:t>
            </a:r>
            <a:endParaRPr b="0" lang="en-US" sz="7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372360" y="2565360"/>
            <a:ext cx="2344680" cy="25210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68360" y="2565360"/>
            <a:ext cx="2379600" cy="2379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6520-A3F8-435A-BF91-BC626D0FB98F}" type="slidenum">
              <a:t>12</a:t>
            </a:fld>
          </a:p>
        </p:txBody>
      </p:sp>
    </p:spTree>
  </p:cSld>
  <p:transition spd="med" advTm="1000">
    <p:wheel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Ордена – почётные награды за воинские отличия и заслуги в бою и в воинской службе» - 21.10.2005 года (11а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– «Приборы химической разведки и дозиметрического контроля» - для руководителей учебных заведений РМЭ – 16.04.2006 год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7308720" y="2808360"/>
            <a:ext cx="1656000" cy="133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4937-44B5-47B2-B298-F9A8A304BA52}" type="slidenum">
              <a:t>13</a:t>
            </a:fld>
          </a:p>
        </p:txBody>
      </p:sp>
    </p:spTree>
  </p:cSld>
  <p:transition advTm="1000">
    <p:wheel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68360" y="907920"/>
            <a:ext cx="806436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урсы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повышения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US" sz="4800" spc="1" strike="noStrike">
                <a:ln w="2556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latin typeface="Times New Roman"/>
              </a:rPr>
              <a:t>квалификации</a:t>
            </a:r>
            <a:endParaRPr b="1" lang="en-US" sz="4800" spc="1" strike="noStrike">
              <a:ln w="25560">
                <a:solidFill>
                  <a:srgbClr val="ff0000"/>
                </a:solidFill>
                <a:miter/>
              </a:ln>
              <a:solidFill>
                <a:srgbClr val="00ff00"/>
              </a:solidFill>
              <a:latin typeface="Times New Roman"/>
              <a:ea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81080" y="260280"/>
            <a:ext cx="2270160" cy="23036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659640" y="549360"/>
            <a:ext cx="2232000" cy="1754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5EF2-133F-49E8-BF50-398907AC213F}" type="slidenum">
              <a:t>14</a:t>
            </a:fld>
          </a:p>
        </p:txBody>
      </p:sp>
    </p:spTree>
  </p:cSld>
  <p:transition>
    <p:wheel/>
  </p:transition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0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410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41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15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4960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охране труда - декабрь 2005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Кривобок В.Н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курсы по гражданской обороне – март 2006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79280" y="5445000"/>
            <a:ext cx="1944720" cy="12146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7812000" y="1700280"/>
            <a:ext cx="1138320" cy="12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5219640" y="5445000"/>
            <a:ext cx="136836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2627280" y="5516640"/>
            <a:ext cx="1511280" cy="1041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5"/>
          <a:stretch/>
        </p:blipFill>
        <p:spPr>
          <a:xfrm>
            <a:off x="7451640" y="5229360"/>
            <a:ext cx="1339920" cy="1439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F6A0-EC7D-428C-8DCC-D8A3DF57FAAA}" type="slidenum">
              <a:t>15</a:t>
            </a:fld>
          </a:p>
        </p:txBody>
      </p:sp>
    </p:spTree>
  </p:cSld>
  <p:transition spd="slow">
    <p:cover dir="ru"/>
  </p:transition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1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984920" y="31352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4360" y="1413000"/>
            <a:ext cx="2035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24000" y="907920"/>
            <a:ext cx="8569080" cy="475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СНОВЫ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ЕЗОПАС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ЖИЗНЕДЕЯТЕЛЬНОСТИ</a:t>
            </a:r>
            <a:endParaRPr b="1" lang="en-US" sz="2400" spc="1" strike="noStrike">
              <a:ln w="1260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411280" cy="21272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659640" y="404640"/>
            <a:ext cx="2147760" cy="216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5E31-3717-4D78-8FAB-D0807A598443}" type="slidenum">
              <a:t>16</a:t>
            </a:fld>
          </a:p>
        </p:txBody>
      </p:sp>
    </p:spTree>
  </p:cSld>
  <p:transition advTm="1000">
    <p:wheel/>
  </p:transition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0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340000" y="1562040"/>
            <a:ext cx="4537080" cy="332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08360" cy="1297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06400" cy="17067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539640" y="5373720"/>
            <a:ext cx="2697120" cy="1036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1655640" cy="16239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380360" y="2565360"/>
            <a:ext cx="1104840" cy="1584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684360" y="2637000"/>
            <a:ext cx="1009440" cy="165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7C15-56B5-46E3-8BD5-BCD1C130C34A}" type="slidenum">
              <a:t>17</a:t>
            </a:fld>
          </a:p>
        </p:txBody>
      </p:sp>
    </p:spTree>
  </p:cSld>
  <p:transition advTm="1000">
    <p:wheel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0000"/>
                </a:solidFill>
                <a:latin typeface="Times New Roman"/>
              </a:rPr>
              <a:t>МЕТОДИЧЕСКАЯ ТЕМА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341000"/>
            <a:ext cx="8280360" cy="35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Times New Roman"/>
              </a:rPr>
              <a:t>Психология действия человека в экстремальной ситуаци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132000" y="4653000"/>
            <a:ext cx="1125720" cy="18190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6227640" y="2708280"/>
            <a:ext cx="1817640" cy="12621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003640" y="4653000"/>
            <a:ext cx="1176480" cy="17622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732720" y="4869000"/>
            <a:ext cx="1753920" cy="14540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539640" y="4797360"/>
            <a:ext cx="1548000" cy="1658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E3FC-9AAA-407D-AA14-9B4722256380}" type="slidenum">
              <a:t>18</a:t>
            </a:fld>
          </a:p>
        </p:txBody>
      </p:sp>
    </p:spTree>
  </p:cSld>
  <p:transition advTm="1000">
    <p:pull dir="ru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68360" y="620640"/>
            <a:ext cx="8207280" cy="547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пециалист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о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хране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руд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чрезвычайны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50000">
                      <a:srgbClr val="ffffff"/>
                    </a:gs>
                    <a:gs pos="100000">
                      <a:srgbClr val="0000cc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итуациям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50000">
                    <a:srgbClr val="ffffff"/>
                  </a:gs>
                  <a:gs pos="100000">
                    <a:srgbClr val="0000cc"/>
                  </a:gs>
                </a:gsLst>
                <a:lin ang="5400000"/>
              </a:gra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1E6B-BF05-41B5-A378-E20F83C7BEB1}" type="slidenum">
              <a:t>19</a:t>
            </a:fld>
          </a:p>
        </p:txBody>
      </p:sp>
    </p:spTree>
  </p:cSld>
  <p:transition advTm="1000">
    <p:wheel/>
  </p:transition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2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179280" y="3068640"/>
            <a:ext cx="871380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252597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252597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635280" y="333360"/>
            <a:ext cx="2038320" cy="2951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3489-EFD6-4634-A705-E95BB563F267}" type="slidenum">
              <a:t>2</a:t>
            </a:fld>
          </a:p>
        </p:txBody>
      </p:sp>
    </p:spTree>
  </p:cSld>
  <p:transition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4178160" cy="31352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716360" y="2781360"/>
            <a:ext cx="4105440" cy="3079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85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Организация и проведе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классных часов и других мероприяти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по предмету «ОБЖ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76360" y="58928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«Огонь – друг, огонь – враг…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68360" y="1484280"/>
            <a:ext cx="1022400" cy="12063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7451640" y="1557360"/>
            <a:ext cx="1073160" cy="1079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9F6-AD02-4AF2-A679-8C837606E21E}" type="slidenum">
              <a:t>20</a:t>
            </a:fld>
          </a:p>
        </p:txBody>
      </p:sp>
    </p:spTree>
  </p:cSld>
  <p:transition advTm="1000">
    <p:wheel/>
  </p:transition>
  <p:timing>
    <p:tnLst>
      <p:par>
        <p:cTn id="598" dur="indefinite" restart="never" nodeType="tmRoot">
          <p:childTnLst>
            <p:seq>
              <p:cTn id="599" dur="indefinite" nodeType="mainSeq">
                <p:childTnLst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4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7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0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5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260280"/>
            <a:ext cx="8661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Член методического совет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ГМО учителей ОБ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50920" y="4724280"/>
            <a:ext cx="1697040" cy="1933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596360" y="4724280"/>
            <a:ext cx="1307880" cy="1801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763640" y="1604880"/>
            <a:ext cx="5545080" cy="3695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51720-746C-4B30-90F4-9B13AB05F06D}" type="slidenum">
              <a:t>21</a:t>
            </a:fld>
          </a:p>
        </p:txBody>
      </p:sp>
    </p:spTree>
  </p:cSld>
  <p:transition advTm="1000">
    <p:wheel/>
  </p:transition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60280"/>
            <a:ext cx="65502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0000"/>
                </a:solidFill>
                <a:latin typeface="Times New Roman"/>
              </a:rPr>
              <a:t>МЕРОПРИЯТИЯ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28036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Соревнования по стрельбе из пневматического пистолета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 сентября 2005 года (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Однодневный по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(Ориентирование на местности. Способы разведения костра)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ентябрь 2005 года (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День призывника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ноября 2005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Тематический вече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«Этих дней не смолкнет слава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январь 2006 год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библиотека Х. Колумба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(студенты МарГУ и 11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езд в в/ч 05 20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с проведением соревнований между 10, 11классами и военнослужащим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«А ну-ка, парни!»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22 февраля 2006 года (10-11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Выступление Д. Шипунов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февраль 2006 года (9 классы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Парад юнармейце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9 мая 2006 год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Участие в туристическом многоборье среди учителей города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ктябрь 2005 года –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III </a:t>
            </a: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место</a:t>
            </a:r>
            <a:r>
              <a:rPr b="0" lang="ru-RU" sz="2000" spc="-1" strike="noStrike">
                <a:solidFill>
                  <a:srgbClr val="ff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Times New Roman"/>
              </a:rPr>
              <a:t>Республиканские соревнования «Школа безопасности» -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юнь 2006 года (10б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20079"/>
                </a:solidFill>
                <a:latin typeface="Times New Roman"/>
              </a:rPr>
              <a:t>Презентация музея боевой славы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– август 2006 года – курсы повышения квалификации МИ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5400720" cy="4977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451640" y="189000"/>
            <a:ext cx="1413000" cy="1022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8B2-D91F-4543-85CD-2E31098DB718}" type="slidenum">
              <a:t>22</a:t>
            </a:fld>
          </a:p>
        </p:txBody>
      </p:sp>
    </p:spTree>
  </p:cSld>
  <p:transition advTm="1000">
    <p:wheel/>
  </p:transition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0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8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5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6" dur="3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2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2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2000" fill="hold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20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248000" cy="28400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319640" cy="2889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5200560" y="90324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76720" y="620640"/>
            <a:ext cx="3672000" cy="58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Мероприят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для работник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fb0d24"/>
                </a:solidFill>
                <a:uFillTx/>
                <a:latin typeface="Times New Roman"/>
              </a:rPr>
              <a:t>культуры РМ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ематический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вече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«Театр одного солдата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Библиоте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им. Колумб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20000"/>
                </a:solidFill>
                <a:latin typeface="Times New Roman"/>
              </a:rPr>
              <a:t>Апрель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63EF-2678-4CC5-85FA-BBCF048F48EA}" type="slidenum">
              <a:t>23</a:t>
            </a:fld>
          </a:p>
        </p:txBody>
      </p:sp>
    </p:spTree>
  </p:cSld>
  <p:transition advTm="1000">
    <p:wheel/>
  </p:transition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4" dur="5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1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14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Республиканские соревнования </a:t>
            </a:r>
            <a:br>
              <a:rPr sz="4400"/>
            </a:b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«Школа безопасности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80000" y="2565360"/>
            <a:ext cx="331308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Судья этапа 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«Основ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безопасн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жизнедеятельност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867280" y="4581360"/>
            <a:ext cx="2376720" cy="1590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5113440" cy="383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DCF7-D8FC-4D4B-8D3C-89BC8A423484}" type="slidenum">
              <a:t>24</a:t>
            </a:fld>
          </a:p>
        </p:txBody>
      </p:sp>
    </p:spTree>
  </p:cSld>
  <p:transition advTm="1000">
    <p:wheel/>
  </p:transition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7488360" cy="4986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00360" y="5445000"/>
            <a:ext cx="36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а служб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 мая  2004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3856-86AB-47C8-A6F7-9E1E59B0837C}" type="slidenum">
              <a:t>25</a:t>
            </a:fld>
          </a:p>
        </p:txBody>
      </p:sp>
    </p:spTree>
  </p:cSld>
  <p:transition advTm="1000">
    <p:wheel/>
  </p:transition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4508640"/>
            <a:ext cx="316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арад юнармейце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9 мая 2006 год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140360" y="3500280"/>
            <a:ext cx="4716360" cy="31100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596360" y="404640"/>
            <a:ext cx="1063440" cy="2737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4697640" cy="31352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148360" y="134136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Пост №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C7B0-54FF-4990-A060-C9136395CC33}" type="slidenum">
              <a:t>26</a:t>
            </a:fld>
          </a:p>
        </p:txBody>
      </p:sp>
    </p:spTree>
  </p:cSld>
  <p:transition advTm="1000">
    <p:wheel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341360"/>
            <a:ext cx="7704000" cy="5097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68360" y="189000"/>
            <a:ext cx="828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Клуб «Будущий воин»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E3F2-650E-4D67-A4C9-692A8F045C05}" type="slidenum">
              <a:t>27</a:t>
            </a:fld>
          </a:p>
        </p:txBody>
      </p:sp>
    </p:spTree>
  </p:cSld>
  <p:transition advTm="1000">
    <p:wheel/>
  </p:transition>
  <p:timing>
    <p:tnLst>
      <p:par>
        <p:cTn id="852" dur="indefinite" restart="never" nodeType="tmRoot">
          <p:childTnLst>
            <p:seq>
              <p:cTn id="853" dur="indefinite" nodeType="mainSeq">
                <p:childTnLst>
                  <p:par>
                    <p:cTn id="854" fill="hold">
                      <p:stCondLst>
                        <p:cond delay="0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3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273560" cy="28130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4606920" y="3716280"/>
            <a:ext cx="4537080" cy="29876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Лучшие члены клуба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9640" y="4581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Как всегда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девушки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012000" y="1268280"/>
            <a:ext cx="1796760" cy="180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8CB1-CB3E-4259-985F-282D646ACE3A}" type="slidenum">
              <a:t>28</a:t>
            </a:fld>
          </a:p>
        </p:txBody>
      </p:sp>
    </p:spTree>
  </p:cSld>
  <p:transition advTm="1000">
    <p:wheel/>
  </p:transition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0" dur="8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8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6048360" cy="45370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95280" y="3284640"/>
            <a:ext cx="1639800" cy="22651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476360" y="18900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Зачёт по физподготов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B6CD-DD74-4BE0-8230-9C3B7744FFB8}" type="slidenum">
              <a:t>29</a:t>
            </a:fld>
          </a:p>
        </p:txBody>
      </p:sp>
    </p:spTree>
  </p:cSld>
  <p:transition advTm="1000">
    <p:wheel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11280" y="765000"/>
            <a:ext cx="7921440" cy="496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ривобок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ладимир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ff6161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Николаевич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ff6161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C82C-A8AA-4DFB-95A3-511262A833F4}" type="slidenum">
              <a:t>3</a:t>
            </a:fld>
          </a:p>
        </p:txBody>
      </p:sp>
    </p:spTree>
  </p:cSld>
  <p:transition>
    <p:wheel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6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7" dur="1500" autoRev="1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4174920" cy="31291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572000" y="3500280"/>
            <a:ext cx="4176720" cy="3132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1116000" y="3716280"/>
            <a:ext cx="2050920" cy="27352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4643280" y="1341360"/>
            <a:ext cx="39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Тяжело в учении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легко в бою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1F67-1C51-43BF-8AD7-E79A4ACCF9CE}" type="slidenum">
              <a:t>30</a:t>
            </a:fld>
          </a:p>
        </p:txBody>
      </p:sp>
    </p:spTree>
  </p:cSld>
  <p:transition advTm="1000">
    <p:wheel/>
  </p:transition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4319640" cy="28767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6927840" y="50068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643280" y="3809880"/>
            <a:ext cx="4289760" cy="2830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2679840" y="0"/>
            <a:ext cx="383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32000" y="4869000"/>
            <a:ext cx="295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еренос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аненого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32360" y="1628640"/>
            <a:ext cx="223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Цыга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шумною  толпою…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7020000" y="260280"/>
            <a:ext cx="1838160" cy="156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1146-90D4-4BEF-9FAB-B651879DD419}" type="slidenum">
              <a:t>31</a:t>
            </a:fld>
          </a:p>
        </p:txBody>
      </p:sp>
    </p:spTree>
  </p:cSld>
  <p:transition advTm="1000">
    <p:wheel/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0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Подготовка к военной служб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24000" y="4581360"/>
            <a:ext cx="2962080" cy="148464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948360" y="3789360"/>
            <a:ext cx="1660680" cy="26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4065480" y="2421000"/>
            <a:ext cx="1557360" cy="2376360"/>
          </a:xfrm>
          <a:prstGeom prst="rect">
            <a:avLst/>
          </a:prstGeom>
          <a:ln w="0">
            <a:noFill/>
          </a:ln>
        </p:spPr>
      </p:pic>
      <p:sp>
        <p:nvSpPr>
          <p:cNvPr id="159" name="phone3"/>
          <p:cNvSpPr/>
          <p:nvPr/>
        </p:nvSpPr>
        <p:spPr>
          <a:xfrm>
            <a:off x="3708360" y="5229360"/>
            <a:ext cx="1224000" cy="11509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5219640" y="5373720"/>
            <a:ext cx="1270080" cy="8510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6443640" y="1557360"/>
            <a:ext cx="2232000" cy="166860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6"/>
          <a:stretch/>
        </p:blipFill>
        <p:spPr>
          <a:xfrm>
            <a:off x="4211640" y="1125360"/>
            <a:ext cx="932040" cy="1151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7"/>
          <a:stretch/>
        </p:blipFill>
        <p:spPr>
          <a:xfrm>
            <a:off x="900000" y="1413000"/>
            <a:ext cx="1917720" cy="266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0E8C-4789-4887-8AD1-39A93E853A84}" type="slidenum">
              <a:t>32</a:t>
            </a:fld>
          </a:p>
        </p:txBody>
      </p:sp>
    </p:spTree>
  </p:cSld>
  <p:transition advTm="1000">
    <p:wheel/>
  </p:transition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9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7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4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4103640" cy="27068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468360" y="2602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Воинская часть 05203-ОСО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1557360"/>
            <a:ext cx="424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 защ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от оруж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массовог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ра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4788000" y="3832200"/>
            <a:ext cx="4133880" cy="27241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908000" y="4724280"/>
            <a:ext cx="26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физическ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324000" y="4941720"/>
            <a:ext cx="1584000" cy="1006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8527-2D15-4434-B1F4-77BF21BEF865}" type="slidenum">
              <a:t>33</a:t>
            </a:fld>
          </a:p>
        </p:txBody>
      </p:sp>
    </p:spTree>
  </p:cSld>
  <p:transition advTm="1000">
    <p:wheel/>
  </p:transition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0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95280" y="620640"/>
            <a:ext cx="3608280" cy="542628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284720" y="3068640"/>
            <a:ext cx="4565520" cy="30081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4500720" y="1197000"/>
            <a:ext cx="29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анятие п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ико-санитар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готов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7667640" y="260280"/>
            <a:ext cx="1163520" cy="1827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F352-41E9-452C-B4F5-06497F9B1B9B}" type="slidenum">
              <a:t>34</a:t>
            </a:fld>
          </a:p>
        </p:txBody>
      </p:sp>
    </p:spTree>
  </p:cSld>
  <p:transition advTm="1000">
    <p:wheel/>
  </p:transition>
  <p:timing>
    <p:tnLst>
      <p:par>
        <p:cTn id="1068" dur="indefinite" restart="never" nodeType="tmRoot">
          <p:childTnLst>
            <p:seq>
              <p:cTn id="1069" dur="indefinite" nodeType="mainSeq">
                <p:childTnLst>
                  <p:par>
                    <p:cTn id="1070" fill="hold">
                      <p:stCondLst>
                        <p:cond delay="0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4394160" cy="28972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4356000" y="3614760"/>
            <a:ext cx="4500720" cy="2967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547640" y="4005360"/>
            <a:ext cx="266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оревнования п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гиревому спорт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911840" y="1557360"/>
            <a:ext cx="333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риятно держать в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руках настояще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оевое оруж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79280" y="5373720"/>
            <a:ext cx="1727280" cy="124308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5292720" y="404640"/>
            <a:ext cx="3038400" cy="1098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B624-53E5-4BA2-9ABC-4A77359B0EAB}" type="slidenum">
              <a:t>35</a:t>
            </a:fld>
          </a:p>
        </p:txBody>
      </p:sp>
    </p:spTree>
  </p:cSld>
  <p:transition advTm="1000">
    <p:wheel/>
  </p:transition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0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9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284040"/>
            <a:ext cx="5905440" cy="39340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63480" y="4292640"/>
            <a:ext cx="7869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ыступление перед 9-классника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Дмитрия Шипунова 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командира поискового отряд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ДЕМОС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6948360" y="260280"/>
            <a:ext cx="1943280" cy="142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2A72-7939-4FE1-A9F2-B6EE0B4BD665}" type="slidenum">
              <a:t>36</a:t>
            </a:fld>
          </a:p>
        </p:txBody>
      </p:sp>
    </p:spTree>
  </p:cSld>
  <p:transition advTm="1000">
    <p:wheel/>
  </p:transition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31" dur="3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478400" cy="29908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427640" y="3573360"/>
            <a:ext cx="4464000" cy="296388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5003640" y="765000"/>
            <a:ext cx="29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ав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фотограф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и нахо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 места раскоп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5280" y="4359240"/>
            <a:ext cx="17478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332000" y="458136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Откровенны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азгово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179280" y="5445000"/>
            <a:ext cx="1584360" cy="1166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4B7F-D105-4948-AC90-571BD5C39357}" type="slidenum">
              <a:t>37</a:t>
            </a:fld>
          </a:p>
        </p:txBody>
      </p:sp>
    </p:spTree>
  </p:cSld>
  <p:transition advTm="1000">
    <p:wheel/>
  </p:transition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43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50920" y="692280"/>
            <a:ext cx="3584520" cy="53402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067280" y="2997360"/>
            <a:ext cx="4825800" cy="317628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408560" y="549360"/>
            <a:ext cx="3692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Ученики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нимательн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слушаю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выступл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Д. Шипуно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667640" y="189000"/>
            <a:ext cx="1044720" cy="1112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184F-601B-4563-857E-5A0596193F8F}" type="slidenum">
              <a:t>38</a:t>
            </a:fld>
          </a:p>
        </p:txBody>
      </p:sp>
    </p:spTree>
  </p:cSld>
  <p:transition advTm="1000">
    <p:wheel/>
  </p:transition>
  <p:timing>
    <p:tnLst>
      <p:par>
        <p:cTn id="1154" dur="indefinite" restart="never" nodeType="tmRoot">
          <p:childTnLst>
            <p:seq>
              <p:cTn id="1155" dur="indefinite" nodeType="mainSeq">
                <p:childTnLst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6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5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0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1187280" y="2924280"/>
            <a:ext cx="6985080" cy="36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Рабочий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бинет</a:t>
            </a:r>
            <a:endParaRPr b="0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3132000" y="260280"/>
            <a:ext cx="3311640" cy="2725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8DC-B09F-4814-92EF-1BE7084A0D36}" type="slidenum">
              <a:t>39</a:t>
            </a:fld>
          </a:p>
        </p:txBody>
      </p:sp>
    </p:spTree>
  </p:cSld>
  <p:transition advTm="1000">
    <p:wheel/>
  </p:transition>
  <p:timing>
    <p:tnLst>
      <p:par>
        <p:cTn id="1171" dur="indefinite" restart="never" nodeType="tmRoot">
          <p:childTnLst>
            <p:seq>
              <p:cTn id="1172" dur="indefinite" nodeType="mainSeq">
                <p:childTnLst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Кривобок Владимир Николаеви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140360" y="1341000"/>
            <a:ext cx="44640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50 года рожд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Образование высшее, МВИЗРУ ПВО страны, военный инженер, 1974 го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итель высшей катег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едагогический стаж работы 32 г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дполковник запа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едали за заслуги перед Отечеств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едёт уроки ОБЖ в 9-11 класс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740720" y="5157720"/>
            <a:ext cx="1230120" cy="14590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39640" y="1268280"/>
            <a:ext cx="3291120" cy="506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8AC1-B0FE-48CA-BD82-81E4A356CCA8}" type="slidenum">
              <a:t>4</a:t>
            </a:fld>
          </a:p>
        </p:txBody>
      </p:sp>
    </p:spTree>
  </p:cSld>
  <p:transition spd="med" advTm="1000">
    <p:newsflash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" dur="10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" dur="10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1" dur="10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539640" y="441360"/>
            <a:ext cx="8136000" cy="6103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236A-673B-4D58-BA49-AE2C33563EA6}" type="slidenum">
              <a:t>40</a:t>
            </a:fld>
          </a:p>
        </p:txBody>
      </p:sp>
    </p:spTree>
  </p:cSld>
  <p:transition advTm="1000">
    <p:wheel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8064720" cy="60501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4E66-32D5-43A2-A177-1290646E5FF5}" type="slidenum">
              <a:t>41</a:t>
            </a:fld>
          </a:p>
        </p:txBody>
      </p:sp>
    </p:spTree>
  </p:cSld>
  <p:transition advTm="1000">
    <p:wheel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09080" cy="615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172A-7544-4855-A7DF-428D4A1C8C70}" type="slidenum">
              <a:t>42</a:t>
            </a:fld>
          </a:p>
        </p:txBody>
      </p:sp>
    </p:spTree>
  </p:cSld>
  <p:transition advTm="1000">
    <p:wheel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1187280" y="765000"/>
            <a:ext cx="6985080" cy="540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Муз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боево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"/>
              </a:rPr>
              <a:t>славы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22F-951D-4C0A-9CB2-11AC843D1E85}" type="slidenum">
              <a:t>43</a:t>
            </a:fld>
          </a:p>
        </p:txBody>
      </p:sp>
    </p:spTree>
  </p:cSld>
  <p:transition advTm="1000">
    <p:wheel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17080" cy="623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1D16-D191-4A9A-92D7-1CC5E09C2923}" type="slidenum">
              <a:t>44</a:t>
            </a:fld>
          </a:p>
        </p:txBody>
      </p:sp>
    </p:spTree>
  </p:cSld>
  <p:transition advTm="1000">
    <p:wheel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CA9F-DFA3-4196-82A2-133CAB3C835E}" type="slidenum">
              <a:t>45</a:t>
            </a:fld>
          </a:p>
        </p:txBody>
      </p:sp>
    </p:spTree>
  </p:cSld>
  <p:transition advTm="1000">
    <p:wheel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164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C045-A7B1-4A02-8902-F7242DF6FEE9}" type="slidenum">
              <a:t>46</a:t>
            </a:fld>
          </a:p>
        </p:txBody>
      </p:sp>
    </p:spTree>
  </p:cSld>
  <p:transition advTm="1000">
    <p:wheel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539640" y="476280"/>
            <a:ext cx="7993080" cy="599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FE15-7910-4D63-849B-9578DCE8AC11}" type="slidenum">
              <a:t>47</a:t>
            </a:fld>
          </a:p>
        </p:txBody>
      </p:sp>
    </p:spTree>
  </p:cSld>
  <p:transition advTm="1000">
    <p:wheel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50160" cy="5886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BBDD-80E2-46D0-84CF-0DA737C93E92}" type="slidenum">
              <a:t>48</a:t>
            </a:fld>
          </a:p>
        </p:txBody>
      </p:sp>
    </p:spTree>
  </p:cSld>
  <p:transition advTm="1000">
    <p:wheel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87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7B5B0-C805-439C-B26D-D3E3ED8A1CF0}" type="slidenum">
              <a:t>49</a:t>
            </a:fld>
          </a:p>
        </p:txBody>
      </p:sp>
    </p:spTree>
  </p:cSld>
  <p:transition advTm="1000">
    <p:wheel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95280" y="404640"/>
            <a:ext cx="8497800" cy="532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Down">
              <a:avLst>
                <a:gd name="adj" fmla="val 36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Грамоты 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Благодарности</a:t>
            </a:r>
            <a:endParaRPr b="0" lang="en-US" sz="8000" spc="1" strike="noStrike">
              <a:ln w="12600">
                <a:solidFill>
                  <a:srgbClr val="ff0000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0BF0-20D3-4994-9587-BD9547142848}" type="slidenum">
              <a:t>5</a:t>
            </a:fld>
          </a:p>
        </p:txBody>
      </p:sp>
    </p:spTree>
  </p:cSld>
  <p:transition advTm="1000">
    <p:wheel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00000" y="620640"/>
            <a:ext cx="7632720" cy="572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B0E7-BF58-4E03-9B12-692FAAF248C6}" type="slidenum">
              <a:t>50</a:t>
            </a:fld>
          </a:p>
        </p:txBody>
      </p:sp>
    </p:spTree>
  </p:cSld>
  <p:transition advTm="1000">
    <p:wheel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7993080" cy="599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1B6F-A777-44F4-A7C3-A86A918546FE}" type="slidenum">
              <a:t>51</a:t>
            </a:fld>
          </a:p>
        </p:txBody>
      </p:sp>
    </p:spTree>
  </p:cSld>
  <p:transition advTm="1000">
    <p:wheel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68360" y="2637000"/>
            <a:ext cx="6912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8000"/>
                  </a:solidFill>
                  <a:miter/>
                </a:ln>
                <a:gradFill rotWithShape="0">
                  <a:gsLst>
                    <a:gs pos="0">
                      <a:srgbClr val="f20000"/>
                    </a:gs>
                    <a:gs pos="100000">
                      <a:srgbClr val="3333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УВЛЕЧЕНИЯ</a:t>
            </a:r>
            <a:endParaRPr b="1" lang="en-US" sz="2400" spc="1" strike="noStrike">
              <a:ln w="9360">
                <a:solidFill>
                  <a:srgbClr val="008000"/>
                </a:solidFill>
                <a:miter/>
              </a:ln>
              <a:gradFill rotWithShape="0">
                <a:gsLst>
                  <a:gs pos="0">
                    <a:srgbClr val="f20000"/>
                  </a:gs>
                  <a:gs pos="100000">
                    <a:srgbClr val="3333cc"/>
                  </a:gs>
                </a:gsLst>
                <a:lin ang="5400000"/>
              </a:gra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CF4-714E-4B20-B4DB-72A115BEA9F0}" type="slidenum">
              <a:t>52</a:t>
            </a:fld>
          </a:p>
        </p:txBody>
      </p:sp>
    </p:spTree>
  </p:cSld>
  <p:transition advTm="1000">
    <p:wheel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6769440" cy="4483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476360" y="260280"/>
            <a:ext cx="597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нештат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фотокорреспонде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250920" y="404640"/>
            <a:ext cx="1441440" cy="10526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524720" y="333360"/>
            <a:ext cx="1270080" cy="11937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250920" y="3933720"/>
            <a:ext cx="1460520" cy="2449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EB6A-0B13-455C-A1BC-CD6A9AACE39D}" type="slidenum">
              <a:t>53</a:t>
            </a:fld>
          </a:p>
        </p:txBody>
      </p:sp>
    </p:spTree>
  </p:cSld>
  <p:transition advTm="1000">
    <p:wheel/>
  </p:transition>
  <p:timing>
    <p:tnLst>
      <p:par>
        <p:cTn id="1187" dur="indefinite" restart="never" nodeType="tmRoot">
          <p:childTnLst>
            <p:seq>
              <p:cTn id="1188" dur="indefinite" nodeType="mainSeq">
                <p:childTnLst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0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1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7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1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29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4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3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1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2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6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7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1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4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3851280" y="3354480"/>
            <a:ext cx="4981680" cy="329868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4643280" cy="3074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48360" y="1143000"/>
            <a:ext cx="216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На рыбалк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187280" y="467208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В пох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7236000" y="189000"/>
            <a:ext cx="1665000" cy="1700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4000" y="5734080"/>
            <a:ext cx="1331640" cy="9223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1692360" y="765000"/>
            <a:ext cx="792000" cy="7160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1619280" y="162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3708360" y="1700280"/>
            <a:ext cx="658800" cy="15127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8"/>
          <a:stretch/>
        </p:blipFill>
        <p:spPr>
          <a:xfrm>
            <a:off x="324000" y="234936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89D4-9CEF-4AEE-838C-19218695787E}" type="slidenum">
              <a:t>54</a:t>
            </a:fld>
          </a:p>
        </p:txBody>
      </p:sp>
    </p:spTree>
  </p:cSld>
  <p:transition advTm="1000">
    <p:wheel/>
  </p:transition>
  <p:timing>
    <p:tnLst>
      <p:par>
        <p:cTn id="1251" dur="indefinite" restart="never" nodeType="tmRoot">
          <p:childTnLst>
            <p:seq>
              <p:cTn id="1252" dur="indefinite" nodeType="mainSeq">
                <p:childTnLst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Спасибо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за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c4254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нимание!</a:t>
            </a:r>
            <a:endParaRPr b="1" lang="en-US" sz="24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c4254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17F56-1C7F-4741-9BD1-A5E3F7EA3C47}" type="slidenum">
              <a:t>55</a:t>
            </a:fld>
          </a:p>
        </p:txBody>
      </p:sp>
    </p:spTree>
  </p:cSld>
  <p:transition advTm="1000">
    <p:wheel/>
  </p:transition>
  <p:timing>
    <p:tnLst>
      <p:par>
        <p:cTn id="1302" dur="indefinite" restart="never" nodeType="tmRoot">
          <p:childTnLst>
            <p:seq>
              <p:cTn id="1303" dur="indefinite" nodeType="mainSeq">
                <p:childTnLst>
                  <p:par>
                    <p:cTn id="1304" fill="hold">
                      <p:stCondLst>
                        <p:cond delay="indefinite"/>
                      </p:stCondLst>
                      <p:childTnLst>
                        <p:par>
                          <p:cTn id="1305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4708800" cy="6597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24000" y="1557360"/>
            <a:ext cx="1544760" cy="23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6084720" y="5877000"/>
            <a:ext cx="187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b28a1"/>
                </a:solidFill>
                <a:latin typeface="Times New Roman"/>
              </a:rPr>
              <a:t>2006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936A9-30EA-4EAC-9D95-4631E77EE11A}" type="slidenum">
              <a:t>56</a:t>
            </a:fld>
          </a:p>
        </p:txBody>
      </p:sp>
    </p:spTree>
  </p:cSld>
  <p:transition advTm="1000">
    <p:wheel/>
  </p:transition>
  <p:timing>
    <p:tnLst>
      <p:par>
        <p:cTn id="1310" dur="indefinite" restart="never" nodeType="tmRoot">
          <p:childTnLst>
            <p:seq>
              <p:cTn id="1311" dur="indefinite" nodeType="mainSeq">
                <p:childTnLst>
                  <p:par>
                    <p:cTn id="1312" fill="hold">
                      <p:stCondLst>
                        <p:cond delay="indefinite"/>
                      </p:stCondLst>
                      <p:childTnLst>
                        <p:par>
                          <p:cTn id="1313" fill="hold">
                            <p:stCondLst>
                              <p:cond delay="0"/>
                            </p:stCondLst>
                            <p:childTnLst>
                              <p:par>
                                <p:cTn id="13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6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51640" cy="6265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AB6-0CB9-4660-946A-53D0961ACE29}" type="slidenum">
              <a:t>6</a:t>
            </a:fld>
          </a:p>
        </p:txBody>
      </p:sp>
    </p:spTree>
  </p:cSld>
  <p:transition advTm="1000">
    <p:wheel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854520" cy="5139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788000" y="907920"/>
            <a:ext cx="3854520" cy="513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C8A-44FE-4EFF-AE1E-92FE4E584BB0}" type="slidenum">
              <a:t>7</a:t>
            </a:fld>
          </a:p>
        </p:txBody>
      </p:sp>
    </p:spTree>
  </p:cSld>
  <p:transition advTm="1000">
    <p:wheel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26920" y="1268280"/>
            <a:ext cx="3348360" cy="446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148360" y="1341360"/>
            <a:ext cx="3295440" cy="4392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258920" y="6021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лагодар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16200" y="189000"/>
            <a:ext cx="5721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Воинская часть 052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6360" y="601488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рамо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08360" y="5877000"/>
            <a:ext cx="21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04 го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1161-0D5F-4944-84C7-CC3E968143B0}" type="slidenum">
              <a:t>8</a:t>
            </a:fld>
          </a:p>
        </p:txBody>
      </p:sp>
    </p:spTree>
  </p:cSld>
  <p:transition advTm="1000">
    <p:wheel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0fefe"/>
            </a:gs>
            <a:gs pos="100000">
              <a:srgbClr val="99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500720" y="476280"/>
            <a:ext cx="4240080" cy="59752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1280" y="1052640"/>
            <a:ext cx="3446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Управле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бразован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администр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городск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окру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«Город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Йошкар-Ол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Октябр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EC0-A91E-4C2A-83FF-AA73A5AEE4F3}" type="slidenum">
              <a:t>9</a:t>
            </a:fld>
          </a:p>
        </p:txBody>
      </p:sp>
    </p:spTree>
  </p:cSld>
  <p:transition advTm="1000">
    <p:wheel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6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4:11:27Z</dcterms:created>
  <dc:creator>User</dc:creator>
  <dc:description/>
  <dc:language>en-US</dc:language>
  <cp:lastModifiedBy>Ирина</cp:lastModifiedBy>
  <dcterms:modified xsi:type="dcterms:W3CDTF">2006-11-23T18:15:03Z</dcterms:modified>
  <cp:revision>360</cp:revision>
  <dc:subject/>
  <dc:title>Федерация интернет Образования</dc:title>
</cp:coreProperties>
</file>