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7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41.jpeg" ContentType="image/jpeg"/>
  <Override PartName="/ppt/media/image36.jpeg" ContentType="image/jpeg"/>
  <Override PartName="/ppt/media/image34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20.jpeg" ContentType="image/jpeg"/>
  <Override PartName="/ppt/media/image40.jpeg" ContentType="image/jpeg"/>
  <Override PartName="/ppt/media/image49.jpeg" ContentType="image/jpeg"/>
  <Override PartName="/ppt/media/image76.jpeg" ContentType="image/jpeg"/>
  <Override PartName="/ppt/media/image12.png" ContentType="image/png"/>
  <Override PartName="/ppt/media/image27.png" ContentType="image/png"/>
  <Override PartName="/ppt/media/image33.jpeg" ContentType="image/jpeg"/>
  <Override PartName="/ppt/media/image17.jpeg" ContentType="image/jpeg"/>
  <Override PartName="/ppt/media/image77.png" ContentType="image/pn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82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5.jpeg" ContentType="image/jpeg"/>
  <Override PartName="/ppt/media/image69.png" ContentType="image/png"/>
  <Override PartName="/ppt/media/image67.jpeg" ContentType="image/jpeg"/>
  <Override PartName="/ppt/media/image15.jpeg" ContentType="image/jpeg"/>
  <Override PartName="/ppt/media/image1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6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311-5FC3-42B6-9E90-BDA4A6F3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627-3B0C-4E5D-9E8A-5FF93C5D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FAE-6E29-47E7-A2E1-F7736D0F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60C-7FD9-4AA6-984F-7FBC3ADF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76C6-E25E-49FA-B31F-0D1073AA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264E-E142-4A17-9E7C-D5F9A79E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0158-9F5C-4C3D-BE78-0CEADC18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342C-AA59-4D5F-9F39-640D3076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4F5B-4B6C-4B1C-87F1-1004CA64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16F9-A762-4EA7-B19D-45999A1E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A5ED-DE3A-4F27-B83D-63AA17DE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7FC-6774-4ABD-8E2C-A61819EE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A863-70CB-4C4A-B438-2E841690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3A55-7784-4E6D-B25A-6EDAD8FC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98F7-EE53-4908-BAD7-4AF16F7C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71A9-7B31-45B4-8543-AFF10363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7AF8-E78F-478E-82FA-E23666EC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6F32-59E6-4AE0-9641-237342F2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8B61-B424-4B87-A271-E72EECB0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1671-8A81-44AB-A3F0-9635B9D3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43FB9-2140-439B-B59E-8A8E20FC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B816-F021-4FDF-B68F-E810FE79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B52-8130-4B66-94C4-4D6E0BBD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5C121-0605-4B52-AB66-E1400EBA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FADF6-874F-4752-88D5-EA8CD411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26D9-EBCF-4AF6-956E-BA0D5772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1BF1-87FE-4A13-8796-538887F6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6406-49C0-4F0C-BFF7-5A534384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4473-4ACA-412D-A985-879A7973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15BD-9302-4EB9-ADF4-BBF6FD39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85C-182E-44E1-8D5D-7F2F67FD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CCB-DA3F-4570-ACA3-78809B9D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E91-2603-4667-B776-8B155696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39A-BD42-49E1-9374-169F7A79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924-2769-4F3D-9C5F-96AEFEA7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8B8-6754-42D0-B5CB-4E2E1F40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3E83-CFC8-4728-B819-81667DA26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000F-3EA3-4A55-A432-8DDD3541857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1FD5-32CF-4532-BF86-792C4691467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55640" y="620640"/>
            <a:ext cx="7920000" cy="33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ая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ктика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920" y="4221000"/>
            <a:ext cx="74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ФФК III  кур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ГПИ им. Н. К. Круп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 advTm="7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00360" cy="26319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032360" cy="2637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276720" y="443700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39640" y="189000"/>
            <a:ext cx="813600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вижные игр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6000">
    <p:pull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430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3260520" cy="24541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5214960" y="1600200"/>
            <a:ext cx="3102120" cy="23353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3260880" cy="2455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tretch/>
        </p:blipFill>
        <p:spPr>
          <a:xfrm>
            <a:off x="5292720" y="4257720"/>
            <a:ext cx="3166920" cy="2384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24000" y="260280"/>
            <a:ext cx="86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Лыжная подготов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23000">
    <p:pull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39640" y="40464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ортивные иг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3241800" cy="2441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4500720" y="2081160"/>
            <a:ext cx="4392360" cy="32958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826920" y="1557360"/>
            <a:ext cx="3240360" cy="2440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pull dir="r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роведено по 5 (2-3-часов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занятий в спортивных секциях</a:t>
            </a:r>
            <a:r>
              <a:rPr b="1" i="1" lang="en-US" sz="32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Подвиж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Олимпи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Баске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Волей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Фу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4360" y="333360"/>
            <a:ext cx="784836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кционная работ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6000">
    <p:pull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536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5549E-006 L 0.03594 0.08255 L 0.10799 0.08255 L 0.07205 0.16648 L 0.10799 0.24902 L 0.03594 0.24902 L -3.05556E-006 0.33295 L -0.03593 0.24902 L -0.10798 0.24902 L -0.07205 0.16648 L -0.10798 0.08255 L -0.03593 0.08255 L -3.05556E-006 -4.85549E-006 Z">
                                      <p:cBhvr>
                                        <p:cTn id="540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44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46" dur="2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0" dur="20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2" dur="20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4" dur="20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6" dur="20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8" dur="2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68360" y="54936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ижные игр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r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28 L 0.125 -0.16647 L 0.158 -0.04528 L 0.249 0 L 0.158 0.04528 L 0.125 0.16647 L 0.091 0.04528 L 0 0 Z">
                                      <p:cBhvr>
                                        <p:cTn id="564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736720" cy="20174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826920" y="260280"/>
            <a:ext cx="7632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«Олимпиец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952720" cy="22226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1476360" y="422280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140360" y="184464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r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586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90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605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606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615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900000" y="404640"/>
            <a:ext cx="69138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скет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33960" cy="45262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ll dir="r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62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900000" y="476280"/>
            <a:ext cx="720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олей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814920" cy="27655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d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633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116000" y="476280"/>
            <a:ext cx="763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ут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3814560" cy="27655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3814920" cy="2765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Проведены внеклассные спортивно-массовые 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баскетболу (9 класс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волейболу (10-11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мини-футболу (5-6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ревнования «Папа, мама, я – спортивная семья!» (6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урнир по волейболу «Учителя, ученики, студен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оварищеская встреча по мини-футболу «Студенты-уче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71640" y="26028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неклассная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 advTm="26000">
    <p:pull dir="r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68360" y="0"/>
            <a:ext cx="8280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У «Средняя общеобразовательная школа № 10 г. Йошкар-Олы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58920" y="5734080"/>
            <a:ext cx="655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8.01.2007 - 11.02.200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  <p:transition spd="slow" advTm="9000"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28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50920" y="333360"/>
            <a:ext cx="8642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апа,мама,я - спортивная семья!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070440" cy="23032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3059280" y="4292640"/>
            <a:ext cx="324000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pull dir="r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726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903760" cy="21859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0" y="404640"/>
            <a:ext cx="9144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урнир к Дню защитника Отечеств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1042920" y="4149720"/>
            <a:ext cx="2905200" cy="21877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219640" y="4221000"/>
            <a:ext cx="290520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752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6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7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25092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ини - футбол "Студенты - ученик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903760" cy="22590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2905200" cy="2187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5364000" y="4292640"/>
            <a:ext cx="290520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-0.00185 C 0.07448 -0.00185 0.13055 0.07283 0.13055 0.16462 C 0.13055 0.25641 0.07448 0.33109 0.00555 0.33109 C -0.06337 0.33109 -0.11945 0.25641 -0.11945 0.16462 C -0.11945 0.07283 -0.06337 -0.00185 0.00555 -0.00185 Z">
                                      <p:cBhvr>
                                        <p:cTn id="793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0.00532 L -0.04253 -0.19052 L 0.20747 0.00532 L -0.04253 0.00532 Z">
                                      <p:cBhvr>
                                        <p:cTn id="797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2498 C 0.00973 0.00093 0.03073 -0.03352 0.05573 -0.03352 C 0.09271 -0.03352 0.12275 0.00232 0.12275 0.04763 C 0.12275 0.0622 0.1198 0.07561 0.11372 0.08763 C 0.11476 0.08763 -0.00225 0.26729 -0.00225 0.26867 C -0.00225 0.26729 -0.11927 0.08763 -0.11822 0.08763 C -0.1243 0.07561 -0.12725 0.0622 -0.12725 0.04763 C -0.12725 0.00232 -0.09722 -0.03352 -0.0592 -0.03352 C -0.03524 -0.03352 -0.01423 0.00093 -0.00225 0.02498 Z">
                                      <p:cBhvr>
                                        <p:cTn id="801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805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68360" y="333360"/>
            <a:ext cx="8064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школе мы не толь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4149720"/>
            <a:ext cx="80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одили уроки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894200" y="5300640"/>
            <a:ext cx="4249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но и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14000">
    <p:pull dir="rd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9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79280" y="260280"/>
            <a:ext cx="896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   на   лыжах   даже в   спортзале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3097080" cy="2332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273480" cy="4781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1258920" y="4076640"/>
            <a:ext cx="3168720" cy="238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 rot="5400000">
            <a:off x="-90000" y="2256840"/>
            <a:ext cx="1477800" cy="79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ль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0" name=""/>
          <p:cNvSpPr txBox="1"/>
          <p:nvPr/>
        </p:nvSpPr>
        <p:spPr>
          <a:xfrm rot="5400000">
            <a:off x="-178560" y="4939560"/>
            <a:ext cx="1728720" cy="723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81" name=""/>
          <p:cNvSpPr txBox="1"/>
          <p:nvPr/>
        </p:nvSpPr>
        <p:spPr>
          <a:xfrm rot="5400000">
            <a:off x="6948000" y="3500280"/>
            <a:ext cx="3240000" cy="64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аш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 spd="slow" advTm="17000">
    <p:pull dir="rd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838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68360" y="-243000"/>
            <a:ext cx="8064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вью для школьной газет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3168720" cy="23875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311640" cy="2492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395280" y="4076640"/>
            <a:ext cx="3313080" cy="24955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5003640" y="3933720"/>
            <a:ext cx="3456000" cy="260028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pull dir="rd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539640" y="260280"/>
            <a:ext cx="8280360" cy="16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сегда болеем за своих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2905200" cy="2187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4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4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932360" y="4437000"/>
            <a:ext cx="2881440" cy="2170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859280" y="177336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971640" y="177336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395280" y="189000"/>
            <a:ext cx="842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уденты тоже люди..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6000">
    <p:pull dir="rd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933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680000" cy="35118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5580000" y="2133720"/>
            <a:ext cx="3203640" cy="4270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68360" y="404640"/>
            <a:ext cx="820728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лассный час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2000">
    <p:pull dir="rd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97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981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79280" y="189000"/>
            <a:ext cx="864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бумаг больше чем работы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3394080" cy="26589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3286080" cy="2473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5076720" y="1341360"/>
            <a:ext cx="3316320" cy="25164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5651640" y="4005360"/>
            <a:ext cx="2001600" cy="26589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rd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1268280"/>
            <a:ext cx="3448080" cy="592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чаева Ольга Андр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859280" y="1268280"/>
            <a:ext cx="33894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торова Екатерина Никола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9280" y="3860640"/>
            <a:ext cx="4033800" cy="37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зарова Окса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3860640"/>
            <a:ext cx="3673440" cy="66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ухарев Павел Александ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2755800" cy="19735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735280" cy="21049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5148360" y="422100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684360" y="189000"/>
            <a:ext cx="777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уппа студентов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5000">
    <p:pull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5280" y="404640"/>
            <a:ext cx="828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уппа "захвата" 10 школ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1000">
    <p:pull dir="rd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95280" y="404640"/>
            <a:ext cx="792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мы какие!!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6" name=""/>
          <p:cNvSpPr txBox="1"/>
          <p:nvPr/>
        </p:nvSpPr>
        <p:spPr>
          <a:xfrm rot="5400000">
            <a:off x="5795280" y="357336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чаровашки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8000">
    <p:pull dir="rd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24000" y="404640"/>
            <a:ext cx="3600360" cy="5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уденко Пётр Юрь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716360" y="333360"/>
            <a:ext cx="3990960" cy="61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ыбаков Александр Серге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95280" y="3357720"/>
            <a:ext cx="4251240" cy="401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лодцов Михаил Василь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8000" y="3500280"/>
            <a:ext cx="3768480" cy="265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поров Артём Никола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812880" y="90792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5205240" y="90792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2521080" cy="28083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219640" y="414972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Руководитель практи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Грищук Елена Конста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Методи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Шаблатова Алена Степ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люр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рина Пет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в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л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м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лан Михай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26920" y="333360"/>
            <a:ext cx="73123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и по физкультурной работ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979640" y="2492280"/>
            <a:ext cx="600552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я физкультуры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4284720" y="3860640"/>
            <a:ext cx="3456000" cy="2708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лассные руководители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Прибылова Людмил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Яранцева Еле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Скрипунова Еле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Ахматова Ни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Косарева Ни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Шалаев Андрей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Вырупаева Ма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Лихачева Людмила Арк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8360" y="404640"/>
            <a:ext cx="83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дагоги по классному руководству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9000">
    <p:pull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Директор школ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ожеуров Владими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естители директора по УВ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рельникова Валентина Кузьмин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асибуллина Нурия Рауш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еститель директора по ВР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убов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аршие вожатые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верева Венера Анс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иреева Еле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удковская Ю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сихолог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болотских Наталь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ельдшер школ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ирова Н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ащихся  в школе –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лассов –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лассов с ЗПР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 rot="5400000">
            <a:off x="5409000" y="3096360"/>
            <a:ext cx="63388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бщие сведения о школ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3000"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79280" y="2349360"/>
            <a:ext cx="82915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Соци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Классные 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роверка днев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Общественно-полезный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одготовка к плановым мероприят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осещение кинотеатра и Ледового Дво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сихолого-педагогические характеристик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Вечера отды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26920" y="260280"/>
            <a:ext cx="77058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оспитательн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 класс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25000"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66ff"/>
                </a:solidFill>
                <a:uFillTx/>
                <a:latin typeface="Arial"/>
              </a:rPr>
              <a:t>Проведено по 32 урока физической культур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движных игр в 1-4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портивных игр в 5-11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Лыжной подготовки в 1-4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6920" y="26028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бная работ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8000">
    <p:pull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4:27:33Z</dcterms:created>
  <dc:creator>Ирина</dc:creator>
  <dc:description/>
  <dc:language>en-US</dc:language>
  <cp:lastModifiedBy>Ирина</cp:lastModifiedBy>
  <dcterms:modified xsi:type="dcterms:W3CDTF">2007-02-19T18:48:07Z</dcterms:modified>
  <cp:revision>11</cp:revision>
  <dc:subject/>
  <dc:title>Педагогическая практика</dc:title>
</cp:coreProperties>
</file>