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20.jpeg" ContentType="image/jpeg"/>
  <Override PartName="/ppt/media/image40.jpeg" ContentType="image/jpeg"/>
  <Override PartName="/ppt/media/image49.jpeg" ContentType="image/jpeg"/>
  <Override PartName="/ppt/media/image76.jpeg" ContentType="image/jpeg"/>
  <Override PartName="/ppt/media/image12.png" ContentType="image/png"/>
  <Override PartName="/ppt/media/image27.png" ContentType="image/png"/>
  <Override PartName="/ppt/media/image33.jpeg" ContentType="image/jpeg"/>
  <Override PartName="/ppt/media/image17.jpeg" ContentType="image/jpeg"/>
  <Override PartName="/ppt/media/image77.png" ContentType="image/pn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82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5.jpeg" ContentType="image/jpeg"/>
  <Override PartName="/ppt/media/image69.png" ContentType="image/png"/>
  <Override PartName="/ppt/media/image67.jpeg" ContentType="image/jpeg"/>
  <Override PartName="/ppt/media/image15.jpeg" ContentType="image/jpeg"/>
  <Override PartName="/ppt/media/image1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7AF-2EB2-4ACD-A9FB-49672E86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307-5893-4B42-9439-82767D9B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EB8-BD61-4856-BEE4-2AD91A28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8B4-FB2A-456D-B2AA-8B5C1BEA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B7CA-E4AD-47BC-AE36-17FA225E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69D0-B0EE-41BA-B78D-F8727776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8630-72D3-4A36-B585-B0EEE380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03E9-F5E4-46E1-B9BF-BC303E01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0BD0-1284-44D5-B8AD-B5324001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7C94-DF27-4C57-990A-86BEF782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79A2-9DD1-4E0F-8DAE-2D6F20E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080-A4E6-47B8-91BF-BB769CE5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2777-F94F-4468-A29B-8216D986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B650-279D-473B-AC80-37C5ADE0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C665-2CD6-41D5-8C25-1D9E8127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7B4F-769A-4A9C-8E6B-8ABF691F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DE5F-E42F-45EB-B094-CC5324A1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CE22-9CDC-4AF9-A61A-5120A521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F546-E1A8-4D1E-9B34-6303BA2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880D-66E2-4D82-9C18-19721E71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2686-40DF-4B4D-8E40-94D20719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54DF-96E3-4FB1-8D45-6D9AA9D9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90C-4C4C-40D4-A7D1-31184149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3D0C-5CB3-44A8-9F9B-F044D84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B3E6-D295-45E6-AC16-E96D8C99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BEA0-2E5A-4AA5-A2D9-0A47BC31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C41A3-24FD-466D-834B-9682F70E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2BC0-89B3-496D-BCC9-5B3C30B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D21D1-25B1-4A72-8950-F869A103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C3FE-1B43-49E8-BEB0-96A95B77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C22-48EA-4A83-ABFC-3DFADF7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C3C-0178-4C8D-A767-4DD8DCE0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A01-0326-4F6A-9403-26FB842F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796-6999-4581-9AD3-BBB9F89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226-BC8A-4908-ADEB-0B5EF5A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940-5CE9-4365-8F5A-D6A9547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EC11-E1BB-488B-AC09-BC3C0A1B3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2C56-FAAD-46C0-A53D-8B9614FF41C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0B7C-3336-4726-ABE6-3C3B9A4D721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55640" y="620640"/>
            <a:ext cx="792000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ая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ка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920" y="4221000"/>
            <a:ext cx="74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ФФК III  кур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ГПИ им. Н. К. Круп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7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00360" cy="2631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2637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443700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39640" y="189000"/>
            <a:ext cx="8136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6000"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43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3260520" cy="24541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214960" y="1600200"/>
            <a:ext cx="3102120" cy="2335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260880" cy="2455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5292720" y="4257720"/>
            <a:ext cx="3166920" cy="238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24000" y="26028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Лыжная подгот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23000">
    <p:pull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640" y="404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ые иг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1800" cy="2441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00720" y="208116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3240360" cy="2440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ull dir="r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ведено по 5 (2-3-часов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занятий в спортивных секциях</a:t>
            </a:r>
            <a:r>
              <a:rPr b="1" i="1" lang="en-US" sz="32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Олимпи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Фу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4360" y="333360"/>
            <a:ext cx="78483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кционная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6000">
    <p:pull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53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5549E-006 L 0.03594 0.08255 L 0.10799 0.08255 L 0.07205 0.16648 L 0.10799 0.24902 L 0.03594 0.24902 L -3.05556E-006 0.33295 L -0.03593 0.24902 L -0.10798 0.24902 L -0.07205 0.16648 L -0.10798 0.08255 L -0.03593 0.08255 L -3.05556E-006 -4.85549E-006 Z">
                                      <p:cBhvr>
                                        <p:cTn id="540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4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6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0" dur="2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2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4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6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8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68360" y="54936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8 L 0.125 -0.16647 L 0.158 -0.04528 L 0.249 0 L 0.158 0.04528 L 0.125 0.16647 L 0.091 0.04528 L 0 0 Z">
                                      <p:cBhvr>
                                        <p:cTn id="564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736720" cy="20174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826920" y="260280"/>
            <a:ext cx="76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«Олимпиец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952720" cy="2222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476360" y="42228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140360" y="184464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586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90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615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900000" y="404640"/>
            <a:ext cx="691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скет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33960" cy="4526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62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900000" y="476280"/>
            <a:ext cx="720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олей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14920" cy="2765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63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116000" y="476280"/>
            <a:ext cx="763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у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814560" cy="2765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14920" cy="2765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Проведены внеклассные спортивно-массовые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баскетболу (9 класс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волейболу (10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мини-футболу (5-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ревнования «Папа, мама, я – спортивная семья!» (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урнир по волейболу «Учителя, ученики, студен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оварищеская встреча по мини-футболу «Студенты-уче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71640" y="260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неклассная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8360" y="0"/>
            <a:ext cx="828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«Средняя общеобразовательная школа № 10 г. Йошкар-Ол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58920" y="5734080"/>
            <a:ext cx="655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8.01.2007 - 11.02.20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ransition spd="slow" advTm="9000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28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апа,мама,я - спортивная семья!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070440" cy="2303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05928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726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185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0" y="404640"/>
            <a:ext cx="914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урнир к Дню защитника Отечеств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042920" y="4149720"/>
            <a:ext cx="2905200" cy="2187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219640" y="4221000"/>
            <a:ext cx="29052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75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6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7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5092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ини - футбол "Студенты - учени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259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5364000" y="4292640"/>
            <a:ext cx="290520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-0.00185 C 0.07448 -0.00185 0.13055 0.07283 0.13055 0.16462 C 0.13055 0.25641 0.07448 0.33109 0.00555 0.33109 C -0.06337 0.33109 -0.11945 0.25641 -0.11945 0.16462 C -0.11945 0.07283 -0.06337 -0.00185 0.00555 -0.00185 Z">
                                      <p:cBhvr>
                                        <p:cTn id="79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0.00532 L -0.04253 -0.19052 L 0.20747 0.00532 L -0.04253 0.00532 Z">
                                      <p:cBhvr>
                                        <p:cTn id="79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2498 C 0.00973 0.00093 0.03073 -0.03352 0.05573 -0.03352 C 0.09271 -0.03352 0.12275 0.00232 0.12275 0.04763 C 0.12275 0.0622 0.1198 0.07561 0.11372 0.08763 C 0.11476 0.08763 -0.00225 0.26729 -0.00225 0.26867 C -0.00225 0.26729 -0.11927 0.08763 -0.11822 0.08763 C -0.1243 0.07561 -0.12725 0.0622 -0.12725 0.04763 C -0.12725 0.00232 -0.09722 -0.03352 -0.0592 -0.03352 C -0.03524 -0.03352 -0.01423 0.00093 -0.00225 0.02498 Z">
                                      <p:cBhvr>
                                        <p:cTn id="80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80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68360" y="333360"/>
            <a:ext cx="8064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школе мы не толь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4149720"/>
            <a:ext cx="80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одили уроки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894200" y="5300640"/>
            <a:ext cx="424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о и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14000">
    <p:pull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9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79280" y="260280"/>
            <a:ext cx="896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   на   лыжах   даже в   спортзале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3097080" cy="2332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273480" cy="478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258920" y="4076640"/>
            <a:ext cx="3168720" cy="238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 rot="5400000">
            <a:off x="-90000" y="2256840"/>
            <a:ext cx="1477800" cy="79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ль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"/>
          <p:cNvSpPr txBox="1"/>
          <p:nvPr/>
        </p:nvSpPr>
        <p:spPr>
          <a:xfrm rot="5400000">
            <a:off x="-178560" y="4939560"/>
            <a:ext cx="1728720" cy="723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 txBox="1"/>
          <p:nvPr/>
        </p:nvSpPr>
        <p:spPr>
          <a:xfrm rot="5400000">
            <a:off x="6948000" y="35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ш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 advTm="17000">
    <p:pull dir="rd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838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68360" y="-243000"/>
            <a:ext cx="8064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вью для школьной газ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168720" cy="2387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3313080" cy="2495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5003640" y="3933720"/>
            <a:ext cx="3456000" cy="260028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rd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39640" y="260280"/>
            <a:ext cx="828036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егда болеем за своих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932360" y="4437000"/>
            <a:ext cx="2881440" cy="2170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59280" y="177336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971640" y="1773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95280" y="18900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уденты тоже люди..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933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680000" cy="3511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203640" cy="4270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68360" y="404640"/>
            <a:ext cx="82072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лассный ча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2000">
    <p:pull dir="rd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97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81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7928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бумаг больше чем работы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394080" cy="26589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3286080" cy="2473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076720" y="1341360"/>
            <a:ext cx="3316320" cy="25164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2001600" cy="26589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1268280"/>
            <a:ext cx="3448080" cy="592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чаева Ольга Андр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859280" y="1268280"/>
            <a:ext cx="33894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торова Екатерина Никола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9280" y="3860640"/>
            <a:ext cx="4033800" cy="37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арова Окса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3860640"/>
            <a:ext cx="367344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ухарев Павел Александ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755800" cy="1973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735280" cy="2104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5148360" y="422100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684360" y="189000"/>
            <a:ext cx="777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уппа студент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pull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404640"/>
            <a:ext cx="82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"захвата" 10 школ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pull dir="rd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95280" y="404640"/>
            <a:ext cx="792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мы какие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 rot="5400000">
            <a:off x="5795280" y="3573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чаровашки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8000">
    <p:pull dir="r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24000" y="404640"/>
            <a:ext cx="360036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денко Пётр Юр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716360" y="333360"/>
            <a:ext cx="3990960" cy="61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баков Александр Серге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5280" y="3357720"/>
            <a:ext cx="4251240" cy="40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ов Михаил Васил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8000" y="3500280"/>
            <a:ext cx="3768480" cy="26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оров Артём Никола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12880" y="90792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205240" y="90792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2521080" cy="2808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219640" y="414972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Руководитель практ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Грищук Елена Конста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етоди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Шаблатова Алена Степ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люр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л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лан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26920" y="333360"/>
            <a:ext cx="73123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 по физкультурной рабо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79640" y="2492280"/>
            <a:ext cx="600552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я физкультур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4284720" y="3860640"/>
            <a:ext cx="345600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лассные руководители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рибылова Людмил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Яранцева Еле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Скрипунова Еле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хматова Н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Косарева Ни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Шалаев Андрей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Вырупаева Ма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Лихачева Людмила Арк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360" y="404640"/>
            <a:ext cx="83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дагоги по классному руководству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9000"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Директо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ожеуров Владими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и директора по УВ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рельникова Валентина Кузьм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сибуллина Нурия Рауш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по ВР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уб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шие вожатые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верева Венера Анс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иреева Еле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удковская Ю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ихолог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болотских Наталь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ельдше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рова Н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ащихся  в школе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с ЗПР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5400000">
            <a:off x="5409000" y="3096360"/>
            <a:ext cx="63388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бщие сведения о школ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3000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291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Класс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роверка днев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бщественно-полезны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дготовка к плановым мероприят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сещение кинотеатра и Ледового Дво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сихолого-педагогические характеристи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Вечера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6920" y="260280"/>
            <a:ext cx="77058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оспитатель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 класс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5000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66ff"/>
                </a:solidFill>
                <a:uFillTx/>
                <a:latin typeface="Arial"/>
              </a:rPr>
              <a:t>Проведено по 32 урока физической культур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вижных игр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ртивных игр в 5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ыжной подготовки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6920" y="26028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бная рабо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8000">
    <p:pull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4:27:33Z</dcterms:created>
  <dc:creator>Ирина</dc:creator>
  <dc:description/>
  <dc:language>en-US</dc:language>
  <cp:lastModifiedBy>Ирина</cp:lastModifiedBy>
  <dcterms:modified xsi:type="dcterms:W3CDTF">2007-02-19T18:48:07Z</dcterms:modified>
  <cp:revision>11</cp:revision>
  <dc:subject/>
  <dc:title>Педагогическая практика</dc:title>
</cp:coreProperties>
</file>