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47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3.jpeg" ContentType="image/jpeg"/>
  <Override PartName="/ppt/media/image41.jpeg" ContentType="image/jpeg"/>
  <Override PartName="/ppt/media/image36.jpeg" ContentType="image/jpeg"/>
  <Override PartName="/ppt/media/image34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20.jpeg" ContentType="image/jpeg"/>
  <Override PartName="/ppt/media/image40.jpeg" ContentType="image/jpeg"/>
  <Override PartName="/ppt/media/image49.jpeg" ContentType="image/jpeg"/>
  <Override PartName="/ppt/media/image76.jpeg" ContentType="image/jpeg"/>
  <Override PartName="/ppt/media/image12.png" ContentType="image/png"/>
  <Override PartName="/ppt/media/image27.png" ContentType="image/png"/>
  <Override PartName="/ppt/media/image33.jpeg" ContentType="image/jpeg"/>
  <Override PartName="/ppt/media/image17.jpeg" ContentType="image/jpeg"/>
  <Override PartName="/ppt/media/image77.png" ContentType="image/pn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82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5.jpeg" ContentType="image/jpeg"/>
  <Override PartName="/ppt/media/image69.png" ContentType="image/png"/>
  <Override PartName="/ppt/media/image67.jpeg" ContentType="image/jpeg"/>
  <Override PartName="/ppt/media/image15.jpeg" ContentType="image/jpeg"/>
  <Override PartName="/ppt/media/image10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26.jpeg" ContentType="image/jpeg"/>
  <Override PartName="/ppt/media/image28.jpeg" ContentType="image/jpeg"/>
  <Override PartName="/ppt/media/image51.jpeg" ContentType="image/jpeg"/>
  <Override PartName="/ppt/media/image19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D53-EE7C-4D2E-B436-BC443B4B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FF3-38C3-4E48-8A28-E52B2730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10B-6BCF-435F-B338-57CBDFC7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0AE-FB3F-44F4-B45B-0624C9CC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BAA8-B772-4760-AB2B-CC5D017F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1DC7-A7A5-4383-932D-E9EA527F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3887-E6D6-436D-A8BE-81FFC9D3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3F55-08E7-4E88-95D7-0F94FAFA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4CC3-4886-45D2-81DC-1286A8D5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D994-CA85-47F8-830D-E815E3C9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1B96-78D9-43D5-B46C-F9553346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772-AB94-4BC9-A1DC-D38D4A9F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9F3C-308F-4D4D-A8B5-F8F5071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6233-978F-4DFC-8BB3-FFBA7806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EA94-9CD5-408E-88E2-8441B92B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8AE8-90C5-442C-8258-179C19B8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82E0-E100-491F-926F-A983B013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C467-E099-48FE-83E3-F3395BC9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6EAA1-0756-4C53-81E4-A875B21E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93466-9D28-4558-BFCC-5FA92BA5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91F87-B626-4E5F-B1CE-E6A44738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0E178-95DC-4741-82F9-DFC25597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831-D8B3-41C1-A971-47F662A2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BE3D7-7380-4B37-93E2-88E4A38F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0858-F840-497C-9B32-CBBC54C1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B6DB-1601-4AA6-A6A7-7EF063D9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6F2E3-F8D2-48FA-A2CE-B56FD604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40A89-4E18-469A-9832-86A5439C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44F77-78CB-45CD-9C36-9C8AC728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6E1FB-AFCB-4E6D-9336-2FB9BEC8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7386-9397-4CCA-9147-23A96DF5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D88-24A6-4EF0-8D6E-C2DD501E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1B9-E859-4545-8D85-1F757FE6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69B-BE1D-43D2-A728-2994D70A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7FA-38B6-420A-966F-F2A7AD5B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63E-0050-4F1A-BC0B-B0B7B508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EDB6-F04A-40C2-9B54-FE486B3DD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F441-1AA8-4F94-9DFC-D0FCE12DBB8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669E-281A-4220-B698-A1C8AD7367E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55640" y="620640"/>
            <a:ext cx="7920000" cy="33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дагогическая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ктика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920" y="4221000"/>
            <a:ext cx="74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ФФК III  кур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ГПИ им. Н. К. Крупс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 advTm="7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00360" cy="26319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032360" cy="26370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3276720" y="443700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539640" y="189000"/>
            <a:ext cx="813600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движные игр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6000">
    <p:pull dir="r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430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3260520" cy="24541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5214960" y="1600200"/>
            <a:ext cx="3102120" cy="23353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3260880" cy="24559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5"/>
          <a:stretch/>
        </p:blipFill>
        <p:spPr>
          <a:xfrm>
            <a:off x="5292720" y="4257720"/>
            <a:ext cx="3166920" cy="2384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24000" y="260280"/>
            <a:ext cx="864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Лыжная подготов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 advTm="23000">
    <p:pull dir="r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0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539640" y="404640"/>
            <a:ext cx="828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ортивные иг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3241800" cy="24415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4500720" y="2081160"/>
            <a:ext cx="4392360" cy="32958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826920" y="1557360"/>
            <a:ext cx="3240360" cy="24400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pull dir="r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Проведено по 5 (2-3-часов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занятий в спортивных секциях</a:t>
            </a:r>
            <a:r>
              <a:rPr b="1" i="1" lang="en-US" sz="32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Подвижн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«</a:t>
            </a: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Олимпи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Баскет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Волей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Фут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4360" y="333360"/>
            <a:ext cx="784836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кционная работ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6000">
    <p:pull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536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85549E-006 L 0.03594 0.08255 L 0.10799 0.08255 L 0.07205 0.16648 L 0.10799 0.24902 L 0.03594 0.24902 L -3.05556E-006 0.33295 L -0.03593 0.24902 L -0.10798 0.24902 L -0.07205 0.16648 L -0.10798 0.08255 L -0.03593 0.08255 L -3.05556E-006 -4.85549E-006 Z">
                                      <p:cBhvr>
                                        <p:cTn id="540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44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46" dur="20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0" dur="20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2" dur="20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4" dur="20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6" dur="20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8" dur="20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68360" y="54936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вижные игр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3814560" cy="27543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932360" y="270828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rd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28 L 0.125 -0.16647 L 0.158 -0.04528 L 0.249 0 L 0.158 0.04528 L 0.125 0.16647 L 0.091 0.04528 L 0 0 Z">
                                      <p:cBhvr>
                                        <p:cTn id="564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736720" cy="20174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826920" y="260280"/>
            <a:ext cx="7632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«Олимпиец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2952720" cy="22226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1476360" y="422280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4140360" y="1844640"/>
            <a:ext cx="2771640" cy="20797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pull dir="rd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586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90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605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606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615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900000" y="404640"/>
            <a:ext cx="69138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аскетбо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033960" cy="452628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pull dir="rd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621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900000" y="476280"/>
            <a:ext cx="720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олей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3814920" cy="27655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932360" y="285264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d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633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1116000" y="476280"/>
            <a:ext cx="7632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ут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3814560" cy="27655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3814920" cy="2765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Проведены внеклассные спортивно-массовые меро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баскетболу (9 класс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волейболу (10-11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мини-футболу (5-6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ревнования «Папа, мама, я – спортивная семья!» (6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урнир по волейболу «Учителя, ученики, студен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оварищеская встреча по мини-футболу «Студенты-учен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71640" y="260280"/>
            <a:ext cx="72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неклассная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 advTm="26000">
    <p:pull dir="r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68360" y="0"/>
            <a:ext cx="82803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У «Средняя общеобразовательная школа № 10 г. Йошкар-Олы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58920" y="5734080"/>
            <a:ext cx="655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8.01.2007 - 11.02.200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</p:spTree>
  </p:cSld>
  <p:transition spd="slow" advTm="9000">
    <p:pull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28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250920" y="333360"/>
            <a:ext cx="8642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апа,мама,я - спортивная семья!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070440" cy="23032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3059280" y="4292640"/>
            <a:ext cx="3240000" cy="230508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pull dir="rd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3 -0.169 0.15582 C -0.169 0.24638 -0.114 0.32096 -0.044 0.32096 C -0.029 0.32096 -0.014 0.31697 0 0.31031 C -0.047 0.28634 -0.08 0.2264 -0.08 0.15582 C -0.08 0.0839 -0.047 0.02397 0 0 Z">
                                      <p:cBhvr>
                                        <p:cTn id="726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2903760" cy="21859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0" y="404640"/>
            <a:ext cx="9144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урнир к Дню защитника Отечества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1042920" y="4149720"/>
            <a:ext cx="2905200" cy="21877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5219640" y="4221000"/>
            <a:ext cx="290520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752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66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67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250920" y="18900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ини - футбол "Студенты - ученик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2903760" cy="22590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5364000" y="177336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2905200" cy="21873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5364000" y="4292640"/>
            <a:ext cx="2905200" cy="21873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d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-0.00185 C 0.07448 -0.00185 0.13055 0.07283 0.13055 0.16462 C 0.13055 0.25641 0.07448 0.33109 0.00555 0.33109 C -0.06337 0.33109 -0.11945 0.25641 -0.11945 0.16462 C -0.11945 0.07283 -0.06337 -0.00185 0.00555 -0.00185 Z">
                                      <p:cBhvr>
                                        <p:cTn id="793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0.00532 L -0.04253 -0.19052 L 0.20747 0.00532 L -0.04253 0.00532 Z">
                                      <p:cBhvr>
                                        <p:cTn id="797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2498 C 0.00973 0.00093 0.03073 -0.03352 0.05573 -0.03352 C 0.09271 -0.03352 0.12275 0.00232 0.12275 0.04763 C 0.12275 0.0622 0.1198 0.07561 0.11372 0.08763 C 0.11476 0.08763 -0.00225 0.26729 -0.00225 0.26867 C -0.00225 0.26729 -0.11927 0.08763 -0.11822 0.08763 C -0.1243 0.07561 -0.12725 0.0622 -0.12725 0.04763 C -0.12725 0.00232 -0.09722 -0.03352 -0.0592 -0.03352 C -0.03524 -0.03352 -0.01423 0.00093 -0.00225 0.02498 Z">
                                      <p:cBhvr>
                                        <p:cTn id="801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805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68360" y="333360"/>
            <a:ext cx="80643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школе мы не толь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24000" y="4149720"/>
            <a:ext cx="8064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водили уроки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894200" y="5300640"/>
            <a:ext cx="42498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но и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 advTm="14000">
    <p:pull dir="rd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9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79280" y="260280"/>
            <a:ext cx="896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   на   лыжах   даже в   спортзале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3097080" cy="2332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273480" cy="4781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1258920" y="4076640"/>
            <a:ext cx="3168720" cy="2386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 rot="5400000">
            <a:off x="-90000" y="2256840"/>
            <a:ext cx="1477800" cy="79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ль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0" name=""/>
          <p:cNvSpPr txBox="1"/>
          <p:nvPr/>
        </p:nvSpPr>
        <p:spPr>
          <a:xfrm rot="5400000">
            <a:off x="-178560" y="4939560"/>
            <a:ext cx="1728720" cy="723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81" name=""/>
          <p:cNvSpPr txBox="1"/>
          <p:nvPr/>
        </p:nvSpPr>
        <p:spPr>
          <a:xfrm rot="5400000">
            <a:off x="6948000" y="3500280"/>
            <a:ext cx="3240000" cy="64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аш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 spd="slow" advTm="17000">
    <p:pull dir="rd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838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9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68360" y="-243000"/>
            <a:ext cx="8064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вью для школьной газет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3168720" cy="23875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3311640" cy="2492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395280" y="4076640"/>
            <a:ext cx="3313080" cy="24955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5003640" y="3933720"/>
            <a:ext cx="3456000" cy="260028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pull dir="rd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539640" y="260280"/>
            <a:ext cx="8280360" cy="16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сегда болеем за своих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2905200" cy="2187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4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4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932360" y="4437000"/>
            <a:ext cx="2881440" cy="21700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971640" y="443700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859280" y="177336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971640" y="177336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395280" y="189000"/>
            <a:ext cx="842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уденты тоже люди..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26000">
    <p:pull dir="rd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933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4680000" cy="35118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5580000" y="2133720"/>
            <a:ext cx="3203640" cy="42703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468360" y="404640"/>
            <a:ext cx="820728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лассный час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2000">
    <p:pull dir="rd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3 -0.169 0.15582 C -0.169 0.24638 -0.114 0.32096 -0.044 0.32096 C -0.029 0.32096 -0.014 0.31697 0 0.31031 C -0.047 0.28634 -0.08 0.2264 -0.08 0.15582 C -0.08 0.0839 -0.047 0.02397 0 0 Z">
                                      <p:cBhvr>
                                        <p:cTn id="97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981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79280" y="189000"/>
            <a:ext cx="864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бумаг больше чем работы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3394080" cy="26589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539640" y="1413000"/>
            <a:ext cx="3286080" cy="24732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>
            <a:off x="5076720" y="1341360"/>
            <a:ext cx="3316320" cy="25164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5651640" y="4005360"/>
            <a:ext cx="2001600" cy="265896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pull dir="rd"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11280" y="1268280"/>
            <a:ext cx="3448080" cy="592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чаева Ольга Андр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859280" y="1268280"/>
            <a:ext cx="338940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торова Екатерина Никола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9280" y="3860640"/>
            <a:ext cx="4033800" cy="37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зарова Окса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3860640"/>
            <a:ext cx="3673440" cy="66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ухарев Павел Александр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2755800" cy="19735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971640" y="4221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735280" cy="21049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5148360" y="422100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684360" y="189000"/>
            <a:ext cx="77752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уппа студентов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5000">
    <p:pull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5280" y="404640"/>
            <a:ext cx="828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уппа "захвата" 10 школ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1000">
    <p:pull dir="rd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95280" y="404640"/>
            <a:ext cx="792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т мы какие!!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6" name=""/>
          <p:cNvSpPr txBox="1"/>
          <p:nvPr/>
        </p:nvSpPr>
        <p:spPr>
          <a:xfrm rot="5400000">
            <a:off x="5795280" y="357336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Очаровашки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8000">
    <p:pull dir="rd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24000" y="404640"/>
            <a:ext cx="3600360" cy="5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уденко Пётр Юрь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716360" y="333360"/>
            <a:ext cx="3990960" cy="61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ыбаков Александр Серге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95280" y="3357720"/>
            <a:ext cx="4251240" cy="401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лодцов Михаил Василь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788000" y="3500280"/>
            <a:ext cx="3768480" cy="265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поров Артём Никола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812880" y="90792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5205240" y="90792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2521080" cy="28083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5219640" y="414972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Руководитель практи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Грищук Елена Конста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Методи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Шаблатова Алена Степ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люр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рина Пет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в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лий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м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лан Михай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26920" y="333360"/>
            <a:ext cx="73123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гоги по физкультурной работ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979640" y="2492280"/>
            <a:ext cx="600552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я физкультуры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4284720" y="3860640"/>
            <a:ext cx="3456000" cy="2708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лассные руководители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Прибылова Людмил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Яранцева Еле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Скрипунова Еле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Ахматова Ни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Косарева Нин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Шалаев Андрей Владими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Вырупаева Марина Дмитри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Лихачева Людмила Арк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8360" y="404640"/>
            <a:ext cx="83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дагоги по классному руководству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9000">
    <p:pull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Arial"/>
              </a:rPr>
              <a:t>Директор школы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ожеуров Владимир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местители директора по УВ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трельникова Валентина Кузьмин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асибуллина Нурия Рауш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меститель директора по ВР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убова Светла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аршие вожатые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верева Венера Анса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иреева Елен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удковская Юлия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сихолог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болотских Наталья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ельдшер школы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Жирова Н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чащихся  в школе –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7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лассов –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лассов с ЗПР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 rot="5400000">
            <a:off x="5409000" y="3096360"/>
            <a:ext cx="63388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бщие сведения о школ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3000">
    <p:pull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79280" y="2349360"/>
            <a:ext cx="82915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Соци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Классные 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роверка днев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Общественно-полезный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одготовка к плановым мероприят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осещение кинотеатра и Ледового Дво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сихолого-педагогические характеристик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Вечера отды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26920" y="260280"/>
            <a:ext cx="77058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оспитательная 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 класс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25000">
    <p:pull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66ff"/>
                </a:solidFill>
                <a:uFillTx/>
                <a:latin typeface="Arial"/>
              </a:rPr>
              <a:t>Проведено по 32 урока физической культур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движных игр в 1-4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портивных игр в 5-11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Лыжной подготовки в 1-4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6920" y="26028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ебная работ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28000">
    <p:pull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4:27:33Z</dcterms:created>
  <dc:creator>Ирина</dc:creator>
  <dc:description/>
  <dc:language>en-US</dc:language>
  <cp:lastModifiedBy>Ирина</cp:lastModifiedBy>
  <dcterms:modified xsi:type="dcterms:W3CDTF">2007-02-19T18:48:07Z</dcterms:modified>
  <cp:revision>11</cp:revision>
  <dc:subject/>
  <dc:title>Педагогическая практика</dc:title>
</cp:coreProperties>
</file>