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1.wmf" ContentType="image/x-wmf"/>
  <Override PartName="/ppt/media/image49.gif" ContentType="image/gif"/>
  <Override PartName="/ppt/media/image47.jpeg" ContentType="image/jpeg"/>
  <Override PartName="/ppt/media/image46.jpeg" ContentType="image/jpeg"/>
  <Override PartName="/ppt/media/image45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15.gif" ContentType="image/gif"/>
  <Override PartName="/ppt/media/image59.jpeg" ContentType="image/jpeg"/>
  <Override PartName="/ppt/media/image28.gif" ContentType="image/gif"/>
  <Override PartName="/ppt/media/image58.jpeg" ContentType="image/jpeg"/>
  <Override PartName="/ppt/media/image2.wmf" ContentType="image/x-wmf"/>
  <Override PartName="/ppt/media/image21.jpeg" ContentType="image/jpeg"/>
  <Override PartName="/ppt/media/image18.gif" ContentType="image/gif"/>
  <Override PartName="/ppt/media/image6.gif" ContentType="image/gif"/>
  <Override PartName="/ppt/media/image23.jpeg" ContentType="image/jpeg"/>
  <Override PartName="/ppt/media/image17.gif" ContentType="image/gif"/>
  <Override PartName="/ppt/media/image50.jpeg" ContentType="image/jpeg"/>
  <Override PartName="/ppt/media/image19.gif" ContentType="image/gif"/>
  <Override PartName="/ppt/media/image69.jpeg" ContentType="image/jpeg"/>
  <Override PartName="/ppt/media/image9.wmf" ContentType="image/x-wmf"/>
  <Override PartName="/ppt/media/image67.wmf" ContentType="image/x-wmf"/>
  <Override PartName="/ppt/media/image66.wmf" ContentType="image/x-wmf"/>
  <Override PartName="/ppt/media/image63.jpeg" ContentType="image/jpeg"/>
  <Override PartName="/ppt/media/image43.jpeg" ContentType="image/jpeg"/>
  <Override PartName="/ppt/media/image25.gif" ContentType="image/gif"/>
  <Override PartName="/ppt/media/image52.jpeg" ContentType="image/jpeg"/>
  <Override PartName="/ppt/media/image29.jpeg" ContentType="image/jpeg"/>
  <Override PartName="/ppt/media/image33.wmf" ContentType="image/x-wmf"/>
  <Override PartName="/ppt/media/image65.wmf" ContentType="image/x-wmf"/>
  <Override PartName="/ppt/media/image70.jpeg" ContentType="image/jpeg"/>
  <Override PartName="/ppt/media/image42.gif" ContentType="image/gif"/>
  <Override PartName="/ppt/media/image26.jpeg" ContentType="image/jpeg"/>
  <Override PartName="/ppt/media/image62.jpeg" ContentType="image/jpeg"/>
  <Override PartName="/ppt/media/image16.gif" ContentType="image/gif"/>
  <Override PartName="/ppt/media/image64.jpeg" ContentType="image/jpeg"/>
  <Override PartName="/ppt/media/image61.jpeg" ContentType="image/jpeg"/>
  <Override PartName="/ppt/media/image56.gif" ContentType="image/gif"/>
  <Override PartName="/ppt/media/image4.wmf" ContentType="image/x-wmf"/>
  <Override PartName="/ppt/media/image8.gif" ContentType="image/gif"/>
  <Override PartName="/ppt/media/image38.gif" ContentType="image/gif"/>
  <Override PartName="/ppt/media/image27.jpeg" ContentType="image/jpeg"/>
  <Override PartName="/ppt/media/image5.wmf" ContentType="image/x-wmf"/>
  <Override PartName="/ppt/media/image22.gif" ContentType="image/gif"/>
  <Override PartName="/ppt/media/image10.wmf" ContentType="image/x-wmf"/>
  <Override PartName="/ppt/media/image14.png" ContentType="image/png"/>
  <Override PartName="/ppt/media/image12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3.gif" ContentType="image/gif"/>
  <Override PartName="/ppt/media/image48.jpeg" ContentType="image/jpeg"/>
  <Override PartName="/ppt/media/image31.gif" ContentType="image/gif"/>
  <Override PartName="/ppt/media/image32.jpeg" ContentType="image/jpeg"/>
  <Override PartName="/ppt/media/image34.jpeg" ContentType="image/jpeg"/>
  <Override PartName="/ppt/media/image44.gif" ContentType="image/gif"/>
  <Override PartName="/ppt/media/image68.wmf" ContentType="image/x-wmf"/>
  <Override PartName="/ppt/media/image35.jpeg" ContentType="image/jpeg"/>
  <Override PartName="/ppt/media/image36.jpeg" ContentType="image/jpeg"/>
  <Override PartName="/ppt/media/image39.jpeg" ContentType="image/jpeg"/>
  <Override PartName="/ppt/media/image11.wmf" ContentType="image/x-wmf"/>
  <Override PartName="/ppt/media/image51.gif" ContentType="image/gif"/>
  <Override PartName="/ppt/media/image4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60F-D3A4-4513-9F1E-BC03FAC4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883-E174-4629-BD30-27428EAB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452-345E-45C6-A314-BA34CC55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D5FE-C6E6-4491-BBD9-740031C3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A59-FCA1-4C95-90B0-4B6459FD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F13-E192-4B3E-AA6E-4B39B074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65E-8307-45B7-A3B7-B57A292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3BE-BBF3-49A9-8DDC-1A0462E2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2E1-A3DE-45BD-A6DB-5BD88E27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81C2-ABA0-4C88-BB5B-BBE4445B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C9C-BDCD-4946-B0E6-6E7909F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DF2-79E4-49A8-BE11-036BF5F4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7C31-0131-4D06-A9BF-BFE6B409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24360" y="271440"/>
            <a:ext cx="2808360" cy="26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6985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Азарт, азарт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3503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537080" cy="344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661000"/>
            <a:ext cx="27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торви хвос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н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5661000"/>
            <a:ext cx="30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ранспортиров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ще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47636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03640" cy="300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3594240"/>
            <a:ext cx="4680000" cy="306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5157720"/>
            <a:ext cx="23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енды-миш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ля «серс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656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134136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тойки для об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165564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81440" cy="315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95640" y="3500280"/>
            <a:ext cx="4897440" cy="317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1773360"/>
            <a:ext cx="242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ыжи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вой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креп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365720"/>
            <a:ext cx="2950920" cy="22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амодельные само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огически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присп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329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Моменты</a:t>
            </a:r>
            <a:br>
              <a:rPr sz="5200"/>
            </a:b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  соревнований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594972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янем-потям!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89744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095640" cy="4054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84720" y="587700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ошибись с предм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305080" cy="11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Учителя - ученики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464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35280" y="602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риятного аппетит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440320"/>
            <a:ext cx="2087280" cy="12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8289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37240" y="404640"/>
            <a:ext cx="411480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260280"/>
            <a:ext cx="280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Резинки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149720"/>
            <a:ext cx="2376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След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51280" cy="316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98100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нн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барье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18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27640" y="14130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«Верёвки-мотал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869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Тряп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мя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608720" cy="298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5112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464000" cy="298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1125360"/>
            <a:ext cx="33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«Рыба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«рыбки» и «удочк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981000"/>
            <a:ext cx="39974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тряпичные мячики и резин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2421000"/>
            <a:ext cx="87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184720" cy="354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8760" y="836640"/>
            <a:ext cx="3403440" cy="5184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537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Ходу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Бой подуш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43280" y="4508640"/>
            <a:ext cx="259272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569440" cy="5731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5229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втопокры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103032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073760" cy="619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92720" y="620640"/>
            <a:ext cx="3079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Обши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тка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оро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Флаж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стой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963360" cy="9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4656240" cy="5158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0360" y="234936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амодельные клю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5640" cy="5210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587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аканчики из-под йогу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81080" y="4221000"/>
            <a:ext cx="194472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129440" cy="523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944720" cy="1811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27280" y="5516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Найди приз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523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11280" y="18900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Бег в мешк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2000" cy="5185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0920" y="189000"/>
            <a:ext cx="576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Сборная «Мыш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103640" cy="547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21640" y="1930320"/>
            <a:ext cx="193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Куб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056360" cy="5293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8252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Колючая проволо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620640"/>
            <a:ext cx="6408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илюрик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ри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тров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4192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97800" cy="4442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0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предметные связ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5943600"/>
            <a:ext cx="62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математикой – «Собери мозаи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032200" cy="197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26400" y="4076640"/>
            <a:ext cx="221760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916760" y="0"/>
            <a:ext cx="1227240" cy="130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79280" y="5157720"/>
            <a:ext cx="18208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84720" y="2298600"/>
            <a:ext cx="2519640" cy="1989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2494080"/>
            <a:ext cx="273528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24440" cy="630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41964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59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Цилюрик      Ирина Петр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24360" y="1915920"/>
            <a:ext cx="4751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 года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высшей категории, педагогический стаж работы  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ёт уроки физкультуры в 1-4 классах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ртивные секции: «Олимпиец» «Подвижные игры», «Спортивный ч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ивный курс «Физическая культура» для учащихся 9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16200" y="3567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890800" cy="453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8000" cy="182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42320" y="0"/>
            <a:ext cx="2101680" cy="134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805360"/>
            <a:ext cx="11160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1557360"/>
            <a:ext cx="896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208764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458720" cy="180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308720" y="4365720"/>
            <a:ext cx="1632240" cy="22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79280" y="3645000"/>
            <a:ext cx="2376720" cy="156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64000" y="260280"/>
            <a:ext cx="1384560" cy="15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3120" y="558972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4360" y="234936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ФИЗИЧЕСКАЯ 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КУЛЬТУРА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486900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Как один из компон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здоровьесберега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14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765000"/>
            <a:ext cx="741672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споль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нестандарт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нвента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з подсоб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матери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549360"/>
            <a:ext cx="77626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игры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й всё!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221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 уроках и при проведении внеклассных мероприятий используется нестандартный инвентарь, изготовленный из подручного и подсо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780320" y="260280"/>
            <a:ext cx="107460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690480"/>
            <a:ext cx="70563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Одним из примеров проведения мероприятий являются соревнования по программе «Весёлые старты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3640" y="2636640"/>
            <a:ext cx="3311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их принимают участие учащиеся начальной школы, среднего звена, а также старшеклассники совместно с учителями школы и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024360" cy="30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373880" y="0"/>
            <a:ext cx="1770120" cy="19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17348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Ирина</cp:lastModifiedBy>
  <dcterms:modified xsi:type="dcterms:W3CDTF">2006-09-20T04:11:27Z</dcterms:modified>
  <cp:revision>9</cp:revision>
  <dc:subject/>
  <dc:title>Слайд 1</dc:title>
</cp:coreProperties>
</file>