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5.jpeg" ContentType="image/jpeg"/>
  <Override PartName="/ppt/media/image54.jpeg" ContentType="image/jpeg"/>
  <Override PartName="/ppt/media/image53.gif" ContentType="image/gif"/>
  <Override PartName="/ppt/media/image40.jpeg" ContentType="image/jpeg"/>
  <Override PartName="/ppt/media/image1.wmf" ContentType="image/x-wmf"/>
  <Override PartName="/ppt/media/image49.gif" ContentType="image/gif"/>
  <Override PartName="/ppt/media/image47.jpeg" ContentType="image/jpeg"/>
  <Override PartName="/ppt/media/image46.jpeg" ContentType="image/jpeg"/>
  <Override PartName="/ppt/media/image45.jpeg" ContentType="image/jpe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15.gif" ContentType="image/gif"/>
  <Override PartName="/ppt/media/image59.jpeg" ContentType="image/jpeg"/>
  <Override PartName="/ppt/media/image28.gif" ContentType="image/gif"/>
  <Override PartName="/ppt/media/image58.jpeg" ContentType="image/jpeg"/>
  <Override PartName="/ppt/media/image2.wmf" ContentType="image/x-wmf"/>
  <Override PartName="/ppt/media/image21.jpeg" ContentType="image/jpeg"/>
  <Override PartName="/ppt/media/image18.gif" ContentType="image/gif"/>
  <Override PartName="/ppt/media/image6.gif" ContentType="image/gif"/>
  <Override PartName="/ppt/media/image23.jpeg" ContentType="image/jpeg"/>
  <Override PartName="/ppt/media/image17.gif" ContentType="image/gif"/>
  <Override PartName="/ppt/media/image50.jpeg" ContentType="image/jpeg"/>
  <Override PartName="/ppt/media/image19.gif" ContentType="image/gif"/>
  <Override PartName="/ppt/media/image69.jpeg" ContentType="image/jpeg"/>
  <Override PartName="/ppt/media/image9.wmf" ContentType="image/x-wmf"/>
  <Override PartName="/ppt/media/image67.wmf" ContentType="image/x-wmf"/>
  <Override PartName="/ppt/media/image66.wmf" ContentType="image/x-wmf"/>
  <Override PartName="/ppt/media/image63.jpeg" ContentType="image/jpeg"/>
  <Override PartName="/ppt/media/image43.jpeg" ContentType="image/jpeg"/>
  <Override PartName="/ppt/media/image25.gif" ContentType="image/gif"/>
  <Override PartName="/ppt/media/image52.jpeg" ContentType="image/jpeg"/>
  <Override PartName="/ppt/media/image29.jpeg" ContentType="image/jpeg"/>
  <Override PartName="/ppt/media/image33.wmf" ContentType="image/x-wmf"/>
  <Override PartName="/ppt/media/image65.wmf" ContentType="image/x-wmf"/>
  <Override PartName="/ppt/media/image70.jpeg" ContentType="image/jpeg"/>
  <Override PartName="/ppt/media/image42.gif" ContentType="image/gif"/>
  <Override PartName="/ppt/media/image26.jpeg" ContentType="image/jpeg"/>
  <Override PartName="/ppt/media/image62.jpeg" ContentType="image/jpeg"/>
  <Override PartName="/ppt/media/image16.gif" ContentType="image/gif"/>
  <Override PartName="/ppt/media/image64.jpeg" ContentType="image/jpeg"/>
  <Override PartName="/ppt/media/image61.jpeg" ContentType="image/jpeg"/>
  <Override PartName="/ppt/media/image56.gif" ContentType="image/gif"/>
  <Override PartName="/ppt/media/image4.wmf" ContentType="image/x-wmf"/>
  <Override PartName="/ppt/media/image8.gif" ContentType="image/gif"/>
  <Override PartName="/ppt/media/image38.gif" ContentType="image/gif"/>
  <Override PartName="/ppt/media/image27.jpeg" ContentType="image/jpeg"/>
  <Override PartName="/ppt/media/image5.wmf" ContentType="image/x-wmf"/>
  <Override PartName="/ppt/media/image22.gif" ContentType="image/gif"/>
  <Override PartName="/ppt/media/image10.wmf" ContentType="image/x-wmf"/>
  <Override PartName="/ppt/media/image14.png" ContentType="image/png"/>
  <Override PartName="/ppt/media/image12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13.gif" ContentType="image/gif"/>
  <Override PartName="/ppt/media/image48.jpeg" ContentType="image/jpeg"/>
  <Override PartName="/ppt/media/image31.gif" ContentType="image/gif"/>
  <Override PartName="/ppt/media/image32.jpeg" ContentType="image/jpeg"/>
  <Override PartName="/ppt/media/image34.jpeg" ContentType="image/jpeg"/>
  <Override PartName="/ppt/media/image44.gif" ContentType="image/gif"/>
  <Override PartName="/ppt/media/image68.wmf" ContentType="image/x-wmf"/>
  <Override PartName="/ppt/media/image35.jpeg" ContentType="image/jpeg"/>
  <Override PartName="/ppt/media/image36.jpeg" ContentType="image/jpeg"/>
  <Override PartName="/ppt/media/image39.jpeg" ContentType="image/jpeg"/>
  <Override PartName="/ppt/media/image11.wmf" ContentType="image/x-wmf"/>
  <Override PartName="/ppt/media/image51.gif" ContentType="image/gif"/>
  <Override PartName="/ppt/media/image4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E09-E525-4FAF-9272-E0CD879E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73A-75DA-4996-989C-D6F27743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A0C-391B-488C-977B-BDFA773E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88FF-4033-47EC-841C-29F27167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DDA-CB1E-44D3-97BF-E72C5919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D9D-C0B4-4062-89C7-6748AC35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CC1-FA93-403B-A939-61A1F829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395-5064-416C-87BD-7BEDD442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6A5-9AA6-43EE-A073-1E50FA99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E77-937F-4449-9907-9472B524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944-F9A8-419E-AFC1-B7D04AFE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9A3-11F4-4DA6-866B-A3C142C7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E104-FF10-4CC2-BD4E-EA1137CF4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24360" y="271440"/>
            <a:ext cx="2808360" cy="26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69850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Азарт, азарт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960720" cy="3503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27640" y="1700280"/>
            <a:ext cx="4537080" cy="3446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5661000"/>
            <a:ext cx="277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Оторви хвос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н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5661000"/>
            <a:ext cx="30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Транспортиров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ще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47636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103640" cy="300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11640" y="3594240"/>
            <a:ext cx="4680000" cy="3062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47640" y="5157720"/>
            <a:ext cx="23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Стенды-миш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для «серс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656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134136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Стойки для обру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4000" y="3860640"/>
            <a:ext cx="1655640" cy="16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681440" cy="3154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95640" y="3500280"/>
            <a:ext cx="4897440" cy="3175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64000" y="1773360"/>
            <a:ext cx="242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Лыжи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двой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крепл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4365720"/>
            <a:ext cx="2950920" cy="22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Самодельные самок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Логически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присп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36872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5329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ff"/>
                </a:solidFill>
                <a:latin typeface="Times New Roman"/>
              </a:rPr>
              <a:t>Моменты</a:t>
            </a:r>
            <a:br>
              <a:rPr sz="5200"/>
            </a:br>
            <a:r>
              <a:rPr b="1" lang="en-US" sz="5200" spc="-1" strike="noStrike">
                <a:solidFill>
                  <a:srgbClr val="0000ff"/>
                </a:solidFill>
                <a:latin typeface="Times New Roman"/>
              </a:rPr>
              <a:t>  соревнований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5949720"/>
            <a:ext cx="345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Тянем-потям!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897440" cy="401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3095640" cy="4054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84720" y="587700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 ошибись с предм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227640" y="333360"/>
            <a:ext cx="2305080" cy="11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Times New Roman"/>
              </a:rPr>
              <a:t>Учителя - ученики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4641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635280" y="6021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риятного аппетит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5440320"/>
            <a:ext cx="2087280" cy="128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828960" cy="576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37240" y="404640"/>
            <a:ext cx="4114800" cy="583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16000" y="260280"/>
            <a:ext cx="2808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Резинки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4149720"/>
            <a:ext cx="2376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След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51280" cy="3166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24360" y="981000"/>
            <a:ext cx="26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онне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барьер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3357720"/>
            <a:ext cx="5113440" cy="318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295272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105080" cy="3238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27640" y="141300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«Верёвки-мотал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4869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Тряп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мя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608720" cy="2987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2592360" cy="1951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380360" y="333360"/>
            <a:ext cx="151128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4464000" cy="2986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8360" y="1125360"/>
            <a:ext cx="331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«Рыбал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«рыбки» и «удочки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865080" cy="790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59280" y="981000"/>
            <a:ext cx="399744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89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«Посадка картош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тряпичные мячики и резинк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694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9280" y="2421000"/>
            <a:ext cx="87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1" lang="en-US" sz="32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5184720" cy="3548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8760" y="836640"/>
            <a:ext cx="3403440" cy="5184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280" y="53737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Ходу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33577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Бой подуш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643280" y="4508640"/>
            <a:ext cx="2592720" cy="19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569440" cy="5731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522936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Автопокры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1030320" cy="89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4073760" cy="6193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92720" y="620640"/>
            <a:ext cx="3079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Обшит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ткан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короб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Флаж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стой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372360" y="2997360"/>
            <a:ext cx="963360" cy="93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4656240" cy="5158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940360" y="2349360"/>
            <a:ext cx="28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амодельные клю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75640" cy="5210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40000" y="5877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Стаканчики из-под йогу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181080" y="4221000"/>
            <a:ext cx="1944720" cy="18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7129440" cy="5230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95280" y="4869000"/>
            <a:ext cx="1944720" cy="1811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627280" y="551664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«Найди приз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24720" cy="5232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11280" y="189000"/>
            <a:ext cx="48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«Бег в мешка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12000" cy="5185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050920" y="189000"/>
            <a:ext cx="576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Сборная «Мыш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4103640" cy="5472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921640" y="1930320"/>
            <a:ext cx="193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Куб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056360" cy="5293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03280" y="18252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«Колючая проволо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620640"/>
            <a:ext cx="640872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Цилюрик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рин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тровн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41928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97800" cy="4442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2360" y="54936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70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Межпредметные связ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5943600"/>
            <a:ext cx="62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 математикой – «Собери мозаи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032200" cy="1970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26400" y="4076640"/>
            <a:ext cx="2217600" cy="190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916760" y="0"/>
            <a:ext cx="1227240" cy="1303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79280" y="5157720"/>
            <a:ext cx="1820880" cy="15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39640" y="692280"/>
            <a:ext cx="8209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84720" y="2298600"/>
            <a:ext cx="2519640" cy="1989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8360" y="2494080"/>
            <a:ext cx="2735280" cy="181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024440" cy="6308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41964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5976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Цилюрик      Ирина Петро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24360" y="1915920"/>
            <a:ext cx="4751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2 года 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высшей категории, педагогический стаж работы  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дёт уроки физкультуры в 1-4 классах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ртивные секции: «Олимпиец» «Подвижные игры», «Спортивный ча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ктивный курс «Физическая культура» для учащихся 9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16200" y="3567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890800" cy="4535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278000" cy="1824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042320" y="0"/>
            <a:ext cx="2101680" cy="134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812000" y="5805360"/>
            <a:ext cx="1116000" cy="8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9280" y="1557360"/>
            <a:ext cx="8964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сберегающи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2087640" cy="1887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458720" cy="1801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308720" y="4365720"/>
            <a:ext cx="1632240" cy="2252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79280" y="3645000"/>
            <a:ext cx="2376720" cy="1560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364000" y="260280"/>
            <a:ext cx="1384560" cy="1513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3120" y="5589720"/>
            <a:ext cx="528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Внедрение современных 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педагогически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4360" y="2349360"/>
            <a:ext cx="792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ФИЗИЧЕСКАЯ </a:t>
            </a:r>
            <a:endParaRPr b="1" lang="en-US" sz="7200" spc="1" strike="noStrike">
              <a:ln w="324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КУЛЬТУРА</a:t>
            </a:r>
            <a:endParaRPr b="1" lang="en-US" sz="7200" spc="1" strike="noStrike">
              <a:ln w="324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486900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Как один из компон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здоровьесберегающ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473440" cy="14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765000"/>
            <a:ext cx="741672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Исполь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нестандарт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инвентар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из подсоб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материа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11280" y="549360"/>
            <a:ext cx="77626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4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ля игры</a:t>
            </a:r>
            <a:endParaRPr b="1" lang="en-US" sz="5400" spc="1" strike="noStrike">
              <a:ln w="14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4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5400" spc="1" strike="noStrike">
                <a:ln w="1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й всё!</a:t>
            </a:r>
            <a:endParaRPr b="1" lang="en-US" sz="5400" spc="1" strike="noStrike">
              <a:ln w="1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22100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На уроках и при проведении внеклассных мероприятий используется нестандартный инвентарь, изготовленный из подручного и подсо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7780320" y="260280"/>
            <a:ext cx="107460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690480"/>
            <a:ext cx="70563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Одним из примеров проведения мероприятий являются соревнования по программе «Весёлые старты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63640" y="2636640"/>
            <a:ext cx="33116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них принимают участие учащиеся начальной школы, среднего звена, а также старшеклассники совместно с учителями школы и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024360" cy="3051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373880" y="0"/>
            <a:ext cx="1770120" cy="191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17348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1:05:41Z</dcterms:created>
  <dc:creator>Ирина</dc:creator>
  <dc:description/>
  <dc:language>en-US</dc:language>
  <cp:lastModifiedBy>Ирина</cp:lastModifiedBy>
  <dcterms:modified xsi:type="dcterms:W3CDTF">2006-09-20T04:11:27Z</dcterms:modified>
  <cp:revision>9</cp:revision>
  <dc:subject/>
  <dc:title>Слайд 1</dc:title>
</cp:coreProperties>
</file>