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jpeg" ContentType="image/jpeg"/>
  <Override PartName="/ppt/media/image55.jpeg" ContentType="image/jpeg"/>
  <Override PartName="/ppt/media/image54.jpeg" ContentType="image/jpeg"/>
  <Override PartName="/ppt/media/image53.gif" ContentType="image/gif"/>
  <Override PartName="/ppt/media/image40.jpeg" ContentType="image/jpeg"/>
  <Override PartName="/ppt/media/image1.wmf" ContentType="image/x-wmf"/>
  <Override PartName="/ppt/media/image49.gif" ContentType="image/gif"/>
  <Override PartName="/ppt/media/image47.jpeg" ContentType="image/jpeg"/>
  <Override PartName="/ppt/media/image46.jpeg" ContentType="image/jpeg"/>
  <Override PartName="/ppt/media/image45.jpeg" ContentType="image/jpeg"/>
  <Override PartName="/ppt/media/image3.jpeg" ContentType="image/jpeg"/>
  <Override PartName="/ppt/media/image60.jpeg" ContentType="image/jpeg"/>
  <Override PartName="/ppt/media/image37.jpeg" ContentType="image/jpeg"/>
  <Override PartName="/ppt/media/image24.jpeg" ContentType="image/jpeg"/>
  <Override PartName="/ppt/media/image15.gif" ContentType="image/gif"/>
  <Override PartName="/ppt/media/image59.jpeg" ContentType="image/jpeg"/>
  <Override PartName="/ppt/media/image28.gif" ContentType="image/gif"/>
  <Override PartName="/ppt/media/image58.jpeg" ContentType="image/jpeg"/>
  <Override PartName="/ppt/media/image2.wmf" ContentType="image/x-wmf"/>
  <Override PartName="/ppt/media/image21.jpeg" ContentType="image/jpeg"/>
  <Override PartName="/ppt/media/image18.gif" ContentType="image/gif"/>
  <Override PartName="/ppt/media/image6.gif" ContentType="image/gif"/>
  <Override PartName="/ppt/media/image23.jpeg" ContentType="image/jpeg"/>
  <Override PartName="/ppt/media/image17.gif" ContentType="image/gif"/>
  <Override PartName="/ppt/media/image50.jpeg" ContentType="image/jpeg"/>
  <Override PartName="/ppt/media/image19.gif" ContentType="image/gif"/>
  <Override PartName="/ppt/media/image69.jpeg" ContentType="image/jpeg"/>
  <Override PartName="/ppt/media/image9.wmf" ContentType="image/x-wmf"/>
  <Override PartName="/ppt/media/image67.wmf" ContentType="image/x-wmf"/>
  <Override PartName="/ppt/media/image66.wmf" ContentType="image/x-wmf"/>
  <Override PartName="/ppt/media/image63.jpeg" ContentType="image/jpeg"/>
  <Override PartName="/ppt/media/image43.jpeg" ContentType="image/jpeg"/>
  <Override PartName="/ppt/media/image25.gif" ContentType="image/gif"/>
  <Override PartName="/ppt/media/image52.jpeg" ContentType="image/jpeg"/>
  <Override PartName="/ppt/media/image29.jpeg" ContentType="image/jpeg"/>
  <Override PartName="/ppt/media/image33.wmf" ContentType="image/x-wmf"/>
  <Override PartName="/ppt/media/image65.wmf" ContentType="image/x-wmf"/>
  <Override PartName="/ppt/media/image70.jpeg" ContentType="image/jpeg"/>
  <Override PartName="/ppt/media/image42.gif" ContentType="image/gif"/>
  <Override PartName="/ppt/media/image26.jpeg" ContentType="image/jpeg"/>
  <Override PartName="/ppt/media/image62.jpeg" ContentType="image/jpeg"/>
  <Override PartName="/ppt/media/image16.gif" ContentType="image/gif"/>
  <Override PartName="/ppt/media/image64.jpeg" ContentType="image/jpeg"/>
  <Override PartName="/ppt/media/image61.jpeg" ContentType="image/jpeg"/>
  <Override PartName="/ppt/media/image56.gif" ContentType="image/gif"/>
  <Override PartName="/ppt/media/image4.wmf" ContentType="image/x-wmf"/>
  <Override PartName="/ppt/media/image8.gif" ContentType="image/gif"/>
  <Override PartName="/ppt/media/image38.gif" ContentType="image/gif"/>
  <Override PartName="/ppt/media/image27.jpeg" ContentType="image/jpeg"/>
  <Override PartName="/ppt/media/image5.wmf" ContentType="image/x-wmf"/>
  <Override PartName="/ppt/media/image22.gif" ContentType="image/gif"/>
  <Override PartName="/ppt/media/image10.wmf" ContentType="image/x-wmf"/>
  <Override PartName="/ppt/media/image14.png" ContentType="image/png"/>
  <Override PartName="/ppt/media/image12.wmf" ContentType="image/x-wmf"/>
  <Override PartName="/ppt/media/image20.jpeg" ContentType="image/jpeg"/>
  <Override PartName="/ppt/media/image7.wmf" ContentType="image/x-wmf"/>
  <Override PartName="/ppt/media/image30.jpeg" ContentType="image/jpeg"/>
  <Override PartName="/ppt/media/image13.gif" ContentType="image/gif"/>
  <Override PartName="/ppt/media/image48.jpeg" ContentType="image/jpeg"/>
  <Override PartName="/ppt/media/image31.gif" ContentType="image/gif"/>
  <Override PartName="/ppt/media/image32.jpeg" ContentType="image/jpeg"/>
  <Override PartName="/ppt/media/image34.jpeg" ContentType="image/jpeg"/>
  <Override PartName="/ppt/media/image44.gif" ContentType="image/gif"/>
  <Override PartName="/ppt/media/image68.wmf" ContentType="image/x-wmf"/>
  <Override PartName="/ppt/media/image35.jpeg" ContentType="image/jpeg"/>
  <Override PartName="/ppt/media/image36.jpeg" ContentType="image/jpeg"/>
  <Override PartName="/ppt/media/image39.jpeg" ContentType="image/jpeg"/>
  <Override PartName="/ppt/media/image11.wmf" ContentType="image/x-wmf"/>
  <Override PartName="/ppt/media/image51.gif" ContentType="image/gif"/>
  <Override PartName="/ppt/media/image4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DBA76-5F54-48D2-BFFF-895D657D6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D5EDB-1AAE-42E8-8CFC-6AEA3A805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2B1-5C53-40A8-A9B0-710A6934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C995-E7A3-460D-9828-740D779C5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1EDA2-918E-43CC-8989-F7E44BF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3844-2B7A-4C08-A86A-E438928CA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D173-C9F8-4CF3-9972-67D3DB88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CD6C-991A-46A5-A28B-2EEF303A0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121E-0267-4122-8331-30104036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E3B44-A44E-4917-8B9A-766FEF24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0121-97A2-4480-A105-3FE97CD1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B282-4683-4825-8A20-7DF6774DF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8799-266A-42E8-9A2A-0AD5574D3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gi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gif"/><Relationship Id="rId4" Type="http://schemas.openxmlformats.org/officeDocument/2006/relationships/slideLayout" Target="../slideLayouts/slideLayout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gif"/><Relationship Id="rId4" Type="http://schemas.openxmlformats.org/officeDocument/2006/relationships/image" Target="../media/image42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gif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gi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image" Target="../media/image65.wmf"/><Relationship Id="rId3" Type="http://schemas.openxmlformats.org/officeDocument/2006/relationships/image" Target="../media/image66.wmf"/><Relationship Id="rId4" Type="http://schemas.openxmlformats.org/officeDocument/2006/relationships/image" Target="../media/image67.wmf"/><Relationship Id="rId5" Type="http://schemas.openxmlformats.org/officeDocument/2006/relationships/image" Target="../media/image6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image" Target="../media/image70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gif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image" Target="../media/image11.wmf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5.gif"/><Relationship Id="rId7" Type="http://schemas.openxmlformats.org/officeDocument/2006/relationships/image" Target="../media/image16.gi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68360" y="2924280"/>
            <a:ext cx="849636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Добрый ден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724360" y="271440"/>
            <a:ext cx="2808360" cy="2656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698508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3300"/>
                </a:solidFill>
                <a:latin typeface="Arial"/>
              </a:rPr>
              <a:t>Азарт, азарт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0920" y="1700280"/>
            <a:ext cx="3960720" cy="35035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427640" y="1700280"/>
            <a:ext cx="4537080" cy="34462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00000" y="5661000"/>
            <a:ext cx="2776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Оторви хвост!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Лен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292720" y="5661000"/>
            <a:ext cx="30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«Транспортиров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още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476360" cy="1155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5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4103640" cy="3000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4211640" y="3594240"/>
            <a:ext cx="4680000" cy="3062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547640" y="5157720"/>
            <a:ext cx="23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енды-мише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ля «серсо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56560" y="1936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932360" y="134136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Стойки для обруч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324000" y="3860640"/>
            <a:ext cx="1655640" cy="1627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1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20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4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4681440" cy="3154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995640" y="3500280"/>
            <a:ext cx="4897440" cy="31752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5364000" y="1773360"/>
            <a:ext cx="242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ыжи 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двойны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крепл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71640" y="4365720"/>
            <a:ext cx="2950920" cy="22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амодельные самока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Логические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приспособ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7308720" y="260280"/>
            <a:ext cx="1368720" cy="13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5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53290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Моменты</a:t>
            </a:r>
            <a:br>
              <a:rPr sz="5200"/>
            </a:br>
            <a:r>
              <a:rPr b="1" lang="en-US" sz="5200" spc="-1" strike="noStrike">
                <a:solidFill>
                  <a:srgbClr val="0000ff"/>
                </a:solidFill>
                <a:latin typeface="Times New Roman"/>
              </a:rPr>
              <a:t>  соревнований</a:t>
            </a:r>
            <a:endParaRPr b="0" lang="en-US" sz="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5949720"/>
            <a:ext cx="3456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«Тянем-потям!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68360" y="1773360"/>
            <a:ext cx="4897440" cy="401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5724360" y="1773360"/>
            <a:ext cx="3095640" cy="4054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84720" y="5877000"/>
            <a:ext cx="201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Не ошибись с предме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227640" y="333360"/>
            <a:ext cx="2305080" cy="1195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713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ff"/>
                </a:solidFill>
                <a:latin typeface="Times New Roman"/>
              </a:rPr>
              <a:t>Учителя - ученики !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6697800" cy="4641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635280" y="6021360"/>
            <a:ext cx="50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Приятного аппетита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24000" y="5440320"/>
            <a:ext cx="2087280" cy="1284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68360" y="476280"/>
            <a:ext cx="38289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737240" y="404640"/>
            <a:ext cx="4114800" cy="58327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16000" y="260280"/>
            <a:ext cx="2808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Резинки»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149720"/>
            <a:ext cx="2376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«След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4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51280" cy="316692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724360" y="981000"/>
            <a:ext cx="266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Тоннели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«барьер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187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952720" cy="219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2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4105080" cy="32385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27640" y="1413000"/>
            <a:ext cx="34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«Верёвки-моталк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19280" y="4869000"/>
            <a:ext cx="25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Тряпичны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мяч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56000" y="3573360"/>
            <a:ext cx="4608720" cy="29876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437000"/>
            <a:ext cx="2592360" cy="19512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7380360" y="333360"/>
            <a:ext cx="1511280" cy="6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9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2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50920" y="3068640"/>
            <a:ext cx="4464000" cy="2986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468360" y="1125360"/>
            <a:ext cx="331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</a:rPr>
              <a:t>«Рыбал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</a:rPr>
              <a:t>(«рыбки» и «удочки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611280" y="33336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859280" y="981000"/>
            <a:ext cx="3997440" cy="532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2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9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ff"/>
                </a:solidFill>
                <a:latin typeface="Times New Roman"/>
              </a:rPr>
              <a:t>«Посадка картошк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ff"/>
                </a:solidFill>
                <a:latin typeface="Times New Roman"/>
              </a:rPr>
              <a:t>(тряпичные мячики и резинки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87280" y="1557360"/>
            <a:ext cx="676944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179280" y="2421000"/>
            <a:ext cx="871380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324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езентация</a:t>
            </a:r>
            <a:endParaRPr b="1" lang="en-US" sz="3200" spc="1" strike="noStrike">
              <a:ln w="324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780000" y="620640"/>
            <a:ext cx="5184720" cy="3548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58760" y="836640"/>
            <a:ext cx="3403440" cy="5184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403280" y="537372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Ходул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932360" y="335772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Бой подушкам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643280" y="4508640"/>
            <a:ext cx="2592720" cy="192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3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569440" cy="57312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11280" y="5229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Автопокрыш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11280" y="692280"/>
            <a:ext cx="1030320" cy="896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9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4" nodeType="with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9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26920" y="260280"/>
            <a:ext cx="4073760" cy="61930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292720" y="620640"/>
            <a:ext cx="30798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Обши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ткань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короб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Флажк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н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ff"/>
                </a:solidFill>
                <a:latin typeface="Times New Roman"/>
              </a:rPr>
              <a:t>стойка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372360" y="2997360"/>
            <a:ext cx="963360" cy="930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9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4" dur="1000"/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1000"/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826920" y="907920"/>
            <a:ext cx="4656240" cy="5158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940360" y="2349360"/>
            <a:ext cx="287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Самодельные клюш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476280"/>
            <a:ext cx="7775640" cy="5210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340000" y="5877000"/>
            <a:ext cx="50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Стаканчики из-под йогур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181080" y="4221000"/>
            <a:ext cx="1944720" cy="1811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46" dur="indefinite" restart="never" nodeType="tmRoot">
          <p:childTnLst>
            <p:seq>
              <p:cTn id="647" dur="indefinite" nodeType="mainSeq">
                <p:childTnLst>
                  <p:par>
                    <p:cTn id="648" fill="hold">
                      <p:stCondLst>
                        <p:cond delay="0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62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6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1042920" y="189000"/>
            <a:ext cx="7129440" cy="523080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1944720" cy="18111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2627280" y="5516640"/>
            <a:ext cx="43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Найди приз!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424720" cy="52326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2411280" y="189000"/>
            <a:ext cx="482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Бег в мешках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187280" y="1125360"/>
            <a:ext cx="6912000" cy="5185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050920" y="189000"/>
            <a:ext cx="5765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Сборная «Мыш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4103640" cy="54720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5921640" y="1930320"/>
            <a:ext cx="193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Куби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7056360" cy="52930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03280" y="182520"/>
            <a:ext cx="669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«Колючая проволок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4" dur="indefinite" restart="never" nodeType="tmRoot">
          <p:childTnLst>
            <p:seq>
              <p:cTn id="715" dur="indefinite" nodeType="mainSeq">
                <p:childTnLst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0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5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395280" y="620640"/>
            <a:ext cx="6408720" cy="511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Цилюрик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ри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етровна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508720" y="2781360"/>
            <a:ext cx="341928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42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3" dur="1500" autoRev="1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62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403280" y="1268280"/>
            <a:ext cx="6697800" cy="44420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692360" y="549360"/>
            <a:ext cx="287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70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Межпредметные связ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050920" y="5943600"/>
            <a:ext cx="626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 математикой – «Собери мозаику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179280" y="765000"/>
            <a:ext cx="2032200" cy="197028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6926400" y="4076640"/>
            <a:ext cx="2217600" cy="1905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7916760" y="0"/>
            <a:ext cx="1227240" cy="1303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5"/>
          <a:stretch/>
        </p:blipFill>
        <p:spPr>
          <a:xfrm>
            <a:off x="179280" y="5157720"/>
            <a:ext cx="1820880" cy="15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539640" y="692280"/>
            <a:ext cx="8209080" cy="525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внимание!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84720" y="2298600"/>
            <a:ext cx="2519640" cy="19893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468360" y="2494080"/>
            <a:ext cx="2735280" cy="181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1" dur="3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6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468360" y="333360"/>
            <a:ext cx="4024440" cy="63086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5219640" y="1989000"/>
            <a:ext cx="3419640" cy="311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08" dur="indefinite" restart="never" nodeType="tmRoot">
          <p:childTnLst>
            <p:seq>
              <p:cTn id="809" dur="indefinite" nodeType="mainSeq">
                <p:childTnLst>
                  <p:par>
                    <p:cTn id="810" fill="hold">
                      <p:stCondLst>
                        <p:cond delay="0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35280" y="188640"/>
            <a:ext cx="597672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Цилюрик      Ирина Петровн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24360" y="1915920"/>
            <a:ext cx="47512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2 года рож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читель высшей категории, педагогический стаж работы  21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едёт уроки физкультуры в 1-4 классах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портивные секции: «Олимпиец» «Подвижные игры», «Спортивный час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Элективный курс «Физическая культура» для учащихся 9 класс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816200" y="35672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68360" y="1916280"/>
            <a:ext cx="2890800" cy="453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8000" cy="182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042320" y="0"/>
            <a:ext cx="2101680" cy="13492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7812000" y="5805360"/>
            <a:ext cx="1116000" cy="854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179280" y="1557360"/>
            <a:ext cx="8964720" cy="374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Здоровьесберегающи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технологии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484360" y="260280"/>
            <a:ext cx="2087640" cy="1887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6836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7236000" y="260280"/>
            <a:ext cx="1458720" cy="1801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7308720" y="4365720"/>
            <a:ext cx="1632240" cy="2252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179280" y="3645000"/>
            <a:ext cx="2376720" cy="1560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364000" y="260280"/>
            <a:ext cx="1384560" cy="1513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03120" y="5589720"/>
            <a:ext cx="5289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Внедрение современных </a:t>
            </a:r>
            <a:br>
              <a:rPr sz="3200"/>
            </a:b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педагогических 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lus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4360" y="2349360"/>
            <a:ext cx="7920000" cy="20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ФИЗИЧЕСКАЯ 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3240">
                  <a:solidFill>
                    <a:srgbClr val="000000"/>
                  </a:solidFill>
                  <a:miter/>
                </a:ln>
                <a:solidFill>
                  <a:srgbClr val="cc00cc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Times New Roman"/>
              </a:rPr>
              <a:t>КУЛЬТУРА</a:t>
            </a:r>
            <a:endParaRPr b="1" lang="en-US" sz="7200" spc="1" strike="noStrike">
              <a:ln w="3240">
                <a:solidFill>
                  <a:srgbClr val="000000"/>
                </a:solidFill>
                <a:miter/>
              </a:ln>
              <a:solidFill>
                <a:srgbClr val="cc00cc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4869000"/>
            <a:ext cx="669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Как один из компонен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здоровьесберегающи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технолог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835280" y="333360"/>
            <a:ext cx="5473440" cy="14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971640" y="765000"/>
            <a:ext cx="7416720" cy="561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спользов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нестандарт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нвентар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из подсобного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Times New Roman"/>
              </a:rPr>
              <a:t>материал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4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11280" y="549360"/>
            <a:ext cx="77626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Для игры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 </a:t>
            </a:r>
            <a:r>
              <a:rPr b="1" lang="en-US" sz="5400" spc="1" strike="noStrike">
                <a:ln w="144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спользуй всё!</a:t>
            </a:r>
            <a:endParaRPr b="1" lang="en-US" sz="5400" spc="1" strike="noStrike">
              <a:ln w="144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1280" y="422100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На уроках и при проведении внеклассных мероприятий используется нестандартный инвентарь, изготовленный из подручного и подсобного материа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6"/>
          <a:stretch/>
        </p:blipFill>
        <p:spPr>
          <a:xfrm>
            <a:off x="250920" y="260280"/>
            <a:ext cx="1547640" cy="1548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7"/>
          <a:stretch/>
        </p:blipFill>
        <p:spPr>
          <a:xfrm>
            <a:off x="7780320" y="260280"/>
            <a:ext cx="1074600" cy="148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3640" y="690480"/>
            <a:ext cx="7056360" cy="105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3300"/>
                </a:solidFill>
                <a:latin typeface="Arial"/>
              </a:rPr>
              <a:t>Одним из примеров проведения мероприятий являются соревнования по программе «Весёлые старты»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63640" y="2636640"/>
            <a:ext cx="331164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 них принимают участие учащиеся начальной школы, среднего звена, а также старшеклассники совместно с учителями школы и родителя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411280" y="2708280"/>
            <a:ext cx="3024360" cy="3051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373880" y="0"/>
            <a:ext cx="1770120" cy="19162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1734840" cy="237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0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9T11:05:41Z</dcterms:created>
  <dc:creator>Ирина</dc:creator>
  <dc:description/>
  <dc:language>en-US</dc:language>
  <cp:lastModifiedBy>Ирина</cp:lastModifiedBy>
  <dcterms:modified xsi:type="dcterms:W3CDTF">2006-09-20T04:11:27Z</dcterms:modified>
  <cp:revision>9</cp:revision>
  <dc:subject/>
  <dc:title>Слайд 1</dc:title>
</cp:coreProperties>
</file>