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E7B-AE63-4E84-9C32-04A69226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272-B967-4C9B-9F3D-6D376E4B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5BF-EA89-469A-B795-6A744A33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2DAE-F82F-4A2D-8338-5E6C4579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87AF-B899-4EC4-A661-C09166E7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DF0A-4ADC-4ED9-BD95-5F506889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1943-D0F0-4902-893A-42C5EE92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B2FA-729E-4954-BDEA-7720BAAA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A6B0-949D-433F-879C-54F28890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C28E-1452-4B48-89AB-D3FFEE4A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D3E8-7931-4B37-9AD2-832C4E58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14A-06F3-4AA1-AC26-FFC9E665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7441-9839-41D7-B31C-F4D68DC7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355C-DE5B-4C13-B5EF-49C1B0B3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34A9-F69B-4545-88FD-02AD30FB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8DB0-3DF5-4D0F-8F05-3B0E8102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1728-86E9-43A8-96CB-4F782AF6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FDB-FB26-4991-924A-6E1811ED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71B7-0297-45FB-8B1F-E938F6F6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52F-B01F-4F6D-885A-82467D31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2EC-46EF-4F03-8A1C-EE2DA1FC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AB6-D1A7-44AB-AB38-B7ADEB31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62B-473D-4519-847C-8D3E419C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7FE-D962-4C32-94D1-8C2C35D2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5563-DD2B-4958-87F2-AB29B865BF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26A3-BA68-4887-9CB5-3CCB7463C0A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eec94"/>
                </a:solidFill>
                <a:latin typeface="Times New Roman"/>
              </a:rPr>
              <a:t>Здоровый образ жизни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дых на природ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12" descr="P1000683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Я на мосту"/>
          <p:cNvPicPr/>
          <p:nvPr/>
        </p:nvPicPr>
        <p:blipFill>
          <a:blip r:embed="rId2"/>
          <a:stretch/>
        </p:blipFill>
        <p:spPr>
          <a:xfrm>
            <a:off x="1600200" y="3941640"/>
            <a:ext cx="1751040" cy="2189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1"/>
          <p:cNvPicPr/>
          <p:nvPr/>
        </p:nvPicPr>
        <p:blipFill>
          <a:blip r:embed="rId3"/>
          <a:stretch/>
        </p:blipFill>
        <p:spPr>
          <a:xfrm>
            <a:off x="928800" y="1600200"/>
            <a:ext cx="3095640" cy="2189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9" descr="3"/>
          <p:cNvPicPr/>
          <p:nvPr/>
        </p:nvPicPr>
        <p:blipFill>
          <a:blip r:embed="rId4"/>
          <a:stretch/>
        </p:blipFill>
        <p:spPr>
          <a:xfrm>
            <a:off x="5946840" y="3941640"/>
            <a:ext cx="14414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лноценный сон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8" descr="snapshot_2dae895f_6db0f4a6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SSM12325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eec94"/>
                </a:solidFill>
                <a:latin typeface="Times New Roman"/>
              </a:rPr>
              <a:t>Спасибо за внимание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полнила ученица..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китина Ле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1 л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а класс, школа №1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влекается компьютерными игр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ит кататься на роликах, гулять с подругами, работать на компьюте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10" descr="Фото058"/>
          <p:cNvPicPr/>
          <p:nvPr/>
        </p:nvPicPr>
        <p:blipFill>
          <a:blip r:embed="rId1"/>
          <a:stretch/>
        </p:blipFill>
        <p:spPr>
          <a:xfrm>
            <a:off x="665280" y="1600200"/>
            <a:ext cx="36208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бы вести здоровый образ жизни курить и пить спиртные напитки не следует!!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12" descr="SSM12207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SSM12248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бы укрепить своё здоровье следует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Заниматься спортом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равильно питаться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улять на природе,  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олноценный сон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от примеры занятия спорто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6" descr="snapshot_adae8020_adb0f51f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Snapshot"/>
          <p:cNvPicPr/>
          <p:nvPr/>
        </p:nvPicPr>
        <p:blipFill>
          <a:blip r:embed="rId2"/>
          <a:stretch/>
        </p:blipFill>
        <p:spPr>
          <a:xfrm>
            <a:off x="4762440" y="243684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 вот примеры из жизн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13" descr="CIMG1283"/>
          <p:cNvPicPr/>
          <p:nvPr/>
        </p:nvPicPr>
        <p:blipFill>
          <a:blip r:embed="rId1"/>
          <a:stretch/>
        </p:blipFill>
        <p:spPr>
          <a:xfrm>
            <a:off x="5846760" y="394164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Я и В куп"/>
          <p:cNvPicPr/>
          <p:nvPr/>
        </p:nvPicPr>
        <p:blipFill>
          <a:blip r:embed="rId2"/>
          <a:stretch/>
        </p:blipFill>
        <p:spPr>
          <a:xfrm>
            <a:off x="1655640" y="1600200"/>
            <a:ext cx="164016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P1000676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CIMG1255"/>
          <p:cNvPicPr/>
          <p:nvPr/>
        </p:nvPicPr>
        <p:blipFill>
          <a:blip r:embed="rId4"/>
          <a:stretch/>
        </p:blipFill>
        <p:spPr>
          <a:xfrm>
            <a:off x="1017720" y="3941640"/>
            <a:ext cx="29160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авильное пит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Picture 8" descr="snapshot_75014294_f0d00203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P1000260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SSM10598"/>
          <p:cNvPicPr/>
          <p:nvPr/>
        </p:nvPicPr>
        <p:blipFill>
          <a:blip r:embed="rId3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P1010695"/>
          <p:cNvPicPr/>
          <p:nvPr/>
        </p:nvPicPr>
        <p:blipFill>
          <a:blip r:embed="rId4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итание на отлично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12" descr="2"/>
          <p:cNvPicPr/>
          <p:nvPr/>
        </p:nvPicPr>
        <p:blipFill>
          <a:blip r:embed="rId1"/>
          <a:stretch/>
        </p:blipFill>
        <p:spPr>
          <a:xfrm>
            <a:off x="3084480" y="1600200"/>
            <a:ext cx="2973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дых на природ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8" descr="snapshot_edae8d77_8db0f3ec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SSM1059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ЛиА на мосту"/>
          <p:cNvPicPr/>
          <p:nvPr/>
        </p:nvPicPr>
        <p:blipFill>
          <a:blip r:embed="rId3"/>
          <a:stretch/>
        </p:blipFill>
        <p:spPr>
          <a:xfrm>
            <a:off x="5792760" y="3941640"/>
            <a:ext cx="174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В на рыб"/>
          <p:cNvPicPr/>
          <p:nvPr/>
        </p:nvPicPr>
        <p:blipFill>
          <a:blip r:embed="rId4"/>
          <a:stretch/>
        </p:blipFill>
        <p:spPr>
          <a:xfrm>
            <a:off x="1601640" y="3941640"/>
            <a:ext cx="1749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Петровна</cp:lastModifiedBy>
  <dcterms:modified xsi:type="dcterms:W3CDTF">2009-08-17T15:08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