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3AFE-C60E-48F4-AA26-19D82DBF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6799-49CF-4816-9C7E-4F017FA1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E8DA-4B9F-4C92-BB9F-15B8FD64A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02C-0F13-4A7D-B49E-343DC5E3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3D9EA-0A4B-40FC-8464-FFA24C7C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C06A0-47F4-4DFA-B54F-7124CFF4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561A7-FDB3-48D3-81EC-3ADA2D84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20BCB-0E02-47BF-99BF-C1B2620E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D293-E4E7-4C64-9C99-7875A503C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CB10-F045-4607-AE63-605FA789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2F09-4F9D-4EC7-BA91-0EABBFD6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AB82-181A-4FBC-B54A-07B39A409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6798-126B-4E4F-922D-7B24AAD7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AE40-7906-49CE-9A32-0AE43B1A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E392-B70E-48EC-AD65-2556C422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0270C-2CEC-45D7-B27D-C33C9C683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ABE99-D728-4504-9832-DCF3322DB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6CC1-B67D-409F-8500-966B8ACE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BD0E-1C84-4C4D-9AA2-16EB32FB6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B51-2356-4708-B22B-D8CB00A4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B534-A9AF-4632-AC10-22162EDB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5A16-078D-4B95-B830-FBAE4F8A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D9B2-697B-4F1B-8D9D-B5CD3623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B304-9503-47A6-9DBA-33F9C9CF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CDAD-470E-4EC7-B778-F325308E29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A536-EE8D-4AE3-9B5B-5B896DF0F60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566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eec94"/>
                </a:solidFill>
                <a:latin typeface="Times New Roman"/>
              </a:rPr>
              <a:t>Здоровый образ жизни</a:t>
            </a:r>
            <a:endParaRPr b="1" lang="en-US" sz="96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дых на природ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0" name="Picture 12" descr="P1000683"/>
          <p:cNvPicPr/>
          <p:nvPr/>
        </p:nvPicPr>
        <p:blipFill>
          <a:blip r:embed="rId1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Я на мосту"/>
          <p:cNvPicPr/>
          <p:nvPr/>
        </p:nvPicPr>
        <p:blipFill>
          <a:blip r:embed="rId2"/>
          <a:stretch/>
        </p:blipFill>
        <p:spPr>
          <a:xfrm>
            <a:off x="1600200" y="3941640"/>
            <a:ext cx="1751040" cy="21891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1"/>
          <p:cNvPicPr/>
          <p:nvPr/>
        </p:nvPicPr>
        <p:blipFill>
          <a:blip r:embed="rId3"/>
          <a:stretch/>
        </p:blipFill>
        <p:spPr>
          <a:xfrm>
            <a:off x="928800" y="1600200"/>
            <a:ext cx="3095640" cy="21891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9" descr="3"/>
          <p:cNvPicPr/>
          <p:nvPr/>
        </p:nvPicPr>
        <p:blipFill>
          <a:blip r:embed="rId4"/>
          <a:stretch/>
        </p:blipFill>
        <p:spPr>
          <a:xfrm>
            <a:off x="5946840" y="3941640"/>
            <a:ext cx="14414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олноценный сон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55" name="Picture 8" descr="snapshot_2dae895f_6db0f4a6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SSM12325"/>
          <p:cNvPicPr/>
          <p:nvPr/>
        </p:nvPicPr>
        <p:blipFill>
          <a:blip r:embed="rId2"/>
          <a:stretch/>
        </p:blipFill>
        <p:spPr>
          <a:xfrm>
            <a:off x="4648320" y="2347920"/>
            <a:ext cx="403848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eec94"/>
                </a:solidFill>
                <a:latin typeface="Times New Roman"/>
              </a:rPr>
              <a:t>Спасибо за внимание.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Выполнила ученица...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икитина Ле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1 лет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5а класс, школа №1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влекается компьютерными играм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юбит кататься на роликах, гулять с подругами, работать на компьютере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10" descr="Фото058"/>
          <p:cNvPicPr/>
          <p:nvPr/>
        </p:nvPicPr>
        <p:blipFill>
          <a:blip r:embed="rId1"/>
          <a:stretch/>
        </p:blipFill>
        <p:spPr>
          <a:xfrm>
            <a:off x="665280" y="1600200"/>
            <a:ext cx="3620880" cy="453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бы вести здоровый образ жизни курить и пить спиртные напитки не следует!!!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25" name="Picture 12" descr="SSM12207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8" descr="SSM12248"/>
          <p:cNvPicPr/>
          <p:nvPr/>
        </p:nvPicPr>
        <p:blipFill>
          <a:blip r:embed="rId2"/>
          <a:stretch/>
        </p:blipFill>
        <p:spPr>
          <a:xfrm>
            <a:off x="4648320" y="23511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Чтобы укрепить своё здоровье следует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Заниматься спортом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равильно питаться,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Гулять на природе,    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imes New Roman"/>
              </a:rPr>
              <a:t>Полноценный сон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68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68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68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Вот примеры занятия спортом: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0" name="Picture 6" descr="snapshot_adae8020_adb0f51f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33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Snapshot"/>
          <p:cNvPicPr/>
          <p:nvPr/>
        </p:nvPicPr>
        <p:blipFill>
          <a:blip r:embed="rId2"/>
          <a:stretch/>
        </p:blipFill>
        <p:spPr>
          <a:xfrm>
            <a:off x="4762440" y="2436840"/>
            <a:ext cx="381024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А вот примеры из жизн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3" name="Picture 13" descr="CIMG1283"/>
          <p:cNvPicPr/>
          <p:nvPr/>
        </p:nvPicPr>
        <p:blipFill>
          <a:blip r:embed="rId1"/>
          <a:stretch/>
        </p:blipFill>
        <p:spPr>
          <a:xfrm>
            <a:off x="5846760" y="3941640"/>
            <a:ext cx="1641600" cy="2189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7" descr="Я и В куп"/>
          <p:cNvPicPr/>
          <p:nvPr/>
        </p:nvPicPr>
        <p:blipFill>
          <a:blip r:embed="rId2"/>
          <a:stretch/>
        </p:blipFill>
        <p:spPr>
          <a:xfrm>
            <a:off x="1655640" y="1600200"/>
            <a:ext cx="1640160" cy="21859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P1000676"/>
          <p:cNvPicPr/>
          <p:nvPr/>
        </p:nvPicPr>
        <p:blipFill>
          <a:blip r:embed="rId3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CIMG1255"/>
          <p:cNvPicPr/>
          <p:nvPr/>
        </p:nvPicPr>
        <p:blipFill>
          <a:blip r:embed="rId4"/>
          <a:stretch/>
        </p:blipFill>
        <p:spPr>
          <a:xfrm>
            <a:off x="1017720" y="3941640"/>
            <a:ext cx="29160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равильное питани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8" name="Picture 8" descr="snapshot_75014294_f0d00203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9" descr="P1000260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0" descr="SSM10598"/>
          <p:cNvPicPr/>
          <p:nvPr/>
        </p:nvPicPr>
        <p:blipFill>
          <a:blip r:embed="rId3"/>
          <a:stretch/>
        </p:blipFill>
        <p:spPr>
          <a:xfrm>
            <a:off x="1015920" y="394164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P1010695"/>
          <p:cNvPicPr/>
          <p:nvPr/>
        </p:nvPicPr>
        <p:blipFill>
          <a:blip r:embed="rId4"/>
          <a:stretch/>
        </p:blipFill>
        <p:spPr>
          <a:xfrm>
            <a:off x="5207040" y="3941640"/>
            <a:ext cx="29192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Питание на отлично!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3" name="Picture 12" descr="2"/>
          <p:cNvPicPr/>
          <p:nvPr/>
        </p:nvPicPr>
        <p:blipFill>
          <a:blip r:embed="rId1"/>
          <a:stretch/>
        </p:blipFill>
        <p:spPr>
          <a:xfrm>
            <a:off x="3084480" y="1600200"/>
            <a:ext cx="297360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Отдых на природе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45" name="Picture 8" descr="snapshot_edae8d77_8db0f3ec"/>
          <p:cNvPicPr/>
          <p:nvPr/>
        </p:nvPicPr>
        <p:blipFill>
          <a:blip r:embed="rId1"/>
          <a:stretch/>
        </p:blipFill>
        <p:spPr>
          <a:xfrm>
            <a:off x="101916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9" descr="SSM10596"/>
          <p:cNvPicPr/>
          <p:nvPr/>
        </p:nvPicPr>
        <p:blipFill>
          <a:blip r:embed="rId2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ЛиА на мосту"/>
          <p:cNvPicPr/>
          <p:nvPr/>
        </p:nvPicPr>
        <p:blipFill>
          <a:blip r:embed="rId3"/>
          <a:stretch/>
        </p:blipFill>
        <p:spPr>
          <a:xfrm>
            <a:off x="5792760" y="3941640"/>
            <a:ext cx="1749600" cy="2189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1" descr="В на рыб"/>
          <p:cNvPicPr/>
          <p:nvPr/>
        </p:nvPicPr>
        <p:blipFill>
          <a:blip r:embed="rId4"/>
          <a:stretch/>
        </p:blipFill>
        <p:spPr>
          <a:xfrm>
            <a:off x="1601640" y="3941640"/>
            <a:ext cx="17496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Петровна</cp:lastModifiedBy>
  <dcterms:modified xsi:type="dcterms:W3CDTF">2009-08-17T15:08:4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