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A466-F67E-46F6-8DAC-C217E054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EEF6-7D53-4088-921D-198AEDA5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6132-8404-437E-8181-9C8251A20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44D7-A2BD-43F5-B942-5D2CB7AF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DA47-3905-4B7F-A495-D422CF851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2643-B7B0-4742-96E5-A9C2F8E2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9511-7535-4AFF-8092-3329B544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FF96-9A6D-4461-9528-74784AEF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D62F-E220-4900-89C2-2E128750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5E4C-A501-4B78-B2E9-01B69DC6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5FBB-976B-4B1D-B942-58C598BE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A180-DDEA-4186-8304-E13AA17B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C19B-4FD2-4635-93A2-F99AA5D1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8B67-BF26-465D-8ADB-EC3F3A52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2018-5F43-4B58-B4CD-13CB61FC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3BAB-F14F-4741-A77E-A0242CF7F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A7FE-2822-4FE8-83BE-CC43F7B0A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136E-784A-4E41-BFDE-DB2CDDC1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BF69-0936-47F2-9BAE-746B1BAD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A253-6839-41C8-8B21-E865643A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0625-7869-40E6-9D17-3E213C97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4F42-F9B9-42C8-ACE6-508CB487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223F-5295-4439-BC50-46F9625D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BB11-3F41-4551-AFDB-89A557A0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D40E-C19F-4C2C-AE33-743DEA2B53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DC1D-ACCA-4117-8967-182E7736B4E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eec94"/>
                </a:solidFill>
                <a:latin typeface="Times New Roman"/>
              </a:rPr>
              <a:t>Здоровый образ жизни</a:t>
            </a:r>
            <a:endParaRPr b="1" lang="en-US" sz="9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дых на природе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Picture 12" descr="P1000683"/>
          <p:cNvPicPr/>
          <p:nvPr/>
        </p:nvPicPr>
        <p:blipFill>
          <a:blip r:embed="rId1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Я на мосту"/>
          <p:cNvPicPr/>
          <p:nvPr/>
        </p:nvPicPr>
        <p:blipFill>
          <a:blip r:embed="rId2"/>
          <a:stretch/>
        </p:blipFill>
        <p:spPr>
          <a:xfrm>
            <a:off x="1600200" y="3941640"/>
            <a:ext cx="1751040" cy="2189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1"/>
          <p:cNvPicPr/>
          <p:nvPr/>
        </p:nvPicPr>
        <p:blipFill>
          <a:blip r:embed="rId3"/>
          <a:stretch/>
        </p:blipFill>
        <p:spPr>
          <a:xfrm>
            <a:off x="928800" y="1600200"/>
            <a:ext cx="3095640" cy="21891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9" descr="3"/>
          <p:cNvPicPr/>
          <p:nvPr/>
        </p:nvPicPr>
        <p:blipFill>
          <a:blip r:embed="rId4"/>
          <a:stretch/>
        </p:blipFill>
        <p:spPr>
          <a:xfrm>
            <a:off x="5946840" y="3941640"/>
            <a:ext cx="14414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олноценный сон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Picture 8" descr="snapshot_2dae895f_6db0f4a6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33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SSM12325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eec94"/>
                </a:solidFill>
                <a:latin typeface="Times New Roman"/>
              </a:rPr>
              <a:t>Спасибо за внимание.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ыполнила ученица..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икитина Ле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1 л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а класс, школа №10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влекается компьютерными игр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юбит кататься на роликах, гулять с подругами, работать на компьютер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10" descr="Фото058"/>
          <p:cNvPicPr/>
          <p:nvPr/>
        </p:nvPicPr>
        <p:blipFill>
          <a:blip r:embed="rId1"/>
          <a:stretch/>
        </p:blipFill>
        <p:spPr>
          <a:xfrm>
            <a:off x="665280" y="1600200"/>
            <a:ext cx="362088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Чтобы вести здоровый образ жизни курить и пить спиртные напитки не следует!!!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5" name="Picture 12" descr="SSM12207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33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SSM12248"/>
          <p:cNvPicPr/>
          <p:nvPr/>
        </p:nvPicPr>
        <p:blipFill>
          <a:blip r:embed="rId2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Чтобы укрепить своё здоровье следует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Заниматься спортом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Правильно питаться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Гулять на природе,       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Полноценный сон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68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68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от примеры занятия спортом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Picture 6" descr="snapshot_adae8020_adb0f51f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33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Snapshot"/>
          <p:cNvPicPr/>
          <p:nvPr/>
        </p:nvPicPr>
        <p:blipFill>
          <a:blip r:embed="rId2"/>
          <a:stretch/>
        </p:blipFill>
        <p:spPr>
          <a:xfrm>
            <a:off x="4762440" y="243684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 вот примеры из жизн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Picture 13" descr="CIMG1283"/>
          <p:cNvPicPr/>
          <p:nvPr/>
        </p:nvPicPr>
        <p:blipFill>
          <a:blip r:embed="rId1"/>
          <a:stretch/>
        </p:blipFill>
        <p:spPr>
          <a:xfrm>
            <a:off x="5846760" y="3941640"/>
            <a:ext cx="1641600" cy="2189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Я и В куп"/>
          <p:cNvPicPr/>
          <p:nvPr/>
        </p:nvPicPr>
        <p:blipFill>
          <a:blip r:embed="rId2"/>
          <a:stretch/>
        </p:blipFill>
        <p:spPr>
          <a:xfrm>
            <a:off x="1655640" y="1600200"/>
            <a:ext cx="1640160" cy="218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8" descr="P1000676"/>
          <p:cNvPicPr/>
          <p:nvPr/>
        </p:nvPicPr>
        <p:blipFill>
          <a:blip r:embed="rId3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9" descr="CIMG1255"/>
          <p:cNvPicPr/>
          <p:nvPr/>
        </p:nvPicPr>
        <p:blipFill>
          <a:blip r:embed="rId4"/>
          <a:stretch/>
        </p:blipFill>
        <p:spPr>
          <a:xfrm>
            <a:off x="1017720" y="3941640"/>
            <a:ext cx="29160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авильное питание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8" name="Picture 8" descr="snapshot_75014294_f0d00203"/>
          <p:cNvPicPr/>
          <p:nvPr/>
        </p:nvPicPr>
        <p:blipFill>
          <a:blip r:embed="rId1"/>
          <a:stretch/>
        </p:blipFill>
        <p:spPr>
          <a:xfrm>
            <a:off x="1015920" y="160020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P1000260"/>
          <p:cNvPicPr/>
          <p:nvPr/>
        </p:nvPicPr>
        <p:blipFill>
          <a:blip r:embed="rId2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SSM10598"/>
          <p:cNvPicPr/>
          <p:nvPr/>
        </p:nvPicPr>
        <p:blipFill>
          <a:blip r:embed="rId3"/>
          <a:stretch/>
        </p:blipFill>
        <p:spPr>
          <a:xfrm>
            <a:off x="1015920" y="394164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P1010695"/>
          <p:cNvPicPr/>
          <p:nvPr/>
        </p:nvPicPr>
        <p:blipFill>
          <a:blip r:embed="rId4"/>
          <a:stretch/>
        </p:blipFill>
        <p:spPr>
          <a:xfrm>
            <a:off x="5207040" y="3941640"/>
            <a:ext cx="29192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итание на отлично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12" descr="2"/>
          <p:cNvPicPr/>
          <p:nvPr/>
        </p:nvPicPr>
        <p:blipFill>
          <a:blip r:embed="rId1"/>
          <a:stretch/>
        </p:blipFill>
        <p:spPr>
          <a:xfrm>
            <a:off x="3084480" y="1600200"/>
            <a:ext cx="2973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дых на природе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8" descr="snapshot_edae8d77_8db0f3ec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SSM10596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ЛиА на мосту"/>
          <p:cNvPicPr/>
          <p:nvPr/>
        </p:nvPicPr>
        <p:blipFill>
          <a:blip r:embed="rId3"/>
          <a:stretch/>
        </p:blipFill>
        <p:spPr>
          <a:xfrm>
            <a:off x="5792760" y="3941640"/>
            <a:ext cx="1749600" cy="2189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В на рыб"/>
          <p:cNvPicPr/>
          <p:nvPr/>
        </p:nvPicPr>
        <p:blipFill>
          <a:blip r:embed="rId4"/>
          <a:stretch/>
        </p:blipFill>
        <p:spPr>
          <a:xfrm>
            <a:off x="1601640" y="3941640"/>
            <a:ext cx="17496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 Петровна</cp:lastModifiedBy>
  <dcterms:modified xsi:type="dcterms:W3CDTF">2009-08-17T15:08:4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