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F361-E063-4077-9F4B-B34367E2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42B3-ABD8-4C0D-9880-2CC9FFC2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6784-87A0-434A-ADE4-4BD47B8D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A77-7E35-42EE-8DC5-EA71991A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5A9C-B036-4380-A54A-73C6772E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4B09-1690-4554-984A-FCC7B6F8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7680-7AD8-420B-B452-790F6B5B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8657-E9D3-4AF2-A697-3A1F5C4D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97AE-D38C-429D-913A-631F47B8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C6EB-7399-4135-B3CA-0D7C6933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DB8E-F7FA-4B74-BF51-80B8A8C0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219C-42B6-428F-9345-16A14872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BAB2F-7E08-48E1-8A13-A5235E69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9548-179C-4EC4-A088-62F5906A9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0B25-8C78-47F6-80E8-88694150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BC71-87D8-46DA-98A3-162C4295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B102-3D2E-42EB-B753-36269B113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E2ED-9781-44AD-AA6C-37FB642E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5E2D-4149-4D51-B07A-32143E6B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227-2909-4A11-B3EE-D9FD099F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F2C3-AFFC-4CA9-B034-352DEC95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DD94-1AC2-43D3-990A-739F5C1C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8AA4-6D2D-4121-B697-3DECFCC0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C15F-F2C9-45A5-BCFF-5F486497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3A76-16BA-4D50-87F0-2396D75EE2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31F1-8AC3-4716-9EBF-D1E00D2FCBB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eec94"/>
                </a:solidFill>
                <a:latin typeface="Times New Roman"/>
              </a:rPr>
              <a:t>Здоровый образ жизни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дых на природ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12" descr="P1000683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Я на мосту"/>
          <p:cNvPicPr/>
          <p:nvPr/>
        </p:nvPicPr>
        <p:blipFill>
          <a:blip r:embed="rId2"/>
          <a:stretch/>
        </p:blipFill>
        <p:spPr>
          <a:xfrm>
            <a:off x="1600200" y="3941640"/>
            <a:ext cx="1751040" cy="2189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1"/>
          <p:cNvPicPr/>
          <p:nvPr/>
        </p:nvPicPr>
        <p:blipFill>
          <a:blip r:embed="rId3"/>
          <a:stretch/>
        </p:blipFill>
        <p:spPr>
          <a:xfrm>
            <a:off x="928800" y="1600200"/>
            <a:ext cx="3095640" cy="2189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9" descr="3"/>
          <p:cNvPicPr/>
          <p:nvPr/>
        </p:nvPicPr>
        <p:blipFill>
          <a:blip r:embed="rId4"/>
          <a:stretch/>
        </p:blipFill>
        <p:spPr>
          <a:xfrm>
            <a:off x="5946840" y="3941640"/>
            <a:ext cx="14414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лноценный сон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8" descr="snapshot_2dae895f_6db0f4a6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SSM12325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eec94"/>
                </a:solidFill>
                <a:latin typeface="Times New Roman"/>
              </a:rPr>
              <a:t>Спасибо за внимание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полнила ученица..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китина Ле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1 л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а класс, школа №1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влекается компьютерными игр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ит кататься на роликах, гулять с подругами, работать на компьютер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10" descr="Фото058"/>
          <p:cNvPicPr/>
          <p:nvPr/>
        </p:nvPicPr>
        <p:blipFill>
          <a:blip r:embed="rId1"/>
          <a:stretch/>
        </p:blipFill>
        <p:spPr>
          <a:xfrm>
            <a:off x="665280" y="1600200"/>
            <a:ext cx="36208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бы вести здоровый образ жизни курить и пить спиртные напитки не следует!!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Picture 12" descr="SSM12207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SSM12248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бы укрепить своё здоровье следует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Заниматься спортом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равильно питаться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Гулять на природе,    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олноценный сон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от примеры занятия спортом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6" descr="snapshot_adae8020_adb0f51f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Snapshot"/>
          <p:cNvPicPr/>
          <p:nvPr/>
        </p:nvPicPr>
        <p:blipFill>
          <a:blip r:embed="rId2"/>
          <a:stretch/>
        </p:blipFill>
        <p:spPr>
          <a:xfrm>
            <a:off x="4762440" y="243684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 вот примеры из жизн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13" descr="CIMG1283"/>
          <p:cNvPicPr/>
          <p:nvPr/>
        </p:nvPicPr>
        <p:blipFill>
          <a:blip r:embed="rId1"/>
          <a:stretch/>
        </p:blipFill>
        <p:spPr>
          <a:xfrm>
            <a:off x="5846760" y="394164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Я и В куп"/>
          <p:cNvPicPr/>
          <p:nvPr/>
        </p:nvPicPr>
        <p:blipFill>
          <a:blip r:embed="rId2"/>
          <a:stretch/>
        </p:blipFill>
        <p:spPr>
          <a:xfrm>
            <a:off x="1655640" y="1600200"/>
            <a:ext cx="1640160" cy="218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P1000676"/>
          <p:cNvPicPr/>
          <p:nvPr/>
        </p:nvPicPr>
        <p:blipFill>
          <a:blip r:embed="rId3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CIMG1255"/>
          <p:cNvPicPr/>
          <p:nvPr/>
        </p:nvPicPr>
        <p:blipFill>
          <a:blip r:embed="rId4"/>
          <a:stretch/>
        </p:blipFill>
        <p:spPr>
          <a:xfrm>
            <a:off x="1017720" y="3941640"/>
            <a:ext cx="29160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авильное питани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Picture 8" descr="snapshot_75014294_f0d00203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P1000260"/>
          <p:cNvPicPr/>
          <p:nvPr/>
        </p:nvPicPr>
        <p:blipFill>
          <a:blip r:embed="rId2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SSM10598"/>
          <p:cNvPicPr/>
          <p:nvPr/>
        </p:nvPicPr>
        <p:blipFill>
          <a:blip r:embed="rId3"/>
          <a:stretch/>
        </p:blipFill>
        <p:spPr>
          <a:xfrm>
            <a:off x="1015920" y="394164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P1010695"/>
          <p:cNvPicPr/>
          <p:nvPr/>
        </p:nvPicPr>
        <p:blipFill>
          <a:blip r:embed="rId4"/>
          <a:stretch/>
        </p:blipFill>
        <p:spPr>
          <a:xfrm>
            <a:off x="5207040" y="3941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итание на отлично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12" descr="2"/>
          <p:cNvPicPr/>
          <p:nvPr/>
        </p:nvPicPr>
        <p:blipFill>
          <a:blip r:embed="rId1"/>
          <a:stretch/>
        </p:blipFill>
        <p:spPr>
          <a:xfrm>
            <a:off x="3084480" y="1600200"/>
            <a:ext cx="2973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дых на природ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8" descr="snapshot_edae8d77_8db0f3ec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SSM10596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ЛиА на мосту"/>
          <p:cNvPicPr/>
          <p:nvPr/>
        </p:nvPicPr>
        <p:blipFill>
          <a:blip r:embed="rId3"/>
          <a:stretch/>
        </p:blipFill>
        <p:spPr>
          <a:xfrm>
            <a:off x="5792760" y="3941640"/>
            <a:ext cx="1749600" cy="218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В на рыб"/>
          <p:cNvPicPr/>
          <p:nvPr/>
        </p:nvPicPr>
        <p:blipFill>
          <a:blip r:embed="rId4"/>
          <a:stretch/>
        </p:blipFill>
        <p:spPr>
          <a:xfrm>
            <a:off x="1601640" y="3941640"/>
            <a:ext cx="17496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Петровна</cp:lastModifiedBy>
  <dcterms:modified xsi:type="dcterms:W3CDTF">2009-08-17T15:08:4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