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5.jpeg" ContentType="image/jpeg"/>
  <Override PartName="/ppt/media/image39.jpeg" ContentType="image/jpeg"/>
  <Override PartName="/ppt/media/image44.wmf" ContentType="image/x-wmf"/>
  <Override PartName="/ppt/media/image43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media/image40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99A4-6D11-41EC-B99D-52F9CE8828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58D9-0D4C-4FE6-8A41-DB16F44F460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D11-0F64-406F-BC72-F8DD7DF7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6CD-AE99-4AB9-960A-414AF45C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6DB-700C-48DB-93C8-0E98B885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CA7-A7D8-49D4-B769-79DA0F6F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8F11-2623-46DD-93AD-7A7E0E24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D471-9D1E-4257-BFD8-2E61C89D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928-0C80-48BB-AF1C-4E1DECB8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A18-B887-483D-810A-004F7B28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F797-7554-493A-ACE4-31516AA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DCCE-C43D-4447-A61C-1C33821C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312B-E2C9-42E6-B6E9-16B2759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3EE-B5CA-4B3A-A710-8A9942B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D25-3DAD-4CE1-84DC-2A18876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725F-E430-4D96-8B06-6649BAA4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351C-854C-494E-A679-3411959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6FC7-F97D-4E37-9FE5-AE06EC8E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8AB6-A4E9-46B9-BFB3-53D14F34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52E-CA12-4511-9C09-6214BA01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CFE-44C0-42FD-9691-932B0E4C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80E-4897-4470-8B7C-DA565A1B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702-4E99-478E-B9C7-0934B5B2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CA5-D1D0-41B2-ABC0-72A6569E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F21-CB64-4BB2-8199-1EA72AB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62A-0E9B-4711-AD58-416F3BA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2BA2-0C98-4997-B5EE-2274F6F5BB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6878-E1DF-4ED5-9FAC-BB62677ABA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1426-9B46-41CB-A529-EA53D60D59C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3571-0A8A-441B-9023-F8C39548C5A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89D4-671B-4BE9-AB4C-5C0211EDFCC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CD6D-3EFB-4574-80CD-D3F661CEE95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55E5-0177-4624-AFB3-0A533219E55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6856-281F-4880-94D3-2BCF57609B4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9A36-0941-4EA1-9787-9BBA9BD9806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9950-A272-4ACC-81B3-CCD5FB23824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6AD8-B0A3-4536-A648-8F750D7DE97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726-E4BC-467B-9DEC-DD291DF5336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3A7B-819C-4AE4-99E7-45C30186420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0156-CA14-4A1D-916E-AA4F024C855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0988-C65F-4620-A1D0-61B6670091E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A2A-4753-4DBF-B1EE-542968616FE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AB3E-003A-45E6-BAE7-92C06B67C19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D265-9951-46BA-8CE9-423ADC874E5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47FB-1761-4283-9CC2-838CC5F17E5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6E79-9FCE-4EC7-AE2E-E2ECEEE6100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295-996E-48D5-A1FE-A7A3C633DA1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39D9-0980-4437-AB26-B5AD31B9177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2140-FF44-4447-A578-D6D41F87938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B979-3F53-46AB-8C21-6D3C39B67CA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17BF-B86A-47DC-8D91-38B6EA3591D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7744-552E-451E-8865-440191A9F1E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C0F3-9827-40F6-9D61-89021AF082B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A95-903D-4747-8D63-B6F6E7585C4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E30-6094-41B1-96A9-0B0D08EB7D6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8D06-DC1F-4DEA-8FEF-6018BC44FE8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AAB-9E03-4FAF-9B6B-955A7B6B1BA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9279-1A02-4AE6-9238-5F2672FD6B2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809A-84BA-46EE-835E-3FD85C3B1D9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