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5.jpeg" ContentType="image/jpeg"/>
  <Override PartName="/ppt/media/image39.jpeg" ContentType="image/jpeg"/>
  <Override PartName="/ppt/media/image44.wmf" ContentType="image/x-wmf"/>
  <Override PartName="/ppt/media/image43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7.jpeg" ContentType="image/jpeg"/>
  <Override PartName="/ppt/media/image58.jpeg" ContentType="image/jpeg"/>
  <Override PartName="/ppt/media/image40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89E-5332-4D2D-94BC-B9F6F65731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7CDC-E9BD-420F-B585-11CDE9D0DBB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CF9-72EA-467E-9D0D-2FCF121E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BF5-9363-4E1E-8C50-8520582C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2B1-2728-42A5-8BFD-AC0FEF29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686-FF87-4B82-9B53-8098664B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6B40-C8EE-4DFD-9837-F268DBFB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36D9-EC8D-4AA6-A727-7B141C2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92B5-C5D9-4F32-A3E1-49103A36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2C88-8084-4FF9-838F-7A9FD04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99A-B8FE-4F22-AE74-17024455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D0B2-9660-4AF8-8572-CF464F92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EFFD-D25B-43A3-BB90-55F7809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4A8-6BB8-4641-BE7E-828A1528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FA27-2426-4C04-9137-07EB2B3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FDBA-7D2C-4C5F-B63E-107CCC4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9919-E55A-4E44-9DEA-385F638E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A073-4572-444B-BE7A-8F753BD2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91F5-308C-4EF7-96EB-3589395D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0DD-6BCD-4592-A0B3-8E4939E8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9CA-3815-4AA0-A3BA-3D4D9466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CC0-7CCC-42E6-9D87-6E25383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694-5DED-40A2-975B-559FA713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37F-2125-4B6E-8018-FD36E56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758-8E36-4025-A51B-36D7017A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8D3-1A8D-4CF2-BEB5-804B603E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2C6-F53F-49E7-A077-A21EBDCABA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906-9D17-4DA7-8265-CF05B417A1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54FA-9D2A-474D-84CD-AA7500BF863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DD90-5BEC-411A-BFBF-17DFCC24ED8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80F1-2D61-4B2E-B673-EC65B7B431E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539E-FC98-4FC7-A337-C03F8062254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CFD8-B92D-496A-B5D1-D485228A1BD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C3E7-1D1E-49E7-9591-272DDF4C455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71F8-155A-4B41-B342-2BD61C02422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DB7B-EDB3-4C30-B1CF-8104F7C7A02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E404-117D-497E-8CBB-49BAA3E4B41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AE36-1695-4DA2-A89D-410CAE0EA6E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763-07D7-4652-A0FC-C8BD1F3808F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9072-7A4C-4867-99EE-FEF69457505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A67-225A-4657-9E69-A1DA829C4A4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4DD-38AF-4A35-8A18-34D511A2DA6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79C1-8276-493C-8B80-9A4EFEC8A9C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F660-797D-4FB6-B6D4-EA131A7BF5D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0268-5776-4335-A76E-3864675B8C1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438C-BCD3-493F-AF3B-3AF008543B3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007E-35DB-4BF1-9409-96A9F032278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326E-4CEF-4FFE-A743-7475F8DB657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F7C0-E1AD-4CE0-AA00-DF729542FDD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16F-0C9E-4B28-9A44-DD3D4822DF8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5645-7E42-4EC5-8279-2F26AAE1DC9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79C3-7113-4FC5-AF0B-A362F488B43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70CB-C8D3-413D-8623-7B0218A6CD9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40DB-B66D-4D2A-BB0A-F249D737083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576-DC69-425E-A6E2-B45741E9BAF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AE7F-66BE-4B1E-B966-801688F6F66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DF90-6D81-41A2-B32A-C5B30DFF890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5D1A-6252-42F6-8AD1-2F25F76776A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9495-C91B-458E-BFC2-01501534FCA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