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38.jpeg" ContentType="image/jpeg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10.jpeg" ContentType="image/jpeg"/>
  <Override PartName="/ppt/media/image30.wmf" ContentType="image/x-wmf"/>
  <Override PartName="/ppt/media/applause.wav" ContentType="audio/x-wav"/>
  <Override PartName="/ppt/media/image28.wmf" ContentType="image/x-wmf"/>
  <Override PartName="/ppt/media/image40.wmf" ContentType="image/x-wmf"/>
  <Override PartName="/ppt/media/image41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47.wmf" ContentType="image/x-wmf"/>
  <Override PartName="/ppt/media/image12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150-20CD-4E81-9227-3EC234DF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165-F20B-4178-ABC8-4559B902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52A-4739-4696-B80A-854144AB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758-FFAB-4E5F-BEA0-1B3EED33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E80-F34E-437E-A6EB-5366284C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E39-3AC2-430A-92D2-7F99DBC2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087-7F22-4EFC-B2F5-CF63F9EB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F46-552F-4054-9D5F-063569EA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9BF-E164-4464-A9E0-AE56BB80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6C2-6FED-45D4-9B2D-BBECAAF0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8DE-C535-4396-B82C-AFC43E8B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46D-3BB5-4A9D-AAE5-C1A157FB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0A18-750C-4592-AFA6-E6FF2DAEE96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9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6" descr="000803_1077_3437_vnvv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000803_1055_5842_vnvv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000803_1077_3807_vnvv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000803_1079_3621_vuvv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2895480" y="4343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дготови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лгополов Илья 2 «а» класс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5" descr="000803_1077_8476_vnvv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3263760" y="2952720"/>
            <a:ext cx="317520" cy="3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Picture 6" descr="000803_1077_5174_vnvv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000803_1055_5919_vnvv"/>
          <p:cNvPicPr/>
          <p:nvPr/>
        </p:nvPicPr>
        <p:blipFill>
          <a:blip r:embed="rId2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4" descr="000803_1055_5843_vnvv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000803_1055_6007_vnvv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7" descr="000803_1077_3831_vnvv"/>
          <p:cNvPicPr/>
          <p:nvPr/>
        </p:nvPicPr>
        <p:blipFill>
          <a:blip r:embed="rId1"/>
          <a:srcRect l="0" t="0" r="0" b="2556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82" name="Oval 9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AutoShape 11"/>
          <p:cNvSpPr/>
          <p:nvPr/>
        </p:nvSpPr>
        <p:spPr>
          <a:xfrm rot="5400000">
            <a:off x="-1866600" y="3314520"/>
            <a:ext cx="5181480" cy="1447920"/>
          </a:xfrm>
          <a:custGeom>
            <a:avLst/>
            <a:gdLst>
              <a:gd name="textAreaLeft" fmla="*/ 696960 w 5181480"/>
              <a:gd name="textAreaRight" fmla="*/ 4484520 w 5181480"/>
              <a:gd name="textAreaTop" fmla="*/ 194760 h 1447920"/>
              <a:gd name="textAreaBottom" fmla="*/ 12531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12" y="21600"/>
                </a:lnTo>
                <a:lnTo>
                  <a:pt x="1938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3"/>
          <a:stretch/>
        </p:blipFill>
        <p:spPr>
          <a:xfrm>
            <a:off x="2438280" y="3191040"/>
            <a:ext cx="85428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5" descr="000803_1077_3830_vnvv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6" descr="000803_1077_3931_vnvv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5" descr="000803_1077_3520_vnvv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000803_1055_5955_vnvv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6" descr="000803_1077_3436_vnvv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5" descr="000803_1077_3446_vnvv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000803_1077_3438_vnvv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4" descr="000803_1055_5931_vnvv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000803_1077_9221_vnvv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6" descr="000803_1069_5279_vnvv"/>
          <p:cNvPicPr/>
          <p:nvPr/>
        </p:nvPicPr>
        <p:blipFill>
          <a:blip r:embed="rId1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00803_1055_6420_vnvv"/>
          <p:cNvPicPr/>
          <p:nvPr/>
        </p:nvPicPr>
        <p:blipFill>
          <a:blip r:embed="rId2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4" descr="000803_1077_9222_vnvv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a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6" descr="000803_1077_3526_vnvv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04" name="Oval 10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Rectangle 12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13" descr="000803_1069_7550_vuvv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07" name="Oval 14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3"/>
          <a:stretch/>
        </p:blipFill>
        <p:spPr>
          <a:xfrm>
            <a:off x="2405160" y="1928880"/>
            <a:ext cx="41436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4" descr="000803_1077_5720_vnvv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5" descr="000803_1076_8656_vnvv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000803_1078_0707_vnvv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5" descr="000803_1077_3521_vnvv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000803_1078_0206_vnvv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000803_1077_3814_vnvv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20" name="Oval 6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668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6" descr="000803_1055_6324_vnvv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10" descr="000803_1055_5842_vnvv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Picture 5" descr="000803_1055_6316_vnvv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000803_1077_9956_vnvv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000803_1055_5841_vnvv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00803_1055_5849_vnvv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5" descr="000803_1055_5849_vnvv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5400000">
            <a:off x="-1714680" y="2781360"/>
            <a:ext cx="5181840" cy="1752480"/>
          </a:xfrm>
          <a:custGeom>
            <a:avLst/>
            <a:gdLst>
              <a:gd name="textAreaLeft" fmla="*/ 696960 w 5181840"/>
              <a:gd name="textAreaRight" fmla="*/ 4484880 w 5181840"/>
              <a:gd name="textAreaTop" fmla="*/ 235800 h 1752480"/>
              <a:gd name="textAreaBottom" fmla="*/ 15166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12" y="21600"/>
                </a:lnTo>
                <a:lnTo>
                  <a:pt x="1938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695160" cy="39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3" descr="000803_1077_3649_vnvv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000803_1077_5912_vnvv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000803_1079_3621_vuvv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3" descr="000803_1077_5716_vnvv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000803_1077_5914_vnvv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5" descr="000803_1077_3821_vnvv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000803_1069_5353_vnvv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5" descr="000803_1055_5912_vnvv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m4ok</dc:creator>
  <dc:description/>
  <dc:language>en-US</dc:language>
  <cp:lastModifiedBy>dim4ok</cp:lastModifiedBy>
  <dcterms:modified xsi:type="dcterms:W3CDTF">2011-05-13T11:06:3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