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8D7-12E9-441B-B4E7-0316CA82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C94-6CCF-444F-BD84-E059D158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A8E-7F85-465B-B25E-AF603BF2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615-9935-439A-AB47-171A025E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EDE-C802-4EBF-AECC-8969E6BC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CF3-BBD6-4837-A3C0-A26FD00F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44A-1243-41D2-BCE6-C3E8C602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EF2-BA20-4AF8-A97C-8753271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893-C0BD-469D-AA4B-ABC441D9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6F1-4A4C-4C70-8B26-E2556CD9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B8F-F048-4954-B6CE-2A011815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AAC-BA7E-4A8C-B0AF-92B6BF09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37B3-B952-402D-AE89-77684D5B8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64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дготовил Долгополов Иль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 «А»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того, чтобы быть всегда здоровым, нуж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ть распорядок д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шать только полезную е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иматься физкультурой и спор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иногда случается так, что человек не хочет есть нормальную, здоровую пищу, заниматься спортом, ходить на физкульт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тогда он может заболеть. Будет болеть живот, увеличится вес и человек будет очень часто боле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се из-за недостатка витаминов. Ведь только в полезной и здоровой еде присутствуют полезные вещества и витами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физкультурой нужно заниматься, потому что тогда вес не будет набираться, и организму будет лег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рамида пи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063960" y="1203480"/>
            <a:ext cx="5757840" cy="5654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3120" y="907560"/>
            <a:ext cx="3025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этой пирамиде написано какую еду и в каком количестве нужно употребл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f497d"/>
                </a:solidFill>
                <a:latin typeface="Calibri"/>
              </a:rPr>
              <a:t>Желаю вам здоровья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2:00:56Z</dcterms:created>
  <dc:creator>dim4ok</dc:creator>
  <dc:description/>
  <dc:language>en-US</dc:language>
  <cp:lastModifiedBy>dim4ok</cp:lastModifiedBy>
  <dcterms:modified xsi:type="dcterms:W3CDTF">2011-05-19T18:58:53Z</dcterms:modified>
  <cp:revision>2</cp:revision>
  <dc:subject/>
  <dc:title>Здоровье</dc:title>
</cp:coreProperties>
</file>