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E4B-EB11-4526-8F13-6F601924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C81-BF48-463B-AE9A-4831E011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27D-EA1E-4F27-B1BD-9C740909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0B4-27E5-4B86-846E-8453098F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06E-5040-4966-B70D-3A93CDD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C46-718A-4FE3-AA2F-6D853880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7AB-E7AE-432F-9292-0EADB872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0BA-3833-44A4-9FC6-71040999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7F0-09E6-4EDC-8A28-5BA09294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1AA-DCBF-4AED-963B-6D2BCB9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BC0-ED94-488F-9D19-E617B6CB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5BB-3EE9-4E02-B79D-FE0C131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76C6-A033-49F0-83A0-3B24B2A67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64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дготовил Долгополов Иль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 «А»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того, чтобы быть всегда здоровым, нуж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ть распорядок д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шать только полезную е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иматься физкультурой и спор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иногда случается так, что человек не хочет есть нормальную, здоровую пищу, заниматься спортом, ходить на физкуль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тогда он может заболеть. Будет болеть живот, увеличится вес и человек будет очень часто боле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се из-за недостатка витаминов. Ведь только в полезной и здоровой еде присутствуют полезные вещества и витами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физкультурой нужно заниматься, потому что тогда вес не будет набираться, и организму будет лег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рамида 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063960" y="1203480"/>
            <a:ext cx="5757840" cy="5654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3120" y="907560"/>
            <a:ext cx="3025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этой пирамиде написано какую еду и в каком количестве нужно употребл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f497d"/>
                </a:solidFill>
                <a:latin typeface="Calibri"/>
              </a:rPr>
              <a:t>Желаю вам здоровья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2:00:56Z</dcterms:created>
  <dc:creator>dim4ok</dc:creator>
  <dc:description/>
  <dc:language>en-US</dc:language>
  <cp:lastModifiedBy>dim4ok</cp:lastModifiedBy>
  <dcterms:modified xsi:type="dcterms:W3CDTF">2011-05-19T18:58:53Z</dcterms:modified>
  <cp:revision>2</cp:revision>
  <dc:subject/>
  <dc:title>Здоровье</dc:title>
</cp:coreProperties>
</file>