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A44C-54D7-4034-80A6-15FA1865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5AC9-5571-4FF5-A80E-EB1AD7C7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CBBE-C754-47A0-B293-BFF8FE88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DBA9-94A8-47F3-AF13-2038CFE0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E7CA-EC9C-45A0-B90E-2BB86175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C430-0C08-4702-A777-9A47D336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028E-48D0-4641-AB43-9D1EB196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0DF3-6657-4D0F-BFFB-33AADAC3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351D-9F0F-4A29-BDEC-54129225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02E-8007-4EDD-B354-A5E4DDA7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16ED-20D6-4CA5-BF83-1830FC67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3E63-E850-45E3-BBCE-ADD7AC91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961D-6951-4A92-AD00-5849D08DA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renerovka.ru/images/skating2.jp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ccff"/>
                </a:solidFill>
                <a:latin typeface="Arial"/>
              </a:rPr>
              <a:t>Коньк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"/>
              </a:rPr>
              <a:t>Деревяшк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"/>
              </a:rPr>
              <a:t>Викто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"/>
              </a:rPr>
              <a:t>3 «А» школа №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45626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у а красивая фигура, грация, хорошая пластика и удовольствие от самого катания – дополнительные и, согласитесь, приятные бонусы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оит воспользоваться!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446580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5000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Игры на конь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67280" y="907920"/>
            <a:ext cx="48592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мейк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гра поможет вам выработать равномерный четкий шаг. Станьте в затылок друг другу. Первый конькобежец — ведущий — скользит сначала прямо, а затем начинает делать повороты в разные стороны. По его команде эти же движения выполняет и вся «змейка». При этом запомните: надо строго выдерживать расстояние между собой и идти только по следу ведущего. </a:t>
            </a:r>
            <a:br>
              <a:rPr sz="1800"/>
            </a:br>
            <a:br>
              <a:rPr sz="1400"/>
            </a:b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140360" y="3500280"/>
            <a:ext cx="4716360" cy="2881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9280" y="907920"/>
            <a:ext cx="403236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играх становление техники приходит незаметно — в подвижной, разнообразной эмоциональной обстановке, в атмосфере смеха и веселья.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се игры рассчитаны на то, чтобы без всякой подготовки можно было объединить ребят, пришедших на лед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гры можно проводить на любом катке — во дворе, на школьной площадке, на большом стадионе. Важно лишь кому-то бросить клич. Игры на льду такие как «Салочки», «Змейка», Круговая эстафета» доставят вам много приятных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Интересное фо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181400" cy="3235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0" y="98100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4110120" cy="2519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572000" y="4076640"/>
            <a:ext cx="435600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Что такое конь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ьк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— это спортивный или прогулочный инвентарь, который представляет из себя совокупность специализированных ботинок и прикрепляемой к ним системе подвижных или неподвижных лезвий. Используются для передвижения по ровной твёрдой ледяной поверхности. Ботинки изготавливаются из композитных материалов, кожи или пластика, лезвие — металличес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68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43280" y="1268280"/>
            <a:ext cx="403236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История катания на конь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309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71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Родиной фигурного катан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ак вида спорта считается Голландия, там появились первые в мире железные лезвия для конь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В Росси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оньки привез известный своими новаторскими идеями Петр I. Он же и первый придумал крепить лезвия прямо к сапог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2857680" cy="5019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Фигурное катание на конь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76360" y="1197000"/>
            <a:ext cx="3683160" cy="1324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Фигурное катание на конька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— вид спорта, включающий соревнования женщин и мужчин в катании и в спортивных танцах на коньках. Олимпийский вид с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68360" y="981000"/>
            <a:ext cx="4248000" cy="2760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435640" y="3500280"/>
            <a:ext cx="2714760" cy="2857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3789360"/>
            <a:ext cx="4537080" cy="2592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гурное катание на коньках — один из самых популярных видов спорта в России.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Ирина Лобачева и Илья Авербух, Евгений Плющенко, Татьяна Навка, Алексей Ягудин, Ирина Слуцка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для многих россиян стали национальными геро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Конькобежный сп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31640" y="980640"/>
            <a:ext cx="5759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ькобежный спор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— вид спорта, в котором необходимо как можно быстрее преодолевать определённую дистанцию на ледовом стадионе по замкнутому к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амый зрелищный вид скоростного бега на коньках – шорт-трек, где спортсменам необходимо максимально быстро преодолеть соревновательную дистанцию по овальной ледовой дорожке длиной 111,12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2648160" cy="3743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635280" y="4005360"/>
            <a:ext cx="4457880" cy="2647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Катание на коньках и его польз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тание на коньках – огромная польза, прежде всего, для ослабленных здоровьем детей. В чем же она заключает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4513320" y="316404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3213000"/>
          <a:ext cx="3779640" cy="811440"/>
        </p:xfrm>
        <a:graphic>
          <a:graphicData uri="http://schemas.openxmlformats.org/drawingml/2006/table">
            <a:tbl>
              <a:tblPr/>
              <a:tblGrid>
                <a:gridCol w="320400"/>
                <a:gridCol w="34592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450072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-первых, это физическая нагрузка циклического вида, подобная бегу или плаванию, во время которой постепенно улучшается обмен веществ, нормализуется работа дыхательной и сердечно-сосудистой системы, укрепляется иммунная систе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2" descr="Катание на коньках и его польз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276640"/>
            <a:ext cx="3598920" cy="4005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О пользе катания на коньках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тание на коньках издавна считается прекрасным средством оздоровления. Оно доступно людям разного возраста, но особенно показано младшим школьникам. Регулярное катание на коньках развивает двигательный аппарат, улучшает обмен веществ, деятельность сердечно-сосудистой и дыхательной систем, укрепляет нервную систему. Кроме того, катание на коньках тренирует вестибулярный аппарат, повышает его функциональную устойчив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3889440" cy="5112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140000" y="1341000"/>
            <a:ext cx="47876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гда можно подобрать индивидуальный темп для занятий, посильный конкретному ребёнку. Поэтому катание на коньках полезно детям с ослабленной иммунной системой, часто болеющим респираторными заболеваниями, и даже при заболеваниях серд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енно из-за слабого здоровья на лед привели и многих других известных фигуристов. Поэтому, кто знает, что уготовано вашему чад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О пользе катания для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403380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0000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44956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угим оздоравливающим эффектом катания на коньках является благотворное действие его на осанку детей. Не секрет, что нарушения осанки и сколиозы сейчас лидируют среди детской патологии. Не удивительно, если учесть всё возрастающую нагрузку в школах, недостаток двигательной активности в свободное время и многочасовое сидение за компьютерными и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716360" y="692280"/>
            <a:ext cx="40323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01:15:05Z</dcterms:created>
  <dc:creator>Вика</dc:creator>
  <dc:description/>
  <dc:language>en-US</dc:language>
  <cp:lastModifiedBy>Вика</cp:lastModifiedBy>
  <dcterms:modified xsi:type="dcterms:W3CDTF">2011-02-06T09:22:59Z</dcterms:modified>
  <cp:revision>7</cp:revision>
  <dc:subject/>
  <dc:title>Коньки</dc:title>
</cp:coreProperties>
</file>