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7.gif" ContentType="image/gif"/>
  <Override PartName="/ppt/media/image9.wmf" ContentType="image/x-wmf"/>
  <Override PartName="/ppt/media/image18.png" ContentType="image/png"/>
  <Override PartName="/ppt/media/image17.gif" ContentType="image/gif"/>
  <Override PartName="/ppt/media/image2.wmf" ContentType="image/x-wmf"/>
  <Override PartName="/ppt/media/image16.gif" ContentType="image/gif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8.gif" ContentType="image/gif"/>
  <Override PartName="/ppt/media/image5.wmf" ContentType="image/x-wmf"/>
  <Override PartName="/ppt/media/image4.jpeg" ContentType="image/jpeg"/>
  <Override PartName="/ppt/media/image10.wmf" ContentType="image/x-wm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8B3-8FE0-4D8D-B688-A0384595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BF3-0637-4222-AD48-CD5E0E9F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390-D40B-4EBD-BAC4-0F26EE52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1FE-B6EA-45A3-A4AC-942D40A0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BC7-C764-44AD-9FEF-DB9FA041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8A2-045F-4814-9BA9-12997B90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C6E-C792-4DCA-84A8-C5720BAA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FB0-0558-4CCE-879A-F9E672B7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B34-9AE7-4386-AED4-E5CBC60D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C11-FBB9-4A4F-B0E8-ECC0506B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5E4-5C5E-4C7C-B006-9EC80BC2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879-6352-47CA-A406-3B48DF32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4211-BC01-4080-B7C6-CB9ABF3DF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ff33"/>
                </a:solidFill>
                <a:latin typeface="Arial"/>
              </a:rPr>
              <a:t>Добрый день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MPj04331600000[1]"/>
          <p:cNvPicPr/>
          <p:nvPr/>
        </p:nvPicPr>
        <p:blipFill>
          <a:blip r:embed="rId1"/>
          <a:stretch/>
        </p:blipFill>
        <p:spPr>
          <a:xfrm>
            <a:off x="304920" y="228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MCj04404520000[1]"/>
          <p:cNvPicPr/>
          <p:nvPr/>
        </p:nvPicPr>
        <p:blipFill>
          <a:blip r:embed="rId2"/>
          <a:stretch/>
        </p:blipFill>
        <p:spPr>
          <a:xfrm>
            <a:off x="6553080" y="4419720"/>
            <a:ext cx="13687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Выездка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38080" y="44197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знаем что это за вид спорта. По смотрим как из себя представляет  вы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Выезд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ездка — вид конного спорта, высшая школа верховой езды. На соревнованиях по выездке всадник и лошадь выполняют различные элементы верховой езды, в определенной последовательности — демонстрация правильной стойки, боковые сгибания-принимания, менки ног, пассаж, пиаффе, переходы с одного аллюра на другой, сложные повороты и пируэты. Сложность элементов зависит от уровня езды. Всадник должен продемонстрировать уровень тренированности лошади, её атлетические данные и способность выполнять правильные и производительные движения на всех аллюрах в различном темпе, сохраняя правильное положение корпуса. По выездке проводятся соревнования — любительские и профессиональные. Выездка является олимпийским видом сп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</a:rPr>
              <a:t>Выездка делится на несколько категорий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31240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 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Предварительный, личный тесты для юнио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для юношей (вс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для молодых лошадей (4-6 лет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Челленджера (кроме Малого Приз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352680" y="2282760"/>
            <a:ext cx="29718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Средний Приз №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Малый Пр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уровня Среднего Приза №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для юнио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95880" y="1600200"/>
            <a:ext cx="2514600" cy="23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 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Большой Пр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Переездка Большого Приз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уровня Большого При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ыглядит предст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всадник и лошадь должны быть единым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выступать нужно тренировать лошадь, долго и упо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697px-WC07a"/>
          <p:cNvPicPr/>
          <p:nvPr/>
        </p:nvPicPr>
        <p:blipFill>
          <a:blip r:embed="rId1"/>
          <a:stretch/>
        </p:blipFill>
        <p:spPr>
          <a:xfrm>
            <a:off x="5605560" y="1778040"/>
            <a:ext cx="2124000" cy="1828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990720" y="228240"/>
            <a:ext cx="701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Выступле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object_47"/>
          <p:cNvPicPr/>
          <p:nvPr/>
        </p:nvPicPr>
        <p:blipFill>
          <a:blip r:embed="rId2"/>
          <a:stretch/>
        </p:blipFill>
        <p:spPr>
          <a:xfrm>
            <a:off x="5334120" y="3962520"/>
            <a:ext cx="3695760" cy="2571480"/>
          </a:xfrm>
          <a:prstGeom prst="rect">
            <a:avLst/>
          </a:prstGeom>
          <a:ln w="0">
            <a:noFill/>
          </a:ln>
        </p:spPr>
      </p:pic>
      <p:pic>
        <p:nvPicPr>
          <p:cNvPr id="91" name="cf9aa347e9.avi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6288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7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Конкур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знаем больше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 э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де конного 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онку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кур (фр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oncours hippique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— конные состязания) — соревнования по преодолению препятствий (от 6 до 18), проходящие на конкурном поле. Конкур стали проводить с середины XIX века в Бельгии, затем во Франции и Италии. В России первый конкур был организован в 1889 году. В зависимости от количества препятствий и их высоты конкур подразделяют на лёгкий, средний, трудный и высш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587px-Baltic_Cup_Shannon_Mejnert_Sandy1"/>
          <p:cNvPicPr/>
          <p:nvPr/>
        </p:nvPicPr>
        <p:blipFill>
          <a:blip r:embed="rId2"/>
          <a:stretch/>
        </p:blipFill>
        <p:spPr>
          <a:xfrm>
            <a:off x="4424400" y="1828800"/>
            <a:ext cx="455292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Прыж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ше всех на неоседланной лошади по кличке Ред Флайт прыгнул Майкл Уитейкер в Дублине в 1982 году — 2,13 м. Рекорд Европы в высотном прыжке 2,35 м установил в 1988 году швейцарец Маркус Фукс на светло-сером коне вестфальской породы по кличке Пушкин. Мировой рекорд выполнил чилиец Vina del Mar 5го февраля 1949 года, высота прыжка составила 2,45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800px-Showjumping_white_horse"/>
          <p:cNvPicPr/>
          <p:nvPr/>
        </p:nvPicPr>
        <p:blipFill>
          <a:blip r:embed="rId1"/>
          <a:stretch/>
        </p:blipFill>
        <p:spPr>
          <a:xfrm>
            <a:off x="228600" y="3200400"/>
            <a:ext cx="4343400" cy="339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Muybridge_race_horse_animated"/>
          <p:cNvPicPr/>
          <p:nvPr/>
        </p:nvPicPr>
        <p:blipFill>
          <a:blip r:embed="rId2"/>
          <a:stretch/>
        </p:blipFill>
        <p:spPr>
          <a:xfrm>
            <a:off x="0" y="96516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ажение верховой езды было обнаружено на персидских гравюрах, датированных примерно 3000 годом до н. 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Muybridge_horse_jumping_animated"/>
          <p:cNvPicPr/>
          <p:nvPr/>
        </p:nvPicPr>
        <p:blipFill>
          <a:blip r:embed="rId1"/>
          <a:stretch/>
        </p:blipFill>
        <p:spPr>
          <a:xfrm>
            <a:off x="457200" y="3124080"/>
            <a:ext cx="3733920" cy="27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Общая информация о конк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ые соревнования по преодолению препятствий (конкур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ли организованы в манеже на улице Ислингтон в Лондоне в 1869 году. Соревнования по преодолению препятствий, выездке и троеборью были впервые включены в программу Олимпийских игр в 1900 году. А всадники СССР стали участвовать в Играх только с 1952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же конкур делят на конкур «по выбору», «до первой ошибки», «охотничий паркур», «на стиль», скоростной. Первыми всадниками, прославившими Россию на международной арене в конкуре, были Д. М. Иваненков, М. М. Плешков, А. Л. Родзянко и Д. Ф. фон Эксе. Рекорд СССР в высотном прыжке — 2 м 25 см. Установил его в 1953 году Игорь Лысогорский на рослом тракененском Ков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9900"/>
                </a:solidFill>
                <a:latin typeface="Arial"/>
              </a:rPr>
              <a:t>А это видео про наш ипподр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Наш любимый ипподром.wmv" descr=""/>
          <p:cNvPicPr/>
          <p:nvPr/>
        </p:nvPicPr>
        <p:blipFill>
          <a:blip r:embed="rId1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609840" y="1828440"/>
            <a:ext cx="7848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 Black"/>
              </a:rPr>
              <a:t>Творческий</a:t>
            </a:r>
            <a:br>
              <a:rPr sz="6600"/>
            </a:br>
            <a:br>
              <a:rPr sz="6600"/>
            </a:br>
            <a:r>
              <a:rPr b="1" i="1" lang="ru-RU" sz="6600" spc="-1" strike="noStrike">
                <a:solidFill>
                  <a:srgbClr val="000000"/>
                </a:solidFill>
                <a:latin typeface="Arial Black"/>
              </a:rPr>
              <a:t>          проект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Cj04377970000[1]"/>
          <p:cNvPicPr/>
          <p:nvPr/>
        </p:nvPicPr>
        <p:blipFill>
          <a:blip r:embed="rId1"/>
          <a:stretch/>
        </p:blipFill>
        <p:spPr>
          <a:xfrm>
            <a:off x="6553080" y="609480"/>
            <a:ext cx="205740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80880" y="1981080"/>
            <a:ext cx="95248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3399"/>
                </a:solidFill>
                <a:latin typeface="Arial"/>
              </a:rPr>
              <a:t>Спасибо за внимание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80880" y="533520"/>
            <a:ext cx="449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66"/>
                </a:solidFill>
                <a:latin typeface="Arial"/>
              </a:rPr>
              <a:t>Автор проекта-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3600" spc="-1" strike="noStrike">
                <a:solidFill>
                  <a:srgbClr val="0099ff"/>
                </a:solidFill>
                <a:latin typeface="Arial"/>
              </a:rPr>
              <a:t>Косулина Валентина,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66"/>
                </a:solidFill>
                <a:latin typeface="Arial"/>
              </a:rPr>
              <a:t>ученица  5 «а»  клас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990720" y="4191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Arial"/>
              </a:rPr>
              <a:t>Руководитель- Цилюрик Ирина Петровна,                           учитель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87240" y="518148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МОУ «Средняя общеобразовательная школа №10 г. Йошкар-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888720" y="58672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рекар"/>
          <p:cNvPicPr/>
          <p:nvPr/>
        </p:nvPicPr>
        <p:blipFill>
          <a:blip r:embed="rId1"/>
          <a:stretch/>
        </p:blipFill>
        <p:spPr>
          <a:xfrm>
            <a:off x="4419720" y="152280"/>
            <a:ext cx="24462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66ff"/>
                </a:solidFill>
                <a:latin typeface="Arial Black"/>
              </a:rPr>
              <a:t>Конный спор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MC900282032[1]"/>
          <p:cNvPicPr/>
          <p:nvPr/>
        </p:nvPicPr>
        <p:blipFill>
          <a:blip r:embed="rId1"/>
          <a:stretch/>
        </p:blipFill>
        <p:spPr>
          <a:xfrm>
            <a:off x="6324480" y="838080"/>
            <a:ext cx="1801800" cy="144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MM900295246[2]"/>
          <p:cNvPicPr/>
          <p:nvPr/>
        </p:nvPicPr>
        <p:blipFill>
          <a:blip r:embed="rId2"/>
          <a:stretch/>
        </p:blipFill>
        <p:spPr>
          <a:xfrm>
            <a:off x="3657600" y="5105520"/>
            <a:ext cx="1600200" cy="101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M900288962[2]"/>
          <p:cNvPicPr/>
          <p:nvPr/>
        </p:nvPicPr>
        <p:blipFill>
          <a:blip r:embed="rId3"/>
          <a:stretch/>
        </p:blipFill>
        <p:spPr>
          <a:xfrm>
            <a:off x="838080" y="4724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MM900296951[2]"/>
          <p:cNvPicPr/>
          <p:nvPr/>
        </p:nvPicPr>
        <p:blipFill>
          <a:blip r:embed="rId4"/>
          <a:stretch/>
        </p:blipFill>
        <p:spPr>
          <a:xfrm>
            <a:off x="5562720" y="4876920"/>
            <a:ext cx="1752480" cy="137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dglxasset[1]"/>
          <p:cNvPicPr/>
          <p:nvPr/>
        </p:nvPicPr>
        <p:blipFill>
          <a:blip r:embed="rId5"/>
          <a:stretch/>
        </p:blipFill>
        <p:spPr>
          <a:xfrm>
            <a:off x="3124080" y="304920"/>
            <a:ext cx="1467000" cy="18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каждого кто любит лоша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сть лошадь всех прекрасней и умней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е важно, то араб или рысак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рода не влияет здесь никак..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днажды лошадь, а быть может кон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ткнётся мягким носом вам в ладонь,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смотрит взглядом добрым и простым..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 вы поймёте - что родные с ним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На какие виды делится конный спор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rganization Chart 14"/>
          <p:cNvGrpSpPr/>
          <p:nvPr/>
        </p:nvGrpSpPr>
        <p:grpSpPr>
          <a:xfrm>
            <a:off x="0" y="1752480"/>
            <a:ext cx="9143640" cy="5104080"/>
            <a:chOff x="0" y="1752480"/>
            <a:chExt cx="9143640" cy="510408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H="1" flipV="1" rot="5400000">
              <a:off x="2891520" y="3134160"/>
              <a:ext cx="1021320" cy="233964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H="1" flipV="1" rot="5400000">
              <a:off x="3671640" y="3914280"/>
              <a:ext cx="1021320" cy="77976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V="1" rot="16200000">
              <a:off x="4451400" y="3913200"/>
              <a:ext cx="1021320" cy="78156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V="1" rot="16200000">
              <a:off x="6013080" y="2351520"/>
              <a:ext cx="1021320" cy="390492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2"/>
            <p:cNvCxnSpPr>
              <a:stCxn id="69" idx="0"/>
              <a:endCxn id="61" idx="2"/>
            </p:cNvCxnSpPr>
            <p:nvPr/>
          </p:nvCxnSpPr>
          <p:spPr>
            <a:xfrm flipV="1" rot="16200000">
              <a:off x="5231520" y="3133080"/>
              <a:ext cx="1021320" cy="234144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0"/>
              <a:endCxn id="61" idx="2"/>
            </p:cNvCxnSpPr>
            <p:nvPr/>
          </p:nvCxnSpPr>
          <p:spPr>
            <a:xfrm flipH="1" flipV="1" rot="5400000">
              <a:off x="2117160" y="2345400"/>
              <a:ext cx="1006920" cy="3903120"/>
            </a:xfrm>
            <a:prstGeom prst="bentConnector3">
              <a:avLst>
                <a:gd name="adj1" fmla="val 113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4"/>
            <p:cNvSpPr/>
            <p:nvPr/>
          </p:nvSpPr>
          <p:spPr>
            <a:xfrm>
              <a:off x="3902400" y="175248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99"/>
                  </a:solidFill>
                  <a:latin typeface="Arial"/>
                </a:rPr>
                <a:t>Конн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99"/>
                  </a:solidFill>
                  <a:latin typeface="Arial"/>
                </a:rPr>
                <a:t>спор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5"/>
            <p:cNvSpPr/>
            <p:nvPr/>
          </p:nvSpPr>
          <p:spPr>
            <a:xfrm>
              <a:off x="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Выездка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6"/>
            <p:cNvSpPr/>
            <p:nvPr/>
          </p:nvSpPr>
          <p:spPr>
            <a:xfrm>
              <a:off x="624348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Пробеги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7"/>
            <p:cNvSpPr/>
            <p:nvPr/>
          </p:nvSpPr>
          <p:spPr>
            <a:xfrm>
              <a:off x="780516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Вольти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жировка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8"/>
            <p:cNvSpPr/>
            <p:nvPr/>
          </p:nvSpPr>
          <p:spPr>
            <a:xfrm>
              <a:off x="4683600" y="4815000"/>
              <a:ext cx="1336680" cy="2041560"/>
            </a:xfrm>
            <a:custGeom>
              <a:avLst/>
              <a:gdLst>
                <a:gd name="textAreaLeft" fmla="*/ 65160 w 1336680"/>
                <a:gd name="textAreaRight" fmla="*/ 1271520 w 13366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87">
                  <a:moveTo>
                    <a:pt x="3600" y="0"/>
                  </a:moveTo>
                  <a:arcTo wR="3600" hR="3600" stAng="16200000" swAng="-5400000"/>
                  <a:lnTo>
                    <a:pt x="0" y="29387"/>
                  </a:lnTo>
                  <a:arcTo wR="3600" hR="3600" stAng="10800000" swAng="-5400000"/>
                  <a:lnTo>
                    <a:pt x="18000" y="32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Драйвинг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9"/>
            <p:cNvSpPr/>
            <p:nvPr/>
          </p:nvSpPr>
          <p:spPr>
            <a:xfrm>
              <a:off x="3123360" y="4815000"/>
              <a:ext cx="1337040" cy="2041560"/>
            </a:xfrm>
            <a:custGeom>
              <a:avLst/>
              <a:gdLst>
                <a:gd name="textAreaLeft" fmla="*/ 65160 w 1337040"/>
                <a:gd name="textAreaRight" fmla="*/ 1271880 w 133704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79">
                  <a:moveTo>
                    <a:pt x="3600" y="0"/>
                  </a:moveTo>
                  <a:arcTo wR="3600" hR="3600" stAng="16200000" swAng="-5400000"/>
                  <a:lnTo>
                    <a:pt x="0" y="29379"/>
                  </a:lnTo>
                  <a:arcTo wR="3600" hR="3600" stAng="10800000" swAng="-5400000"/>
                  <a:lnTo>
                    <a:pt x="18000" y="329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Троеборье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156168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Конкур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3" descr="MCj04398510000[1]"/>
          <p:cNvPicPr/>
          <p:nvPr/>
        </p:nvPicPr>
        <p:blipFill>
          <a:blip r:embed="rId1"/>
          <a:stretch/>
        </p:blipFill>
        <p:spPr>
          <a:xfrm>
            <a:off x="6934320" y="914400"/>
            <a:ext cx="192384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</a:rPr>
              <a:t>Цель исследова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cc"/>
                </a:solidFill>
                <a:latin typeface="Arial"/>
              </a:rPr>
              <a:t>Здравствуйте! Сегодня я расскажу вам про спорт, которым я занимаюсь, - конный спорт. Мы узнаем больше про выездку и конкур. И, самое главное, в презентации  мы увидим как выглядят представления по выездке , а также фильм, который я создала про мой иппод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муни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ы одноконной бездуговой упряж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м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мённые гор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ы пароконной упряжи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м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грудные рем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стром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леи, уздечек с удилами и парных вожж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д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гавк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пон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дп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доудоз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умб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акам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пр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ипиров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мазо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ридж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единг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Жокей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а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Шп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или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Хлы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щитный жи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ina</dc:creator>
  <dc:description/>
  <dc:language>en-US</dc:language>
  <cp:lastModifiedBy>Цилюрик Ирина Петровна</cp:lastModifiedBy>
  <dcterms:modified xsi:type="dcterms:W3CDTF">2011-02-08T03:29:2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