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gif" ContentType="image/gif"/>
  <Override PartName="/ppt/media/laser.wav" ContentType="audio/x-wav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F174-540B-414A-941D-8853E5A8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37B0-99A2-4F39-BF68-FB816CE7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8B71-A56B-4A02-86A3-B78E1F684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0645-2CC9-436F-A00A-A0AF798EF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FC5B-F212-4258-8372-CDA66BF3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06F3-D122-4BEE-868B-C4127BE3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C353-AF5A-4FF8-B177-9AE73F3A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E28F-241A-403F-B8FE-A1DB9A9F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5F9D-5FBF-4BD0-8200-68BA1D46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F74D-4907-4442-9E26-629B882E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0220-381C-47DB-9372-D08D6E62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B025-34A2-41BE-AD31-4373E09F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24D2-8055-40B2-AA46-24E57AB2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A5F6-B2F2-4CE4-9FB8-D4E4FD01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BD6B-C1EC-4F76-A5C7-2707D02F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39F4-0070-4675-8857-9C9F55106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7A3E-74FF-4C5E-A8C9-FB3BFB0C7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2441-C83A-4B11-B755-A6E1299A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72B6-D5C4-4DFC-B8DD-919EC77C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5237-5AB0-4302-A5B9-6E067BE4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E4F6-F07C-4771-ADF9-078A6B21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4868-B735-4110-82E7-6252C6F4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509F-68E6-48EE-BAE5-E7D413B1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6446-2812-4DBA-9D80-D5EAC58A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1996-407B-4334-8F30-20956AF3DB1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65CD-1B02-4819-B659-361EECC8D49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8.jpeg"/><Relationship Id="rId7" Type="http://schemas.openxmlformats.org/officeDocument/2006/relationships/image" Target="../media/image5.jpeg"/><Relationship Id="rId8" Type="http://schemas.openxmlformats.org/officeDocument/2006/relationships/image" Target="../media/image9.jpeg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89;&#1090;&#1077;&#1088;&#1085;" TargetMode="External"/><Relationship Id="rId2" Type="http://schemas.openxmlformats.org/officeDocument/2006/relationships/hyperlink" Target="http://ru.wikipedia.org/wiki/&#1042;&#1086;&#1083;&#1100;&#1090;&#1080;&#1078;&#1080;&#1088;&#1086;&#1074;&#1082;&#1072;" TargetMode="External"/><Relationship Id="rId3" Type="http://schemas.openxmlformats.org/officeDocument/2006/relationships/hyperlink" Target="http://ru.wikipedia.org/wiki/&#1042;&#1099;&#1077;&#1079;&#1076;&#1082;&#1072;" TargetMode="External"/><Relationship Id="rId4" Type="http://schemas.openxmlformats.org/officeDocument/2006/relationships/hyperlink" Target="http://ru.wikipedia.org/w/index.php?title=&#1044;&#1072;&#1084;&#1089;&#1082;&#1072;&#1103;_&#1077;&#1079;&#1076;&#1072;&amp;action=edit&amp;redlink=1" TargetMode="External"/><Relationship Id="rId5" Type="http://schemas.openxmlformats.org/officeDocument/2006/relationships/hyperlink" Target="http://ru.wikipedia.org/wiki/&#1044;&#1078;&#1080;&#1075;&#1080;&#1090;&#1086;&#1074;&#1082;&#1072;" TargetMode="External"/><Relationship Id="rId6" Type="http://schemas.openxmlformats.org/officeDocument/2006/relationships/hyperlink" Target="http://ru.wikipedia.org/wiki/&#1044;&#1088;&#1072;&#1081;&#1074;&#1080;&#1085;&#1075;" TargetMode="External"/><Relationship Id="rId7" Type="http://schemas.openxmlformats.org/officeDocument/2006/relationships/hyperlink" Target="http://ru.wikipedia.org/wiki/&#1050;&#1086;&#1085;&#1082;&#1091;&#1088;" TargetMode="External"/><Relationship Id="rId8" Type="http://schemas.openxmlformats.org/officeDocument/2006/relationships/hyperlink" Target="http://ru.wikipedia.org/w/index.php?title=&#1050;&#1086;&#1085;&#1085;&#1086;&#1077;_&#1087;&#1086;&#1083;&#1086;&amp;action=edit&amp;redlink=1" TargetMode="External"/><Relationship Id="rId9" Type="http://schemas.openxmlformats.org/officeDocument/2006/relationships/hyperlink" Target="http://ru.wikipedia.org/w/index.php?title=&#1055;&#1088;&#1086;&#1073;&#1077;&#1075;&#1080;&amp;action=edit&amp;redlink=1" TargetMode="External"/><Relationship Id="rId10" Type="http://schemas.openxmlformats.org/officeDocument/2006/relationships/hyperlink" Target="http://ru.wikipedia.org/wiki/&#1058;&#1088;&#1077;&#1082;" TargetMode="External"/><Relationship Id="rId11" Type="http://schemas.openxmlformats.org/officeDocument/2006/relationships/hyperlink" Target="http://ru.wikipedia.org/w/index.php?title=&#1058;&#1088;&#1086;&#1077;&#1073;&#1086;&#1088;&#1100;&#1077;_%28&#1082;&#1086;&#1085;&#1085;&#1099;&#1081;_&#1089;&#1087;&#1086;&#1088;&#1090;%29&amp;action=edit&amp;redlink=1" TargetMode="External"/><Relationship Id="rId12" Type="http://schemas.openxmlformats.org/officeDocument/2006/relationships/hyperlink" Target="http://ru.wikipedia.org/wiki/&#1041;&#1072;&#1081;&#1075;&#1072;" TargetMode="External"/><Relationship Id="rId13" Type="http://schemas.openxmlformats.org/officeDocument/2006/relationships/hyperlink" Target="http://ru.wikipedia.org/wiki/&#1057;&#1082;&#1072;&#1095;&#1082;&#1080;" TargetMode="External"/><Relationship Id="rId14" Type="http://schemas.openxmlformats.org/officeDocument/2006/relationships/audio" Target="../media/laser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8;&#1077;&#1085;&#1079;&#1077;&#1083;&#1100;" TargetMode="External"/><Relationship Id="rId2" Type="http://schemas.openxmlformats.org/officeDocument/2006/relationships/hyperlink" Target="http://ru.wikipedia.org/wiki/&#1052;&#1091;&#1085;&#1076;&#1096;&#1090;&#1091;&#1082;" TargetMode="External"/><Relationship Id="rId3" Type="http://schemas.openxmlformats.org/officeDocument/2006/relationships/hyperlink" Target="http://ru.wikipedia.org/wiki/&#1057;&#1082;&#1086;&#1083;&#1100;&#1079;&#1103;&#1097;&#1080;&#1077;_&#1087;&#1086;&#1074;&#1086;&#1076;&#1100;&#1103;" TargetMode="External"/><Relationship Id="rId4" Type="http://schemas.openxmlformats.org/officeDocument/2006/relationships/hyperlink" Target="http://ru.wikipedia.org/wiki/&#1064;&#1087;&#1088;&#1091;&#1085;&#1090;" TargetMode="External"/><Relationship Id="rId5" Type="http://schemas.openxmlformats.org/officeDocument/2006/relationships/hyperlink" Target="http://ru.wikipedia.org/wiki/&#1043;&#1086;&#1075;" TargetMode="External"/><Relationship Id="rId6" Type="http://schemas.openxmlformats.org/officeDocument/2006/relationships/hyperlink" Target="http://ru.wikipedia.org/wiki/&#1052;&#1072;&#1088;&#1090;&#1080;&#1085;&#1075;&#1072;&#1083;" TargetMode="External"/><Relationship Id="rId7" Type="http://schemas.openxmlformats.org/officeDocument/2006/relationships/hyperlink" Target="http://ru.wikipedia.org/wiki/&#1061;&#1072;&#1082;&#1072;&#1084;&#1086;&#1088;&#1072;" TargetMode="External"/><Relationship Id="rId8" Type="http://schemas.openxmlformats.org/officeDocument/2006/relationships/hyperlink" Target="http://ru.wikipedia.org/wiki/&#1053;&#1077;&#1076;&#1086;&#1091;&#1079;&#1076;&#1086;&#1082;" TargetMode="External"/><Relationship Id="rId9" Type="http://schemas.openxmlformats.org/officeDocument/2006/relationships/image" Target="../media/image5.jpeg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88;&#1080;&#1076;&#1078;&#1080;" TargetMode="External"/><Relationship Id="rId2" Type="http://schemas.openxmlformats.org/officeDocument/2006/relationships/hyperlink" Target="http://ru.wikipedia.org/wiki/&#1056;&#1077;&#1076;&#1080;&#1085;&#1075;&#1086;&#1090;" TargetMode="External"/><Relationship Id="rId3" Type="http://schemas.openxmlformats.org/officeDocument/2006/relationships/hyperlink" Target="http://ru.wikipedia.org/w/index.php?title=&#1046;&#1086;&#1082;&#1077;&#1081;&#1082;&#1072;&amp;action=edit&amp;redlink=1" TargetMode="External"/><Relationship Id="rId4" Type="http://schemas.openxmlformats.org/officeDocument/2006/relationships/hyperlink" Target="http://ru.wikipedia.org/w/index.php?title=&#1050;&#1088;&#1072;&#1075;&#1080;&amp;action=edit&amp;redlink=1" TargetMode="External"/><Relationship Id="rId5" Type="http://schemas.openxmlformats.org/officeDocument/2006/relationships/image" Target="../media/image6.png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3399"/>
                </a:solidFill>
                <a:latin typeface="Arial"/>
              </a:rPr>
              <a:t>Конный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8800" spc="-1" strike="noStrike">
                <a:solidFill>
                  <a:srgbClr val="ff3399"/>
                </a:solidFill>
                <a:latin typeface="Arial"/>
              </a:rPr>
              <a:t>спорт</a:t>
            </a:r>
            <a:endParaRPr b="0" lang="en-US" sz="8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4356000" y="3645000"/>
            <a:ext cx="3838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Подготовила ученица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 </a:t>
            </a: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5 б класса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Глазырина Анастасия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3780000" y="4941720"/>
            <a:ext cx="501948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реподаватель: Цилюрик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Ирина Петровн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63" name="Picture 7" descr="Изображение 020"/>
          <p:cNvPicPr/>
          <p:nvPr/>
        </p:nvPicPr>
        <p:blipFill>
          <a:blip r:embed="rId1"/>
          <a:stretch/>
        </p:blipFill>
        <p:spPr>
          <a:xfrm>
            <a:off x="306360" y="2571840"/>
            <a:ext cx="383076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630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ИРОДЕ ЛОШАДЬ ПЕРЕДВИГАЕТСЯ ЧЕТЫРМЯ СПОСОБАМИ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агом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ысь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оходью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алопом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4" descr="КО"/>
          <p:cNvPicPr/>
          <p:nvPr/>
        </p:nvPicPr>
        <p:blipFill>
          <a:blip r:embed="rId6"/>
          <a:stretch/>
        </p:blipFill>
        <p:spPr>
          <a:xfrm>
            <a:off x="5478480" y="401796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КО"/>
          <p:cNvPicPr/>
          <p:nvPr/>
        </p:nvPicPr>
        <p:blipFill>
          <a:blip r:embed="rId7"/>
          <a:stretch/>
        </p:blipFill>
        <p:spPr>
          <a:xfrm>
            <a:off x="3851280" y="3933720"/>
            <a:ext cx="1905120" cy="1270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canter2"/>
          <p:cNvPicPr/>
          <p:nvPr/>
        </p:nvPicPr>
        <p:blipFill>
          <a:blip r:embed="rId8"/>
          <a:stretch/>
        </p:blipFill>
        <p:spPr>
          <a:xfrm>
            <a:off x="6012000" y="2852640"/>
            <a:ext cx="209520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О ЛОШАДЕЙ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ошади – это не просто вьючное животное, они очень умны и талантливы. Несмотря на достаточно своенравный характер лошадей. Особенно если они дикие, умелый тренер и наездник сможет их обуздать. Таким образом, прекрасная в своей дикой красоте лошадь, станет не менее прекрасным, но уже благородной красотой животны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КОННЫЕ РАЗВЛЕЧЕН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7" name="Picture 5" descr="КО"/>
          <p:cNvPicPr/>
          <p:nvPr/>
        </p:nvPicPr>
        <p:blipFill>
          <a:blip r:embed="rId1"/>
          <a:stretch/>
        </p:blipFill>
        <p:spPr>
          <a:xfrm>
            <a:off x="7238880" y="5013360"/>
            <a:ext cx="1905120" cy="1270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КО"/>
          <p:cNvPicPr/>
          <p:nvPr/>
        </p:nvPicPr>
        <p:blipFill>
          <a:blip r:embed="rId2"/>
          <a:stretch/>
        </p:blipFill>
        <p:spPr>
          <a:xfrm>
            <a:off x="6012000" y="4581360"/>
            <a:ext cx="1904760" cy="12700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7"/>
          <p:cNvSpPr/>
          <p:nvPr/>
        </p:nvSpPr>
        <p:spPr>
          <a:xfrm>
            <a:off x="519120" y="2492280"/>
            <a:ext cx="8325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ега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ега рысью под  седлом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но-лыжные соревнования, или скоринг (от норвежского «skijoring»)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спытания тяжеловозов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ревнования русских троек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ные эстафеты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О СПОРТ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НЫЙ СПОРТ- соревнования в искусстве верховой езды на лошад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ВИДЫ КОННОГО СПОРТА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Вестерн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Вольтижировк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Выездк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Дамская езд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5"/>
              </a:rPr>
              <a:t>Джигитовк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6"/>
              </a:rPr>
              <a:t>Драйвинг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7"/>
              </a:rPr>
              <a:t>Конкур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8"/>
              </a:rPr>
              <a:t>Конное поло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9"/>
              </a:rPr>
              <a:t>Пробег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0"/>
              </a:rPr>
              <a:t>Трек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1"/>
              </a:rPr>
              <a:t>Троеборье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2"/>
              </a:rPr>
              <a:t>Байг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3"/>
              </a:rPr>
              <a:t>Скачк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164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АМУНИЦ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Трензель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Мундштук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Скользящие поводья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Шпрунт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5"/>
              </a:rPr>
              <a:t>Гог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6"/>
              </a:rPr>
              <a:t>Мартингал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7"/>
              </a:rPr>
              <a:t>Хакамор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8"/>
              </a:rPr>
              <a:t>Недоуздок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572000" y="1341360"/>
            <a:ext cx="45720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Чумбур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Корда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едло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дпруга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тремя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альтрап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пона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огавки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7" descr="КО"/>
          <p:cNvPicPr/>
          <p:nvPr/>
        </p:nvPicPr>
        <p:blipFill>
          <a:blip r:embed="rId9"/>
          <a:stretch/>
        </p:blipFill>
        <p:spPr>
          <a:xfrm>
            <a:off x="5364000" y="4869000"/>
            <a:ext cx="1905120" cy="126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ЭКИПИРОВК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Бридж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Редингот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Жокейк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Краг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псы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аркроты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поры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6" descr="0_1ef7_4e7bfa24_XS"/>
          <p:cNvPicPr/>
          <p:nvPr/>
        </p:nvPicPr>
        <p:blipFill>
          <a:blip r:embed="rId5"/>
          <a:stretch/>
        </p:blipFill>
        <p:spPr>
          <a:xfrm>
            <a:off x="4572000" y="2060640"/>
            <a:ext cx="4041720" cy="37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ПОРОДЫ ЛОШАДЕЙ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ля езды верхом в нашей стране используются как отечественные породы лошадей — ахалтекинская, терская, украинская, так и выведенные за рубежом, например арабская, чистокровная верховая, тракенская. Верховые лошади сравнительно высокие, статные, сухоногие, с не очень большой сухой головой, тонкой кожей. Для них важны постоянный уход, определенные условия содержания, четкая система тренинг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СКАЧКИ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4" name="Picture 4" descr="0_12e59_cd268e58_L"/>
          <p:cNvPicPr/>
          <p:nvPr/>
        </p:nvPicPr>
        <p:blipFill>
          <a:blip r:embed="rId1"/>
          <a:stretch/>
        </p:blipFill>
        <p:spPr>
          <a:xfrm>
            <a:off x="971640" y="907920"/>
            <a:ext cx="6350040" cy="506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1:10:03Z</dcterms:created>
  <dc:creator>MX</dc:creator>
  <dc:description/>
  <dc:language>en-US</dc:language>
  <cp:lastModifiedBy>Ирина Петровна</cp:lastModifiedBy>
  <dcterms:modified xsi:type="dcterms:W3CDTF">2009-08-17T15:10:12Z</dcterms:modified>
  <cp:revision>8</cp:revision>
  <dc:subject/>
  <dc:title>Конный спорт</dc:title>
</cp:coreProperties>
</file>