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5B1-EC1B-4823-B66D-82C20172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6D7-A7CF-4BE3-8E71-22A78A4A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D1F-3456-489D-8DA3-C8BB6E3E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E8E-32FD-414B-8C47-0B130E64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905D-6DC4-49DF-84AA-F0AF9B07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03D5-6F1E-4541-AEE7-447993C5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DFFB-BE05-49A3-8236-3EC7E6D8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4681-7EE6-49C5-9591-0E0C851A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11A6-8372-4FC7-991A-CDAA409C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11A0-97E9-4A57-8A80-A8CF5390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CF21-00B3-463E-982E-2E07AF7F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EE6-F7E4-4935-9459-F4736A44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B343-EBFD-44B3-AFAA-23F3F271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1707-3129-413D-B2B9-231AC785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B072-A0F1-4FB5-B262-7CE2DD2B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FA5F-B7D1-4AE9-AC23-BC00684F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7625-992B-4E4A-A87F-2DFFC2B1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AFF-5D0C-488F-A412-33AB7275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C43-F676-434F-87BF-B8B2D31E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5F3-A55C-4F81-B0EE-603EC9FA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16D-4F36-4784-A086-0760BE3F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21C-2787-4A38-A7F4-DDC6A5C2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153-DE62-4802-B7EC-4878F9C3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CB5-84CA-4C23-9EA7-DEF04FB0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434F-D583-4D5C-BD3D-E87DE45379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A14D-1968-497E-A06D-2EEFE27E84C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image" Target="../media/image5.jpeg"/><Relationship Id="rId8" Type="http://schemas.openxmlformats.org/officeDocument/2006/relationships/image" Target="../media/image9.jpeg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9;&#1090;&#1077;&#1088;&#1085;" TargetMode="External"/><Relationship Id="rId2" Type="http://schemas.openxmlformats.org/officeDocument/2006/relationships/hyperlink" Target="http://ru.wikipedia.org/wiki/&#1042;&#1086;&#1083;&#1100;&#1090;&#1080;&#1078;&#1080;&#1088;&#1086;&#1074;&#1082;&#1072;" TargetMode="External"/><Relationship Id="rId3" Type="http://schemas.openxmlformats.org/officeDocument/2006/relationships/hyperlink" Target="http://ru.wikipedia.org/wiki/&#1042;&#1099;&#1077;&#1079;&#1076;&#1082;&#1072;" TargetMode="External"/><Relationship Id="rId4" Type="http://schemas.openxmlformats.org/officeDocument/2006/relationships/hyperlink" Target="http://ru.wikipedia.org/w/index.php?title=&#1044;&#1072;&#1084;&#1089;&#1082;&#1072;&#1103;_&#1077;&#1079;&#1076;&#1072;&amp;action=edit&amp;redlink=1" TargetMode="External"/><Relationship Id="rId5" Type="http://schemas.openxmlformats.org/officeDocument/2006/relationships/hyperlink" Target="http://ru.wikipedia.org/wiki/&#1044;&#1078;&#1080;&#1075;&#1080;&#1090;&#1086;&#1074;&#1082;&#1072;" TargetMode="External"/><Relationship Id="rId6" Type="http://schemas.openxmlformats.org/officeDocument/2006/relationships/hyperlink" Target="http://ru.wikipedia.org/wiki/&#1044;&#1088;&#1072;&#1081;&#1074;&#1080;&#1085;&#1075;" TargetMode="External"/><Relationship Id="rId7" Type="http://schemas.openxmlformats.org/officeDocument/2006/relationships/hyperlink" Target="http://ru.wikipedia.org/wiki/&#1050;&#1086;&#1085;&#1082;&#1091;&#1088;" TargetMode="External"/><Relationship Id="rId8" Type="http://schemas.openxmlformats.org/officeDocument/2006/relationships/hyperlink" Target="http://ru.wikipedia.org/w/index.php?title=&#1050;&#1086;&#1085;&#1085;&#1086;&#1077;_&#1087;&#1086;&#1083;&#1086;&amp;action=edit&amp;redlink=1" TargetMode="External"/><Relationship Id="rId9" Type="http://schemas.openxmlformats.org/officeDocument/2006/relationships/hyperlink" Target="http://ru.wikipedia.org/w/index.php?title=&#1055;&#1088;&#1086;&#1073;&#1077;&#1075;&#1080;&amp;action=edit&amp;redlink=1" TargetMode="External"/><Relationship Id="rId10" Type="http://schemas.openxmlformats.org/officeDocument/2006/relationships/hyperlink" Target="http://ru.wikipedia.org/wiki/&#1058;&#1088;&#1077;&#1082;" TargetMode="External"/><Relationship Id="rId11" Type="http://schemas.openxmlformats.org/officeDocument/2006/relationships/hyperlink" Target="http://ru.wikipedia.org/w/index.php?title=&#1058;&#1088;&#1086;&#1077;&#1073;&#1086;&#1088;&#1100;&#1077;_%28&#1082;&#1086;&#1085;&#1085;&#1099;&#1081;_&#1089;&#1087;&#1086;&#1088;&#1090;%29&amp;action=edit&amp;redlink=1" TargetMode="External"/><Relationship Id="rId12" Type="http://schemas.openxmlformats.org/officeDocument/2006/relationships/hyperlink" Target="http://ru.wikipedia.org/wiki/&#1041;&#1072;&#1081;&#1075;&#1072;" TargetMode="External"/><Relationship Id="rId13" Type="http://schemas.openxmlformats.org/officeDocument/2006/relationships/hyperlink" Target="http://ru.wikipedia.org/wiki/&#1057;&#1082;&#1072;&#1095;&#1082;&#1080;" TargetMode="External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85;&#1079;&#1077;&#1083;&#1100;" TargetMode="External"/><Relationship Id="rId2" Type="http://schemas.openxmlformats.org/officeDocument/2006/relationships/hyperlink" Target="http://ru.wikipedia.org/wiki/&#1052;&#1091;&#1085;&#1076;&#1096;&#1090;&#1091;&#1082;" TargetMode="External"/><Relationship Id="rId3" Type="http://schemas.openxmlformats.org/officeDocument/2006/relationships/hyperlink" Target="http://ru.wikipedia.org/wiki/&#1057;&#1082;&#1086;&#1083;&#1100;&#1079;&#1103;&#1097;&#1080;&#1077;_&#1087;&#1086;&#1074;&#1086;&#1076;&#1100;&#1103;" TargetMode="External"/><Relationship Id="rId4" Type="http://schemas.openxmlformats.org/officeDocument/2006/relationships/hyperlink" Target="http://ru.wikipedia.org/wiki/&#1064;&#1087;&#1088;&#1091;&#1085;&#1090;" TargetMode="External"/><Relationship Id="rId5" Type="http://schemas.openxmlformats.org/officeDocument/2006/relationships/hyperlink" Target="http://ru.wikipedia.org/wiki/&#1043;&#1086;&#1075;" TargetMode="External"/><Relationship Id="rId6" Type="http://schemas.openxmlformats.org/officeDocument/2006/relationships/hyperlink" Target="http://ru.wikipedia.org/wiki/&#1052;&#1072;&#1088;&#1090;&#1080;&#1085;&#1075;&#1072;&#1083;" TargetMode="External"/><Relationship Id="rId7" Type="http://schemas.openxmlformats.org/officeDocument/2006/relationships/hyperlink" Target="http://ru.wikipedia.org/wiki/&#1061;&#1072;&#1082;&#1072;&#1084;&#1086;&#1088;&#1072;" TargetMode="External"/><Relationship Id="rId8" Type="http://schemas.openxmlformats.org/officeDocument/2006/relationships/hyperlink" Target="http://ru.wikipedia.org/wiki/&#1053;&#1077;&#1076;&#1086;&#1091;&#1079;&#1076;&#1086;&#1082;" TargetMode="External"/><Relationship Id="rId9" Type="http://schemas.openxmlformats.org/officeDocument/2006/relationships/image" Target="../media/image5.jpeg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8;&#1080;&#1076;&#1078;&#1080;" TargetMode="External"/><Relationship Id="rId2" Type="http://schemas.openxmlformats.org/officeDocument/2006/relationships/hyperlink" Target="http://ru.wikipedia.org/wiki/&#1056;&#1077;&#1076;&#1080;&#1085;&#1075;&#1086;&#1090;" TargetMode="External"/><Relationship Id="rId3" Type="http://schemas.openxmlformats.org/officeDocument/2006/relationships/hyperlink" Target="http://ru.wikipedia.org/w/index.php?title=&#1046;&#1086;&#1082;&#1077;&#1081;&#1082;&#1072;&amp;action=edit&amp;redlink=1" TargetMode="External"/><Relationship Id="rId4" Type="http://schemas.openxmlformats.org/officeDocument/2006/relationships/hyperlink" Target="http://ru.wikipedia.org/w/index.php?title=&#1050;&#1088;&#1072;&#1075;&#1080;&amp;action=edit&amp;redlink=1" TargetMode="External"/><Relationship Id="rId5" Type="http://schemas.openxmlformats.org/officeDocument/2006/relationships/image" Target="../media/image6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Конный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спорт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4356000" y="3645000"/>
            <a:ext cx="38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Подготовила учениц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5 б класс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Глазырина Анастасия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3780000" y="4941720"/>
            <a:ext cx="50194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еподаватель: Цилюри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рина Петров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3" name="Picture 7" descr="Изображение 020"/>
          <p:cNvPicPr/>
          <p:nvPr/>
        </p:nvPicPr>
        <p:blipFill>
          <a:blip r:embed="rId1"/>
          <a:stretch/>
        </p:blipFill>
        <p:spPr>
          <a:xfrm>
            <a:off x="306360" y="2571840"/>
            <a:ext cx="383076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63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РОДЕ ЛОШАДЬ ПЕРЕДВИГАЕТСЯ ЧЕТЫРМЯ СПОСОБАМ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ом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с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оходью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лоп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4" descr="КО"/>
          <p:cNvPicPr/>
          <p:nvPr/>
        </p:nvPicPr>
        <p:blipFill>
          <a:blip r:embed="rId6"/>
          <a:stretch/>
        </p:blipFill>
        <p:spPr>
          <a:xfrm>
            <a:off x="5478480" y="401796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КО"/>
          <p:cNvPicPr/>
          <p:nvPr/>
        </p:nvPicPr>
        <p:blipFill>
          <a:blip r:embed="rId7"/>
          <a:stretch/>
        </p:blipFill>
        <p:spPr>
          <a:xfrm>
            <a:off x="3851280" y="39337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anter2"/>
          <p:cNvPicPr/>
          <p:nvPr/>
        </p:nvPicPr>
        <p:blipFill>
          <a:blip r:embed="rId8"/>
          <a:stretch/>
        </p:blipFill>
        <p:spPr>
          <a:xfrm>
            <a:off x="6012000" y="2852640"/>
            <a:ext cx="20952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ЛОШАДЕ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шади – это не просто вьючное животное, они очень умны и талантливы. Несмотря на достаточно своенравный характер лошадей. Особенно если они дикие, умелый тренер и наездник сможет их обуздать. Таким образом, прекрасная в своей дикой красоте лошадь, станет не менее прекрасным, но уже благородной красотой животны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ОННЫЕ РАЗВЛЕЧ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7" name="Picture 5" descr="КО"/>
          <p:cNvPicPr/>
          <p:nvPr/>
        </p:nvPicPr>
        <p:blipFill>
          <a:blip r:embed="rId1"/>
          <a:stretch/>
        </p:blipFill>
        <p:spPr>
          <a:xfrm>
            <a:off x="7238880" y="501336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КО"/>
          <p:cNvPicPr/>
          <p:nvPr/>
        </p:nvPicPr>
        <p:blipFill>
          <a:blip r:embed="rId2"/>
          <a:stretch/>
        </p:blipFill>
        <p:spPr>
          <a:xfrm>
            <a:off x="6012000" y="4581360"/>
            <a:ext cx="1904760" cy="1270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519120" y="2492280"/>
            <a:ext cx="832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рысью под  седлом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о-лыжные соревнования, или скоринг (от норвежского «skijoring»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ытания тяжеловоз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ревнования русских троек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ые эстафеты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СПОР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НЫЙ СПОРТ- соревнования в искусстве верховой езды на лошад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ИДЫ КОННОГО СПОРТ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Вестерн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Вольтижир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Выезд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Дамская езд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Джигит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Драйвинг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Конку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Конное поло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Пробег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Тре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Троеборь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Байг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Скачк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МУНИ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Трензе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Мундшту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Скользящие поводь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Шпрун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Гог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Мартинга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Хакамор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Недоуздо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0" y="1341360"/>
            <a:ext cx="4572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Чумбур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рд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едло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пруг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емя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альтрап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пон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огавки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7" descr="КО"/>
          <p:cNvPicPr/>
          <p:nvPr/>
        </p:nvPicPr>
        <p:blipFill>
          <a:blip r:embed="rId9"/>
          <a:stretch/>
        </p:blipFill>
        <p:spPr>
          <a:xfrm>
            <a:off x="5364000" y="4869000"/>
            <a:ext cx="1905120" cy="12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КИПИРОВ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Бридж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Рединго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Жокей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Краг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пс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ркрот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пор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0_1ef7_4e7bfa24_XS"/>
          <p:cNvPicPr/>
          <p:nvPr/>
        </p:nvPicPr>
        <p:blipFill>
          <a:blip r:embed="rId5"/>
          <a:stretch/>
        </p:blipFill>
        <p:spPr>
          <a:xfrm>
            <a:off x="4572000" y="2060640"/>
            <a:ext cx="404172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ПОРОДЫ ЛОШАДЕЙ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езды верхом в нашей стране используются как отечественные породы лошадей — ахалтекинская, терская, украинская, так и выведенные за рубежом, например арабская, чистокровная верховая, тракенская. Верховые лошади сравнительно высокие, статные, сухоногие, с не очень большой сухой головой, тонкой кожей. Для них важны постоянный уход, определенные условия содержания, четкая система тренинг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КАЧКИ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Picture 4" descr="0_12e59_cd268e58_L"/>
          <p:cNvPicPr/>
          <p:nvPr/>
        </p:nvPicPr>
        <p:blipFill>
          <a:blip r:embed="rId1"/>
          <a:stretch/>
        </p:blipFill>
        <p:spPr>
          <a:xfrm>
            <a:off x="971640" y="907920"/>
            <a:ext cx="6350040" cy="506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10:03Z</dcterms:created>
  <dc:creator>MX</dc:creator>
  <dc:description/>
  <dc:language>en-US</dc:language>
  <cp:lastModifiedBy>Ирина Петровна</cp:lastModifiedBy>
  <dcterms:modified xsi:type="dcterms:W3CDTF">2009-08-17T15:10:12Z</dcterms:modified>
  <cp:revision>8</cp:revision>
  <dc:subject/>
  <dc:title>Конный спорт</dc:title>
</cp:coreProperties>
</file>