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7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7CE-4BD6-4F75-8DC2-D5BD85C7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1A7-B1D0-48BD-8289-B1488988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1CB-1B73-4891-B3E3-F34B912C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F24-0D2F-4E63-938C-E8239819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1F80-856B-4D65-A751-46C1592E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97B6-3D51-4A18-A8B6-A0FF91B8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FFEA-C0F4-407C-B551-7F4ED39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260C-C0B2-4F4F-8AC4-BFDB1C16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8C96-151A-445A-8035-A731C087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7BD-1EF2-41BF-8511-55E0877F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8367-9DF9-484B-95F1-AA40D402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93A-1424-4157-98BA-45457D2C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47E0-10A4-43B8-B8BA-2E6D1620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AF7C-68D7-42E7-81C8-C981112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11E0-EFEC-4F9D-8AEC-F5FBCFB1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A1AC-1FC3-4B96-990E-0BEECC2B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CEC6-E968-4120-BC51-EBE00A34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28B-0115-49C9-9FC8-E565E3AF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79B-9CF5-4686-A598-EE778256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C94-DB03-471E-A517-F75F247F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1A2-7347-47CD-89FB-4ED8B41E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5B3-3E56-4BB5-B818-D489C6C0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91B-32C3-40C0-84D2-EBE34F0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1A0-A47D-47AC-B38A-CEB0FBE9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BFDE-D639-4E11-8719-B00236B27A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8D7B-ADDD-46C4-A716-D4950A679B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Garamond"/>
              </a:rPr>
              <a:t>Презентаци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99"/>
                </a:solidFill>
                <a:latin typeface="Garamond"/>
              </a:rPr>
              <a:t>Плавание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остижени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й первый дипл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img398"/>
          <p:cNvPicPr/>
          <p:nvPr/>
        </p:nvPicPr>
        <p:blipFill>
          <a:blip r:embed="rId1"/>
          <a:stretch/>
        </p:blipFill>
        <p:spPr>
          <a:xfrm>
            <a:off x="3132000" y="1268280"/>
            <a:ext cx="28800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147160" cy="25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Благодарю за </a:t>
            </a:r>
            <a:br>
              <a:rPr sz="4800"/>
            </a:br>
            <a:r>
              <a:rPr b="0" i="1" lang="ru-RU" sz="4800" spc="-1" strike="noStrike">
                <a:solidFill>
                  <a:srgbClr val="000099"/>
                </a:solidFill>
                <a:latin typeface="Garamond"/>
              </a:rPr>
              <a:t>внимани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авайте познакомимс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20524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еня зовут Саша Челышев. Я родился в 1997 году. Я учусь в школе № 10, в 4-а класс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7" descr="IMG_0165"/>
          <p:cNvPicPr/>
          <p:nvPr/>
        </p:nvPicPr>
        <p:blipFill>
          <a:blip r:embed="rId1"/>
          <a:stretch/>
        </p:blipFill>
        <p:spPr>
          <a:xfrm>
            <a:off x="1979640" y="1484280"/>
            <a:ext cx="5113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Дворец  Водных видов спорта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54198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Мой самый любимый вид спорта это плавание. Я им занимаюсь во Дворце Водных видов спор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7" descr="IMG_0013"/>
          <p:cNvPicPr/>
          <p:nvPr/>
        </p:nvPicPr>
        <p:blipFill>
          <a:blip r:embed="rId1"/>
          <a:stretch/>
        </p:blipFill>
        <p:spPr>
          <a:xfrm>
            <a:off x="1979640" y="1341360"/>
            <a:ext cx="5184720" cy="38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й тренер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его любимого тренера зовут Татьяна Юрьевна. Она очень добрая и справедлива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7" descr="IMG_0024"/>
          <p:cNvPicPr/>
          <p:nvPr/>
        </p:nvPicPr>
        <p:blipFill>
          <a:blip r:embed="rId1"/>
          <a:stretch/>
        </p:blipFill>
        <p:spPr>
          <a:xfrm>
            <a:off x="4211640" y="1341360"/>
            <a:ext cx="415296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Мои друзья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ои лучшие друзья в бассейне Данил, Владик, Иль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7" descr="IMG_0015"/>
          <p:cNvPicPr/>
          <p:nvPr/>
        </p:nvPicPr>
        <p:blipFill>
          <a:blip r:embed="rId1"/>
          <a:stretch/>
        </p:blipFill>
        <p:spPr>
          <a:xfrm>
            <a:off x="1979640" y="1600200"/>
            <a:ext cx="504036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Это мои товарищи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то наша группа по плаванию. В нашей группе есть три девочки, которые нам не уступаю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IMG_0009"/>
          <p:cNvPicPr/>
          <p:nvPr/>
        </p:nvPicPr>
        <p:blipFill>
          <a:blip r:embed="rId1"/>
          <a:stretch/>
        </p:blipFill>
        <p:spPr>
          <a:xfrm>
            <a:off x="2268360" y="1557360"/>
            <a:ext cx="4392720" cy="32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Я на тренировк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не очень нравится плавать, особенно на соревнованиях. Ещё я люблю плавать в ластах и с доск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IMG_0010"/>
          <p:cNvPicPr/>
          <p:nvPr/>
        </p:nvPicPr>
        <p:blipFill>
          <a:blip r:embed="rId1"/>
          <a:stretch/>
        </p:blipFill>
        <p:spPr>
          <a:xfrm>
            <a:off x="2411280" y="1341360"/>
            <a:ext cx="475308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</a:t>
            </a: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ы тренируемся  шесть раз в неделю. Мы плаваем комплексом: баттерфляй, спина, брасс, крол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IMG_0005"/>
          <p:cNvPicPr/>
          <p:nvPr/>
        </p:nvPicPr>
        <p:blipFill>
          <a:blip r:embed="rId1"/>
          <a:stretch/>
        </p:blipFill>
        <p:spPr>
          <a:xfrm>
            <a:off x="1908000" y="1413000"/>
            <a:ext cx="554364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Garamond"/>
              </a:rPr>
              <a:t>Тренировки  в спортзале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ри раза в неделю мы занимаемся на тренажёрах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8" descr="IMG_0019"/>
          <p:cNvPicPr/>
          <p:nvPr/>
        </p:nvPicPr>
        <p:blipFill>
          <a:blip r:embed="rId1"/>
          <a:stretch/>
        </p:blipFill>
        <p:spPr>
          <a:xfrm>
            <a:off x="2050920" y="1484280"/>
            <a:ext cx="48974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8:06:47Z</dcterms:created>
  <dc:creator>Nemo</dc:creator>
  <dc:description/>
  <dc:language>en-US</dc:language>
  <cp:lastModifiedBy>Ирина Петровна</cp:lastModifiedBy>
  <dcterms:modified xsi:type="dcterms:W3CDTF">2009-08-17T15:10:36Z</dcterms:modified>
  <cp:revision>4</cp:revision>
  <dc:subject/>
  <dc:title>Презентация</dc:title>
</cp:coreProperties>
</file>