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FAA-4173-467B-B787-6DBFEE4F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7C6-A431-48DE-8448-1B00224E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814-0165-43F8-B9CF-AD90C7D2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C90-E5FD-4874-B3B2-E5EEFA60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3BCB-2BA8-498C-A4F7-FFE60E05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6336-8B25-49CB-81C0-BE95843E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5F55-C351-4C9B-8DE1-C33010C2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EEF9-5EA6-48D0-A077-10C277AA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F4C-A831-46FF-B97C-713602A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67A-FD50-4ADE-937D-E9B53076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3C02-D84E-4422-8E9A-4FEFB44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B1B-5754-4D50-A938-9AFD6B2B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F7A3-3C81-4656-ADB2-EB95740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6E2C-68DB-4B1E-A521-69F290E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A62E-C401-4072-9DB1-915A06AF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25C8-A4AE-4274-9D4D-5829B2DA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EB4B-6681-4887-BA98-12A1E7E9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6CD-C348-4B7D-A672-00BFE01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0D1-A90A-4049-A477-0EEF2DA6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F4C-8639-4E08-A81E-91C35B7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B6C-EF69-48C4-884A-83A2133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233-082E-4859-90C1-4187A0C6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A5C-CA69-477E-A3B2-1AACD52C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001-06B4-4C81-A50F-8DC9626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130A-07A8-4756-9816-B58F9C1CE1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CFCE-E205-45B4-88F1-23B414AF8D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Презентац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Garamond"/>
              </a:rPr>
              <a:t>Плавание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остижени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й первый дип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img398"/>
          <p:cNvPicPr/>
          <p:nvPr/>
        </p:nvPicPr>
        <p:blipFill>
          <a:blip r:embed="rId1"/>
          <a:stretch/>
        </p:blipFill>
        <p:spPr>
          <a:xfrm>
            <a:off x="3132000" y="1268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1471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Благодарю за </a:t>
            </a:r>
            <a:br>
              <a:rPr sz="4800"/>
            </a:b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вним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авайте познакомимс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052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еня зовут Саша Челышев. Я родился в 1997 году. Я учусь в школе № 10, в 4-а класс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IMG_0165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ворец  Водных видов спорта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ой самый любимый вид спорта это плавание. Я им занимаюсь во Дворце Водных видов спор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IMG_0013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й трене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его любимого тренера зовут Татьяна Юрьевна. Она очень добрая и справедлив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IMG_0024"/>
          <p:cNvPicPr/>
          <p:nvPr/>
        </p:nvPicPr>
        <p:blipFill>
          <a:blip r:embed="rId1"/>
          <a:stretch/>
        </p:blipFill>
        <p:spPr>
          <a:xfrm>
            <a:off x="4211640" y="1341360"/>
            <a:ext cx="41529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рузь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и лучшие друзья в бассейне Данил, Владик, Иль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IMG_0015"/>
          <p:cNvPicPr/>
          <p:nvPr/>
        </p:nvPicPr>
        <p:blipFill>
          <a:blip r:embed="rId1"/>
          <a:stretch/>
        </p:blipFill>
        <p:spPr>
          <a:xfrm>
            <a:off x="1979640" y="1600200"/>
            <a:ext cx="50403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Это мои товарищ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наша группа по плаванию. В нашей группе есть три девочки, которые нам не уступ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IMG_0009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32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Я на тренировк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не очень нравится плавать, особенно на соревнованиях. Ещё я люблю плавать в ластах и с дос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IMG_0010"/>
          <p:cNvPicPr/>
          <p:nvPr/>
        </p:nvPicPr>
        <p:blipFill>
          <a:blip r:embed="rId1"/>
          <a:stretch/>
        </p:blipFill>
        <p:spPr>
          <a:xfrm>
            <a:off x="2411280" y="134136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ы тренируемся  шесть раз в неделю. Мы плаваем комплексом: баттерфляй, спина, брасс, кро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IMG_0005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  в спортзал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ри раза в неделю мы занимаемся на тренажёр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8" descr="IMG_0019"/>
          <p:cNvPicPr/>
          <p:nvPr/>
        </p:nvPicPr>
        <p:blipFill>
          <a:blip r:embed="rId1"/>
          <a:stretch/>
        </p:blipFill>
        <p:spPr>
          <a:xfrm>
            <a:off x="2050920" y="1484280"/>
            <a:ext cx="4897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6:47Z</dcterms:created>
  <dc:creator>Nemo</dc:creator>
  <dc:description/>
  <dc:language>en-US</dc:language>
  <cp:lastModifiedBy>Ирина Петровна</cp:lastModifiedBy>
  <dcterms:modified xsi:type="dcterms:W3CDTF">2009-08-17T15:10:36Z</dcterms:modified>
  <cp:revision>4</cp:revision>
  <dc:subject/>
  <dc:title>Презентация</dc:title>
</cp:coreProperties>
</file>