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AA7-095A-422F-B3B6-2B4E1F83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208-121F-41A8-8D53-82373D3D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E07-DB90-46BC-967F-675A2835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2CC-73C1-4A89-9BA8-E87FC6C8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91A-5B18-4E14-89A1-F0212517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9287-439B-4CC5-AC25-E47098AF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7FD4-25A3-48D5-9253-877A6BB8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8CE5-79DC-4501-9FFA-A424F224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AE08-0E2D-442E-9DF7-0152A8D7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E61C-DEC6-43ED-B8AE-765329EB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BCF6-CF5B-4EC7-9015-80268BB0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CFD-07CB-491B-AB02-3C7E7BBC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348F-1401-41CE-8597-7C120A13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F847-0A36-42B4-9EFB-EA50D2A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625B-26C3-43A4-A927-2CCFAEE1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99D5-DD37-42A3-9CF5-95D2B795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D75-1CEE-4378-A5F3-F0FFEFF6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4CB-70DC-435A-8934-C4481A0F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799-D600-4D56-9C40-8BAD7F74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59C-D610-4F09-8F0D-F3751166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2A8-B168-4170-8059-B3E69EFB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102-6D23-4BBB-B672-00DC47B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24A-69B5-49BB-9B03-F6D71CEB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C80-6E88-4925-BDF8-7AFBA9D8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F855-1587-452C-B986-9CB25CCF0F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E79A-3D47-49F7-8BDB-A2BB96FE65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Презентаци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Garamond"/>
              </a:rPr>
              <a:t>Плавание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остижени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й первый дип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img398"/>
          <p:cNvPicPr/>
          <p:nvPr/>
        </p:nvPicPr>
        <p:blipFill>
          <a:blip r:embed="rId1"/>
          <a:stretch/>
        </p:blipFill>
        <p:spPr>
          <a:xfrm>
            <a:off x="3132000" y="1268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147160" cy="25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Благодарю за </a:t>
            </a:r>
            <a:br>
              <a:rPr sz="4800"/>
            </a:b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вним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авайте познакомимс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0524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еня зовут Саша Челышев. Я родился в 1997 году. Я учусь в школе № 10, в 4-а класс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7" descr="IMG_0165"/>
          <p:cNvPicPr/>
          <p:nvPr/>
        </p:nvPicPr>
        <p:blipFill>
          <a:blip r:embed="rId1"/>
          <a:stretch/>
        </p:blipFill>
        <p:spPr>
          <a:xfrm>
            <a:off x="1979640" y="1484280"/>
            <a:ext cx="5113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ворец  Водных видов спорта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Мой самый любимый вид спорта это плавание. Я им занимаюсь во Дворце Водных видов спор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7" descr="IMG_0013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й тренер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его любимого тренера зовут Татьяна Юрьевна. Она очень добрая и справедлива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IMG_0024"/>
          <p:cNvPicPr/>
          <p:nvPr/>
        </p:nvPicPr>
        <p:blipFill>
          <a:blip r:embed="rId1"/>
          <a:stretch/>
        </p:blipFill>
        <p:spPr>
          <a:xfrm>
            <a:off x="4211640" y="1341360"/>
            <a:ext cx="41529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рузь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и лучшие друзья в бассейне Данил, Владик, Иль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IMG_0015"/>
          <p:cNvPicPr/>
          <p:nvPr/>
        </p:nvPicPr>
        <p:blipFill>
          <a:blip r:embed="rId1"/>
          <a:stretch/>
        </p:blipFill>
        <p:spPr>
          <a:xfrm>
            <a:off x="1979640" y="1600200"/>
            <a:ext cx="504036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Это мои товарищ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то наша группа по плаванию. В нашей группе есть три девочки, которые нам не уступаю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IMG_0009"/>
          <p:cNvPicPr/>
          <p:nvPr/>
        </p:nvPicPr>
        <p:blipFill>
          <a:blip r:embed="rId1"/>
          <a:stretch/>
        </p:blipFill>
        <p:spPr>
          <a:xfrm>
            <a:off x="2268360" y="1557360"/>
            <a:ext cx="4392720" cy="32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Я на тренировк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не очень нравится плавать, особенно на соревнованиях. Ещё я люблю плавать в ластах и с дос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IMG_0010"/>
          <p:cNvPicPr/>
          <p:nvPr/>
        </p:nvPicPr>
        <p:blipFill>
          <a:blip r:embed="rId1"/>
          <a:stretch/>
        </p:blipFill>
        <p:spPr>
          <a:xfrm>
            <a:off x="2411280" y="1341360"/>
            <a:ext cx="475308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ы тренируемся  шесть раз в неделю. Мы плаваем комплексом: баттерфляй, спина, брасс, кро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IMG_0005"/>
          <p:cNvPicPr/>
          <p:nvPr/>
        </p:nvPicPr>
        <p:blipFill>
          <a:blip r:embed="rId1"/>
          <a:stretch/>
        </p:blipFill>
        <p:spPr>
          <a:xfrm>
            <a:off x="1908000" y="1413000"/>
            <a:ext cx="554364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  в спортзал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ри раза в неделю мы занимаемся на тренажёр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8" descr="IMG_0019"/>
          <p:cNvPicPr/>
          <p:nvPr/>
        </p:nvPicPr>
        <p:blipFill>
          <a:blip r:embed="rId1"/>
          <a:stretch/>
        </p:blipFill>
        <p:spPr>
          <a:xfrm>
            <a:off x="2050920" y="1484280"/>
            <a:ext cx="48974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8:06:47Z</dcterms:created>
  <dc:creator>Nemo</dc:creator>
  <dc:description/>
  <dc:language>en-US</dc:language>
  <cp:lastModifiedBy>Ирина Петровна</cp:lastModifiedBy>
  <dcterms:modified xsi:type="dcterms:W3CDTF">2009-08-17T15:10:36Z</dcterms:modified>
  <cp:revision>4</cp:revision>
  <dc:subject/>
  <dc:title>Презентация</dc:title>
</cp:coreProperties>
</file>