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7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75E-4C42-4F19-BB94-4BBB1D6F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847-0BE1-47D1-A377-7EF51C08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9D3-0D40-4867-9098-1A3146E0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A0F-2971-4D5E-AB02-6A8EE2CC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DDFD-8B71-4F78-A88C-9780F1A8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D5F4-39A4-4145-904C-EF652F04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56E1-D731-411C-B3F6-7035A0F5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EFA6-93BF-4151-902F-DB86D6D4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1163-E65E-46D8-8F70-B373313C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13A3-667D-401F-86B0-ADBFC18D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05EE-CA42-46C9-A306-5526B88E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4C2-CCFD-41C8-A795-3052C457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9A40-D407-4E60-A1F4-6F09561F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A65B-1E51-42A3-BB9D-A988786F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0A05-3CE9-423E-93A9-BC5CEED2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0A75-1E05-40C0-A084-1738A47B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A0E3-4AEF-4036-B9D7-F36D990A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5BE-A588-45B4-A250-ECAD7515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B37-94F4-4B0D-B49F-F35B3D64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015-9A4E-497B-B044-74BAEDC1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B16-294E-4B35-826F-7BAE1BE3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6B6-24BA-4771-8448-376B4119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49A-BBDB-47B2-9ADF-6B23FF29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2E2-3A2B-42C3-93C7-0488F99B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9583-AB97-4223-83F7-4581AB1CF9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6BC4-397C-466F-815B-3F3DE6EC14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Garamond"/>
              </a:rPr>
              <a:t>Презентаци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99"/>
                </a:solidFill>
                <a:latin typeface="Garamond"/>
              </a:rPr>
              <a:t>Плавание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и достижени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4198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й первый дипл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7" descr="img398"/>
          <p:cNvPicPr/>
          <p:nvPr/>
        </p:nvPicPr>
        <p:blipFill>
          <a:blip r:embed="rId1"/>
          <a:stretch/>
        </p:blipFill>
        <p:spPr>
          <a:xfrm>
            <a:off x="3132000" y="1268280"/>
            <a:ext cx="28800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147160" cy="25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Garamond"/>
              </a:rPr>
              <a:t>Благодарю за </a:t>
            </a:r>
            <a:br>
              <a:rPr sz="4800"/>
            </a:br>
            <a:r>
              <a:rPr b="0" i="1" lang="ru-RU" sz="4800" spc="-1" strike="noStrike">
                <a:solidFill>
                  <a:srgbClr val="000099"/>
                </a:solidFill>
                <a:latin typeface="Garamond"/>
              </a:rPr>
              <a:t>внима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Давайте познакомимс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20524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еня зовут Саша Челышев. Я родился в 1997 году. Я учусь в школе № 10, в 4-а класс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7" descr="IMG_0165"/>
          <p:cNvPicPr/>
          <p:nvPr/>
        </p:nvPicPr>
        <p:blipFill>
          <a:blip r:embed="rId1"/>
          <a:stretch/>
        </p:blipFill>
        <p:spPr>
          <a:xfrm>
            <a:off x="1979640" y="1484280"/>
            <a:ext cx="51134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Дворец  Водных видов спорта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198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Мой самый любимый вид спорта это плавание. Я им занимаюсь во Дворце Водных видов спор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7" descr="IMG_0013"/>
          <p:cNvPicPr/>
          <p:nvPr/>
        </p:nvPicPr>
        <p:blipFill>
          <a:blip r:embed="rId1"/>
          <a:stretch/>
        </p:blipFill>
        <p:spPr>
          <a:xfrm>
            <a:off x="1979640" y="1341360"/>
            <a:ext cx="518472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й тренер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его любимого тренера зовут Татьяна Юрьевна. Она очень добрая и справедлива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7" descr="IMG_0024"/>
          <p:cNvPicPr/>
          <p:nvPr/>
        </p:nvPicPr>
        <p:blipFill>
          <a:blip r:embed="rId1"/>
          <a:stretch/>
        </p:blipFill>
        <p:spPr>
          <a:xfrm>
            <a:off x="4211640" y="1341360"/>
            <a:ext cx="415296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и друзь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и лучшие друзья в бассейне Данил, Владик, Иль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7" descr="IMG_0015"/>
          <p:cNvPicPr/>
          <p:nvPr/>
        </p:nvPicPr>
        <p:blipFill>
          <a:blip r:embed="rId1"/>
          <a:stretch/>
        </p:blipFill>
        <p:spPr>
          <a:xfrm>
            <a:off x="1979640" y="1600200"/>
            <a:ext cx="504036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Это мои товарищи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Это наша группа по плаванию. В нашей группе есть три девочки, которые нам не уступаю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IMG_0009"/>
          <p:cNvPicPr/>
          <p:nvPr/>
        </p:nvPicPr>
        <p:blipFill>
          <a:blip r:embed="rId1"/>
          <a:stretch/>
        </p:blipFill>
        <p:spPr>
          <a:xfrm>
            <a:off x="2268360" y="1557360"/>
            <a:ext cx="4392720" cy="32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Я на тренировк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не очень нравится плавать, особенно на соревнованиях. Ещё я люблю плавать в ластах и с доск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1" descr="IMG_0010"/>
          <p:cNvPicPr/>
          <p:nvPr/>
        </p:nvPicPr>
        <p:blipFill>
          <a:blip r:embed="rId1"/>
          <a:stretch/>
        </p:blipFill>
        <p:spPr>
          <a:xfrm>
            <a:off x="2411280" y="1341360"/>
            <a:ext cx="475308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Тренировки</a:t>
            </a: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ы тренируемся  шесть раз в неделю. Мы плаваем комплексом: баттерфляй, спина, брасс, крол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IMG_0005"/>
          <p:cNvPicPr/>
          <p:nvPr/>
        </p:nvPicPr>
        <p:blipFill>
          <a:blip r:embed="rId1"/>
          <a:stretch/>
        </p:blipFill>
        <p:spPr>
          <a:xfrm>
            <a:off x="1908000" y="1413000"/>
            <a:ext cx="554364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Тренировки  в спортзал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Три раза в неделю мы занимаемся на тренажёрах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8" descr="IMG_0019"/>
          <p:cNvPicPr/>
          <p:nvPr/>
        </p:nvPicPr>
        <p:blipFill>
          <a:blip r:embed="rId1"/>
          <a:stretch/>
        </p:blipFill>
        <p:spPr>
          <a:xfrm>
            <a:off x="2050920" y="1484280"/>
            <a:ext cx="48974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8:06:47Z</dcterms:created>
  <dc:creator>Nemo</dc:creator>
  <dc:description/>
  <dc:language>en-US</dc:language>
  <cp:lastModifiedBy>Ирина Петровна</cp:lastModifiedBy>
  <dcterms:modified xsi:type="dcterms:W3CDTF">2009-08-17T15:10:36Z</dcterms:modified>
  <cp:revision>4</cp:revision>
  <dc:subject/>
  <dc:title>Презентация</dc:title>
</cp:coreProperties>
</file>