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2.wmf" ContentType="image/x-wmf"/>
  <Override PartName="/ppt/media/image6.gif" ContentType="image/gif"/>
  <Override PartName="/ppt/media/image14.wmf" ContentType="image/x-wmf"/>
  <Override PartName="/ppt/media/image3.gif" ContentType="image/gif"/>
  <Override PartName="/ppt/media/image11.wmf" ContentType="image/x-wmf"/>
  <Override PartName="/ppt/media/image1.jpeg" ContentType="image/jpeg"/>
  <Override PartName="/ppt/media/image4.gif" ContentType="image/gif"/>
  <Override PartName="/ppt/media/image12.wmf" ContentType="image/x-wmf"/>
  <Override PartName="/ppt/media/image5.gif" ContentType="image/gif"/>
  <Override PartName="/ppt/media/image7.jpeg" ContentType="image/jpeg"/>
  <Override PartName="/ppt/media/image10.jpeg" ContentType="image/jpeg"/>
  <Override PartName="/ppt/media/image13.wmf" ContentType="image/x-wmf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3CF6-2318-4006-A52C-91AEC57AB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1FE6-A761-4318-9DDA-D10957CE4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A9BB-FE8F-4980-BE64-51CCC6C4F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0132-B2D6-44F9-8F46-734771964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A86C18-2F8C-4D51-9DD4-036F80A8D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1909E6-664D-4F1A-AC19-083295DB7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9A1E48-5E40-4780-9C10-472F28BF8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01D125-F617-46A7-90A3-7A6DFD8C2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341282-96F3-4BFB-A8A6-3086F47A0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9C9A29-BAF3-4060-9AF4-32B7A05E8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262EFA-59E6-4D35-97C6-B18164AF1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041D-DDB7-421D-85FD-F75E30BEB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263281-2004-4610-B1CB-0135A052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F67A1F-5601-44B0-982D-2B2900A91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B0E734-BB73-4622-8AF7-1F3C8B7C7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CF74BD-5154-426A-BCE7-FB7F56D4B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0AF2AE-5CB6-42D2-80D3-0E96D2C99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C9EC-B2B6-4DCB-8D6F-A641EDDBA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265E-4428-40C0-9798-0D65A146E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301D-DC00-436F-9267-3E655588B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CEF7-D204-4651-86A1-4983EFF6A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4FDA-2FC8-405D-9D9B-8ADB6A64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EC30-3CBD-4C59-99CB-7BCE5ED0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BF1D-D712-4E86-A4C8-84C871CFC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E36A1-3C00-43AA-A8C3-7EB27CBEE0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0B8E3-22F8-4836-B472-86400AAABDD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7486920" cy="2664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33cc"/>
                </a:solidFill>
                <a:latin typeface="Tahoma"/>
              </a:rPr>
              <a:t>Проект по физической культуре</a:t>
            </a:r>
            <a:r>
              <a:rPr b="0" lang="ru-RU" sz="4000" spc="-1" strike="noStrike">
                <a:solidFill>
                  <a:srgbClr val="ff33cc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Яранцева Алиса,5б класс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МОУ «Средняя общеобразовательная школа №10 г. Йошкар-Олы»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ahoma"/>
              </a:rPr>
              <a:t>2008год</a:t>
            </a:r>
            <a:r>
              <a:rPr b="0" lang="ru-RU" sz="2800" spc="-1" strike="noStrike">
                <a:solidFill>
                  <a:srgbClr val="666699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ще одна разновидность плавания – самый молодой его вид – синхронное плавание. Синхронное плавание – это акробатические упражнения в воде, выполняемые под музыку. Это очень красивый вид плавания, зрители любуются на соревнованиях, как ритмично и четко выполняют участницы синхронного плавания различные акробатические фигуры под водой и над ее поверхность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21" descr="Спорт"/>
          <p:cNvPicPr/>
          <p:nvPr/>
        </p:nvPicPr>
        <p:blipFill>
          <a:blip r:embed="rId1"/>
          <a:stretch/>
        </p:blipFill>
        <p:spPr>
          <a:xfrm>
            <a:off x="6804000" y="5300640"/>
            <a:ext cx="1655640" cy="14079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532720" y="-3890520"/>
            <a:ext cx="1540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549000"/>
            <a:ext cx="813744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лаванье очень полезно для здоровья. Оно развивает  мышцы, координацию движений, укрепляет нервы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268000" y="5845320"/>
            <a:ext cx="71640" cy="69840"/>
          </a:xfrm>
          <a:prstGeom prst="rect">
            <a:avLst/>
          </a:prstGeom>
          <a:noFill/>
          <a:ln w="0">
            <a:noFill/>
          </a:ln>
        </p:spPr>
        <p:txBody>
          <a:bodyPr tIns="24120" bIns="2412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16" descr="j0399418"/>
          <p:cNvPicPr/>
          <p:nvPr/>
        </p:nvPicPr>
        <p:blipFill>
          <a:blip r:embed="rId1"/>
          <a:stretch/>
        </p:blipFill>
        <p:spPr>
          <a:xfrm>
            <a:off x="1116000" y="2349360"/>
            <a:ext cx="7056360" cy="41752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79280" y="2204640"/>
            <a:ext cx="532908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66"/>
                </a:solidFill>
                <a:latin typeface="Tahoma"/>
              </a:rPr>
              <a:t>СПАСИБО ЗА ВНИМАНИЕ!!!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10" descr="j0397062"/>
          <p:cNvPicPr/>
          <p:nvPr/>
        </p:nvPicPr>
        <p:blipFill>
          <a:blip r:embed="rId1"/>
          <a:stretch/>
        </p:blipFill>
        <p:spPr>
          <a:xfrm>
            <a:off x="0" y="0"/>
            <a:ext cx="1400040" cy="1405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3" descr="j0319370"/>
          <p:cNvPicPr/>
          <p:nvPr/>
        </p:nvPicPr>
        <p:blipFill>
          <a:blip r:embed="rId2"/>
          <a:stretch/>
        </p:blipFill>
        <p:spPr>
          <a:xfrm>
            <a:off x="7696080" y="0"/>
            <a:ext cx="1447920" cy="1333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4" descr="j0312732"/>
          <p:cNvPicPr/>
          <p:nvPr/>
        </p:nvPicPr>
        <p:blipFill>
          <a:blip r:embed="rId3"/>
          <a:stretch/>
        </p:blipFill>
        <p:spPr>
          <a:xfrm>
            <a:off x="0" y="5581800"/>
            <a:ext cx="1585800" cy="12762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5" descr="j0197737"/>
          <p:cNvPicPr/>
          <p:nvPr/>
        </p:nvPicPr>
        <p:blipFill>
          <a:blip r:embed="rId4"/>
          <a:stretch/>
        </p:blipFill>
        <p:spPr>
          <a:xfrm>
            <a:off x="7726320" y="5229360"/>
            <a:ext cx="1417680" cy="16286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15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b4b9ea"/>
                </a:solidFill>
                <a:uFillTx/>
                <a:latin typeface="Tahoma"/>
              </a:rPr>
              <a:t>ПЛАВА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Picture 4" descr="j0324506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908000" y="1413000"/>
            <a:ext cx="5678640" cy="5113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8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Обо мне вкратце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Мне 11 лет, из них 9 лет я занимаюсь плаванием. Сейчас у меня 2-ой  взрослый разряд. Я пошла в спортивную школу в 6 лет. Вначале я ходила в «Дельфин», а сейчас я хожу во «Дворец водных видов спорта». Мой любимый стиль брасс.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AutoShape 4"/>
          <p:cNvSpPr/>
          <p:nvPr/>
        </p:nvSpPr>
        <p:spPr>
          <a:xfrm flipH="1" rot="21479400">
            <a:off x="-1249560" y="2503440"/>
            <a:ext cx="71280" cy="73080"/>
          </a:xfrm>
          <a:custGeom>
            <a:avLst/>
            <a:gdLst>
              <a:gd name="textAreaLeft" fmla="*/ 16560 w 71280"/>
              <a:gd name="textAreaRight" fmla="*/ 54720 w 71280"/>
              <a:gd name="textAreaTop" fmla="*/ 7560 h 73080"/>
              <a:gd name="textAreaBottom" fmla="*/ 46440 h 730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33cc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920" bIns="-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AutoShape 5"/>
          <p:cNvSpPr/>
          <p:nvPr/>
        </p:nvSpPr>
        <p:spPr>
          <a:xfrm>
            <a:off x="-468360" y="907920"/>
            <a:ext cx="71640" cy="217440"/>
          </a:xfrm>
          <a:prstGeom prst="lightningBol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32000" y="291960"/>
            <a:ext cx="7354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3366ff"/>
                </a:solidFill>
                <a:latin typeface="Tahoma"/>
              </a:rPr>
              <a:t>ПЛАВАНИЕ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26920" y="1628640"/>
            <a:ext cx="410364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10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линный бассейн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0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олубая вод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0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 скорость плывём мы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0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уда и сюд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0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ыстрее дельфина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0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ыстрее форел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0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лыву, чтоб мен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0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богнать не успел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0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з поворот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0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ва поворот.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0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жели соперни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0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еня обойдёт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0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о нет, я не сдамс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0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Ему никогда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0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ой сказочный мир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0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олубая вод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7" descr="j0303466"/>
          <p:cNvPicPr/>
          <p:nvPr/>
        </p:nvPicPr>
        <p:blipFill>
          <a:blip r:embed="rId1"/>
          <a:stretch/>
        </p:blipFill>
        <p:spPr>
          <a:xfrm>
            <a:off x="5867280" y="2781360"/>
            <a:ext cx="28083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868480" y="291960"/>
            <a:ext cx="627552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Tahoma"/>
              </a:rPr>
              <a:t>Плавание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cc"/>
                </a:solidFill>
                <a:latin typeface="Tahoma"/>
              </a:rPr>
              <a:t>Плавание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звестно человеку с древнейших времён, оно возникло как необходимое для человека умение выживать, а популярным видом спорта стало только в прошлом веке. </a:t>
            </a:r>
            <a:r>
              <a:rPr b="0" lang="ru-RU" sz="3200" spc="-1" strike="noStrike">
                <a:solidFill>
                  <a:srgbClr val="ff33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5" descr="10d0ebae5003"/>
          <p:cNvPicPr/>
          <p:nvPr/>
        </p:nvPicPr>
        <p:blipFill>
          <a:blip r:embed="rId1"/>
          <a:stretch/>
        </p:blipFill>
        <p:spPr>
          <a:xfrm>
            <a:off x="6877080" y="620640"/>
            <a:ext cx="1079640" cy="1022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ейчас плавание входит в программу олимпийских игр. Пловцы соревнуются между собой на коротких и длинных дистанциях: самая короткая всего 25 метров, а самая длинная 1500 метров. Но, конечно, дорожек в 1500 метров нет, иначе пришлось бы строить бассейны длиной в целую улицу! Спортсмен, проплыв по своей дорожке от одного края бассейна до другого, должен совершить кувырок и поплыть в обратном направлении. И так несколько раз. При кувырке он, по правилам, обязательно должен коснуться руками и ногами стенки бассейна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7" descr="j0318099"/>
          <p:cNvPicPr/>
          <p:nvPr/>
        </p:nvPicPr>
        <p:blipFill>
          <a:blip r:embed="rId1"/>
          <a:stretch/>
        </p:blipFill>
        <p:spPr>
          <a:xfrm>
            <a:off x="4859280" y="0"/>
            <a:ext cx="3240000" cy="21826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0" y="191628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уществует четыре вида плавания: вольный стиль (кроль), плавание на спине, брасс и баттерфля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роль – самый быстрый вид плаванья. Тело пловца при плавании этим видом выпрямлено, а руки и ноги непрерывно работают, позволяя пловцу сохранять равновесие. Если смотреть в это время на спортсмена, то кажется, что он как будто ползет по земле, захватывая её то правой, то левой рукой, выброшенной вперёд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5" descr="j0303468"/>
          <p:cNvPicPr/>
          <p:nvPr/>
        </p:nvPicPr>
        <p:blipFill>
          <a:blip r:embed="rId1"/>
          <a:stretch/>
        </p:blipFill>
        <p:spPr>
          <a:xfrm>
            <a:off x="2627280" y="189000"/>
            <a:ext cx="3672000" cy="17301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аттерфляй в переводе с английского языка обозначает «бабочка». И действительно, руки  пловца порхают над водой словно крылья. И ещё спортсмен, плывя баттерфляем, напоминает прыгающего над водой дельфина. Тело пловца при этом стиле совершает волнообразные движения, поэтому баттерфляй, пожалуй, самый красивый вид плавань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5" descr="Урок плавания"/>
          <p:cNvPicPr/>
          <p:nvPr/>
        </p:nvPicPr>
        <p:blipFill>
          <a:blip r:embed="rId1"/>
          <a:stretch/>
        </p:blipFill>
        <p:spPr>
          <a:xfrm>
            <a:off x="2987640" y="4311720"/>
            <a:ext cx="3024360" cy="22669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расс – самый простой и медленный вид плаванья, но позволяет экономно расходовать силы спортсмена. При плавании брассом спортсмен похож на лягушку. При движении он разводит руки сначала вперёд, потом в стороны, после чего вновь вытягивает их вперёд, а ногами он производит полукруговые движения, отталкиваясь от во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5" descr="Олимп"/>
          <p:cNvPicPr/>
          <p:nvPr/>
        </p:nvPicPr>
        <p:blipFill>
          <a:blip r:embed="rId1"/>
          <a:stretch/>
        </p:blipFill>
        <p:spPr>
          <a:xfrm>
            <a:off x="2987640" y="4724280"/>
            <a:ext cx="2952720" cy="17290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17:25:08Z</dcterms:created>
  <dc:creator>Acer</dc:creator>
  <dc:description/>
  <dc:language>en-US</dc:language>
  <cp:lastModifiedBy>Ирина Петровна</cp:lastModifiedBy>
  <dcterms:modified xsi:type="dcterms:W3CDTF">2009-08-17T15:12:06Z</dcterms:modified>
  <cp:revision>13</cp:revision>
  <dc:subject/>
  <dc:title>Проект по физической культуре.</dc:title>
</cp:coreProperties>
</file>