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5.gif" ContentType="image/gif"/>
  <Override PartName="/ppt/media/image7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0209-F957-4F6F-8C84-1CB10406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A91-13DD-4A3E-8DF4-1AAD2810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DB7-C0F5-444B-B18E-5D4CD5CB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893-91A4-46E4-93FB-31838E2E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9F65D-66CA-49BD-8CE5-54BF2CD0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F02F7-90B4-4F83-B1D8-F68EC447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85E42-3CAC-4F7E-A07A-0539B1D1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95831-10B5-47DB-93AA-145C2DDA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87931-E17C-4378-BB35-2864D31A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23E96-64C6-4823-A99C-276480D0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825DC-396B-4687-8BCD-C7B1B39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6B5-C3A1-4896-B936-045AA95A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D5462-9537-45C4-BCA9-F38DCA32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219A9-9BC6-464D-9F94-985FF7F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2BF68-F9AF-49E4-B6B4-8732ADA4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DF0A6-33EA-4664-A9DD-80A23871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C104F-8D62-4823-976D-3F269F3A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6EC-B956-4C9D-A39E-6127C8D9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831-D38A-496B-90C7-4C1E0B0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4BB-598A-451D-A937-90C8B8BB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F37-F2B1-461D-8B83-69E0F7D2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1EA-4BFB-4AD3-920D-F05EC3E9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217-FB3B-45FD-91F7-DD33F0F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58C-3F82-4765-907B-78C1C9B5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5C5B-3EA8-4407-AE49-26D823D1B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25BE-FECD-4C00-9317-0C9C20113E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48692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Tahoma"/>
              </a:rPr>
              <a:t>Проект по физической культуре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Яранцева Алиса,5б клас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У «Средняя общеобразовательная школа №10 г. Йошкар-Олы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2008год</a:t>
            </a:r>
            <a:r>
              <a:rPr b="0" lang="ru-RU" sz="28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ще одна разновидность плавания – самый молодой его вид – синхронное плавание. Синхронное плавание – это акробатические упражнения в воде, выполняемые под музыку. Это очень красивый вид плавания, зрители любуются на соревнованиях, как ритмично и четко выполняют участницы синхронного плавания различные акробатические фигуры под водой и над ее поверх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1" descr="Спорт"/>
          <p:cNvPicPr/>
          <p:nvPr/>
        </p:nvPicPr>
        <p:blipFill>
          <a:blip r:embed="rId1"/>
          <a:stretch/>
        </p:blipFill>
        <p:spPr>
          <a:xfrm>
            <a:off x="6804000" y="5300640"/>
            <a:ext cx="1655640" cy="140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32720" y="-3890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137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ванье очень полезно для здоровья. Оно развивает  мышцы, координацию движений, укрепляет нервы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68000" y="5845320"/>
            <a:ext cx="716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6" descr="j0399418"/>
          <p:cNvPicPr/>
          <p:nvPr/>
        </p:nvPicPr>
        <p:blipFill>
          <a:blip r:embed="rId1"/>
          <a:stretch/>
        </p:blipFill>
        <p:spPr>
          <a:xfrm>
            <a:off x="1116000" y="2349360"/>
            <a:ext cx="705636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280" y="2204640"/>
            <a:ext cx="5329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j0397062"/>
          <p:cNvPicPr/>
          <p:nvPr/>
        </p:nvPicPr>
        <p:blipFill>
          <a:blip r:embed="rId1"/>
          <a:stretch/>
        </p:blipFill>
        <p:spPr>
          <a:xfrm>
            <a:off x="0" y="0"/>
            <a:ext cx="1400040" cy="140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j0319370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312732"/>
          <p:cNvPicPr/>
          <p:nvPr/>
        </p:nvPicPr>
        <p:blipFill>
          <a:blip r:embed="rId3"/>
          <a:stretch/>
        </p:blipFill>
        <p:spPr>
          <a:xfrm>
            <a:off x="0" y="5581800"/>
            <a:ext cx="1585800" cy="127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197737"/>
          <p:cNvPicPr/>
          <p:nvPr/>
        </p:nvPicPr>
        <p:blipFill>
          <a:blip r:embed="rId4"/>
          <a:stretch/>
        </p:blipFill>
        <p:spPr>
          <a:xfrm>
            <a:off x="7726320" y="5229360"/>
            <a:ext cx="141768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4b9ea"/>
                </a:solidFill>
                <a:uFillTx/>
                <a:latin typeface="Tahoma"/>
              </a:rPr>
              <a:t>ПЛА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j03245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8000" y="1413000"/>
            <a:ext cx="5678640" cy="511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о мне вкратц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не 11 лет, из них 9 лет я занимаюсь плаванием. Сейчас у меня 2-ой  взрослый разряд. Я пошла в спортивную школу в 6 лет. Вначале я ходила в «Дельфин», а сейчас я хожу во «Дворец водных видов спорта». Мой любимый стиль брасс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 flipH="1" rot="21479400">
            <a:off x="-1249560" y="2503440"/>
            <a:ext cx="71280" cy="73080"/>
          </a:xfrm>
          <a:custGeom>
            <a:avLst/>
            <a:gdLst>
              <a:gd name="textAreaLeft" fmla="*/ 16560 w 71280"/>
              <a:gd name="textAreaRight" fmla="*/ 54720 w 71280"/>
              <a:gd name="textAreaTop" fmla="*/ 7560 h 73080"/>
              <a:gd name="textAreaBottom" fmla="*/ 46440 h 73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-468360" y="907920"/>
            <a:ext cx="71640" cy="217440"/>
          </a:xfrm>
          <a:prstGeom prst="lightningBol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ff"/>
                </a:solidFill>
                <a:latin typeface="Tahoma"/>
              </a:rPr>
              <a:t>ПЛАВ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26920" y="1628640"/>
            <a:ext cx="4103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ый бассей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корость плывём м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да и сю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дельф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фор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ыву, чтоб ме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гнать не усп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 поворо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а поворот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жели сопер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я обойдё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т, я не сдам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му никогд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сказочный ми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j0303466"/>
          <p:cNvPicPr/>
          <p:nvPr/>
        </p:nvPicPr>
        <p:blipFill>
          <a:blip r:embed="rId1"/>
          <a:stretch/>
        </p:blipFill>
        <p:spPr>
          <a:xfrm>
            <a:off x="5867280" y="278136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84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ла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Плаван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вестно человеку с древнейших времён, оно возникло как необходимое для человека умение выживать, а популярным видом спорта стало только в прошлом веке.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10d0ebae5003"/>
          <p:cNvPicPr/>
          <p:nvPr/>
        </p:nvPicPr>
        <p:blipFill>
          <a:blip r:embed="rId1"/>
          <a:stretch/>
        </p:blipFill>
        <p:spPr>
          <a:xfrm>
            <a:off x="6877080" y="620640"/>
            <a:ext cx="1079640" cy="102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йчас плавание входит в программу олимпийских игр. Пловцы соревнуются между собой на коротких и длинных дистанциях: самая короткая всего 25 метров, а самая длинная 1500 метров. Но, конечно, дорожек в 1500 метров нет, иначе пришлось бы строить бассейны длиной в целую улицу! Спортсмен, проплыв по своей дорожке от одного края бассейна до другого, должен совершить кувырок и поплыть в обратном направлении. И так несколько раз. При кувырке он, по правилам, обязательно должен коснуться руками и ногами стенки бассейн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j0318099"/>
          <p:cNvPicPr/>
          <p:nvPr/>
        </p:nvPicPr>
        <p:blipFill>
          <a:blip r:embed="rId1"/>
          <a:stretch/>
        </p:blipFill>
        <p:spPr>
          <a:xfrm>
            <a:off x="4859280" y="0"/>
            <a:ext cx="3240000" cy="218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четыре вида плавания: вольный стиль (кроль), плавание на спине, брасс и баттерфля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ль – самый быстрый вид плаванья. Тело пловца при плавании этим видом выпрямлено, а руки и ноги непрерывно работают, позволяя пловцу сохранять равновесие. Если смотреть в это время на спортсмена, то кажется, что он как будто ползет по земле, захватывая её то правой, то левой рукой, выброшенной вперё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j0303468"/>
          <p:cNvPicPr/>
          <p:nvPr/>
        </p:nvPicPr>
        <p:blipFill>
          <a:blip r:embed="rId1"/>
          <a:stretch/>
        </p:blipFill>
        <p:spPr>
          <a:xfrm>
            <a:off x="2627280" y="189000"/>
            <a:ext cx="3672000" cy="173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ттерфляй в переводе с английского языка обозначает «бабочка». И действительно, руки  пловца порхают над водой словно крылья. И ещё спортсмен, плывя баттерфляем, напоминает прыгающего над водой дельфина. Тело пловца при этом стиле совершает волнообразные движения, поэтому баттерфляй, пожалуй, самый красивый вид плаван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Урок плавания"/>
          <p:cNvPicPr/>
          <p:nvPr/>
        </p:nvPicPr>
        <p:blipFill>
          <a:blip r:embed="rId1"/>
          <a:stretch/>
        </p:blipFill>
        <p:spPr>
          <a:xfrm>
            <a:off x="2987640" y="431172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сс – самый простой и медленный вид плаванья, но позволяет экономно расходовать силы спортсмена. При плавании брассом спортсмен похож на лягушку. При движении он разводит руки сначала вперёд, потом в стороны, после чего вновь вытягивает их вперёд, а ногами он производит полукруговые движения, отталкиваясь от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Олимп"/>
          <p:cNvPicPr/>
          <p:nvPr/>
        </p:nvPicPr>
        <p:blipFill>
          <a:blip r:embed="rId1"/>
          <a:stretch/>
        </p:blipFill>
        <p:spPr>
          <a:xfrm>
            <a:off x="2987640" y="4724280"/>
            <a:ext cx="2952720" cy="172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25:08Z</dcterms:created>
  <dc:creator>Acer</dc:creator>
  <dc:description/>
  <dc:language>en-US</dc:language>
  <cp:lastModifiedBy>Ирина Петровна</cp:lastModifiedBy>
  <dcterms:modified xsi:type="dcterms:W3CDTF">2009-08-17T15:12:06Z</dcterms:modified>
  <cp:revision>13</cp:revision>
  <dc:subject/>
  <dc:title>Проект по физической культуре.</dc:title>
</cp:coreProperties>
</file>