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AEA-5BA2-4956-B5BF-FA6E3A73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AF7-5AAA-411D-96C2-0518273C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577-A178-4128-A52C-C6D78BAF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01C-2DF2-478F-A380-6EFD2CA7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D882-BD1F-44C4-8D62-2501A32B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827F-B173-450A-AC66-3A6F04FB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BBF3-0FCE-468A-8F4B-E75930D7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6467-2BBF-4827-B0C0-BA84F345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E74D-9005-4110-82F2-49B81A8D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9641-1774-4B84-BC7F-1F7D5295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B1EE-64DA-4C63-BE7E-B0F65AC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0C0-D00F-4D02-8D32-FF5DEECB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A372-839B-4990-A498-2EB61BE8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2695-D4F0-4AD6-8FBB-D8D9F630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4F78-5668-424F-A6EA-73245C93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E20A-1FA8-40AB-809B-590209B0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28CD-C218-4F38-9C7B-81DC3738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E98-EA7F-4116-A0A7-79B660FD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CD1-46D9-4BEC-A888-3ED34DE7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42A-B2C8-48B0-8E4B-BAAD8AE5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524-CB0E-426F-88DB-3DF4B2C5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124-5E6E-45F6-ABEA-D14AAE09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660-7B0A-46BF-8C8C-BA5858BC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7B8-7E31-454C-8DC5-97D83E3A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F2A8-95DF-4BC9-8A6F-8264165A01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2CFE-BBBA-49B4-8673-0153E51F56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               </a:t>
            </a:r>
            <a:r>
              <a:rPr b="1" lang="ru-RU" sz="96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в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е греки устраивали спортивные игры каждые четыре года. Женщинам не разрешалось не только участвовать в них, но даже смотреть соревнования. Такие виды спорта, как метание диска или копья, пришли из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Ilia-Korotkov2188REUTERS_Kai-Pfaffenbach"/>
          <p:cNvPicPr/>
          <p:nvPr/>
        </p:nvPicPr>
        <p:blipFill>
          <a:blip r:embed="rId1"/>
          <a:stretch/>
        </p:blipFill>
        <p:spPr>
          <a:xfrm>
            <a:off x="2268360" y="3716280"/>
            <a:ext cx="4176720" cy="25704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ременн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йские игры проводятся каждые четыре года в разных странах. В них участвуют спортсмены-любители из всех стран мира. Олимпийский огонь на церемонию открытия игр доставляют бегуны из Афин в Греции. Он горит, пока длятся игры. В наши дни спортсмены – мужчины и женщины – состязаются более чем в двадцати видах спорта. Миллионы людей смотрят игры по телевидению. Каждый победитель получает золотую медаль, тот, кто стал вторым, - серебряную, третий – бронзо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107423"/>
          <p:cNvPicPr/>
          <p:nvPr/>
        </p:nvPicPr>
        <p:blipFill>
          <a:blip r:embed="rId1"/>
          <a:stretch/>
        </p:blipFill>
        <p:spPr>
          <a:xfrm>
            <a:off x="1835280" y="3860640"/>
            <a:ext cx="5472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орьб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252720" y="1700280"/>
            <a:ext cx="9396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00 лет назад мужчины готовились к битве, занимаясь таким видом спорта, как бор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769785"/>
          <p:cNvPicPr/>
          <p:nvPr/>
        </p:nvPicPr>
        <p:blipFill>
          <a:blip r:embed="rId1"/>
          <a:stretch/>
        </p:blipFill>
        <p:spPr>
          <a:xfrm>
            <a:off x="1908000" y="2852640"/>
            <a:ext cx="5205600" cy="3554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ельтапланериз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агодаря развитию техники появились и новые виды спорта, такие как дельтапланер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dva_deltaplana_600"/>
          <p:cNvPicPr/>
          <p:nvPr/>
        </p:nvPicPr>
        <p:blipFill>
          <a:blip r:embed="rId1"/>
          <a:stretch/>
        </p:blipFill>
        <p:spPr>
          <a:xfrm>
            <a:off x="2195640" y="3284640"/>
            <a:ext cx="4895640" cy="306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втомобильные гон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е автомобильные гонки состоялись между Парижем и Руаном во Франции в 1894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f101"/>
          <p:cNvPicPr/>
          <p:nvPr/>
        </p:nvPicPr>
        <p:blipFill>
          <a:blip r:embed="rId1"/>
          <a:stretch/>
        </p:blipFill>
        <p:spPr>
          <a:xfrm>
            <a:off x="971640" y="2924280"/>
            <a:ext cx="7619760" cy="3698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ные соревн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видах спорта, таких, как конные соревнования с препятствиями, состязаются и люди, и лоша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10811750549msyrc"/>
          <p:cNvPicPr/>
          <p:nvPr/>
        </p:nvPicPr>
        <p:blipFill>
          <a:blip r:embed="rId1"/>
          <a:stretch/>
        </p:blipFill>
        <p:spPr>
          <a:xfrm>
            <a:off x="2124000" y="3213000"/>
            <a:ext cx="489600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овавый 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оторые люди стреляют в животных и птиц ради развлечения. Но это называется кровавым спор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20584"/>
          <p:cNvPicPr/>
          <p:nvPr/>
        </p:nvPicPr>
        <p:blipFill>
          <a:blip r:embed="rId1"/>
          <a:stretch/>
        </p:blipFill>
        <p:spPr>
          <a:xfrm>
            <a:off x="2411280" y="3213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ш спортивный гор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городе - Йошкар-Оле, я дума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есть всё для спортивной жизни. У нас есть два Ледовых Дворца, один рядом с бульваром, а другой рядом с рекой Кокшагой, где 4 ноября 2008 года проходили соревнования, на которые приехал Леонид Маркелов. Недавно рядом с бульваром построили Теннисный Корт, где уже этим летом проходили соревнования. И ещё там построили стадион. На нём проходили Летние Сельские игры. Когда я ехала  в школу, то часто видела, что мальчики играли на нём в футбол. Ещё рядом с рекой Кокшагой, построили Дворец Водных Видов Спорта (ДВВС). В нём очень-очень глубокий бассей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 себ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Кузнецова Оксана. В том году я ходила в «Византию», на аэробику. Но когда пришла после Нового года наша группа распалась, и поэтому я перестала ходить туда. Один раз мы с классом ходили в Ледовый Дворец. Потом я туда пошла с родителями. В этом же году мы с семьёй хотим ходить в бассейн. Очень бы хотелось туда ходить 2 раза в неделю, чтобы поддерживать своё здоровье!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ди во все времена увлекались спортом. Некоторым людям нравятся спокойные ,а другие предпочитают активные виды спорта. Они любят соревнования. Постоянные упражнения, например как зарядка, поддерживают здоровье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ла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вание – это спорт, который укрепляет все мускулы человеческого те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1_1474"/>
          <p:cNvPicPr/>
          <p:nvPr/>
        </p:nvPicPr>
        <p:blipFill>
          <a:blip r:embed="rId1"/>
          <a:stretch/>
        </p:blipFill>
        <p:spPr>
          <a:xfrm>
            <a:off x="250920" y="2997360"/>
            <a:ext cx="411480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nst2"/>
          <p:cNvPicPr/>
          <p:nvPr/>
        </p:nvPicPr>
        <p:blipFill>
          <a:blip r:embed="rId2"/>
          <a:stretch/>
        </p:blipFill>
        <p:spPr>
          <a:xfrm>
            <a:off x="-7448400" y="-4800600"/>
            <a:ext cx="2957400" cy="2023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nst2"/>
          <p:cNvPicPr/>
          <p:nvPr/>
        </p:nvPicPr>
        <p:blipFill>
          <a:blip r:embed="rId3"/>
          <a:stretch/>
        </p:blipFill>
        <p:spPr>
          <a:xfrm>
            <a:off x="4643280" y="2997360"/>
            <a:ext cx="4176720" cy="286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ельба из лу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ртом можно заниматься по-разному. Некоторыми видами, такими, как стрельба из лука, занимаются в одиноч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10"/>
          <p:cNvPicPr/>
          <p:nvPr/>
        </p:nvPicPr>
        <p:blipFill>
          <a:blip r:embed="rId1"/>
          <a:stretch/>
        </p:blipFill>
        <p:spPr>
          <a:xfrm>
            <a:off x="2556000" y="3357720"/>
            <a:ext cx="396072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нни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других видах спорта, таких, как тенисс, играют парой или вчетве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foto_tenn_11_b"/>
          <p:cNvPicPr/>
          <p:nvPr/>
        </p:nvPicPr>
        <p:blipFill>
          <a:blip r:embed="rId1"/>
          <a:stretch/>
        </p:blipFill>
        <p:spPr>
          <a:xfrm>
            <a:off x="2124000" y="2852640"/>
            <a:ext cx="4824360" cy="3449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утбо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ные виды спорта, такие как футбол, учат людей действовать вместе, чтобы забить го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port7"/>
          <p:cNvPicPr/>
          <p:nvPr/>
        </p:nvPicPr>
        <p:blipFill>
          <a:blip r:embed="rId1"/>
          <a:stretch/>
        </p:blipFill>
        <p:spPr>
          <a:xfrm>
            <a:off x="1908000" y="3284640"/>
            <a:ext cx="482472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 ради удовольствия и спорт ради денег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который занимается спортом только ради удовольствия, называется любителем. Человек, которому платят деньги за участие в соревновании и который спортом зарабатывает себе на жизнь, называется профессионал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ой спорт самый популярный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– футбол. В футбол играют во всём мире. Он возник в Англии в средние века, когда люди в деревнях играли на улицах, а теперь им увлекаются миллионы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sport7"/>
          <p:cNvPicPr/>
          <p:nvPr/>
        </p:nvPicPr>
        <p:blipFill>
          <a:blip r:embed="rId1"/>
          <a:stretch/>
        </p:blipFill>
        <p:spPr>
          <a:xfrm>
            <a:off x="2124000" y="3645000"/>
            <a:ext cx="453564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г геро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афон – это соревнование в беге на 42 км 195 м. Первую марафонскую дистанцию пробежал древнегреческий воин в 490 году до н.э. Он бежал, чтобы сообщить о победе над персами, и, добежав, умер от уста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object_94"/>
          <p:cNvPicPr/>
          <p:nvPr/>
        </p:nvPicPr>
        <p:blipFill>
          <a:blip r:embed="rId1"/>
          <a:stretch/>
        </p:blipFill>
        <p:spPr>
          <a:xfrm>
            <a:off x="3132000" y="3645000"/>
            <a:ext cx="290520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5:34:34Z</dcterms:created>
  <dc:creator>OKCAHA</dc:creator>
  <dc:description/>
  <dc:language>en-US</dc:language>
  <cp:lastModifiedBy>Ирина Петровна</cp:lastModifiedBy>
  <dcterms:modified xsi:type="dcterms:W3CDTF">2009-08-17T15:12:30Z</dcterms:modified>
  <cp:revision>8</cp:revision>
  <dc:subject/>
  <dc:title>                Спорт</dc:title>
</cp:coreProperties>
</file>