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54EF-4637-4A20-BE3E-F71F23D09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636F-B89A-4B4C-B742-C4A8A90D0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661E-8BF0-40C3-8542-7E4FE6465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0AB9-63EF-431F-A77D-9BECD2507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8289D-6FB1-4662-AC8E-745FC64D8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7C724-96F8-4B65-A80B-F54798606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FEAAF-FD2C-4455-B715-8D6E6ABF1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55466-CB46-4FBC-8393-1713138A2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DA271-829C-4AB1-8547-D38CBE620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1585B-B9D1-4348-9E1E-53C1715CC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EB7E5-530E-4834-B7BB-B13EBF867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FE87-D309-4D76-A4B8-6075F5CE8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56280-E8F1-49BA-BF71-BEEC1EDDC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22F71-EF3A-493B-9686-AE286D7A6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31040-1C69-42CC-85D7-9F5D97B96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D4D2B-BDDD-427F-9286-7FEA1F9D5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8F367-FC4D-436D-8F4A-394B8857A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F6A1-87F0-4406-820E-A9F7BE9A1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74A9-907F-46B8-8F76-AE3733633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1815-D99D-4BCF-B74D-0D2AF03DF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E966-A0F8-42D8-9F9A-FAF408F67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04FD-84EA-4350-9194-8F03ABE86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D2ED-572D-4399-B7F5-25B0B1D1A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A213-03D4-40B9-B872-5F71E61E8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C6CC2-7509-48EA-A89F-CA48FCD0E25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ADA64-90CC-4A0B-8EFE-E87E669EBE4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0066"/>
                </a:solidFill>
                <a:latin typeface="Arial"/>
              </a:rPr>
              <a:t>                </a:t>
            </a:r>
            <a:r>
              <a:rPr b="1" lang="ru-RU" sz="9600" spc="-1" strike="noStrike">
                <a:solidFill>
                  <a:srgbClr val="330066"/>
                </a:solidFill>
                <a:latin typeface="Arial"/>
              </a:rPr>
              <a:t>Спорт</a:t>
            </a:r>
            <a:endParaRPr b="1" lang="en-US" sz="9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Первые Олимпийские игры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ревние греки устраивали спортивные игры каждые четыре года. Женщинам не разрешалось не только участвовать в них, но даже смотреть соревнования. Такие виды спорта, как метание диска или копья, пришли из древ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4" descr="Ilia-Korotkov2188REUTERS_Kai-Pfaffenbach"/>
          <p:cNvPicPr/>
          <p:nvPr/>
        </p:nvPicPr>
        <p:blipFill>
          <a:blip r:embed="rId1"/>
          <a:stretch/>
        </p:blipFill>
        <p:spPr>
          <a:xfrm>
            <a:off x="2268360" y="3716280"/>
            <a:ext cx="4176720" cy="2570400"/>
          </a:xfrm>
          <a:prstGeom prst="rect">
            <a:avLst/>
          </a:prstGeom>
          <a:ln w="0">
            <a:noFill/>
          </a:ln>
        </p:spPr>
      </p:pic>
    </p:spTree>
  </p:cSld>
  <p:transition spd="slow" advTm="14000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Современные Олимпийские игры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лимпийские игры проводятся каждые четыре года в разных странах. В них участвуют спортсмены-любители из всех стран мира. Олимпийский огонь на церемонию открытия игр доставляют бегуны из Афин в Греции. Он горит, пока длятся игры. В наши дни спортсмены – мужчины и женщины – состязаются более чем в двадцати видах спорта. Миллионы людей смотрят игры по телевидению. Каждый победитель получает золотую медаль, тот, кто стал вторым, - серебряную, третий – бронзову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4" descr="107423"/>
          <p:cNvPicPr/>
          <p:nvPr/>
        </p:nvPicPr>
        <p:blipFill>
          <a:blip r:embed="rId1"/>
          <a:stretch/>
        </p:blipFill>
        <p:spPr>
          <a:xfrm>
            <a:off x="1835280" y="3860640"/>
            <a:ext cx="5472000" cy="2160720"/>
          </a:xfrm>
          <a:prstGeom prst="rect">
            <a:avLst/>
          </a:prstGeom>
          <a:ln w="0">
            <a:noFill/>
          </a:ln>
        </p:spPr>
      </p:pic>
    </p:spTree>
  </p:cSld>
  <p:transition spd="slow" advTm="20000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Борьб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-252720" y="1700280"/>
            <a:ext cx="939636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92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олее 5000 лет назад мужчины готовились к битве, занимаясь таким видом спорта, как борьб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4" descr="1769785"/>
          <p:cNvPicPr/>
          <p:nvPr/>
        </p:nvPicPr>
        <p:blipFill>
          <a:blip r:embed="rId1"/>
          <a:stretch/>
        </p:blipFill>
        <p:spPr>
          <a:xfrm>
            <a:off x="1908000" y="2852640"/>
            <a:ext cx="5205600" cy="355464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Дельтапланеризм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Благодаря развитию техники появились и новые виды спорта, такие как дельтапланеризм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5" descr="dva_deltaplana_600"/>
          <p:cNvPicPr/>
          <p:nvPr/>
        </p:nvPicPr>
        <p:blipFill>
          <a:blip r:embed="rId1"/>
          <a:stretch/>
        </p:blipFill>
        <p:spPr>
          <a:xfrm>
            <a:off x="2195640" y="3284640"/>
            <a:ext cx="4895640" cy="306864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split dir="in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Автомобильные гонки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ервые автомобильные гонки состоялись между Парижем и Руаном во Франции в 1894 году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4" descr="f101"/>
          <p:cNvPicPr/>
          <p:nvPr/>
        </p:nvPicPr>
        <p:blipFill>
          <a:blip r:embed="rId1"/>
          <a:stretch/>
        </p:blipFill>
        <p:spPr>
          <a:xfrm>
            <a:off x="971640" y="2924280"/>
            <a:ext cx="7619760" cy="369864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cover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Конные соревнования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 некоторых видах спорта, таких, как конные соревнования с препятствиями, состязаются и люди, и лошад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4" descr="10811750549msyrc"/>
          <p:cNvPicPr/>
          <p:nvPr/>
        </p:nvPicPr>
        <p:blipFill>
          <a:blip r:embed="rId1"/>
          <a:stretch/>
        </p:blipFill>
        <p:spPr>
          <a:xfrm>
            <a:off x="2124000" y="3213000"/>
            <a:ext cx="4896000" cy="30956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cover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Кровавый спорт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екоторые люди стреляют в животных и птиц ради развлечения. Но это называется кровавым спортом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4" descr="20584"/>
          <p:cNvPicPr/>
          <p:nvPr/>
        </p:nvPicPr>
        <p:blipFill>
          <a:blip r:embed="rId1"/>
          <a:stretch/>
        </p:blipFill>
        <p:spPr>
          <a:xfrm>
            <a:off x="2411280" y="3213000"/>
            <a:ext cx="4064040" cy="304812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Наш спортивный город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 нашем городе - Йошкар-Оле, я думаю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есть всё для спортивной жизни. У нас есть два Ледовых Дворца, один рядом с бульваром, а другой рядом с рекой Кокшагой, где 4 ноября 2008 года проходили соревнования, на которые приехал Леонид Маркелов. Недавно рядом с бульваром построили Теннисный Корт, где уже этим летом проходили соревнования. И ещё там построили стадион. На нём проходили Летние Сельские игры. Когда я ехала  в школу, то часто видела, что мальчики играли на нём в футбол. Ещё рядом с рекой Кокшагой, построили Дворец Водных Видов Спорта (ДВВС). В нём очень-очень глубокий бассейн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5000">
    <p:split dir="out" orient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О себе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Я Кузнецова Оксана. В том году я ходила в «Византию», на аэробику. Но когда пришла после Нового года наша группа распалась, и поэтому я перестала ходить туда. Один раз мы с классом ходили в Ледовый Дворец. Потом я туда пошла с родителями. В этом же году мы с семьёй хотим ходить в бассейн. Очень бы хотелось туда ходить 2 раза в неделю, чтобы поддерживать своё здоровье!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0">
    <p:checke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Спорт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Люди во все времена увлекались спортом. Некоторым людям нравятся спокойные ,а другие предпочитают активные виды спорта. Они любят соревнования. Постоянные упражнения, например как зарядка, поддерживают здоровье люде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Плавание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лавание – это спорт, который укрепляет все мускулы человеческого тел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4" descr="01_1474"/>
          <p:cNvPicPr/>
          <p:nvPr/>
        </p:nvPicPr>
        <p:blipFill>
          <a:blip r:embed="rId1"/>
          <a:stretch/>
        </p:blipFill>
        <p:spPr>
          <a:xfrm>
            <a:off x="250920" y="2997360"/>
            <a:ext cx="4114800" cy="28620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gnst2"/>
          <p:cNvPicPr/>
          <p:nvPr/>
        </p:nvPicPr>
        <p:blipFill>
          <a:blip r:embed="rId2"/>
          <a:stretch/>
        </p:blipFill>
        <p:spPr>
          <a:xfrm>
            <a:off x="-7448400" y="-4800600"/>
            <a:ext cx="2957400" cy="20239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gnst2"/>
          <p:cNvPicPr/>
          <p:nvPr/>
        </p:nvPicPr>
        <p:blipFill>
          <a:blip r:embed="rId3"/>
          <a:stretch/>
        </p:blipFill>
        <p:spPr>
          <a:xfrm>
            <a:off x="4643280" y="2997360"/>
            <a:ext cx="4176720" cy="286056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Стрельба из лук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портом можно заниматься по-разному. Некоторыми видами, такими, как стрельба из лука, занимаются в одиночку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" descr="010"/>
          <p:cNvPicPr/>
          <p:nvPr/>
        </p:nvPicPr>
        <p:blipFill>
          <a:blip r:embed="rId1"/>
          <a:stretch/>
        </p:blipFill>
        <p:spPr>
          <a:xfrm>
            <a:off x="2556000" y="3357720"/>
            <a:ext cx="3960720" cy="309564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plus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Теннис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 других видах спорта, таких, как тенисс, играют парой или вчетвером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4" descr="foto_tenn_11_b"/>
          <p:cNvPicPr/>
          <p:nvPr/>
        </p:nvPicPr>
        <p:blipFill>
          <a:blip r:embed="rId1"/>
          <a:stretch/>
        </p:blipFill>
        <p:spPr>
          <a:xfrm>
            <a:off x="2124000" y="2852640"/>
            <a:ext cx="4824360" cy="34498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Футбол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омандные виды спорта, такие как футбол, учат людей действовать вместе, чтобы забить гол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4" descr="sport7"/>
          <p:cNvPicPr/>
          <p:nvPr/>
        </p:nvPicPr>
        <p:blipFill>
          <a:blip r:embed="rId1"/>
          <a:stretch/>
        </p:blipFill>
        <p:spPr>
          <a:xfrm>
            <a:off x="1908000" y="3284640"/>
            <a:ext cx="4824720" cy="3240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Спорт ради удовольствия и спорт ради денег.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Человек, который занимается спортом только ради удовольствия, называется любителем. Человек, которому платят деньги за участие в соревновании и который спортом зарабатывает себе на жизнь, называется профессионалом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Какой спорт самый популярный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Это – футбол. В футбол играют во всём мире. Он возник в Англии в средние века, когда люди в деревнях играли на улицах, а теперь им увлекаются миллионы люде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4" descr="sport7"/>
          <p:cNvPicPr/>
          <p:nvPr/>
        </p:nvPicPr>
        <p:blipFill>
          <a:blip r:embed="rId1"/>
          <a:stretch/>
        </p:blipFill>
        <p:spPr>
          <a:xfrm>
            <a:off x="2124000" y="3645000"/>
            <a:ext cx="4535640" cy="295272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Бег героя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рафон – это соревнование в беге на 42 км 195 м. Первую марафонскую дистанцию пробежал древнегреческий воин в 490 году до н.э. Он бежал, чтобы сообщить о победе над персами, и, добежав, умер от устал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4" descr="object_94"/>
          <p:cNvPicPr/>
          <p:nvPr/>
        </p:nvPicPr>
        <p:blipFill>
          <a:blip r:embed="rId1"/>
          <a:stretch/>
        </p:blipFill>
        <p:spPr>
          <a:xfrm>
            <a:off x="3132000" y="3645000"/>
            <a:ext cx="2905200" cy="2438280"/>
          </a:xfrm>
          <a:prstGeom prst="rect">
            <a:avLst/>
          </a:prstGeom>
          <a:ln w="0">
            <a:noFill/>
          </a:ln>
        </p:spPr>
      </p:pic>
    </p:spTree>
  </p:cSld>
  <p:transition spd="slow" advTm="17000">
    <p:strips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15:34:34Z</dcterms:created>
  <dc:creator>OKCAHA</dc:creator>
  <dc:description/>
  <dc:language>en-US</dc:language>
  <cp:lastModifiedBy>Ирина Петровна</cp:lastModifiedBy>
  <dcterms:modified xsi:type="dcterms:W3CDTF">2009-08-17T15:12:30Z</dcterms:modified>
  <cp:revision>8</cp:revision>
  <dc:subject/>
  <dc:title>                Спорт</dc:title>
</cp:coreProperties>
</file>