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7DC8-6836-48D0-B8C9-2F302FCF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BF17-8B38-4B04-8E51-B24065D6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ADBA-F8EF-4EA8-854D-9FEE3208A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0D1B-ACF2-43B3-863A-34BCC2289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F4A4-6FAD-4638-976C-D20377AC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8D63-163F-4A85-9BF9-99E043BF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4054-A65A-45AC-A820-FE8D6D9C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83E2-5F39-407F-ADF8-27943E20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1056-78CF-4EA8-A7D9-770CDA94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02AD-04F7-4BB8-A524-D7E83D7F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3A48-4A07-4AEA-9B9A-9567257B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92FC-5119-4FD6-A5E5-D2533083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919D-25EA-4072-92FB-65706E61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BFB1-5162-4352-A5B2-0E317D3D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FBC1-E399-483D-8CFB-8F67F4EF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8679-5B90-4646-B139-72CEFCC39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CD96-5A56-4E66-8E68-EF8907349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51B5-A50C-412F-9235-BC9F3BE3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33BF-37F2-4B71-81B0-B87DDE93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2234-209A-45AC-B968-C814F01E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55CF-A914-4CFD-938F-03851F85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DF5A-FF6D-41C7-AF39-663AD1ED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DDC4-15D3-458F-AAAE-52DE2F8C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4974-0EB7-416C-8807-523ED0FE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FC4F-7350-47AB-9AAE-1F37CE1A38E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A705-CD57-491D-802B-9679D1A3572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                </a:t>
            </a:r>
            <a:r>
              <a:rPr b="1" lang="ru-RU" sz="9600" spc="-1" strike="noStrike">
                <a:solidFill>
                  <a:srgbClr val="330066"/>
                </a:solidFill>
                <a:latin typeface="Arial"/>
              </a:rPr>
              <a:t>Спорт</a:t>
            </a:r>
            <a:endParaRPr b="1" lang="en-US" sz="9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ервые Олимпийские иг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евние греки устраивали спортивные игры каждые четыре года. Женщинам не разрешалось не только участвовать в них, но даже смотреть соревнования. Такие виды спорта, как метание диска или копья, пришли из дре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Ilia-Korotkov2188REUTERS_Kai-Pfaffenbach"/>
          <p:cNvPicPr/>
          <p:nvPr/>
        </p:nvPicPr>
        <p:blipFill>
          <a:blip r:embed="rId1"/>
          <a:stretch/>
        </p:blipFill>
        <p:spPr>
          <a:xfrm>
            <a:off x="2268360" y="3716280"/>
            <a:ext cx="4176720" cy="257040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временные Олимпийские иг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лимпийские игры проводятся каждые четыре года в разных странах. В них участвуют спортсмены-любители из всех стран мира. Олимпийский огонь на церемонию открытия игр доставляют бегуны из Афин в Греции. Он горит, пока длятся игры. В наши дни спортсмены – мужчины и женщины – состязаются более чем в двадцати видах спорта. Миллионы людей смотрят игры по телевидению. Каждый победитель получает золотую медаль, тот, кто стал вторым, - серебряную, третий – бронзов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107423"/>
          <p:cNvPicPr/>
          <p:nvPr/>
        </p:nvPicPr>
        <p:blipFill>
          <a:blip r:embed="rId1"/>
          <a:stretch/>
        </p:blipFill>
        <p:spPr>
          <a:xfrm>
            <a:off x="1835280" y="3860640"/>
            <a:ext cx="5472000" cy="216072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орьб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-252720" y="1700280"/>
            <a:ext cx="93963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е 5000 лет назад мужчины готовились к битве, занимаясь таким видом спорта, как борь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1769785"/>
          <p:cNvPicPr/>
          <p:nvPr/>
        </p:nvPicPr>
        <p:blipFill>
          <a:blip r:embed="rId1"/>
          <a:stretch/>
        </p:blipFill>
        <p:spPr>
          <a:xfrm>
            <a:off x="1908000" y="2852640"/>
            <a:ext cx="5205600" cy="3554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ельтапланериз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агодаря развитию техники появились и новые виды спорта, такие как дельтапланериз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dva_deltaplana_600"/>
          <p:cNvPicPr/>
          <p:nvPr/>
        </p:nvPicPr>
        <p:blipFill>
          <a:blip r:embed="rId1"/>
          <a:stretch/>
        </p:blipFill>
        <p:spPr>
          <a:xfrm>
            <a:off x="2195640" y="3284640"/>
            <a:ext cx="4895640" cy="3068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втомобильные гон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вые автомобильные гонки состоялись между Парижем и Руаном во Франции в 1894 год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f101"/>
          <p:cNvPicPr/>
          <p:nvPr/>
        </p:nvPicPr>
        <p:blipFill>
          <a:blip r:embed="rId1"/>
          <a:stretch/>
        </p:blipFill>
        <p:spPr>
          <a:xfrm>
            <a:off x="971640" y="2924280"/>
            <a:ext cx="7619760" cy="36986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онные соревнова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некоторых видах спорта, таких, как конные соревнования с препятствиями, состязаются и люди, и лошад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10811750549msyrc"/>
          <p:cNvPicPr/>
          <p:nvPr/>
        </p:nvPicPr>
        <p:blipFill>
          <a:blip r:embed="rId1"/>
          <a:stretch/>
        </p:blipFill>
        <p:spPr>
          <a:xfrm>
            <a:off x="2124000" y="3213000"/>
            <a:ext cx="4896000" cy="3095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ровавый спор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которые люди стреляют в животных и птиц ради развлечения. Но это называется кровавым спорт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20584"/>
          <p:cNvPicPr/>
          <p:nvPr/>
        </p:nvPicPr>
        <p:blipFill>
          <a:blip r:embed="rId1"/>
          <a:stretch/>
        </p:blipFill>
        <p:spPr>
          <a:xfrm>
            <a:off x="2411280" y="321300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Наш спортивный город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нашем городе - Йошкар-Оле, я дума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есть всё для спортивной жизни. У нас есть два Ледовых Дворца, один рядом с бульваром, а другой рядом с рекой Кокшагой, где 4 ноября 2008 года проходили соревнования, на которые приехал Леонид Маркелов. Недавно рядом с бульваром построили Теннисный Корт, где уже этим летом проходили соревнования. И ещё там построили стадион. На нём проходили Летние Сельские игры. Когда я ехала  в школу, то часто видела, что мальчики играли на нём в футбол. Ещё рядом с рекой Кокшагой, построили Дворец Водных Видов Спорта (ДВВС). В нём очень-очень глубокий бассей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5000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 себ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 Кузнецова Оксана. В том году я ходила в «Византию», на аэробику. Но когда пришла после Нового года наша группа распалась, и поэтому я перестала ходить туда. Один раз мы с классом ходили в Ледовый Дворец. Потом я туда пошла с родителями. В этом же году мы с семьёй хотим ходить в бассейн. Очень бы хотелось туда ходить 2 раза в неделю, чтобы поддерживать своё здоровье!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пор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юди во все времена увлекались спортом. Некоторым людям нравятся спокойные ,а другие предпочитают активные виды спорта. Они любят соревнования. Постоянные упражнения, например как зарядка, поддерживают здоровье люд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лав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лавание – это спорт, который укрепляет все мускулы человеческого тел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01_1474"/>
          <p:cNvPicPr/>
          <p:nvPr/>
        </p:nvPicPr>
        <p:blipFill>
          <a:blip r:embed="rId1"/>
          <a:stretch/>
        </p:blipFill>
        <p:spPr>
          <a:xfrm>
            <a:off x="250920" y="2997360"/>
            <a:ext cx="4114800" cy="2862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gnst2"/>
          <p:cNvPicPr/>
          <p:nvPr/>
        </p:nvPicPr>
        <p:blipFill>
          <a:blip r:embed="rId2"/>
          <a:stretch/>
        </p:blipFill>
        <p:spPr>
          <a:xfrm>
            <a:off x="-7448400" y="-4800600"/>
            <a:ext cx="2957400" cy="2023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gnst2"/>
          <p:cNvPicPr/>
          <p:nvPr/>
        </p:nvPicPr>
        <p:blipFill>
          <a:blip r:embed="rId3"/>
          <a:stretch/>
        </p:blipFill>
        <p:spPr>
          <a:xfrm>
            <a:off x="4643280" y="2997360"/>
            <a:ext cx="4176720" cy="2860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рельба из лу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ортом можно заниматься по-разному. Некоторыми видами, такими, как стрельба из лука, занимаются в одиночк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010"/>
          <p:cNvPicPr/>
          <p:nvPr/>
        </p:nvPicPr>
        <p:blipFill>
          <a:blip r:embed="rId1"/>
          <a:stretch/>
        </p:blipFill>
        <p:spPr>
          <a:xfrm>
            <a:off x="2556000" y="3357720"/>
            <a:ext cx="3960720" cy="3095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енни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других видах спорта, таких, как тенисс, играют парой или вчетвер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foto_tenn_11_b"/>
          <p:cNvPicPr/>
          <p:nvPr/>
        </p:nvPicPr>
        <p:blipFill>
          <a:blip r:embed="rId1"/>
          <a:stretch/>
        </p:blipFill>
        <p:spPr>
          <a:xfrm>
            <a:off x="2124000" y="2852640"/>
            <a:ext cx="4824360" cy="3449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Футбо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андные виды спорта, такие как футбол, учат людей действовать вместе, чтобы забить го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sport7"/>
          <p:cNvPicPr/>
          <p:nvPr/>
        </p:nvPicPr>
        <p:blipFill>
          <a:blip r:embed="rId1"/>
          <a:stretch/>
        </p:blipFill>
        <p:spPr>
          <a:xfrm>
            <a:off x="1908000" y="3284640"/>
            <a:ext cx="4824720" cy="3240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порт ради удовольствия и спорт ради денег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ловек, который занимается спортом только ради удовольствия, называется любителем. Человек, которому платят деньги за участие в соревновании и который спортом зарабатывает себе на жизнь, называется профессионал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акой спорт самый популярный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то – футбол. В футбол играют во всём мире. Он возник в Англии в средние века, когда люди в деревнях играли на улицах, а теперь им увлекаются миллионы люд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sport7"/>
          <p:cNvPicPr/>
          <p:nvPr/>
        </p:nvPicPr>
        <p:blipFill>
          <a:blip r:embed="rId1"/>
          <a:stretch/>
        </p:blipFill>
        <p:spPr>
          <a:xfrm>
            <a:off x="2124000" y="3645000"/>
            <a:ext cx="4535640" cy="2952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ег геро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афон – это соревнование в беге на 42 км 195 м. Первую марафонскую дистанцию пробежал древнегреческий воин в 490 году до н.э. Он бежал, чтобы сообщить о победе над персами, и, добежав, умер от устал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object_94"/>
          <p:cNvPicPr/>
          <p:nvPr/>
        </p:nvPicPr>
        <p:blipFill>
          <a:blip r:embed="rId1"/>
          <a:stretch/>
        </p:blipFill>
        <p:spPr>
          <a:xfrm>
            <a:off x="3132000" y="3645000"/>
            <a:ext cx="2905200" cy="243828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5:34:34Z</dcterms:created>
  <dc:creator>OKCAHA</dc:creator>
  <dc:description/>
  <dc:language>en-US</dc:language>
  <cp:lastModifiedBy>Ирина Петровна</cp:lastModifiedBy>
  <dcterms:modified xsi:type="dcterms:W3CDTF">2009-08-17T15:12:30Z</dcterms:modified>
  <cp:revision>8</cp:revision>
  <dc:subject/>
  <dc:title>                Спорт</dc:title>
</cp:coreProperties>
</file>