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12.wmf" ContentType="image/x-wmf"/>
  <Override PartName="/ppt/media/image19.jpeg" ContentType="image/jpeg"/>
  <Override PartName="/ppt/media/image18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61DF-DB40-468F-9CED-70020304A4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7162-42A9-4E40-9851-8B3B1338EE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76DD-F3D5-4371-87F7-5FD4519943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48E1-119B-468D-BFFE-69884634E5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F401-F4F6-43E5-9602-FBC3B6E464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BFF3-5DCA-48B4-B23A-244C512B8E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D797-3BF7-4FF0-AE96-384C246B64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AC9A-727F-4061-8D16-4F8AEB22BD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E32D-A7C1-4DA1-8DF4-A8555744B1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B2A1-2607-4A41-82CB-E4849627D3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3EDB-90B3-401C-AC87-6016046A8F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7B4A-FA86-498B-A929-CDCAC5D373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5217-0A00-45E2-8599-9434965E3C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E560-E636-48CC-86C7-818116081D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37CC-5BD2-46AB-9228-D65676B5F7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F88F-9860-49B3-BB2E-30292779B4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A0C4-4DC6-4F5B-9080-EC3C6BAF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58F2-D5D2-4A8B-B3DF-83A4C27D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9B1-3C4D-4A85-BDFF-ACEF1618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784-F1BD-483F-BA42-09B9785B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1D59-41C3-4C2E-B7E7-708F1CDF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4B90-F72F-4483-8AFC-AF3CE8CB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A383-26E5-41BA-B189-B4A51875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F5F2-A199-46FB-95FD-2C733D05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D120-9B74-436D-9D51-E2FF1473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94A0-E128-4B98-A847-DD9B135D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66CC-2327-45AF-8847-A3B8C310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C54E-C1E9-4714-9F7D-C42F9CDD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B53B-CA36-4505-B15E-26817EA1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48D5-007C-4ECB-9B38-288FD06C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8B24-F0FB-4840-AAA2-ADE4BB3C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F37A-46C9-4EB6-B3BE-8AAFA01C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DBC3-5251-44DD-942F-BACE6847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AC585-159B-453F-8127-B0174C9E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B2EE3-9FFD-4DDD-AF21-526410EB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A1F32-D96A-456B-A7A5-118458DF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BD113-A3D6-4C39-8265-DC26984A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7E9D2-029F-41B1-99E9-5574F3E5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EFEC-292D-4798-AB2A-414907FE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0C46D-C53B-45C7-8CC3-D85E1F04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D6B04-2ACF-423F-8E00-AC756065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4B574-7416-4059-9852-771B480D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28356-6F28-4FDB-AE6F-CF9F63A1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A3897-E69F-48D9-B060-69464B61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3C792-8E0E-4566-B71B-537484A4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81B38-4552-4F4B-B302-A1CDA183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33BCA-1C2F-4DA4-825E-2BD65629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D3266-4C16-4FB5-ACAC-E1FAB830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90BFF-765D-403E-AB5B-C3CFE1F0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F5D-6D64-4D89-9B8E-6B3209DB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10C59-865C-43BB-A5DB-715F6789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E9CB4-0E8D-4F0B-A733-398FA91F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37FD7-5D9B-4F96-805A-EBC156C4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92D81-2793-4F5C-96A2-21D33D64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89174-22B5-455C-AE4D-0E08BFB7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B42E0-BE4F-4340-ABC1-B60B93B5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6DE4A-13BD-4F98-AB48-CDC6BD9B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C1419-1FC7-41B6-8368-E466E42F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4771C-E02D-4623-A78A-CFB71E19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6AF9F-59F4-4946-8A50-4CB05B7C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C87-F8EC-458E-BCF5-A11794F4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31F6F-F23F-4DEB-8D8D-152D049A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5E4C1-B531-41B5-8C26-49211BCF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5032B-13BC-4F3E-851A-28927216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A4129-9DC8-45F8-AD43-F2AAF117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9D11F-086B-4F63-9DC4-FBF74188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6E9AC-7E98-45F5-AFDE-2415B276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01747-0876-4E26-AFBF-5487B123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DDB55-FD33-435C-9D15-A36D102D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5B954-D950-4792-84A5-03360BFE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98D90-5D3E-4EF9-8408-258585F5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8151-34EF-4D35-9571-62106C0C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4EFB7-A22D-48DF-9654-ECAA7714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64CF8-A85E-4E57-A11A-7BDF215B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89F66-06B7-468D-9210-12F1541F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DB70F-84D7-4BA3-81DE-6EB16AB4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BA09B-5E25-4A07-8097-5A51D22F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041BC-9355-4EBE-8012-4FF4297A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993FA-F1BA-4709-9854-BA027406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626CD-9BDA-4E0E-9D2F-906197C4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63B20-A396-4C65-8AF3-C904307E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DF8E2-E012-4DE7-A42E-6C5F86FB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71C-996D-45E3-8ED9-729D33CA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48DA0-683E-4C8A-9880-869076BC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3910C-E6CF-453D-B61D-52822E0A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BCC1E-2F1E-48A3-B34E-C7AEC269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6F600-A4EF-4131-A715-DD100D99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451EB-C29D-4EEF-A9DB-1A2C794E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8CF0E-2A4A-47DA-85C7-0CF90D74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046FD-18EF-414B-B521-D5CA8C8E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3954F-AE1A-4D90-81EB-072D3B8A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41850-F49F-451B-97A6-57A80AA8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0540A-963A-4CFC-A22B-32998FA2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17CB-6731-4240-B154-1F915ADF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643CA-A376-4813-B533-10568335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0CD40-AF26-416C-A5C7-81E45320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354D5-1199-4FF9-9F25-E819E22F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9654E-B023-4BB7-8B97-29960F12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D6CF6-7E91-4A59-A233-BD98A34E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3F8CB-7DA2-4E60-969C-5A046392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4F4B8-7FCC-44AB-89C8-A01C8A36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806F4-E901-4A13-94DE-F49E9272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D202D-F4B5-4C2E-BC59-4B4C9FF2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CD5D2-F66E-4B46-90DC-2A54C7B0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EBE-B20C-45C6-8BE1-A1A6162F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2F454-57B5-4D05-92D2-7A6CF63B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7B062-6AA8-48C5-9744-7A446F62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EF4A3-6283-4C5C-AE0A-088A0B87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C15E3-DF3B-4537-B71E-E63E0971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CC6B9-3C2B-4EDF-AA69-F201AE59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B5C54-83D6-4D23-93D6-12BB65C3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D8AB8-CA15-4CCE-835A-2F28F846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43D6-BC13-4074-91C9-670393C227A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9C78-EDB5-4866-8937-CBB5103F6A3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5CB6-A7B0-4C0B-809B-88DDDCE268C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702E-787A-4172-87A9-E489B82737B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1A48-C11D-4AA9-A201-7C72755AB51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7BB6-261F-4A84-838D-2E021728363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DA1B-DD00-435A-812B-974198FFC28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0ABD-8D43-4466-9B70-5F5D9C95AC7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ершинин Никита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Родился 20</a:t>
            </a: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октября 1998г. 3 а клас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Александр Кержа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вард сборной России по футболу Александр Кержаков. Он является одним из самых молодых и перспективных нападающих нашего футбо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7" descr="5de0018i"/>
          <p:cNvPicPr/>
          <p:nvPr/>
        </p:nvPicPr>
        <p:blipFill>
          <a:blip r:embed="rId1"/>
          <a:stretch/>
        </p:blipFill>
        <p:spPr>
          <a:xfrm>
            <a:off x="4703760" y="1676520"/>
            <a:ext cx="349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ергей Овчинни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тарь сборной России по футболу Сергей Овчинников. На протяжении нескольких лет он с успехом защищает ворота главной команды страны, а также московского «Локомотива» в составе которого в 2002 году Сергей стал чемпионом Росс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1" name="Picture 7" descr="5de0017i"/>
          <p:cNvPicPr/>
          <p:nvPr/>
        </p:nvPicPr>
        <p:blipFill>
          <a:blip r:embed="rId1"/>
          <a:stretch/>
        </p:blipFill>
        <p:spPr>
          <a:xfrm>
            <a:off x="4648320" y="2014560"/>
            <a:ext cx="35049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ля справ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Россию футбол пришел в конце 19 ве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изнанными лидерами мирового футбола в Европе являются сборные команды Франции, Германии, Англии, Италии, Испании, в Южной Америке — бразильцы, аргентинцы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рупнейшими футбольными турнирами являются чемпионат мира и чемпионат Европы, которые проводятся раз в четыре год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Футбол — олимпийский вид, но победа на Олимпиаде не считается высшим достижением в футболе (в отличие от других видов); главный турнир — чемпионат мир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Лучшие тренеры сборных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Гус Хиддинк занял второе место в списке лучших тренеров сборны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еждународная федерация футбольной истории и статистики (IFFHS) подвела итоги опроса своих экспертов, которые выбирали лучшего среди главных тренеров национальных сборных 2008 года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 первом месте оказался 70-летний Луис Арагонес, приведший команду Испании к званию чемпиона Европы. Вторую строчку занял главный тренер российской команды Гус Хиддинк, а замкнул тройку наставник турецкой сборной Фатих Терим, которая, как и российская, стала бронзовым призером ЕВРО-2008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есёлые картин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97" name="Picture 13" descr="j0301476"/>
          <p:cNvPicPr/>
          <p:nvPr/>
        </p:nvPicPr>
        <p:blipFill>
          <a:blip r:embed="rId1"/>
          <a:stretch/>
        </p:blipFill>
        <p:spPr>
          <a:xfrm>
            <a:off x="1577880" y="1919160"/>
            <a:ext cx="1797120" cy="1548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j0323802"/>
          <p:cNvPicPr/>
          <p:nvPr/>
        </p:nvPicPr>
        <p:blipFill>
          <a:blip r:embed="rId2"/>
          <a:stretch/>
        </p:blipFill>
        <p:spPr>
          <a:xfrm>
            <a:off x="4952880" y="1828800"/>
            <a:ext cx="2895840" cy="2209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5" descr="j0396714"/>
          <p:cNvPicPr/>
          <p:nvPr/>
        </p:nvPicPr>
        <p:blipFill>
          <a:blip r:embed="rId3"/>
          <a:stretch/>
        </p:blipFill>
        <p:spPr>
          <a:xfrm>
            <a:off x="1562040" y="4243320"/>
            <a:ext cx="1828800" cy="1577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6" descr="soccer_ref_red_card_md_wht"/>
          <p:cNvPicPr/>
          <p:nvPr/>
        </p:nvPicPr>
        <p:blipFill>
          <a:blip r:embed="rId4"/>
          <a:stretch/>
        </p:blipFill>
        <p:spPr>
          <a:xfrm>
            <a:off x="5486400" y="4460760"/>
            <a:ext cx="163836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ир Мяч, Мяч Милан, Мяч Реал, Обычный Мяч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02" name="Picture 9" descr="мир мяч"/>
          <p:cNvPicPr/>
          <p:nvPr/>
        </p:nvPicPr>
        <p:blipFill>
          <a:blip r:embed="rId1"/>
          <a:stretch/>
        </p:blipFill>
        <p:spPr>
          <a:xfrm>
            <a:off x="1295280" y="1905120"/>
            <a:ext cx="1828800" cy="1447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мяч милан"/>
          <p:cNvPicPr/>
          <p:nvPr/>
        </p:nvPicPr>
        <p:blipFill>
          <a:blip r:embed="rId2"/>
          <a:stretch/>
        </p:blipFill>
        <p:spPr>
          <a:xfrm>
            <a:off x="6024600" y="20494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1" descr="мЯч реал"/>
          <p:cNvPicPr/>
          <p:nvPr/>
        </p:nvPicPr>
        <p:blipFill>
          <a:blip r:embed="rId3"/>
          <a:stretch/>
        </p:blipFill>
        <p:spPr>
          <a:xfrm>
            <a:off x="1857240" y="441324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4" descr="j0404938"/>
          <p:cNvPicPr/>
          <p:nvPr/>
        </p:nvPicPr>
        <p:blipFill>
          <a:blip r:embed="rId4"/>
          <a:stretch/>
        </p:blipFill>
        <p:spPr>
          <a:xfrm>
            <a:off x="5135400" y="3938760"/>
            <a:ext cx="30639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Биографи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ршинин Никита Андрееви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ник 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класса школы № 1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рождения: 20 октября 1998г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лекаюсь футболом и плавань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Футбо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евятикратный чемпион России по футболу — московский «Спартак». Сезон 1998/1999 год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footbol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ональд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учший нападающий современной бразильской сборной — Рональдо. В финальном матче чемпионата мира 2002 года Бразилия — Германия он забил оба мяча своей сборной и принес Бразилии пятый титул чемпионов ми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7" descr="RONALi"/>
          <p:cNvPicPr/>
          <p:nvPr/>
        </p:nvPicPr>
        <p:blipFill>
          <a:blip r:embed="rId1"/>
          <a:stretch/>
        </p:blipFill>
        <p:spPr>
          <a:xfrm>
            <a:off x="4876920" y="1905120"/>
            <a:ext cx="26445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Это интересно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утбол — бесспорно, самая популярная и самая массовая спортивная игра. В нее играют на всех континентах от школьника до убеленных сединой мужей. Футбол — это скорость, сила, ловкость, быстрота реак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одина футбола — Англия. И само слово «футбол» английское, оно произошло от foot — нога и ball — мяч. Однако еще две тысячи лет назад, задолго до того, как кожаный мяч появился в Англии, в него играли юноши в Древнем Китае. Игра с мячом была широко распространена и в Древней Греции. У греков игру в мяч заимствовали римляне. Она стала любимым развлечением римских воинов, которые играли мячом из толстой воловьей кожи, набитой соломой. Благодаря Риму в 14 веке эта игра стала известна на Британских островах. В средневековый английский футбол играли азартно, но очень грубо. Сама игра превращалась часто в дикую свалку на улицах. Власти вели упорную войну с футболом; были изданы даже королевские указы о запрещении игры. Но популярность футбола была настолько велика, что никакие указы не могли остановить ее триумфальное шествие. Именно тогда футбол получил свое нынешнее название. В 1863 году была основана первая в мире футбольная ассоциация и разработаны официальные правила игры, в 1904 году возникла Международная федерация футбольных ассоциа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ел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 из самых знаменитых футболистов в мире бразильский нападающий Пеле очень точно подметил: «Футбол — это трудная игра, ведь в нее играют ногами, а думать надо головой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динственный футболист в истории, который становился трехкратным чемпионом мира в качестве игрока (1958, 1962, 197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7" descr="pele1"/>
          <p:cNvPicPr/>
          <p:nvPr/>
        </p:nvPicPr>
        <p:blipFill>
          <a:blip r:embed="rId1"/>
          <a:stretch/>
        </p:blipFill>
        <p:spPr>
          <a:xfrm>
            <a:off x="5105520" y="1752480"/>
            <a:ext cx="2501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Лев Яшин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олотой мяч» — высшая награда для европейских футболистов. Лев Яшин стал его обладателем в 1963 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7" descr="yash1"/>
          <p:cNvPicPr/>
          <p:nvPr/>
        </p:nvPicPr>
        <p:blipFill>
          <a:blip r:embed="rId1"/>
          <a:stretch/>
        </p:blipFill>
        <p:spPr>
          <a:xfrm>
            <a:off x="5110200" y="1600200"/>
            <a:ext cx="3114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ишель Платин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ранцуз Мишель Платини несколько раз признавался лучшим футболистом Европы. В 1984 году в составе сборной Франции он стал чемпионом Европы. Наибольшую известность получил, играя за итальянский клуб «Ювентус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7" descr="platini1"/>
          <p:cNvPicPr/>
          <p:nvPr/>
        </p:nvPicPr>
        <p:blipFill>
          <a:blip r:embed="rId1"/>
          <a:stretch/>
        </p:blipFill>
        <p:spPr>
          <a:xfrm>
            <a:off x="5154480" y="1600200"/>
            <a:ext cx="302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иего Марадон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ающийся аргентинский футболист Марадона —  один из лучших нападающих в истории мирового футбо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7" descr="marad"/>
          <p:cNvPicPr/>
          <p:nvPr/>
        </p:nvPicPr>
        <p:blipFill>
          <a:blip r:embed="rId1"/>
          <a:stretch/>
        </p:blipFill>
        <p:spPr>
          <a:xfrm>
            <a:off x="5148360" y="1600200"/>
            <a:ext cx="303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Петровна</cp:lastModifiedBy>
  <dcterms:modified xsi:type="dcterms:W3CDTF">2009-08-17T15:13:4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