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E702-552D-48F1-979E-52E6C4EA58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B934-2FED-4460-92FF-22681C628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8897-ACF8-4899-BD83-CCD0D9484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AFAF-0682-4FF9-99AF-EF87AF059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D752-9308-4384-9B36-D62559580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28E1-A08B-40E6-963B-64D384273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785D-2A93-47D2-B9F9-D9C233A29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CBA8-FDBB-4A4C-8C02-881E0327C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E2B6-1174-4917-BE10-42B7E4394E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57A1-1235-49A0-AFC1-34A5BB2B0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179-2D1D-42A4-8CE9-5259C70BD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4C3C-ABF8-4CBB-8E0A-C8B2E4338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F5B9-E88D-4C8A-8E11-4D4165BFB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060C-16AC-4E29-BE4C-5E2F9C598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227D-BDFC-45B1-8318-1F7960F18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F7F1-B2D3-4D17-B085-BA3A707A0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052-240C-401E-9BD7-B7B562C8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C47-C9D0-42DB-8AA2-DE2288E6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506-9B7F-4522-BE2B-17FC54B3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B6D-828E-4E4E-9867-759B0B8A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25B3-B9AD-4DF6-9DC5-CC8AAFBA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9F01-1207-4F9A-93CF-9AC0A735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1951-6C37-434A-AB21-26DE769B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5D8E-9CF0-4449-8E4B-EFEF4599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99E6-8941-42DF-A7AE-38288EC5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F241-4276-4412-8B70-95DA89EA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AD46-2450-45DA-9844-D2815234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306-3484-4CC3-A46D-B2DDE11E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7EE5-F4AA-412C-8F46-D9E55086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9E8D-BAB1-4CAE-95C4-48EA77C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EFBC-327C-4CF0-8C11-7263ECC6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28CF-EF3F-4925-83AD-4B6A062E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9FB4-19CF-42BD-83E9-ADC5875A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7F30-51D7-4875-B14A-8D9495A1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2EAA-FB0F-447F-B25D-AB1C7BE6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5CE9-45C9-46A8-A9DA-B377EC3B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2439-904B-47F2-B5B7-1E870485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E2E7-DBB2-4687-B7B2-A4D1A53F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70F-BEED-44AD-8674-056C2554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A7B6-DDDC-4A17-8CD1-ADE89BAA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192D-7F2A-4368-A620-7BF9F67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6D47-67E4-47F6-AFF8-5E45CF3B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9BCF-704A-4908-86E1-563BF3F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F2CF-B6B7-4AD0-9F64-5FE9C26D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67B5-B441-4217-A4D6-1DB1DA0F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521B-D89A-4656-A0B6-133B8C24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FA6FA-31F8-42C8-A1EB-D9DF1251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DB1B-678E-4639-9FB0-12F7A2BA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29D0B-BFCC-49E6-853E-E1CAD82E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705-B6A7-47D4-AC89-C2E08546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F9E9-FF24-4371-85DD-181C9EA8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0246-C94D-4499-8A98-70E12972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AE76-EA1D-4C8B-A9CC-39F6C31E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9B0C-CBEA-4CB2-AD54-48CE630E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F26E-6626-4A27-9958-B264A66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30CCE-C4BE-405E-9524-22D3F1BA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925B-D09D-4B7F-89D3-5774E179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3F9D5-9D3D-44D3-8FDF-7EB53CA3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CF95C-B3DC-4434-A03F-CA49EE7A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F2EAA-0DC8-4CE4-B1A5-CBE5245E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1C4-121D-4A01-B2DC-CE9898A2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850FC-182A-4685-9C49-8A2F4292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97C1C-484A-4323-B2CD-A2B4249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3794-2F30-4BC7-BC26-BFBF26D2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C7D5-5544-404B-BB78-FF78A0BF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AFBE9-CD2C-4679-9A92-EE7FF3BB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2F52F-C2E3-4FEB-925E-A17EEC4C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AA8C7-C36A-4F4F-8DBA-274C5ED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010D-6D48-46BA-9A4B-8855C37C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6C893-9BD1-4D27-8DB3-84C82788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1AEE1-1CDB-486C-9B80-624DEC2B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4A0-E085-40E5-B638-90284154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72D7-E83C-4C62-A34E-1709F613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5293C-6806-458D-B698-D7AC8F28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BE4C-A48E-4603-8B0E-5C7CF45F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3F271-791C-46F0-8448-BCC6590C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4B3BA-2224-4330-A8D2-D14A6CC6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4D1B-DCB6-4AA8-9A14-BD5EE76D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6E92-1E40-43D9-81B3-6E8D73BA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EDB4-5BEB-4267-B37D-7C24153B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E66F-E35C-43D5-9B93-3F1026C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FD700-BEFE-41C9-91D8-B5D553C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00D-7E2B-44CD-BC96-F779126B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DEB51-22A2-419A-8CAC-6F89044F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7FA4B-5002-418A-9FAB-D92860AF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6F126-6DBE-43F9-BEBB-D117EC9D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1825-DB49-424E-BA98-2AD43D0F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22D9C-50B7-478C-B6EE-3599D420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3AD08-45CF-4F38-912D-B2AFE0C6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2AC0D-64B1-4551-8701-0859225C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94B34-6E3E-48AB-B914-1C15BDA3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B5DB-669B-41E7-B5E0-86F50ACA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49256-AE02-416A-A381-5C8B46DA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D97-C076-4B87-9DAC-8D73515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E152C-2E71-421C-A61C-1BF76B5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BD03B-BA76-4540-9B7C-ABF7E60D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741F6-CBF7-4B76-A75D-83BE2A2B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F3F4B-B08B-485F-B225-25FB28DC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8ACFB-B0CD-4091-A433-AEEB09BA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8A58F-37D2-4C59-8F23-2A41D7C4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2900-E8C9-47A8-B269-C871696E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AC735-EF45-4039-A7AB-F67341A8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4EB77-A655-4265-A814-A5F62AB6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5158E-77DB-4EA4-97AF-EE49FFC0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31E-37CE-497A-9072-1BA25D05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2197B-232B-4A06-ACE2-5458DD9C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7657C-0024-4B47-981D-AF9A08BB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1B240-C89B-46FA-B33F-D90F318A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FF7E1-0225-4CE8-AD09-91EBC835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1AE01-51AE-48A9-AC54-ACD5FBAE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D629D-2982-42D7-83D3-7BE60C9C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451C4-0381-48EB-9818-651909DA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161D-D87F-416F-899A-1561FE1A22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19F4-94C9-41F2-B1CF-B2CDDB2790A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BD2-41C1-4810-8DBB-8FF2D061D77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54B5-0DC3-4842-A4DD-E6ABB855A1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555-4095-4326-AC4C-E81AB7332DA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F961-071F-403A-A972-3391003FBB4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D100-37C6-4710-BE34-8AC08D5A43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4D97-FDBF-4FA3-A48B-83E5CA09C8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ершинин Никита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одился 20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ктября 1998г. 3 а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ександр Кержа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вард сборной России по футболу Александр Кержаков. Он является одним из самых молодых и перспективных нападающих наше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7" descr="5de0018i"/>
          <p:cNvPicPr/>
          <p:nvPr/>
        </p:nvPicPr>
        <p:blipFill>
          <a:blip r:embed="rId1"/>
          <a:stretch/>
        </p:blipFill>
        <p:spPr>
          <a:xfrm>
            <a:off x="4703760" y="167652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ргей Овчинни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тарь сборной России по футболу Сергей Овчинников. На протяжении нескольких лет он с успехом защищает ворота главной команды страны, а также московского «Локомотива» в составе которого в 2002 году Сергей стал чемпионом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7" descr="5de0017i"/>
          <p:cNvPicPr/>
          <p:nvPr/>
        </p:nvPicPr>
        <p:blipFill>
          <a:blip r:embed="rId1"/>
          <a:stretch/>
        </p:blipFill>
        <p:spPr>
          <a:xfrm>
            <a:off x="4648320" y="2014560"/>
            <a:ext cx="350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ля справ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оссию футбол пришел в конце 19 ве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знанными лидерами мирового футбола в Европе являются сборные команды Франции, Германии, Англии, Италии, Испании, в Южной Америке — бразильцы, аргентин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рупнейшими футбольными турнирами являются чемпионат мира и чемпионат Европы, которые проводятся раз в четыре год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утбол — олимпийский вид, но победа на Олимпиаде не считается высшим достижением в футболе (в отличие от других видов); главный турнир — чемпионат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учшие тренеры сборных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ус Хиддинк занял второе место в списке лучших тренеров сбор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ждународная федерация футбольной истории и статистики (IFFHS) подвела итоги опроса своих экспертов, которые выбирали лучшего среди главных тренеров национальных сборных 2008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ервом месте оказался 70-летний Луис Арагонес, приведший команду Испании к званию чемпиона Европы. Вторую строчку занял главный тренер российской команды Гус Хиддинк, а замкнул тройку наставник турецкой сборной Фатих Терим, которая, как и российская, стала бронзовым призером ЕВРО-2008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есёлые картин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Picture 13" descr="j0301476"/>
          <p:cNvPicPr/>
          <p:nvPr/>
        </p:nvPicPr>
        <p:blipFill>
          <a:blip r:embed="rId1"/>
          <a:stretch/>
        </p:blipFill>
        <p:spPr>
          <a:xfrm>
            <a:off x="1577880" y="1919160"/>
            <a:ext cx="1797120" cy="15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323802"/>
          <p:cNvPicPr/>
          <p:nvPr/>
        </p:nvPicPr>
        <p:blipFill>
          <a:blip r:embed="rId2"/>
          <a:stretch/>
        </p:blipFill>
        <p:spPr>
          <a:xfrm>
            <a:off x="4952880" y="18288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396714"/>
          <p:cNvPicPr/>
          <p:nvPr/>
        </p:nvPicPr>
        <p:blipFill>
          <a:blip r:embed="rId3"/>
          <a:stretch/>
        </p:blipFill>
        <p:spPr>
          <a:xfrm>
            <a:off x="1562040" y="424332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soccer_ref_red_card_md_wht"/>
          <p:cNvPicPr/>
          <p:nvPr/>
        </p:nvPicPr>
        <p:blipFill>
          <a:blip r:embed="rId4"/>
          <a:stretch/>
        </p:blipFill>
        <p:spPr>
          <a:xfrm>
            <a:off x="5486400" y="4460760"/>
            <a:ext cx="1638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 Мяч, Мяч Милан, Мяч Реал, Обычный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2" name="Picture 9" descr="мир мяч"/>
          <p:cNvPicPr/>
          <p:nvPr/>
        </p:nvPicPr>
        <p:blipFill>
          <a:blip r:embed="rId1"/>
          <a:stretch/>
        </p:blipFill>
        <p:spPr>
          <a:xfrm>
            <a:off x="1295280" y="19051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яч милан"/>
          <p:cNvPicPr/>
          <p:nvPr/>
        </p:nvPicPr>
        <p:blipFill>
          <a:blip r:embed="rId2"/>
          <a:stretch/>
        </p:blipFill>
        <p:spPr>
          <a:xfrm>
            <a:off x="6024600" y="204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мЯч реал"/>
          <p:cNvPicPr/>
          <p:nvPr/>
        </p:nvPicPr>
        <p:blipFill>
          <a:blip r:embed="rId3"/>
          <a:stretch/>
        </p:blipFill>
        <p:spPr>
          <a:xfrm>
            <a:off x="1857240" y="44132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404938"/>
          <p:cNvPicPr/>
          <p:nvPr/>
        </p:nvPicPr>
        <p:blipFill>
          <a:blip r:embed="rId4"/>
          <a:stretch/>
        </p:blipFill>
        <p:spPr>
          <a:xfrm>
            <a:off x="5135400" y="3938760"/>
            <a:ext cx="3063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иограф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шинин Никита Андрееви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класса школы №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рождения: 20 октября 1998г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лекаюсь футболом и плавань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евятикратный чемпион России по футболу — московский «Спартак». Сезон 1998/1999 г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footbol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ональд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ий нападающий современной бразильской сборной — Рональдо. В финальном матче чемпионата мира 2002 года Бразилия — Германия он забил оба мяча своей сборной и принес Бразилии пятый титул чемпионов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7" descr="RONALi"/>
          <p:cNvPicPr/>
          <p:nvPr/>
        </p:nvPicPr>
        <p:blipFill>
          <a:blip r:embed="rId1"/>
          <a:stretch/>
        </p:blipFill>
        <p:spPr>
          <a:xfrm>
            <a:off x="4876920" y="1905120"/>
            <a:ext cx="2644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интересно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тбол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на футбола — Англия. И само слово «футбол» английское, оно произошло от foot — нога и ball — мяч. Однако еще две тысячи лет назад, задолго до того, как кожаный мяч появился в Англии, в него играли юноши в Древнем Китае. Игра с мячом была широко распространена и в Древней Греции. У греков игру в мяч заимствовали римляне. Она стала любимым развлечением римских воинов, которые играли мячом из толстой воловьей кожи, набитой соломой. Благодаря Риму в 14 веке эта игра стала известна на Британских островах. В средневековый английский футбол играли азартно, но очень грубо. Сама игра превращалась часто в дикую свалку на улицах. Власти вели упорную войну с футболом; были изданы даже королевские указы о запрещении игры. Но популярность футбола была настолько велика, что никакие указы не могли остановить ее триумфальное шествие. Именно тогда футбол получил свое нынешнее название. В 1863 году была основана первая в мире футбольная ассоциация и разработаны официальные правила игры, в 1904 году возникла Международная федерация футбольных ассоциа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л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 из самых знаменитых футболистов в мире бразильский нападающий Пеле очень точно подметил: «Футбол — это трудная игра, ведь в нее играют ногами, а думать надо голов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инственный футболист в истории, который становился трехкратным чемпионом мира в качестве игрока (1958, 1962, 19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7" descr="pele1"/>
          <p:cNvPicPr/>
          <p:nvPr/>
        </p:nvPicPr>
        <p:blipFill>
          <a:blip r:embed="rId1"/>
          <a:stretch/>
        </p:blipFill>
        <p:spPr>
          <a:xfrm>
            <a:off x="5105520" y="1752480"/>
            <a:ext cx="250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в Яши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олотой мяч» — высшая награда для европейских футболистов. Лев Яшин стал его обладателем в 1963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7" descr="yash1"/>
          <p:cNvPicPr/>
          <p:nvPr/>
        </p:nvPicPr>
        <p:blipFill>
          <a:blip r:embed="rId1"/>
          <a:stretch/>
        </p:blipFill>
        <p:spPr>
          <a:xfrm>
            <a:off x="511020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шель Платин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 Мишель Платини несколько раз признавался лучшим футболистом Европы. В 1984 году в составе сборной Франции он стал чемпионом Европы. Наибольшую известность получил, играя за итальянский клуб «Ювент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7" descr="platini1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его Марад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ающийся аргентинский футболист Марадона —  один из лучших нападающих в истории мирово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7" descr="marad"/>
          <p:cNvPicPr/>
          <p:nvPr/>
        </p:nvPicPr>
        <p:blipFill>
          <a:blip r:embed="rId1"/>
          <a:stretch/>
        </p:blipFill>
        <p:spPr>
          <a:xfrm>
            <a:off x="5148360" y="1600200"/>
            <a:ext cx="303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13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