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12.wmf" ContentType="image/x-wmf"/>
  <Override PartName="/ppt/media/image19.jpeg" ContentType="image/jpeg"/>
  <Override PartName="/ppt/media/image18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B893-B9B7-448C-A22D-A87C1DBBC5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08A5-2759-452C-B124-169C58762E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975D-7618-4714-AE1A-C6A7CB6A96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D591-77E2-434B-92FD-740BFFA4CF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A5F8-949B-45C5-B845-9F6893C233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AF11-7235-43B8-9449-0AB6B7C539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94C0-3BB0-4CD8-ABB8-AC7C2BB86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2C07-919C-4BFD-A01E-E3193CA10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20A8-6BA9-42ED-891E-A3CED203BA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E280-0B08-4F2F-8473-5B2E70E712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B414-478D-4709-8DFC-FC5D677450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653B-6C54-43B9-889A-5DA9010DF5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A158-2C7E-4A4E-B65B-FB28DA319F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3B65-A7D7-4950-9D12-99E06E78E5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2349-9963-4DBA-8D2B-F463E5B8B6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E651-CCBF-4496-A626-6B6979B5DF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BD7-2BD9-4EA1-8F36-65FD269F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B37-2BC4-4F67-B967-0B635E05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60E-E028-4F88-9BA2-6B1D4FC0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BCE6-9F4F-490A-86C3-347F8775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B477-CAE0-47D4-9676-36823271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7CEE-934A-493E-BEEF-8C3F3AE6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0C96-1290-4002-AF8F-E7FE301C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FCC8-C338-4B17-A309-DE517D93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E4DA-8D0D-49C7-B817-931D414D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0E95-148E-4F36-99EB-979BE774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DEEC-3EE1-4F8F-98B6-DB17CDB4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BFB-0A32-40EF-A6B8-89BA4030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EFBB-667A-4C8C-984D-30806BFB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EC65-6C6B-4BF6-A4EA-C9EA4459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5CA9-CB89-452E-9415-1271D4AA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B3BF-E496-4957-92FA-B99CE23B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C038-E12E-4120-AD42-BE5B12C7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B8362-6A41-4101-9921-42B325B8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0174-F2D3-4FCD-8C61-A6A5F8A4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6DFD3-F071-4476-B2E5-0EBB251E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4DB6-C718-43C8-A3AE-74F1F298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27846-D4FE-4C60-9EF8-189C8C65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12F-9B04-4FBC-AD09-ABB6B3AF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C274-FB56-4144-905B-EAA2E193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34178-40C7-4523-913A-E7121168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62DC-B5C9-4BFA-B854-8A95E96F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46292-DD3B-491D-8EA0-125A21F0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D7053-566B-4DA7-8955-412C4146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E88E-80A7-429E-A944-244610D7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8097-8A7E-4C22-ABB4-F8556228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FB970-4A05-4EB2-BC7B-72820C09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C0CED-EC9E-4A68-8765-50304766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DD52-0D81-48FF-B008-3D7243F0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F1A-C887-4708-9950-AF9AD04D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93B4F-0630-4CB0-B059-3211968D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D3021-1DC4-4337-AD9A-EF48F057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7D642-EDE7-43E4-9867-7B41C7C8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708E-7123-480E-9D8F-95BF04D5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F04AD-E0D0-4762-8276-8756E83B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24163-C89A-4238-99B1-86D22B17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AD682-8F45-4542-A5BA-FD9961CA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C85BA-84EC-45C8-AFF8-DC341BF7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790F1-A577-4660-BEDA-09FDB32A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70679-30E1-4A46-B8E7-5EBAE43A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8F1-A679-4F55-8871-41E6E946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994DC-8B4D-411A-A6E9-787E36E6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139AC-3C08-4F90-95DC-A18A195C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CD554-F083-4FCA-85F1-658990DB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4E5CF-D50D-4F1C-B738-2B21D24A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BDADD-8BEE-4553-A39F-00069280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90CAF-F1E6-4B82-9530-1BA2D752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12336-BEA5-44ED-9E04-4BD4F900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9C45A-369F-454A-9D4F-858F8822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66D29-3DF6-4A98-88B9-36157DE5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A2EC1-F98C-4F6C-A44F-9B7518F6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4A9-A483-46C8-B139-1DF0C139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3FDC8-4D54-4317-A969-A6CD7D91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A5CA3-6EA8-4EF5-82A9-DAEA15C6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99A4F-5B4D-48F5-8102-05FE7856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843C8-A18C-4BFF-9401-DDB982BA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3D04B-6E51-4B5E-8490-FC057759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F0551-BB22-4779-B77F-761B8296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D48BF-25C3-429D-9FB9-06205EC4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CD9D8-F423-42F9-A32B-26EA9C95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51CB2-EE98-4D39-A621-278892F1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942E4-4235-47C8-9412-589B82DF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966-5A21-4260-BFD2-088025B4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08F91-CC97-4F35-A386-597E2070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E37B3-083C-42E3-92CC-B98653AB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B4867-09D1-4802-A19E-11853895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7CD97-E42B-411A-A821-EB01080F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51DB5-FC77-4E67-9711-E240FF24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0CAC2-6872-4A9E-B72D-E4473C83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6D90E-F595-495B-9F43-65549895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8A33C-6F04-4190-B6E9-5A70CD62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EA4A5-5E0D-4737-B31C-2307A7CC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676FF-F470-4021-9AF6-55797239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717-32EC-4167-8E8E-A181DB2C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7CAC5-A05B-478A-A3B8-B67902E8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037DA-34F0-48C5-AE69-7D510356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F0FB0-537D-47B0-B20F-F6BD58B3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D8E34-4E62-494A-9BCD-2C572CB0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93467-E5E6-4657-9541-15B8B8E1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1E40D-3C4D-4128-BA40-534F61EB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AD202-701A-4F38-8B30-870BFA55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ED348-C4EF-43B1-92ED-53B27F19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16253-C707-4E52-B518-0EE127F1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80D87-8DC6-418A-B811-A4260282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002-9612-4995-B96D-E0341AEC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AEDFF-0424-4CC3-AADE-4B5297AD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94958-9604-4661-868E-6BEADEE9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A015C-9B70-4BB7-B9EB-4BC47C5A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513EB-66FD-4100-81D3-C4B11DD3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26665-9A67-4AC0-B01A-D2F2A808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59D8D-31B1-46A4-82FD-256D9144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A077E-76FF-4C17-8A54-CF7F6623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A041-3B64-4653-82C9-E105806B7B4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FC41-9968-4137-963F-8A3B1A454C4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5B27-EB5E-4284-A839-48A9C166FDE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F5B0-70A6-470F-AD23-7A190235E84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0F97-8CD8-4F80-B5E1-4EEC8E11764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A66D-4CBC-43F0-97C4-D9C8795FA6B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58CD-40D1-4264-BA62-ACCB7D1A292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0729-85F8-4EDC-9BF5-67B73F4F073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ершинин Никита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Родился 20</a:t>
            </a: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октября 1998г. 3 а кла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лександр Кержа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вард сборной России по футболу Александр Кержаков. Он является одним из самых молодых и перспективных нападающих наше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7" descr="5de0018i"/>
          <p:cNvPicPr/>
          <p:nvPr/>
        </p:nvPicPr>
        <p:blipFill>
          <a:blip r:embed="rId1"/>
          <a:stretch/>
        </p:blipFill>
        <p:spPr>
          <a:xfrm>
            <a:off x="4703760" y="167652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ергей Овчинни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тарь сборной России по футболу Сергей Овчинников. На протяжении нескольких лет он с успехом защищает ворота главной команды страны, а также московского «Локомотива» в составе которого в 2002 году Сергей стал чемпионом Росс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7" descr="5de0017i"/>
          <p:cNvPicPr/>
          <p:nvPr/>
        </p:nvPicPr>
        <p:blipFill>
          <a:blip r:embed="rId1"/>
          <a:stretch/>
        </p:blipFill>
        <p:spPr>
          <a:xfrm>
            <a:off x="4648320" y="2014560"/>
            <a:ext cx="3504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ля справ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Россию футбол пришел в конце 19 ве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знанными лидерами мирового футбола в Европе являются сборные команды Франции, Германии, Англии, Италии, Испании, в Южной Америке — бразильцы, аргентинц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рупнейшими футбольными турнирами являются чемпионат мира и чемпионат Европы, которые проводятся раз в четыре год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утбол — олимпийский вид, но победа на Олимпиаде не считается высшим достижением в футболе (в отличие от других видов); главный турнир — чемпионат ми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Лучшие тренеры сборных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Гус Хиддинк занял второе место в списке лучших тренеров сборны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ждународная федерация футбольной истории и статистики (IFFHS) подвела итоги опроса своих экспертов, которые выбирали лучшего среди главных тренеров национальных сборных 2008 год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 первом месте оказался 70-летний Луис Арагонес, приведший команду Испании к званию чемпиона Европы. Вторую строчку занял главный тренер российской команды Гус Хиддинк, а замкнул тройку наставник турецкой сборной Фатих Терим, которая, как и российская, стала бронзовым призером ЕВРО-2008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есёлые картин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7" name="Picture 13" descr="j0301476"/>
          <p:cNvPicPr/>
          <p:nvPr/>
        </p:nvPicPr>
        <p:blipFill>
          <a:blip r:embed="rId1"/>
          <a:stretch/>
        </p:blipFill>
        <p:spPr>
          <a:xfrm>
            <a:off x="1577880" y="1919160"/>
            <a:ext cx="1797120" cy="154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j0323802"/>
          <p:cNvPicPr/>
          <p:nvPr/>
        </p:nvPicPr>
        <p:blipFill>
          <a:blip r:embed="rId2"/>
          <a:stretch/>
        </p:blipFill>
        <p:spPr>
          <a:xfrm>
            <a:off x="4952880" y="182880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j0396714"/>
          <p:cNvPicPr/>
          <p:nvPr/>
        </p:nvPicPr>
        <p:blipFill>
          <a:blip r:embed="rId3"/>
          <a:stretch/>
        </p:blipFill>
        <p:spPr>
          <a:xfrm>
            <a:off x="1562040" y="4243320"/>
            <a:ext cx="1828800" cy="1577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soccer_ref_red_card_md_wht"/>
          <p:cNvPicPr/>
          <p:nvPr/>
        </p:nvPicPr>
        <p:blipFill>
          <a:blip r:embed="rId4"/>
          <a:stretch/>
        </p:blipFill>
        <p:spPr>
          <a:xfrm>
            <a:off x="5486400" y="4460760"/>
            <a:ext cx="16383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р Мяч, Мяч Милан, Мяч Реал, Обычный Мяч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2" name="Picture 9" descr="мир мяч"/>
          <p:cNvPicPr/>
          <p:nvPr/>
        </p:nvPicPr>
        <p:blipFill>
          <a:blip r:embed="rId1"/>
          <a:stretch/>
        </p:blipFill>
        <p:spPr>
          <a:xfrm>
            <a:off x="1295280" y="1905120"/>
            <a:ext cx="1828800" cy="1447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мяч милан"/>
          <p:cNvPicPr/>
          <p:nvPr/>
        </p:nvPicPr>
        <p:blipFill>
          <a:blip r:embed="rId2"/>
          <a:stretch/>
        </p:blipFill>
        <p:spPr>
          <a:xfrm>
            <a:off x="6024600" y="20494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мЯч реал"/>
          <p:cNvPicPr/>
          <p:nvPr/>
        </p:nvPicPr>
        <p:blipFill>
          <a:blip r:embed="rId3"/>
          <a:stretch/>
        </p:blipFill>
        <p:spPr>
          <a:xfrm>
            <a:off x="1857240" y="441324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4" descr="j0404938"/>
          <p:cNvPicPr/>
          <p:nvPr/>
        </p:nvPicPr>
        <p:blipFill>
          <a:blip r:embed="rId4"/>
          <a:stretch/>
        </p:blipFill>
        <p:spPr>
          <a:xfrm>
            <a:off x="5135400" y="3938760"/>
            <a:ext cx="3063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иографи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ршинин Никита Андрееви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ник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класса школы № 1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рождения: 20 октября 1998г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лекаюсь футболом и плавань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утбо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евятикратный чемпион России по футболу — московский «Спартак». Сезон 1998/1999 год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footbol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ональд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учший нападающий современной бразильской сборной — Рональдо. В финальном матче чемпионата мира 2002 года Бразилия — Германия он забил оба мяча своей сборной и принес Бразилии пятый титул чемпионов ми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7" descr="RONALi"/>
          <p:cNvPicPr/>
          <p:nvPr/>
        </p:nvPicPr>
        <p:blipFill>
          <a:blip r:embed="rId1"/>
          <a:stretch/>
        </p:blipFill>
        <p:spPr>
          <a:xfrm>
            <a:off x="4876920" y="1905120"/>
            <a:ext cx="26445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то интересно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тбол — бесспорно, самая популярная и самая массовая спортивная игра. В нее играют на всех континентах от школьника до убеленных сединой мужей. Футбол — это скорость, сила, ловкость, быстрота реак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дина футбола — Англия. И само слово «футбол» английское, оно произошло от foot — нога и ball — мяч. Однако еще две тысячи лет назад, задолго до того, как кожаный мяч появился в Англии, в него играли юноши в Древнем Китае. Игра с мячом была широко распространена и в Древней Греции. У греков игру в мяч заимствовали римляне. Она стала любимым развлечением римских воинов, которые играли мячом из толстой воловьей кожи, набитой соломой. Благодаря Риму в 14 веке эта игра стала известна на Британских островах. В средневековый английский футбол играли азартно, но очень грубо. Сама игра превращалась часто в дикую свалку на улицах. Власти вели упорную войну с футболом; были изданы даже королевские указы о запрещении игры. Но популярность футбола была настолько велика, что никакие указы не могли остановить ее триумфальное шествие. Именно тогда футбол получил свое нынешнее название. В 1863 году была основана первая в мире футбольная ассоциация и разработаны официальные правила игры, в 1904 году возникла Международная федерация футбольных ассоциа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ел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 из самых знаменитых футболистов в мире бразильский нападающий Пеле очень точно подметил: «Футбол — это трудная игра, ведь в нее играют ногами, а думать надо голов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динственный футболист в истории, который становился трехкратным чемпионом мира в качестве игрока (1958, 1962, 197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7" descr="pele1"/>
          <p:cNvPicPr/>
          <p:nvPr/>
        </p:nvPicPr>
        <p:blipFill>
          <a:blip r:embed="rId1"/>
          <a:stretch/>
        </p:blipFill>
        <p:spPr>
          <a:xfrm>
            <a:off x="5105520" y="1752480"/>
            <a:ext cx="2501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ев Яшин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олотой мяч» — высшая награда для европейских футболистов. Лев Яшин стал его обладателем в 1963 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7" descr="yash1"/>
          <p:cNvPicPr/>
          <p:nvPr/>
        </p:nvPicPr>
        <p:blipFill>
          <a:blip r:embed="rId1"/>
          <a:stretch/>
        </p:blipFill>
        <p:spPr>
          <a:xfrm>
            <a:off x="5110200" y="1600200"/>
            <a:ext cx="3114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шель Платин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ранцуз Мишель Платини несколько раз признавался лучшим футболистом Европы. В 1984 году в составе сборной Франции он стал чемпионом Европы. Наибольшую известность получил, играя за итальянский клуб «Ювентус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7" descr="platini1"/>
          <p:cNvPicPr/>
          <p:nvPr/>
        </p:nvPicPr>
        <p:blipFill>
          <a:blip r:embed="rId1"/>
          <a:stretch/>
        </p:blipFill>
        <p:spPr>
          <a:xfrm>
            <a:off x="5154480" y="1600200"/>
            <a:ext cx="302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иего Марадо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ающийся аргентинский футболист Марадона —  один из лучших нападающих в истории мирово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7" descr="marad"/>
          <p:cNvPicPr/>
          <p:nvPr/>
        </p:nvPicPr>
        <p:blipFill>
          <a:blip r:embed="rId1"/>
          <a:stretch/>
        </p:blipFill>
        <p:spPr>
          <a:xfrm>
            <a:off x="5148360" y="1600200"/>
            <a:ext cx="303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13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