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5.jpeg" ContentType="image/jpeg"/>
  <Override PartName="/ppt/media/image14.jpeg" ContentType="image/jpeg"/>
  <Override PartName="/ppt/media/image2.png" ContentType="image/png"/>
  <Override PartName="/ppt/media/image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0288E-4B03-4E19-8814-8D0249AB5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CA92D-EC21-497B-B227-FB6D09D46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4B475-B975-43CC-8C6F-A49298E8F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453E0-32CD-4C14-B243-7FC770321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F1206-F866-489A-93A4-A24A705D6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FA2DA-DD8F-4A6A-B491-6B2A8D037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607CF-DDA2-4683-A420-75B1C5C6E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B6069-6AD2-4F7F-B971-33067F507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CB62D-8C26-4CCF-8749-516C3C18D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4A0DE-CE2A-4418-A529-53D211D4F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D5FCE-101B-4F47-A348-1E97F113B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A30B2-0C39-4208-B88C-19E2924E1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3AB49-7ABF-4FF0-8A2A-272394590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1A1B0-4F6B-4818-8E42-0844451CE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B9609-3F05-4E0C-8A55-FC62925D2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FC780-ECD6-41BA-8BDB-343B609F2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76A20-AC6A-4F36-83A7-1445A4DEC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6BE502-DE47-4866-A600-3CF7A6C55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A14CE5-5236-43F4-B682-9D4C37F90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A759EA-6C49-4F46-AF0E-071AFDBD5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2D508E-4D6C-453D-B3F6-1BF459BC2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473205-563F-467E-855F-8CDEF762B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9A58C-913A-49FA-BC10-34A80F20D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24F191-6077-4F2C-A122-D8B9F1EBA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59BCD6-A906-4646-9E10-37B10F153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D87EE2-492B-4589-885F-D5BFFE75A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9811F0-5FA3-418D-B093-BB31B1BBD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00045A-86D1-4E20-A684-178B35C65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8C59B6-D480-416C-AD49-69F6C0666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338C7E-0A1D-4333-9ED2-B871F2FC7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02D6E2-9FB5-43D3-95C8-9A4F3014A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1FFBDF-DA4B-4A8C-BBB1-C34A3AB05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2C8FAD-A685-4E50-8F19-1F154182C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D30FD-E886-4BAD-B46C-A2DEE1B19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A542DF-2EF7-4B05-978E-F5BC0EAD2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8261BA-3F02-4FE2-B58E-7C874EDDF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10A14C-38BE-4FF0-AE96-0624FD3B9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F738CF-852B-4E94-B2BC-2478C489C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44BA7D-3734-4179-B6BF-663D63F1D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15BF5F-0772-4C4A-995E-82F0996D6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7FE35E-D7CC-4018-8012-445ECDD7A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C6FAA1-198C-4EBE-AE71-5DC1F4F66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51F640-6D84-4F86-B154-8B28757FF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4D2F47-1B28-42FC-9604-1FE991E2F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F0365-33B4-4D15-A067-5F3650EA1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05AD57-4D05-4AB0-86D8-3817B3CB6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E4FDFF-7AE2-40A2-AE73-42269DF10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A9B6BE-3167-4DAF-8623-8AD5585C0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C433D5-21FF-4639-9C37-73913CA23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25517D-3361-4EFB-B4B7-79805FD20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937B8B-D32D-4167-9BDA-CF3403CBE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91C1DC-7A0E-4A96-A9CE-E9355A158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EFA212-1420-410F-94C3-6C1816274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F95F41-49F7-4A7F-9B43-BAE802C7F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6DD5B6-A855-45BA-8D46-D8EA76754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D5CB0-5AB3-46CE-B9F8-01F34B46A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CED121-29EE-4B81-B0A0-564B3B7D6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ED692F-8C85-4482-A7C6-A18520DEF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FD02EC-AE30-4CF3-848E-D298158D1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A0D2B9-1880-4922-BADA-887559C76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E0C6F6-0A63-4983-8DEB-5216BE709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092925-CDAB-43A3-8695-F0AEF20B1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2F88DB-8C77-493E-80A4-6BFFA4C04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232179-752E-46D2-BAD2-1FFD3A2F2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C5095D-CF3E-4FEF-AD88-74736572D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D261DF-4462-4DD0-850E-A1B37C521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C8B64-7B4F-489D-82DE-2BF0F0D54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1B432B-9A8A-4216-9C6E-920A4BB97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5BBDD7-A796-48A6-AE76-5DD83D6EA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3D0E7A-A9BB-4E0A-9EDA-E9CE3FE0F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A882F3-6469-465C-AD2D-70CAF557F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4539AC-E7B1-461E-AFCA-F1634B767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46613E-3966-43B4-8C07-31BF3461C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E37B1F-B422-4645-BB6A-5BC4AD40D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D1B434-8D13-415D-A2C1-CE704FDCD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F71B04-E44C-4A19-A22C-55549D9AD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BD2069-AF9D-408E-BD7C-C72B927CC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96DB9-C893-42A4-9708-6F8D7EE15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004E51-335A-4508-9B8B-A6B155EDB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38D6B5-0F9F-48F1-ADA2-90604A2E1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6C53F6-1C80-42AD-B89E-10237C0E6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4FA192-9218-4DA7-B129-575197C32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F48BCE-3785-4B2A-BA44-B36056D4D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C7448-98B8-4703-852E-6F9F94A72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Text Box 5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B53B8-7BC4-4F90-BF41-723EB1624902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Text Box 5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Text Box 10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7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ED5A0-613B-411E-83D4-E5B89F511E80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3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5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Text Box 5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9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903CB-22D4-4D2F-B9AA-EDC1FFCB0956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E1482-DE60-4441-BE77-9BD8781C40F3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3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5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2CFAF-F5F9-41B5-9A2B-44456E2C6483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6593A-578B-4A7D-BDF3-0FBF00B17C68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Text Box 3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7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8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7CEAC-46CA-40E4-9BD6-663C248B3A9B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20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Corbel"/>
              </a:rPr>
              <a:t>Презентация по физической культуре</a:t>
            </a:r>
            <a:endParaRPr b="0" lang="en-US" sz="54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285560" y="3857760"/>
            <a:ext cx="7553160" cy="13572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20e04"/>
                </a:solidFill>
                <a:latin typeface="Corbel"/>
              </a:rPr>
              <a:t>Кукушкина Ольга, 4б класс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700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20e04"/>
                </a:solidFill>
                <a:latin typeface="Corbel"/>
              </a:rPr>
              <a:t>МОУ «Средняя общеобразовательная школа № 10 г. Йошкар-Олы»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0" name="TextBox 3"/>
          <p:cNvSpPr/>
          <p:nvPr/>
        </p:nvSpPr>
        <p:spPr>
          <a:xfrm>
            <a:off x="4714920" y="6143760"/>
            <a:ext cx="110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008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1142640" y="285840"/>
            <a:ext cx="7658280" cy="264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orbel"/>
              </a:rPr>
              <a:t>Соревнования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Соревнования по футболу, как и в любом другом виде спорта — важная составляющая игры. Соревнование организуется федерацией, для каждого турнира составляется регламент, в котором обычно определяют состав участников, схему турнира, правила определения победителя при равенстве очков и какие-то отклонения от правил, например количество замен. Соревнования делятся на внутренние и международные, которые в свою очередь разделяются на клубные и национальных сборных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1" name="Рисунок 3" descr="1213786688_26631.jpg"/>
          <p:cNvPicPr/>
          <p:nvPr/>
        </p:nvPicPr>
        <p:blipFill>
          <a:blip r:embed="rId1"/>
          <a:stretch/>
        </p:blipFill>
        <p:spPr>
          <a:xfrm>
            <a:off x="2786040" y="2786040"/>
            <a:ext cx="4378320" cy="37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 txBox="1"/>
          <p:nvPr/>
        </p:nvSpPr>
        <p:spPr>
          <a:xfrm>
            <a:off x="1071360" y="285840"/>
            <a:ext cx="7729560" cy="30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76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ru-RU" sz="2400" spc="-1" strike="noStrike">
                <a:solidFill>
                  <a:srgbClr val="c00000"/>
                </a:solidFill>
                <a:latin typeface="Corbel"/>
              </a:rPr>
              <a:t>Разновидности футбола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Существует множество разновидностей футбола, в основном с меньшим количеством игроков — в том числе пляжный футбол (играется на песке), футзал (AMF) и футзал (FIFA) (мини-футбол) (играются в зале на специальном покрытии), дворовый футбол (играется на любом покрытии на полях любого размера любым количеством людей), болотный футбол (играется на болоте), футбольный фристайл (заключается в исполнении всевозможных финтов и трюков)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Поскольку популярность футбола очень высока существует много игр, имитирующих футбол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3" name="Рисунок 3" descr="1213786684_16606.jpg"/>
          <p:cNvPicPr/>
          <p:nvPr/>
        </p:nvPicPr>
        <p:blipFill>
          <a:blip r:embed="rId1"/>
          <a:stretch/>
        </p:blipFill>
        <p:spPr>
          <a:xfrm>
            <a:off x="3786120" y="3071880"/>
            <a:ext cx="2495520" cy="34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Прямоугольник 3" descr=""/>
          <p:cNvPicPr/>
          <p:nvPr/>
        </p:nvPicPr>
        <p:blipFill>
          <a:blip r:embed="rId1"/>
          <a:stretch/>
        </p:blipFill>
        <p:spPr>
          <a:xfrm>
            <a:off x="2494080" y="30240"/>
            <a:ext cx="4632120" cy="146376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2" descr="D:\4904923b_3.jpg"/>
          <p:cNvPicPr/>
          <p:nvPr/>
        </p:nvPicPr>
        <p:blipFill>
          <a:blip r:embed="rId2"/>
          <a:stretch/>
        </p:blipFill>
        <p:spPr>
          <a:xfrm>
            <a:off x="1643040" y="1857240"/>
            <a:ext cx="6875640" cy="392904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solidFill>
            <a:srgbClr val="d9d9d9"/>
          </a:solidFill>
          <a:ln w="9360">
            <a:solidFill>
              <a:srgbClr val="feb80a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История футбола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428480" y="1447920"/>
            <a:ext cx="7505640" cy="119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Игры, похожие на современный футбол, существовали достаточно давно у разных народов, однако первые записанные правила датированы 1848 годом. Датой рождения футбола считается 1863 год, когда была организована первая федерация футбола и записаны правила,  похожие на современные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5" name="Рисунок 3" descr="object_45.1214081933.jpg"/>
          <p:cNvPicPr/>
          <p:nvPr/>
        </p:nvPicPr>
        <p:blipFill>
          <a:blip r:embed="rId1"/>
          <a:stretch/>
        </p:blipFill>
        <p:spPr>
          <a:xfrm>
            <a:off x="2000160" y="2714760"/>
            <a:ext cx="2562480" cy="3789360"/>
          </a:xfrm>
          <a:prstGeom prst="rect">
            <a:avLst/>
          </a:prstGeom>
          <a:ln w="0">
            <a:noFill/>
          </a:ln>
        </p:spPr>
      </p:pic>
      <p:pic>
        <p:nvPicPr>
          <p:cNvPr id="326" name="Рисунок 4" descr="1213836825_56664.jpg"/>
          <p:cNvPicPr/>
          <p:nvPr/>
        </p:nvPicPr>
        <p:blipFill>
          <a:blip r:embed="rId2"/>
          <a:stretch/>
        </p:blipFill>
        <p:spPr>
          <a:xfrm>
            <a:off x="5764320" y="2714760"/>
            <a:ext cx="2593800" cy="37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285920" y="500040"/>
            <a:ext cx="74008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572314"/>
                </a:solidFill>
                <a:latin typeface="Corbel"/>
              </a:rPr>
              <a:t>Игровой процесс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1071360" y="1599840"/>
            <a:ext cx="7615080" cy="132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Отдельная футбольная игра называется — матч, который в свою очередь состоит из двух таймов по 45 минут. Пауза между первым и вторым таймами составляет 15 минут, в течение которой команды отдыхают, а по её окончании меняются воротами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9" name="Рисунок 3" descr="104901.jpg"/>
          <p:cNvPicPr/>
          <p:nvPr/>
        </p:nvPicPr>
        <p:blipFill>
          <a:blip r:embed="rId1"/>
          <a:stretch/>
        </p:blipFill>
        <p:spPr>
          <a:xfrm>
            <a:off x="2214720" y="3214800"/>
            <a:ext cx="4572000" cy="304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 txBox="1"/>
          <p:nvPr/>
        </p:nvSpPr>
        <p:spPr>
          <a:xfrm>
            <a:off x="1213920" y="142920"/>
            <a:ext cx="7472520" cy="29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9480" indent="-262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Corbel"/>
              </a:rPr>
              <a:t>В футбол играют на поле с травяным или синтетическим покрытием. В игре участвуют две команды: в каждой от 7 до 11 человек. Один человек в команде (вратарь) может играть руками в штрафной площади у своих ворот, его основной задачей является защита ворот. Остальные игроки также имеют свои задачи и позиции на поле. Защитники располагаются в основном на своей половине поля, их задача — противодействовать нападающим игрокам противоположной команды. Полузащитники действуют в середине поля, их роль — помогать защитникам или нападающим в зависимости от игровой ситуации. Нападающие располагаются, преимущественно на половине поля соперника, основная задача — забивать голы.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1" name="Рисунок 3" descr="4904923b_3.jpg"/>
          <p:cNvPicPr/>
          <p:nvPr/>
        </p:nvPicPr>
        <p:blipFill>
          <a:blip r:embed="rId1"/>
          <a:stretch/>
        </p:blipFill>
        <p:spPr>
          <a:xfrm>
            <a:off x="2214720" y="3071880"/>
            <a:ext cx="6072120" cy="34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1071720" y="213840"/>
            <a:ext cx="7858080" cy="33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Цель игры — забить мяч в ворота противника, сделать это как можно большее количество раз и постараться не допустить гола в свои ворота. Матч выигрывает команда, забившая большее количество голов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В случае, если в течение двух таймов команды забили одинаковое количество голов, то или фиксируется ничья или победитель выявляется согласно установленному регламенту матча. В этом случае может быть назначено дополнительное время - ещё два тайма по 15 минут каждый. Как правило, между основным и дополнительным временем матча командам предоставляется перерыв. Между дополнительными таймами командам даётся лишь время на смену сторон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3" name="Рисунок 3" descr="1213836840_40613.jpg"/>
          <p:cNvPicPr/>
          <p:nvPr/>
        </p:nvPicPr>
        <p:blipFill>
          <a:blip r:embed="rId1"/>
          <a:stretch/>
        </p:blipFill>
        <p:spPr>
          <a:xfrm>
            <a:off x="2500200" y="3000240"/>
            <a:ext cx="500544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 txBox="1"/>
          <p:nvPr/>
        </p:nvSpPr>
        <p:spPr>
          <a:xfrm>
            <a:off x="1000080" y="213840"/>
            <a:ext cx="7686720" cy="23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       </a:t>
            </a: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Одно время в футболе существовало правило, по которому победителем объявлялась команда, первой забившая гол (правило «золотого гола») или выигрывавшая по окончании любого из дополнительных таймов (правило «серебряного гола»). В настоящий момент дополнительное время либо не играется вовсе, либо играется в полном объёме (2 тайма по 15 минут). Если в течение дополнительного времени победителя выявить не удаётся, проводится серия послематчевых пенальти, не являющихся частью матча. Серия ведётся до тех пор, пока не будет выявлен победитель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5" name="Рисунок 3" descr="1214087928_76361.jpg"/>
          <p:cNvPicPr/>
          <p:nvPr/>
        </p:nvPicPr>
        <p:blipFill>
          <a:blip r:embed="rId1"/>
          <a:stretch/>
        </p:blipFill>
        <p:spPr>
          <a:xfrm>
            <a:off x="3429000" y="2571840"/>
            <a:ext cx="3000240" cy="380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 txBox="1"/>
          <p:nvPr/>
        </p:nvSpPr>
        <p:spPr>
          <a:xfrm>
            <a:off x="1143000" y="214200"/>
            <a:ext cx="7515360" cy="25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9480" indent="-2628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Corbel"/>
              </a:rPr>
              <a:t>    </a:t>
            </a:r>
            <a:r>
              <a:rPr b="1" lang="ru-RU" sz="2400" spc="-1" strike="noStrike">
                <a:solidFill>
                  <a:srgbClr val="c00000"/>
                </a:solidFill>
                <a:latin typeface="Corbel"/>
              </a:rPr>
              <a:t>Организации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Существует ряд организаций, осуществляющих контроль, управление и распространение футбола. Основной является ФИФА, расположенная в Цюрихе, Швейцария. Она занимается организацией международных соревнований мирового масштаба, в частности чемпионата мира. Далее идут континентальные организации и организации по странам, областям и городам и т. д. У каждой имеются обязанности по организации соответствующих футбольных соревнований, контролю за деятельностью входящих в них клубов, распространением и популяризацией футбола в регионе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7" name="Рисунок 3" descr="1214305948_03297.jpg"/>
          <p:cNvPicPr/>
          <p:nvPr/>
        </p:nvPicPr>
        <p:blipFill>
          <a:blip r:embed="rId1"/>
          <a:stretch/>
        </p:blipFill>
        <p:spPr>
          <a:xfrm>
            <a:off x="3429000" y="2786040"/>
            <a:ext cx="2868480" cy="37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1071360" y="285840"/>
            <a:ext cx="7800840" cy="25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orbel"/>
              </a:rPr>
              <a:t> </a:t>
            </a:r>
            <a:r>
              <a:rPr b="1" lang="ru-RU" sz="2400" spc="-1" strike="noStrike">
                <a:solidFill>
                  <a:srgbClr val="c00000"/>
                </a:solidFill>
                <a:latin typeface="Corbel"/>
              </a:rPr>
              <a:t>Клубы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Футбольный клуб — базовая ячейка всей футбольной структуры. Он является связующим звеном между футболистами, персоналом и организациями. По сути это команда футболистов, входящая в одну из организаций, имеющая определённую инфраструктуру и обслуживающий персонал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9" name="Рисунок 3" descr="1214088103_23001.jpg"/>
          <p:cNvPicPr/>
          <p:nvPr/>
        </p:nvPicPr>
        <p:blipFill>
          <a:blip r:embed="rId1"/>
          <a:stretch/>
        </p:blipFill>
        <p:spPr>
          <a:xfrm>
            <a:off x="1928880" y="2714760"/>
            <a:ext cx="4876560" cy="38764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6T17:45:03Z</dcterms:created>
  <dc:creator>Admin</dc:creator>
  <dc:description/>
  <dc:language>en-US</dc:language>
  <cp:lastModifiedBy>Ирина Петровна</cp:lastModifiedBy>
  <dcterms:modified xsi:type="dcterms:W3CDTF">2009-08-17T15:14:05Z</dcterms:modified>
  <cp:revision>9</cp:revision>
  <dc:subject/>
  <dc:title>Слайд 1</dc:title>
</cp:coreProperties>
</file>