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C8D-1400-4F23-9CC1-D4F45991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3E0-BA80-4445-B2A8-D76F933F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412-7B77-4BD9-B7D0-09F20D89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140-26E7-4087-9AC0-B0A20969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6A21-5AFC-4CC2-9A1D-D76681B2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DF9D-4C2F-4A0C-80C3-65DD78DE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2972-19E5-4375-BADD-C1FE1BF7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8FB7-8D98-488C-B1EB-A597CB2E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C90C-10DC-4EFE-B0DC-575B6173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AAF0-91E5-46AC-AA3A-AEFEBC27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E89A-E31D-42B3-B0C4-B4CD5616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FE6-0F68-448F-8F6E-0DAA13B6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6BE9-D477-43CD-A8B7-301B33F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433-3AE8-419E-ADDB-853E0363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F895-FF31-4A43-A19E-687981A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3A05-B2EA-4856-8CF0-58AF6DC5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7ACC-9C65-4907-AB31-D4D8590D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2108-566A-482B-8294-D7A12813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81C9-BC2F-486F-A85E-C1A17072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A6BD-80B8-4A87-8DAF-A4A2DA3F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A613-3483-4FE2-804B-99FA1535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2F59-7FC7-48E9-AD8B-2300C7D1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9F2-F605-4A54-9856-EE86F1E3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5FA8-C844-401A-A407-6216E229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FD31-E0C8-444C-BF86-04B61FF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4522-5D32-403A-AC34-4796FF4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2EF4-84FA-41A5-8DBC-7EEC7F2F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3486-B0DD-4E0F-BD91-85D5EC0C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02B9-73F1-47F7-9FE4-CE6EEFEF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6D81-C697-4255-9731-EDEF90BC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286A-A087-4AA9-AD81-1F69E6EA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D34D-7BD9-4CED-99FF-4D0F1E3D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F763-7720-4BF5-8F48-C0DA5A98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919-CC0F-4BAB-A365-AD89C89F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F02C-D32B-4E9B-B07A-C5639DCD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34C9-824F-4F14-9F81-91FFC246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0198A-F629-4F5D-BCF2-9FC5BC31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6CA1-A01E-43EF-9D83-8352AA6F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4CF6-FD75-41CD-9939-5C2BF9C0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DABD-E8D1-442B-9A9D-49F7494E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A9694-45A4-4793-88FF-80F46282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8E98-2CC3-421A-A6AD-B9C922DD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BA57-58CD-4628-9868-EC1D4B00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D34B9-FD3C-4245-95B3-D5EAF4E0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69B-1AE7-4FDB-9A99-4BB52AA1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E0A39-8F25-4D5D-9ED3-F960A63A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0711-A635-4852-9DC0-474C475E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8946-5033-4D2A-AB92-6309CE0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911C7-CE77-476D-82FB-058A16E1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9977-338D-454B-B472-D867C09C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B8C5-8ED4-4600-A0E0-06F8D429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39A7-6956-4FEA-8EEF-CE80260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AC42-B211-4EAE-BFE0-C7263EA0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26AF-7B1B-4A85-9D3B-9A1E3F1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86B4B-48F4-4091-9602-9AAE79A9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9AB-9FDF-4910-A98F-C1CCE373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E50ED-28F2-47DB-968F-DE2FF0FC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0CD26-7253-4BA4-9E40-A0013415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5D2EC-0AF0-493E-8ADC-2499E171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31F9-0AE2-43A5-88CE-006A3943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79C13-56D3-4D8B-80FB-403D0D5D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51B3-0CB2-4E28-BE81-DD1660CC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12A2F-0094-4CAD-8EF6-B3A5EFF3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E63A-05B9-4AD0-99CE-6340269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02A76-1A8D-4E37-AE38-DB4C65E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6407C-945C-4FEF-9406-A7ED242A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74A-8E60-421D-8884-B1E06A8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6241A-9FA3-482A-998D-9D8FA576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6EC7-4F73-4457-80AB-8D511476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2259E-6600-4C29-9FD8-C73C7B0D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85145-B375-4004-8E18-F60E9BF2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A6B66-70CB-4447-817F-14CE0612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87C32-0E53-40B6-889C-8BFD0466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B332B-6D06-4774-9C19-7C6491F3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B9E92-0AB8-4481-B18F-FEFBA8F5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6B191-905A-49FC-83F7-7038F506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39069-844C-450F-9134-9E196B7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967-9109-46EB-B921-36B150C7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2768-37BA-43E3-8492-E861057F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FA9DA-8762-46D3-B6B4-398B7BE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13BF-8206-4FFE-9D4E-25C04C6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4A277-D289-4A4D-9A59-7AC537BC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0F0BE-1428-4738-A336-6F2A71EF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C68-3876-4AAD-A2BC-2B49CA9C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197B-7057-4392-8169-A23B89A1B9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A583-493E-4F7E-A6FD-37BE4FA58D9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E6D-9FC5-4E5E-8D4A-34F6A337F1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4F10-5E55-4903-B5F3-27D2514181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2FE4-AD88-4DC6-AD70-43BD91FD54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9A9A-86DC-479E-9B8A-7DDBA34FD5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5622-6FF8-415E-8C23-1B89BEAEA72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Презентация по физической культур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560" y="3857760"/>
            <a:ext cx="7553160" cy="1357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укушкина Ольга, 4б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редняя общеобразовательная школа № 10 г. Йошкар-Ол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4714920" y="6143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142640" y="285840"/>
            <a:ext cx="7658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оревн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оревнования по футболу, как и в любом другом виде спорта 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1213786688_26631.jpg"/>
          <p:cNvPicPr/>
          <p:nvPr/>
        </p:nvPicPr>
        <p:blipFill>
          <a:blip r:embed="rId1"/>
          <a:stretch/>
        </p:blipFill>
        <p:spPr>
          <a:xfrm>
            <a:off x="2786040" y="2786040"/>
            <a:ext cx="437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360" y="285840"/>
            <a:ext cx="77295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Разновидности футбо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множество разновидностей футбола, в основном с меньшим количеством игроков — в том числе пляжный футбол (играется на песке), футзал (AMF) и футзал (FIFA) (мини-футбол)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кольку популярность футбола очень высока существует много игр, имитирующих футбо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1213786684_16606.jpg"/>
          <p:cNvPicPr/>
          <p:nvPr/>
        </p:nvPicPr>
        <p:blipFill>
          <a:blip r:embed="rId1"/>
          <a:stretch/>
        </p:blipFill>
        <p:spPr>
          <a:xfrm>
            <a:off x="3786120" y="3071880"/>
            <a:ext cx="24955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3" descr=""/>
          <p:cNvPicPr/>
          <p:nvPr/>
        </p:nvPicPr>
        <p:blipFill>
          <a:blip r:embed="rId1"/>
          <a:stretch/>
        </p:blipFill>
        <p:spPr>
          <a:xfrm>
            <a:off x="2494080" y="30240"/>
            <a:ext cx="4632120" cy="1463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4904923b_3.jpg"/>
          <p:cNvPicPr/>
          <p:nvPr/>
        </p:nvPicPr>
        <p:blipFill>
          <a:blip r:embed="rId2"/>
          <a:stretch/>
        </p:blipFill>
        <p:spPr>
          <a:xfrm>
            <a:off x="1643040" y="1857240"/>
            <a:ext cx="6875640" cy="39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рия футб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28480" y="1447920"/>
            <a:ext cx="7505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гры, похожие на современный футбол, существовали достаточно давно у разных народов, однако первые записанные правила датированы 1848 годом. Датой рождения футбола считается 1863 год, когда была организована первая федерация футбола и записаны правила,  похожие на современны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object_45.1214081933.jpg"/>
          <p:cNvPicPr/>
          <p:nvPr/>
        </p:nvPicPr>
        <p:blipFill>
          <a:blip r:embed="rId1"/>
          <a:stretch/>
        </p:blipFill>
        <p:spPr>
          <a:xfrm>
            <a:off x="2000160" y="2714760"/>
            <a:ext cx="2562480" cy="37893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213836825_56664.jpg"/>
          <p:cNvPicPr/>
          <p:nvPr/>
        </p:nvPicPr>
        <p:blipFill>
          <a:blip r:embed="rId2"/>
          <a:stretch/>
        </p:blipFill>
        <p:spPr>
          <a:xfrm>
            <a:off x="5764320" y="2714760"/>
            <a:ext cx="2593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7400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гровой проце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360" y="1599840"/>
            <a:ext cx="7615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тдельная футбольная игра называется — матч, который в свою очередь состоит из двух таймов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104901.jpg"/>
          <p:cNvPicPr/>
          <p:nvPr/>
        </p:nvPicPr>
        <p:blipFill>
          <a:blip r:embed="rId1"/>
          <a:stretch/>
        </p:blipFill>
        <p:spPr>
          <a:xfrm>
            <a:off x="2214720" y="321480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3920" y="14292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вратарь) может играть руками в штрафной площади у своих ворот, его основной задачей является защита ворот. Остальные игроки также имеют свои задачи и позиции на поле. Защитники располагаются в основном на своей половине поля, их задача — противодействовать нападающим игрокам противоположной команды. Полузащитники действуют в середине поля, их роль — помогать защитникам или нападающим в зависимости от игровой ситуации. Нападающие располагаются, преимущественно на половине поля соперника, основная задача — забивать гол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4904923b_3.jpg"/>
          <p:cNvPicPr/>
          <p:nvPr/>
        </p:nvPicPr>
        <p:blipFill>
          <a:blip r:embed="rId1"/>
          <a:stretch/>
        </p:blipFill>
        <p:spPr>
          <a:xfrm>
            <a:off x="2214720" y="3071880"/>
            <a:ext cx="60721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720" y="213840"/>
            <a:ext cx="7858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ь игры 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лучае, если в течение двух таймов команды забили одинаковое количество голов, то или фиксируется ничья или победитель выявляется согласно установленному регламенту матча. В этом случае может быть назначено дополнительное время -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1213836840_40613.jpg"/>
          <p:cNvPicPr/>
          <p:nvPr/>
        </p:nvPicPr>
        <p:blipFill>
          <a:blip r:embed="rId1"/>
          <a:stretch/>
        </p:blipFill>
        <p:spPr>
          <a:xfrm>
            <a:off x="2500200" y="3000240"/>
            <a:ext cx="500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213840"/>
            <a:ext cx="7686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 время в футболе существовало правило, по которому победителем объявлялась команда, первой забившая гол (правило «золотого гола») или выигрывавшая по окончании любого из дополнительных таймов (правило «серебряного гола»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послематчевых пенальти, не являющихся частью матча. Серия ведётся до тех пор, пока не будет выявлен победител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1214087928_76361.jpg"/>
          <p:cNvPicPr/>
          <p:nvPr/>
        </p:nvPicPr>
        <p:blipFill>
          <a:blip r:embed="rId1"/>
          <a:stretch/>
        </p:blipFill>
        <p:spPr>
          <a:xfrm>
            <a:off x="3429000" y="2571840"/>
            <a:ext cx="300024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43000" y="214200"/>
            <a:ext cx="7515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 т. 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3" descr="1214305948_03297.jpg"/>
          <p:cNvPicPr/>
          <p:nvPr/>
        </p:nvPicPr>
        <p:blipFill>
          <a:blip r:embed="rId1"/>
          <a:stretch/>
        </p:blipFill>
        <p:spPr>
          <a:xfrm>
            <a:off x="3429000" y="2786040"/>
            <a:ext cx="2868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285840"/>
            <a:ext cx="78008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Клуб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утбольный клуб 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3" descr="1214088103_23001.jpg"/>
          <p:cNvPicPr/>
          <p:nvPr/>
        </p:nvPicPr>
        <p:blipFill>
          <a:blip r:embed="rId1"/>
          <a:stretch/>
        </p:blipFill>
        <p:spPr>
          <a:xfrm>
            <a:off x="1928880" y="2714760"/>
            <a:ext cx="4876560" cy="387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7:45:03Z</dcterms:created>
  <dc:creator>Admin</dc:creator>
  <dc:description/>
  <dc:language>en-US</dc:language>
  <cp:lastModifiedBy>Ирина Петровна</cp:lastModifiedBy>
  <dcterms:modified xsi:type="dcterms:W3CDTF">2009-08-17T15:14:05Z</dcterms:modified>
  <cp:revision>9</cp:revision>
  <dc:subject/>
  <dc:title>Слайд 1</dc:title>
</cp:coreProperties>
</file>