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E87A-5685-46ED-9B8A-5D3375BF8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4885-1824-44ED-B4E7-27F542910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B4C5-A8CF-418E-B35D-AB33F0E82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3FD1-7F7F-4F9D-B978-5E03EA5E7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1E6A6-34A8-4613-AA98-D175A3CE4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955B4-39EC-44EB-BF2E-54088BE84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EFED3-C11A-4DE2-BA8A-F9B2B2026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98899-DE9C-44BE-BC0A-6DE6D1A1D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AD1B0-7F89-4B9B-B3E8-B139F9B65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6F1E7-EE2D-4217-88C1-3C0A52FF3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E9E08-22EA-4C04-B3F9-A94D46363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A85E-B14E-4051-B9A4-4AEAA9040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5481F-C71D-4215-BABE-03AECF262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BA909-4A8A-4FEA-A1B0-D219CE12B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6C05A-42E2-4F1D-A804-91D2959F1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BCBA1-4E32-493A-BA1A-96B590656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9E684-7722-4ABF-BFB8-739DFA816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C81A5-8303-4731-BBE4-5F05738E5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46181-3B94-468C-AEAD-FC3E9ABEE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1EF86-BC49-44D8-9031-D98DBDDD5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C9B1A-7143-4091-8CA4-626F9954B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F3082-EFC3-42D4-B40F-19563A70A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F358-411D-48E4-9590-880328C36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A2D7B-7ADE-4AE5-8DEB-1C8EC6D71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A759A-8332-491C-B2AD-F652CB630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601B6-2D39-4BA6-9B03-AEAEE299E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75871-C95B-4BFF-9EB7-05C391CF8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E96BB-1A36-4E12-BFE9-1BE4EED35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92ED0-FC17-443B-ABDD-C7389AAD9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B48B0-77C0-4068-9CA5-6275676AE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25C9C-6117-40FF-B6A6-CCD88E631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C63FC-5A6F-46D6-AF6D-6D6311019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3F439-F78A-4DEE-9BBF-CA64996CE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DCF1-C792-4947-91C5-CCB028043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17EAD-08D3-4D2C-9ABF-960938D63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463EB-344E-46BF-BB82-3D7FC03CD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86C44-2085-4ACD-9969-48CDB3336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55D99-785E-403E-890F-C30D034F2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A5E18-DAEE-4807-AEB2-7963F00AB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B14A9-0A09-4A92-9296-037D7D5E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C0A0E-EA89-41F6-99BC-50154F306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3784E-7FE0-4F44-B3A6-CFCEF2CA3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CDB92-8033-428D-AD3C-0279D6751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A0799A-947E-4468-A1C4-3864023A3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AF3F-88AD-4948-994A-30A69F95B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F61C2-CE87-4F18-96B3-C47840677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3D7E5-199E-4184-82E2-B33F85C8D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02462A-C5A8-41EF-A551-2858C1746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497ADD-4F35-4CC8-A63F-BEDAF8FD1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8EFDC-20AA-4577-A0E4-751BD3822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155E40-97B8-4402-9485-57689085C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1D463-4088-40A9-81F4-595021A96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53506-7FA1-4326-B40D-DADF05F85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F47AA-72BE-4867-A30B-103AA8798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7688B2-4A27-4109-90F3-9769F29D6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F0C3-6386-4F9F-B03D-7E846BD73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E8B26-C95C-47FD-9187-8F503B209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9B2665-1DA4-4D37-80E6-F2B984ACA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CB21B5-5FB3-47C4-85EC-A854C0EC2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0D636D-ED64-45AC-99B1-1C7B24972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AD6A15-DD70-4585-AB71-995ADCC46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E1FD32-10B2-4A3E-9F60-9023D2523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72E764-20BC-4041-BD7B-7D55DE22F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A3E4A9-74BF-4433-A14C-C68D7A397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B46A80-EC09-457D-83C7-2EA9A83B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E3B374-9C88-40A0-9360-A7E048EE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B8EF-ACB9-4AF6-A1BA-9DE029845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564112-DD8E-4977-98CA-5FDCE4EBA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7669C8-7996-4043-BC7F-291977E6C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DB9A5-8256-46C8-9339-5BE5A2BF7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15DAD9-169B-409A-B39C-9979BE20E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B99819-22F5-4578-9F16-9336D5530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927038-354A-44C6-95DB-9C784AF8C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E74E2C-F652-4D45-BF9A-AA797176B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D7F1DC-4417-49DE-A968-2E9E40276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551288-E1DC-4F35-9F21-86A2C9CF9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728E75-4C5D-4325-8FF1-B2EA018D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5263-469D-4083-A18B-BDA857323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EA7176-8E7C-4FF4-87A4-4DEE1103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44CDEC-A81C-4BA1-96B1-AE81D62C1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F33228-E0C3-43A3-9166-78A0E6733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7F6104-941D-4DBD-91F8-A581F1E25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57FA76-F332-4AFF-B16D-4F89A8088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2120-2E66-4D8E-A1F7-F3C68B03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Text Box 5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AB86F-23D1-484F-81AB-F1D0A35920E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5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10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7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CEE53-DBBC-48A0-9095-2A50DBA7B87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3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 Box 5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9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7849B-D479-4BD5-B221-6FEC7236B53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DAE17-388B-4DB3-9A13-E5E3C04D9E4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3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5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6F9C6-31A4-4443-9FA5-D728E0875AA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71895-079C-47F2-87EA-07A29C316C3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Text Box 3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7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8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FAB3C-C16A-4644-8893-2E41A2B584D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20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orbel"/>
              </a:rPr>
              <a:t>Презентация по физической культуре</a:t>
            </a: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285560" y="3857760"/>
            <a:ext cx="7553160" cy="13572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Кукушкина Ольга, 4б класс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МОУ «Средняя общеобразовательная школа № 10 г. Йошкар-Олы»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TextBox 3"/>
          <p:cNvSpPr/>
          <p:nvPr/>
        </p:nvSpPr>
        <p:spPr>
          <a:xfrm>
            <a:off x="4714920" y="6143760"/>
            <a:ext cx="11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08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1142640" y="285840"/>
            <a:ext cx="765828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rbel"/>
              </a:rPr>
              <a:t>Соревновани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Соревнования по футболу, как и в любом другом виде спорта — важная составляющая игры. Соревнование организуется федерацией, для каждого турнира составляется регламент, в котором обычно определяют состав участников, схему турнира, правила определения победителя при равенстве очков и какие-то отклонения от правил, например количество замен. Соревнования делятся на внутренние и международные, которые в свою очередь разделяются на клубные и национальных сборных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1" name="Рисунок 3" descr="1213786688_26631.jpg"/>
          <p:cNvPicPr/>
          <p:nvPr/>
        </p:nvPicPr>
        <p:blipFill>
          <a:blip r:embed="rId1"/>
          <a:stretch/>
        </p:blipFill>
        <p:spPr>
          <a:xfrm>
            <a:off x="2786040" y="2786040"/>
            <a:ext cx="437832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1071360" y="285840"/>
            <a:ext cx="772956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Corbel"/>
              </a:rPr>
              <a:t>Разновидности футбол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Существует множество разновидностей футбола, в основном с меньшим количеством игроков — в том числе пляжный футбол (играется на песке), футзал (AMF) и футзал (FIFA) (мини-футбол) (играются в зале на специальном покрытии), дворовый футбол (играется на любом покрытии на полях любого размера любым количеством людей), болотный футбол (играется на болоте), футбольный фристайл (заключается в исполнении всевозможных финтов и трюков)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Поскольку популярность футбола очень высока существует много игр, имитирующих футбол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3" name="Рисунок 3" descr="1213786684_16606.jpg"/>
          <p:cNvPicPr/>
          <p:nvPr/>
        </p:nvPicPr>
        <p:blipFill>
          <a:blip r:embed="rId1"/>
          <a:stretch/>
        </p:blipFill>
        <p:spPr>
          <a:xfrm>
            <a:off x="3786120" y="3071880"/>
            <a:ext cx="249552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Прямоугольник 3" descr=""/>
          <p:cNvPicPr/>
          <p:nvPr/>
        </p:nvPicPr>
        <p:blipFill>
          <a:blip r:embed="rId1"/>
          <a:stretch/>
        </p:blipFill>
        <p:spPr>
          <a:xfrm>
            <a:off x="2494080" y="30240"/>
            <a:ext cx="4632120" cy="146376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" descr="D:\4904923b_3.jpg"/>
          <p:cNvPicPr/>
          <p:nvPr/>
        </p:nvPicPr>
        <p:blipFill>
          <a:blip r:embed="rId2"/>
          <a:stretch/>
        </p:blipFill>
        <p:spPr>
          <a:xfrm>
            <a:off x="1643040" y="1857240"/>
            <a:ext cx="6875640" cy="39290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solidFill>
            <a:srgbClr val="d9d9d9"/>
          </a:solidFill>
          <a:ln w="9360">
            <a:solidFill>
              <a:srgbClr val="feb80a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История футбол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428480" y="1447920"/>
            <a:ext cx="7505640" cy="119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Игры, похожие на современный футбол, существовали достаточно давно у разных народов, однако первые записанные правила датированы 1848 годом. Датой рождения футбола считается 1863 год, когда была организована первая федерация футбола и записаны правила,  похожие на современные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5" name="Рисунок 3" descr="object_45.1214081933.jpg"/>
          <p:cNvPicPr/>
          <p:nvPr/>
        </p:nvPicPr>
        <p:blipFill>
          <a:blip r:embed="rId1"/>
          <a:stretch/>
        </p:blipFill>
        <p:spPr>
          <a:xfrm>
            <a:off x="2000160" y="2714760"/>
            <a:ext cx="2562480" cy="3789360"/>
          </a:xfrm>
          <a:prstGeom prst="rect">
            <a:avLst/>
          </a:prstGeom>
          <a:ln w="0">
            <a:noFill/>
          </a:ln>
        </p:spPr>
      </p:pic>
      <p:pic>
        <p:nvPicPr>
          <p:cNvPr id="326" name="Рисунок 4" descr="1213836825_56664.jpg"/>
          <p:cNvPicPr/>
          <p:nvPr/>
        </p:nvPicPr>
        <p:blipFill>
          <a:blip r:embed="rId2"/>
          <a:stretch/>
        </p:blipFill>
        <p:spPr>
          <a:xfrm>
            <a:off x="5764320" y="2714760"/>
            <a:ext cx="2593800" cy="37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85920" y="500040"/>
            <a:ext cx="74008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Игровой процесс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071360" y="1599840"/>
            <a:ext cx="761508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Отдельная футбольная игра называется — матч, который в свою очередь состоит из двух таймов по 45 минут. Пауза между первым и вторым таймами составляет 15 минут, в течение которой команды отдыхают, а по её окончании меняются воротами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9" name="Рисунок 3" descr="104901.jpg"/>
          <p:cNvPicPr/>
          <p:nvPr/>
        </p:nvPicPr>
        <p:blipFill>
          <a:blip r:embed="rId1"/>
          <a:stretch/>
        </p:blipFill>
        <p:spPr>
          <a:xfrm>
            <a:off x="2214720" y="3214800"/>
            <a:ext cx="457200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1213920" y="142920"/>
            <a:ext cx="747252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orbel"/>
              </a:rPr>
              <a:t>В футбол играют на поле с травяным или синтетическим покрытием. В игре участвуют две команды: в каждой от 7 до 11 человек. Один человек в команде (вратарь) может играть руками в штрафной площади у своих ворот, его основной задачей является защита ворот. Остальные игроки также имеют свои задачи и позиции на поле. Защитники располагаются в основном на своей половине поля, их задача — противодействовать нападающим игрокам противоположной команды. Полузащитники действуют в середине поля, их роль — помогать защитникам или нападающим в зависимости от игровой ситуации. Нападающие располагаются, преимущественно на половине поля соперника, основная задача — забивать голы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1" name="Рисунок 3" descr="4904923b_3.jpg"/>
          <p:cNvPicPr/>
          <p:nvPr/>
        </p:nvPicPr>
        <p:blipFill>
          <a:blip r:embed="rId1"/>
          <a:stretch/>
        </p:blipFill>
        <p:spPr>
          <a:xfrm>
            <a:off x="2214720" y="3071880"/>
            <a:ext cx="60721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1071720" y="213840"/>
            <a:ext cx="785808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Цель игры — забить мяч в ворота противника, сделать это как можно большее количество раз и постараться не допустить гола в свои ворота. Матч выигрывает команда, забившая большее количество голов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 случае, если в течение двух таймов команды забили одинаковое количество голов, то или фиксируется ничья или победитель выявляется согласно установленному регламенту матча. В этом случае может быть назначено дополнительное время - ещё два тайма по 15 минут каждый. Как правило, между основным и дополнительным временем матча командам предоставляется перерыв. Между дополнительными таймами командам даётся лишь время на смену сторон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3" name="Рисунок 3" descr="1213836840_40613.jpg"/>
          <p:cNvPicPr/>
          <p:nvPr/>
        </p:nvPicPr>
        <p:blipFill>
          <a:blip r:embed="rId1"/>
          <a:stretch/>
        </p:blipFill>
        <p:spPr>
          <a:xfrm>
            <a:off x="2500200" y="3000240"/>
            <a:ext cx="50054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1000080" y="213840"/>
            <a:ext cx="768672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Одно время в футболе существовало правило, по которому победителем объявлялась команда, первой забившая гол (правило «золотого гола») или выигрывавшая по окончании любого из дополнительных таймов (правило «серебряного гола»). В настоящий момент дополнительное время либо не играется вовсе, либо играется в полном объёме (2 тайма по 15 минут). Если в течение дополнительного времени победителя выявить не удаётся, проводится серия послематчевых пенальти, не являющихся частью матча. Серия ведётся до тех пор, пока не будет выявлен победитель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5" name="Рисунок 3" descr="1214087928_76361.jpg"/>
          <p:cNvPicPr/>
          <p:nvPr/>
        </p:nvPicPr>
        <p:blipFill>
          <a:blip r:embed="rId1"/>
          <a:stretch/>
        </p:blipFill>
        <p:spPr>
          <a:xfrm>
            <a:off x="3429000" y="2571840"/>
            <a:ext cx="3000240" cy="380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1143000" y="214200"/>
            <a:ext cx="751536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orbel"/>
              </a:rPr>
              <a:t>    </a:t>
            </a:r>
            <a:r>
              <a:rPr b="1" lang="ru-RU" sz="2400" spc="-1" strike="noStrike">
                <a:solidFill>
                  <a:srgbClr val="c00000"/>
                </a:solidFill>
                <a:latin typeface="Corbel"/>
              </a:rPr>
              <a:t>Организаци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Существует ряд организаций, осуществляющих контроль, управление и распространение футбола. Основной является ФИФА, расположенная в Цюрихе, Швейцария. Она занимается организацией международных соревнований мирового масштаба, в частности чемпионата мира. Далее идут континентальные организации и организации по странам, областям и городам и т. д. У каждой имеются обязанности по организации соответствующих футбольных соревнований, контролю за деятельностью входящих в них клубов, распространением и популяризацией футбола в регионе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7" name="Рисунок 3" descr="1214305948_03297.jpg"/>
          <p:cNvPicPr/>
          <p:nvPr/>
        </p:nvPicPr>
        <p:blipFill>
          <a:blip r:embed="rId1"/>
          <a:stretch/>
        </p:blipFill>
        <p:spPr>
          <a:xfrm>
            <a:off x="3429000" y="2786040"/>
            <a:ext cx="286848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1071360" y="285840"/>
            <a:ext cx="780084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rbel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Corbel"/>
              </a:rPr>
              <a:t>Клубы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Футбольный клуб — базовая ячейка всей футбольной структуры. Он является связующим звеном между футболистами, персоналом и организациями. По сути это команда футболистов, входящая в одну из организаций, имеющая определённую инфраструктуру и обслуживающий персонал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9" name="Рисунок 3" descr="1214088103_23001.jpg"/>
          <p:cNvPicPr/>
          <p:nvPr/>
        </p:nvPicPr>
        <p:blipFill>
          <a:blip r:embed="rId1"/>
          <a:stretch/>
        </p:blipFill>
        <p:spPr>
          <a:xfrm>
            <a:off x="1928880" y="2714760"/>
            <a:ext cx="4876560" cy="3876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6T17:45:03Z</dcterms:created>
  <dc:creator>Admin</dc:creator>
  <dc:description/>
  <dc:language>en-US</dc:language>
  <cp:lastModifiedBy>Ирина Петровна</cp:lastModifiedBy>
  <dcterms:modified xsi:type="dcterms:W3CDTF">2009-08-17T15:14:05Z</dcterms:modified>
  <cp:revision>9</cp:revision>
  <dc:subject/>
  <dc:title>Слайд 1</dc:title>
</cp:coreProperties>
</file>