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5.jpeg" ContentType="image/jpeg"/>
  <Override PartName="/ppt/media/image14.jpeg" ContentType="image/jpeg"/>
  <Override PartName="/ppt/media/image2.png" ContentType="image/png"/>
  <Override PartName="/ppt/media/image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03384-DD48-434B-8A18-FB76E19FA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4A105-2D56-43EA-AF57-DC9E76EBD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856FD-FA49-4A2D-9C27-B38C4935D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40B75-0B8B-4B49-978C-292C5FD3E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9732C-891D-4281-86BD-AB3646476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69D48-BE43-40C7-935B-7589FFCC0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0BD29-918E-480F-816A-D9890E4EF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B19CD-C5C2-4F80-A284-4F26805AE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0B125-E6EC-41E8-BDF3-0D61F25AD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B73EA-6455-411B-B583-DEBA8606A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44D05-B65D-4784-A58E-335D74759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F8592-C945-4F08-A16E-83A8B8ED9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4A69E-3182-4CF0-9763-F98F5D524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1D91A-8AC4-41B9-A527-836B474E7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91BD6-DB3D-439C-BEB3-FA2E66C4E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4E94F-DC5E-4B26-A2E2-21FED16FE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50EAE-4BEB-4E1F-9E79-ED23EF3BA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9C8E69-BC23-47E8-B7E7-A4A059782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799AEE-0F16-4E1D-BEB5-2938AB6FB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868420-E8AA-4610-8FA2-985F12704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A8E326-5076-449E-8BE7-5D6237B10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437865-D474-4EBE-B871-C5A7FC450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DC6B0-C5FC-4399-8A2E-64FF9D00B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6011E0-B5E1-417C-8674-5345B65C2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29B538-C078-4A9C-B3C2-47E687255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DF2479-A777-4C57-A5CC-537AC4CF8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4C14EB-A6CD-487C-B4D5-AE2B0E62B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CF586B-6511-4ADE-86C5-FA03F7F18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7958D5-3EF0-4266-A766-4372F6615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1422B8-3AF1-459E-8241-5B5819AC2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763699-C358-426D-A5BF-185964B6E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C32984-B6B1-42A4-BDF1-D2ABFBC98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D09EF4-459B-48D2-91A5-CAAAEFEAF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8EB76-983E-4688-A1B2-776765314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320350-CBFB-429E-AB6D-3D8056270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5D93AB-70CB-45EF-935A-CC6E10992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EE4FF8-7416-4968-AD9D-01F5E41D0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8F72CB-EA5F-4D6C-A36B-06ACA7594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2D2B47-480D-4FD2-B514-80AADDBB5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893309-71B6-4DD2-BB79-F7B8402E3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F4E0B6-4C6A-4176-B92B-B00C5A676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021450-3005-48AF-A094-5F491A8FB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8B977B-E6BF-48ED-8127-8B2423BA5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EB31A7-40CA-467B-B255-669B71C2F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FDAD8-3BCB-4C42-8BBB-EA8143E33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E95386-6F04-4B43-B4F9-FC1E4EAFC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5EDD9C-FF4F-44C7-9834-C7579C470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18961E-4DEB-4D3F-8F85-CD4DEEA02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2C4FDC-4B32-4AFA-9E0F-6F7F38C8C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B23D82-6880-41D4-B131-53DB8AB64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202491-7C1F-4B39-A5CE-318F273C4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226B63-51DB-444F-9BC4-162E5B7AC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B7CF39-FF7F-4194-9C19-233FA74D8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137064-F627-46E8-986E-9F736E7E1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A1BB24-674C-4B0F-A86D-B2341D3F6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9D3F7-A721-4CDB-BA50-747B1E07D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6FA47B-2A0F-4C04-8C7A-D5EFDE173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775035-4E1B-4BFC-B437-4CD8D7BFD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16E0C8-E011-4D80-A298-411224126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2AA56A-2C4E-42C5-A4FC-8CAF6F999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77B194-81FC-4F1B-950C-2AB78D19A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B0BE71-B901-465A-A12B-8C9DF49BD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B198D3-83BC-4A2D-AB20-826647155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6A5E99-713D-4209-954C-7BA8D0DCB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5CFDC6-9509-4654-A7D6-9BF5E7A64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485B9E-3102-413E-8B8D-9259DDABB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1535C-FCE7-4F7F-8FB1-356FD83C7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511A1A-D7D6-4DC3-A85C-E32C9143C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FA9B3A-A9EA-43AE-A72D-09C0648A7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46B755-F752-4247-AC54-BC9C0C9C3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2D0BDF-BD8D-4B4B-B0BB-ADB916BC5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9F7F1C-9DE0-4692-BAB4-A853DC382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8E26EF-9121-45C2-926A-B03F01864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46CA27-5ABB-452C-B606-A5E2DA55C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CD1E24-CB22-4E9E-913B-167B5932A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2A1FEA-FAF3-4EEE-AC42-C79F5D7D2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C3CFCB-6942-449C-B4CB-6EE771015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B976A-C744-4220-AF7A-523036CCF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626BC5-13E5-4526-B59C-E0FE14D14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90D614-51F5-4ADF-9715-69BD3EC89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05BDCD-E2A0-4190-B728-5A15F5CAB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ABFB08-925C-4CCF-8475-151B425A0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83FF3E-318F-4C0A-8950-94F600795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B9C64-4B46-48A2-B01F-D9D666AA9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Text Box 5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70ACF-2C8F-4F73-9CAB-1337B0F08337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Text Box 5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Text Box 10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7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1A1A3-2822-4181-8238-6A408D7262C2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3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5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Text Box 5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9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C79B9-D02B-4CB8-89F6-BAC625E63A6D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61325-3E7A-4372-A0FA-6A682BD3B5F1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3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5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EFC68-6E9B-4708-8CD0-FC0611D4BF0D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46A72-5E74-4993-8E32-C46BCF557207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Text Box 3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7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8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DE3B3-6119-4CEB-9D90-C4B931FA52CE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20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Corbel"/>
              </a:rPr>
              <a:t>Презентация по физической культуре</a:t>
            </a:r>
            <a:endParaRPr b="0" lang="en-US" sz="54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285560" y="3857760"/>
            <a:ext cx="7553160" cy="13572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20e04"/>
                </a:solidFill>
                <a:latin typeface="Corbel"/>
              </a:rPr>
              <a:t>Кукушкина Ольга, 4б класс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700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20e04"/>
                </a:solidFill>
                <a:latin typeface="Corbel"/>
              </a:rPr>
              <a:t>МОУ «Средняя общеобразовательная школа № 10 г. Йошкар-Олы»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0" name="TextBox 3"/>
          <p:cNvSpPr/>
          <p:nvPr/>
        </p:nvSpPr>
        <p:spPr>
          <a:xfrm>
            <a:off x="4714920" y="6143760"/>
            <a:ext cx="110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008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1142640" y="285840"/>
            <a:ext cx="7658280" cy="264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orbel"/>
              </a:rPr>
              <a:t>Соревнования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Соревнования по футболу, как и в любом другом виде спорта — важная составляющая игры. Соревнование организуется федерацией, для каждого турнира составляется регламент, в котором обычно определяют состав участников, схему турнира, правила определения победителя при равенстве очков и какие-то отклонения от правил, например количество замен. Соревнования делятся на внутренние и международные, которые в свою очередь разделяются на клубные и национальных сборных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1" name="Рисунок 3" descr="1213786688_26631.jpg"/>
          <p:cNvPicPr/>
          <p:nvPr/>
        </p:nvPicPr>
        <p:blipFill>
          <a:blip r:embed="rId1"/>
          <a:stretch/>
        </p:blipFill>
        <p:spPr>
          <a:xfrm>
            <a:off x="2786040" y="2786040"/>
            <a:ext cx="4378320" cy="37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 txBox="1"/>
          <p:nvPr/>
        </p:nvSpPr>
        <p:spPr>
          <a:xfrm>
            <a:off x="1071360" y="285840"/>
            <a:ext cx="7729560" cy="30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76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ru-RU" sz="2400" spc="-1" strike="noStrike">
                <a:solidFill>
                  <a:srgbClr val="c00000"/>
                </a:solidFill>
                <a:latin typeface="Corbel"/>
              </a:rPr>
              <a:t>Разновидности футбола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Существует множество разновидностей футбола, в основном с меньшим количеством игроков — в том числе пляжный футбол (играется на песке), футзал (AMF) и футзал (FIFA) (мини-футбол) (играются в зале на специальном покрытии), дворовый футбол (играется на любом покрытии на полях любого размера любым количеством людей), болотный футбол (играется на болоте), футбольный фристайл (заключается в исполнении всевозможных финтов и трюков)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Поскольку популярность футбола очень высока существует много игр, имитирующих футбол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3" name="Рисунок 3" descr="1213786684_16606.jpg"/>
          <p:cNvPicPr/>
          <p:nvPr/>
        </p:nvPicPr>
        <p:blipFill>
          <a:blip r:embed="rId1"/>
          <a:stretch/>
        </p:blipFill>
        <p:spPr>
          <a:xfrm>
            <a:off x="3786120" y="3071880"/>
            <a:ext cx="2495520" cy="34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Прямоугольник 3" descr=""/>
          <p:cNvPicPr/>
          <p:nvPr/>
        </p:nvPicPr>
        <p:blipFill>
          <a:blip r:embed="rId1"/>
          <a:stretch/>
        </p:blipFill>
        <p:spPr>
          <a:xfrm>
            <a:off x="2494080" y="30240"/>
            <a:ext cx="4632120" cy="146376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2" descr="D:\4904923b_3.jpg"/>
          <p:cNvPicPr/>
          <p:nvPr/>
        </p:nvPicPr>
        <p:blipFill>
          <a:blip r:embed="rId2"/>
          <a:stretch/>
        </p:blipFill>
        <p:spPr>
          <a:xfrm>
            <a:off x="1643040" y="1857240"/>
            <a:ext cx="6875640" cy="392904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solidFill>
            <a:srgbClr val="d9d9d9"/>
          </a:solidFill>
          <a:ln w="9360">
            <a:solidFill>
              <a:srgbClr val="feb80a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История футбола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428480" y="1447920"/>
            <a:ext cx="7505640" cy="119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Игры, похожие на современный футбол, существовали достаточно давно у разных народов, однако первые записанные правила датированы 1848 годом. Датой рождения футбола считается 1863 год, когда была организована первая федерация футбола и записаны правила,  похожие на современные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5" name="Рисунок 3" descr="object_45.1214081933.jpg"/>
          <p:cNvPicPr/>
          <p:nvPr/>
        </p:nvPicPr>
        <p:blipFill>
          <a:blip r:embed="rId1"/>
          <a:stretch/>
        </p:blipFill>
        <p:spPr>
          <a:xfrm>
            <a:off x="2000160" y="2714760"/>
            <a:ext cx="2562480" cy="3789360"/>
          </a:xfrm>
          <a:prstGeom prst="rect">
            <a:avLst/>
          </a:prstGeom>
          <a:ln w="0">
            <a:noFill/>
          </a:ln>
        </p:spPr>
      </p:pic>
      <p:pic>
        <p:nvPicPr>
          <p:cNvPr id="326" name="Рисунок 4" descr="1213836825_56664.jpg"/>
          <p:cNvPicPr/>
          <p:nvPr/>
        </p:nvPicPr>
        <p:blipFill>
          <a:blip r:embed="rId2"/>
          <a:stretch/>
        </p:blipFill>
        <p:spPr>
          <a:xfrm>
            <a:off x="5764320" y="2714760"/>
            <a:ext cx="2593800" cy="37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285920" y="500040"/>
            <a:ext cx="74008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572314"/>
                </a:solidFill>
                <a:latin typeface="Corbel"/>
              </a:rPr>
              <a:t>Игровой процесс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1071360" y="1599840"/>
            <a:ext cx="7615080" cy="132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Отдельная футбольная игра называется — матч, который в свою очередь состоит из двух таймов по 45 минут. Пауза между первым и вторым таймами составляет 15 минут, в течение которой команды отдыхают, а по её окончании меняются воротами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9" name="Рисунок 3" descr="104901.jpg"/>
          <p:cNvPicPr/>
          <p:nvPr/>
        </p:nvPicPr>
        <p:blipFill>
          <a:blip r:embed="rId1"/>
          <a:stretch/>
        </p:blipFill>
        <p:spPr>
          <a:xfrm>
            <a:off x="2214720" y="3214800"/>
            <a:ext cx="4572000" cy="304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 txBox="1"/>
          <p:nvPr/>
        </p:nvSpPr>
        <p:spPr>
          <a:xfrm>
            <a:off x="1213920" y="142920"/>
            <a:ext cx="7472520" cy="29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9480" indent="-262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Corbel"/>
              </a:rPr>
              <a:t>В футбол играют на поле с травяным или синтетическим покрытием. В игре участвуют две команды: в каждой от 7 до 11 человек. Один человек в команде (вратарь) может играть руками в штрафной площади у своих ворот, его основной задачей является защита ворот. Остальные игроки также имеют свои задачи и позиции на поле. Защитники располагаются в основном на своей половине поля, их задача — противодействовать нападающим игрокам противоположной команды. Полузащитники действуют в середине поля, их роль — помогать защитникам или нападающим в зависимости от игровой ситуации. Нападающие располагаются, преимущественно на половине поля соперника, основная задача — забивать голы.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1" name="Рисунок 3" descr="4904923b_3.jpg"/>
          <p:cNvPicPr/>
          <p:nvPr/>
        </p:nvPicPr>
        <p:blipFill>
          <a:blip r:embed="rId1"/>
          <a:stretch/>
        </p:blipFill>
        <p:spPr>
          <a:xfrm>
            <a:off x="2214720" y="3071880"/>
            <a:ext cx="6072120" cy="34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1071720" y="213840"/>
            <a:ext cx="7858080" cy="33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Цель игры — забить мяч в ворота противника, сделать это как можно большее количество раз и постараться не допустить гола в свои ворота. Матч выигрывает команда, забившая большее количество голов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В случае, если в течение двух таймов команды забили одинаковое количество голов, то или фиксируется ничья или победитель выявляется согласно установленному регламенту матча. В этом случае может быть назначено дополнительное время - ещё два тайма по 15 минут каждый. Как правило, между основным и дополнительным временем матча командам предоставляется перерыв. Между дополнительными таймами командам даётся лишь время на смену сторон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3" name="Рисунок 3" descr="1213836840_40613.jpg"/>
          <p:cNvPicPr/>
          <p:nvPr/>
        </p:nvPicPr>
        <p:blipFill>
          <a:blip r:embed="rId1"/>
          <a:stretch/>
        </p:blipFill>
        <p:spPr>
          <a:xfrm>
            <a:off x="2500200" y="3000240"/>
            <a:ext cx="500544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 txBox="1"/>
          <p:nvPr/>
        </p:nvSpPr>
        <p:spPr>
          <a:xfrm>
            <a:off x="1000080" y="213840"/>
            <a:ext cx="7686720" cy="23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       </a:t>
            </a: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Одно время в футболе существовало правило, по которому победителем объявлялась команда, первой забившая гол (правило «золотого гола») или выигрывавшая по окончании любого из дополнительных таймов (правило «серебряного гола»). В настоящий момент дополнительное время либо не играется вовсе, либо играется в полном объёме (2 тайма по 15 минут). Если в течение дополнительного времени победителя выявить не удаётся, проводится серия послематчевых пенальти, не являющихся частью матча. Серия ведётся до тех пор, пока не будет выявлен победитель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5" name="Рисунок 3" descr="1214087928_76361.jpg"/>
          <p:cNvPicPr/>
          <p:nvPr/>
        </p:nvPicPr>
        <p:blipFill>
          <a:blip r:embed="rId1"/>
          <a:stretch/>
        </p:blipFill>
        <p:spPr>
          <a:xfrm>
            <a:off x="3429000" y="2571840"/>
            <a:ext cx="3000240" cy="380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 txBox="1"/>
          <p:nvPr/>
        </p:nvSpPr>
        <p:spPr>
          <a:xfrm>
            <a:off x="1143000" y="214200"/>
            <a:ext cx="7515360" cy="25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9480" indent="-2628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Corbel"/>
              </a:rPr>
              <a:t>    </a:t>
            </a:r>
            <a:r>
              <a:rPr b="1" lang="ru-RU" sz="2400" spc="-1" strike="noStrike">
                <a:solidFill>
                  <a:srgbClr val="c00000"/>
                </a:solidFill>
                <a:latin typeface="Corbel"/>
              </a:rPr>
              <a:t>Организации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Существует ряд организаций, осуществляющих контроль, управление и распространение футбола. Основной является ФИФА, расположенная в Цюрихе, Швейцария. Она занимается организацией международных соревнований мирового масштаба, в частности чемпионата мира. Далее идут континентальные организации и организации по странам, областям и городам и т. д. У каждой имеются обязанности по организации соответствующих футбольных соревнований, контролю за деятельностью входящих в них клубов, распространением и популяризацией футбола в регионе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7" name="Рисунок 3" descr="1214305948_03297.jpg"/>
          <p:cNvPicPr/>
          <p:nvPr/>
        </p:nvPicPr>
        <p:blipFill>
          <a:blip r:embed="rId1"/>
          <a:stretch/>
        </p:blipFill>
        <p:spPr>
          <a:xfrm>
            <a:off x="3429000" y="2786040"/>
            <a:ext cx="2868480" cy="37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1071360" y="285840"/>
            <a:ext cx="7800840" cy="25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orbel"/>
              </a:rPr>
              <a:t> </a:t>
            </a:r>
            <a:r>
              <a:rPr b="1" lang="ru-RU" sz="2400" spc="-1" strike="noStrike">
                <a:solidFill>
                  <a:srgbClr val="c00000"/>
                </a:solidFill>
                <a:latin typeface="Corbel"/>
              </a:rPr>
              <a:t>Клубы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Футбольный клуб — базовая ячейка всей футбольной структуры. Он является связующим звеном между футболистами, персоналом и организациями. По сути это команда футболистов, входящая в одну из организаций, имеющая определённую инфраструктуру и обслуживающий персонал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9" name="Рисунок 3" descr="1214088103_23001.jpg"/>
          <p:cNvPicPr/>
          <p:nvPr/>
        </p:nvPicPr>
        <p:blipFill>
          <a:blip r:embed="rId1"/>
          <a:stretch/>
        </p:blipFill>
        <p:spPr>
          <a:xfrm>
            <a:off x="1928880" y="2714760"/>
            <a:ext cx="4876560" cy="38764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6T17:45:03Z</dcterms:created>
  <dc:creator>Admin</dc:creator>
  <dc:description/>
  <dc:language>en-US</dc:language>
  <cp:lastModifiedBy>Ирина Петровна</cp:lastModifiedBy>
  <dcterms:modified xsi:type="dcterms:W3CDTF">2009-08-17T15:14:05Z</dcterms:modified>
  <cp:revision>9</cp:revision>
  <dc:subject/>
  <dc:title>Слайд 1</dc:title>
</cp:coreProperties>
</file>