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6.wmf" ContentType="image/x-wmf"/>
  <Override PartName="/ppt/media/image19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4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3.gif" ContentType="image/gif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AC06-2E52-43FB-9983-3C368BE1D5A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3850-C60F-476D-AE5F-C7F3D2949A1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0F7-4F15-4C54-A139-FDBAFA1F6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DEAF-5D90-47EF-B08A-F7B1E454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AF39-76B5-4AF4-BAAE-FBD5B0351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78F0-A2B5-4777-9BB4-499FEE35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61DB-0ED1-4F8F-96BF-2CFB0072F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2178-A3DD-4689-8A85-C7AC40B6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8FE-1980-44E6-9283-B4B6CBE30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494-1E07-44C4-80DE-9240F62F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D3E9-3A8C-483B-8DC4-C5B6D216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E79-F6FB-42A3-9123-73B8B305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28E7-534A-46E7-B812-AC060F11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49D-E06A-4717-8242-59BE756D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9CCE-4F8A-4CE1-AFE6-E11B542C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EB57-2C39-4210-B20A-B121E78D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DE3B-5B99-4E04-88B3-7291C6E5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BC7-7562-4095-8E73-7D7592C6D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DEF-BA35-41EA-8B4C-552B0426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C5E5-B970-46EF-B845-3DD4FCF0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23E0-3303-46BF-81D4-B6D13138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B28E-0B62-49EB-BDEC-93013972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CF82-5921-4957-A3A6-5134315F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E95A-AA5D-4078-A670-E7C5CAB1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7ACB-4F13-4924-BCE2-52337AC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A80B-51B6-4239-9F72-4E908B5B6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695B-8B02-4729-A5B9-D070C627ED42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045C-0B4D-402E-8C77-AA6A2A431BE8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8240" cy="125568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j0282886.gif"/>
          <p:cNvPicPr/>
          <p:nvPr/>
        </p:nvPicPr>
        <p:blipFill>
          <a:blip r:embed="rId2"/>
          <a:stretch/>
        </p:blipFill>
        <p:spPr>
          <a:xfrm>
            <a:off x="1785960" y="1797120"/>
            <a:ext cx="578628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послевоенный период клуб стал одним из первых, применивших практику регулярных международных товарищеских встреч (Албания — 1946 и 1951 гг., Норвегия — 1950 г., а в 1953 г. — 14 игр против серьезных соперников: Чехословакия, Швеция, Венгрия, Румыния, Австрия, Польша, Болгария и Албания, 1954 г. — 21 игра с иностранными командами), что позволило всему советскому футболу получить и применять опыт европейских клубов в своей игровой практике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клад ФК «Спартак» в историю успеха российского футбола на международной арене спорта подтверждается и тем, что в 1956 г. советская сборная одержала победу на Олимпийских играх в Мельбурне, что стало триумфом советского футбола, заставившего весь мир обратить внимание на высокий уровень этого вида спорта в нашей стране. При этом стоит отметить, что в составе советской сборной того периода было десять игроков ФК «Спартак»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66 г. ФК «Спартак» провел первый в истории советского футбола матч в зачет официальных международных соревнований — Кубок обладателей кубков, а в 1971 году спартаковцы стали пионерами в другом международном турнире — Кубке УЕФА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оветской футбольной истории ФК «Спартак» являлся одним из лидеров чемпионата СССР, игроки клуба становились кумирами молодежи, а результаты игры на международной арене привлекали к футболу все новых и новых болельщиков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стал первой командой России, которая в 1990-х годах на постоянной основе участвовала в европейских футбольных турнирах и добивалась на них определенных успехов. Основными достижениями клуба на международной футбольной арене в российский период стали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чемпионов в сезон 1990—1991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кубков сезона 1992—1993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ыход в полуфинал Кубка УЕФА сезона 1997—1998 гг.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а на Кубке Анталии в 2002 году («Эфес Пилсен Кап»)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 протяжении всей своей истории ФК «Спартак» оставался одним из лидеров советского и российского футбола, несмотря на периоды неудач, сумевшим сохранить игровой и волевой потенциал. История клуба и его заслуги заставляют всех соперников с особой тщательностью готовиться к будущим встречам с футболистами «Спартака»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Одним из основных стимулов к победам является неизменная поддержка футбольных болельщиков, разделяющих с командой как спортивный триумф, так и минуты неудач. Строительство собственного стадиона станет бесценным подарком не только для спортсменов, но и для болельщиков, которые без сомнения будут рады собственной спортивной арене, в стенах которой они с максимальной отдачей смогут поддерживать любимую команду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4" descr=""/>
          <p:cNvPicPr/>
          <p:nvPr/>
        </p:nvPicPr>
        <p:blipFill>
          <a:blip r:embed="rId1"/>
          <a:stretch/>
        </p:blipFill>
        <p:spPr>
          <a:xfrm>
            <a:off x="328680" y="1311120"/>
            <a:ext cx="8785080" cy="21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Содержимое 3" descr="213[1].jpg"/>
          <p:cNvPicPr/>
          <p:nvPr/>
        </p:nvPicPr>
        <p:blipFill>
          <a:blip r:embed="rId1"/>
          <a:stretch/>
        </p:blipFill>
        <p:spPr>
          <a:xfrm>
            <a:off x="804960" y="353880"/>
            <a:ext cx="7589880" cy="60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одержимое 3" descr="215[1].jpg"/>
          <p:cNvPicPr/>
          <p:nvPr/>
        </p:nvPicPr>
        <p:blipFill>
          <a:blip r:embed="rId1"/>
          <a:stretch/>
        </p:blipFill>
        <p:spPr>
          <a:xfrm>
            <a:off x="1433520" y="1600200"/>
            <a:ext cx="627696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Содержимое 3" descr="216[1].jpg"/>
          <p:cNvPicPr/>
          <p:nvPr/>
        </p:nvPicPr>
        <p:blipFill>
          <a:blip r:embed="rId1"/>
          <a:stretch/>
        </p:blipFill>
        <p:spPr>
          <a:xfrm>
            <a:off x="1428840" y="157176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Содержимое 3" descr="Аршавин_1.jpg"/>
          <p:cNvPicPr/>
          <p:nvPr/>
        </p:nvPicPr>
        <p:blipFill>
          <a:blip r:embed="rId1"/>
          <a:stretch/>
        </p:blipFill>
        <p:spPr>
          <a:xfrm>
            <a:off x="1428840" y="1714680"/>
            <a:ext cx="65721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Содержимое 3" descr="217_thumb[1].jpg"/>
          <p:cNvPicPr/>
          <p:nvPr/>
        </p:nvPicPr>
        <p:blipFill>
          <a:blip r:embed="rId1"/>
          <a:stretch/>
        </p:blipFill>
        <p:spPr>
          <a:xfrm>
            <a:off x="1285920" y="1500120"/>
            <a:ext cx="678636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Содержимое 3" descr="218_thumb[1].jpg"/>
          <p:cNvPicPr/>
          <p:nvPr/>
        </p:nvPicPr>
        <p:blipFill>
          <a:blip r:embed="rId1"/>
          <a:stretch/>
        </p:blipFill>
        <p:spPr>
          <a:xfrm>
            <a:off x="1285920" y="164304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Содержимое 3" descr="russia_wins_sweden01.jpg"/>
          <p:cNvPicPr/>
          <p:nvPr/>
        </p:nvPicPr>
        <p:blipFill>
          <a:blip r:embed="rId1"/>
          <a:stretch/>
        </p:blipFill>
        <p:spPr>
          <a:xfrm>
            <a:off x="1643040" y="178596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7" name="Содержимое 3" descr="214[1].jpg"/>
          <p:cNvPicPr/>
          <p:nvPr/>
        </p:nvPicPr>
        <p:blipFill>
          <a:blip r:embed="rId2"/>
          <a:stretch/>
        </p:blipFill>
        <p:spPr>
          <a:xfrm>
            <a:off x="1071720" y="1643040"/>
            <a:ext cx="700056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371600" y="3857400"/>
            <a:ext cx="64008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Лебедев Илья,5в класс, 10 школ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. Йошкар-Ола, 2008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1"/>
          <a:stretch/>
        </p:blipFill>
        <p:spPr>
          <a:xfrm>
            <a:off x="244440" y="268200"/>
            <a:ext cx="8753400" cy="1158840"/>
          </a:xfrm>
          <a:prstGeom prst="rect">
            <a:avLst/>
          </a:prstGeom>
          <a:ln w="0">
            <a:noFill/>
          </a:ln>
        </p:spPr>
      </p:pic>
      <p:pic>
        <p:nvPicPr>
          <p:cNvPr id="129" name="!!! Самые неудачные моменты в футболе.wmv" descr=""/>
          <p:cNvPicPr/>
          <p:nvPr/>
        </p:nvPicPr>
        <p:blipFill>
          <a:blip r:embed="rId2"/>
          <a:stretch/>
        </p:blipFill>
        <p:spPr>
          <a:xfrm>
            <a:off x="928800" y="1571760"/>
            <a:ext cx="73929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5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5523120"/>
          </a:xfrm>
          <a:prstGeom prst="rect">
            <a:avLst/>
          </a:prstGeom>
          <a:ln w="0">
            <a:noFill/>
          </a:ln>
        </p:spPr>
      </p:pic>
      <p:sp>
        <p:nvSpPr>
          <p:cNvPr id="131" name="5-конечная звезда 2"/>
          <p:cNvSpPr/>
          <p:nvPr/>
        </p:nvSpPr>
        <p:spPr>
          <a:xfrm>
            <a:off x="635796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5-конечная звезда 3"/>
          <p:cNvSpPr/>
          <p:nvPr/>
        </p:nvSpPr>
        <p:spPr>
          <a:xfrm>
            <a:off x="1928880" y="25718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185256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8" descr="j0292476.wmf"/>
          <p:cNvPicPr/>
          <p:nvPr/>
        </p:nvPicPr>
        <p:blipFill>
          <a:blip r:embed="rId2"/>
          <a:stretch/>
        </p:blipFill>
        <p:spPr>
          <a:xfrm>
            <a:off x="2357280" y="1714680"/>
            <a:ext cx="6500880" cy="484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5" descr="0_9226[1].jpg"/>
          <p:cNvPicPr/>
          <p:nvPr/>
        </p:nvPicPr>
        <p:blipFill>
          <a:blip r:embed="rId2"/>
          <a:stretch/>
        </p:blipFill>
        <p:spPr>
          <a:xfrm>
            <a:off x="1357200" y="1643040"/>
            <a:ext cx="65008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2" descr=""/>
          <p:cNvPicPr/>
          <p:nvPr/>
        </p:nvPicPr>
        <p:blipFill>
          <a:blip r:embed="rId1"/>
          <a:stretch/>
        </p:blipFill>
        <p:spPr>
          <a:xfrm>
            <a:off x="762120" y="0"/>
            <a:ext cx="7600680" cy="95724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999720"/>
            <a:ext cx="82580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Цвета команды: красно-белые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режние названия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2 - МКС (Московский Клуб Спорта)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3-1925 - "Красная Пресн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26-1930 - "Пищевики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1-1933 - "Дукат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4 - "Промкооперация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1935-1988 -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C 1989 - ФК "Спартак" Москва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Основатель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ФИО: Старостин Николай Петрович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Рождения: 26.02.190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Дата Смерти: 17.02.199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Место Рождения: Москва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Амплуа: Нападающий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Страна: Россия/СССР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Жизненный путь</a:t>
            </a: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: Выступал в московских клубах МКС (1922), "Красная Пресня" (1923 - 1925), "Пищевики" (1926 - 1930), "Промкооперация" (1931, 1934), "Дукат" (1932 - 1933), "Спартак" (1935 - 1936)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чемпионатах СССР сыграл 1 матч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Москвы играл с 1926 по 1935 год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Чемпион РСФСР 1922, 1927, 1928, 1929, 1930, 1931 годов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ице-чемпион РСФСР 1924 года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В сборной РСФСР играл с 1926 по 1931 год.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Всесоюзной Спартакиады 1928, 1931, 1932, 1935 год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III рабочей Олимпиады в Антверпене и приза Всемирной выставки в Париже 1937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сборной СССР сыграл 6 неофициальных матч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ьник Спартака (Москва) в 1936 году, с 1955 по 1964 годы, с 1967 по 1975 годы и с 1977 по 1995 годы. Ответственный секретарь (1935-1936) и председатель правления МГС Спартак (1937 - март 1942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ю Старостину присвоено звание заслуженного мастера спорта и героя социалистического труда. Он был награждён тремя орденами Ленина, орденами Дружбы народов и За заслуги перед отечеством 3ей степени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иколай Петрович человек, стоявший у истоков не только футбольной команды, но и всего российского спорта. Всех нас подкупала его демократичность, его доброта. Только в крайнем случае он употреблял власть, отчислял игрока из команды, но про этом не унижал человеческого достоинства, разговаривал по-отечески: ему никогда не была безразлична судьба, в которую вынужден вмешаться... Его доброта для любого может служить образцом отношения к душе. Не пропустил ни одной игры, ни одной поездки. (Никита Симонян, Футбол - только ли игра? (М., Молодая гвардия)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Что же сказать в заключение? Да, наш Николай Петрович Старостин - один из основателей как общества, так и футбольной команды Спартак. Но всё, что сделано этим человеком, и то, что он продолжает делать, - всё это имеет далеко не местное спартаковское значение. Он яркий, колоритный представитель нашего советского значения. Словом, человек, всю свою жизнь посвятивший советскому спорту. (Лев Филатов, дело жизни - Спартак, 1971 год). По сей день болельщики "Спартака" приносили на матчи команды огромные транспоранты с фотографией Николая Петровича Старостина и с подписью "Он всё видит"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ачало выступлений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(18.04.22) МКС - 3КС 3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официальный матч: приз открытия на кубок Б.А. Майтова (23.04.22) МКС - 3КС 5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Б"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Москвы в классе "А" (17.06.23) Красная Пресня - Динамо 3-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городний матч (30.04.22) МКС - КСО 3-1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1960"/>
            <a:ext cx="4608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85840"/>
            <a:ext cx="8858160" cy="65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вне Москвы (14.05.22) "..."(Ярцево) - МКС 0-1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еждународный матч (08.08.24) Пищевики - АИФ (Норвегия) 2-0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чемпионата СССР (29.05.36) Спартак - ЦДКА (Москва) 0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Кубка СССР (24.07.36) Динамо (Воронеж) - Спартак 0-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-й матч европейского клубного турнира - Кубок Кубков (28.09.66) ОФК (Югославия) - Спартак 1-3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остижения клуб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чемпион СССР: 1936 (осень), 1938, 1939, 1952, 1953, 1956, 1958,1962, 1969, 1979, 1987, 1989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2-кратный серебряный призер Чемпионатов СССР: 1937, 1954, 1955, 1963, 1968, 1974, 1980, 1981, 1083, 1984, 1985, 19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бронзовый призер Чемпионатов СССР: 1936, 1940, 1948, 1949 1957, 1961, 1970, 1982, 1986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10-кратный обладатель Кубка СССР: 1938, 1939, 1946, 1947, 1950, 1958, 1963, 1965, 1971, 199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5-кратный финалист Кубка СССР: 1948, 1952, 1957, 1972, 198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9-кратный чемпион России: 1992, 1993, 1994, 1996, 1997, 1998, 1999, 2000, 2001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еребряный призер призер Чемпионата России 2005, 2006 года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Бронзовый призер чемпионата России: 1995, 200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-кратный обладатель Кубка России: 1994, 1998, 200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6-кратный обладатель Кубка СНГ: 1993, 1994, 1995, 1999, 2000, 200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ЕЧ: 1990/91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ОК: 1992/9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луфиналист Кубка УЕФА: 1997/98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бедитель Кубка Анталии (Efes Pilsen Cup): 2002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се призы клуба и футболистов времен СССР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партаковцы - лучшие футболисты страны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Евгений Ловчев - 1972 год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715320" y="285480"/>
            <a:ext cx="45720" cy="1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8400" y="401040"/>
            <a:ext cx="74520" cy="55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ат Дасаев - 1982 год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Фёдор Черенков - 1983, 1989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Приз имени Григория Федотова (для самой результативной команды): 1958, 1968, 1969, 1979, 1981, 1985, 1987, 1989, 1991 год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Интересные данны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чемпионатах забил Никита Симонян - 135 мяч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Никита Симонян - 34 мяча в 1950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Лучший бомбардир за сезон - Андрей Мовсесян - 30 мячей в 1994 году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в одном матче забил Андрей Тихонов - 8, 02.10.93г. "Рекорду" Александров (счёт матча 8-0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игр в чемпионате страны провёл Сергей Чудин - 168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молодой игрок - Андрей Иванов. Сыграл 01.04.82г. против "Торпедо" Москва (2-1) в возрасте 14-и лет и 360 дн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амый возрастной игрок - Константин Рязанцев - более 38-и лет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Больше всего мячей было забито Спартаком в сезоне 1949-го года - 93 (второй показатель в истории чемпионатов СССР). 81 мяч был забит спартаковцами в 1993 году (лучший показатель первенств России). 83 в 1977-м году в первой лиге. А наименьшее число мячей - всего 12 - спартаковские голеодоры провели в первом чемпионате СССР, который состоял из 6-и встреч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Мирослав Ромащенко навечно вписал своё имя в историю московского Спартака, забив на 38 минуте 20 сентября 1997-го года в Ростове 3000-й гол спартаковцев в чемпионатах СССР, а затем России. 83 из них приходятся на турнир первой лиги (1977 год), 2 на золотой матч 1996 года с Аланией, 22 - на анулированные в разное время матчи (17, в частности, были забиты в неокончившемся чемпионате 1941 года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-й гол был забит 6 июня 1936 года во второй календарной игре первенства в ворота киевского Динамо. Отличился на 21-й минуте встречи Георгий Глазков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-й гол забил Леонид Румянцев 6-го октября 1937 года в ворота московского Металлург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-й - Виктор Семёнов 1-го октября 1938 года в ворота всё того же Металлурга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500-й гол - Виктор Терентьев в ворота московского Локомотива 17 сентября 1949 года. Спартак победил со счётом 6-4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000-й гол забил Иван Мозер в матче с Тбилисским Динамо 25-го июля 1959 года. Юбилейным стал его второй гол в матче на 20-ой минуте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500-й - Генадий Логофет в ворота СКА Ростов 15-го сентября 1969 года. Матч закончился со счётом 4-0, Галимзян Хусаинов сделал хет-трик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000-й забил Эдгар Гесс 14 мая 1981 года в Лужниках в ворота алма-атинского Кайрата. Спартак победил 3-0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00-й гол забил Сергей Родионов 16-го марта 1990 года в "Олимпийском", в драматическом матче с ЦСКА. На 85-й минуте Родионов головой замкнул фланговый навес Карпина, сделав счёт 5-4 в пользу Спартака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3000 мячей были забиты 205-ю спартаковцами, в 34-х случаях были зафиксированы автоголы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Три самых блистательных матча Спартака в официальных европейских турнирах были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1. В добесковский период в 7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5 октября 1972 года. Мадрид, Испания. 25,000 зрителей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Атлетико (Мадрид) - СПАРТАК 3-4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удья: Глекхнер (ГДР)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Голы: Редин(43,85), Пискарёв(56), Булгаков (75), Луис(77,пен.), Овехеро(83), Бекер(90). Папаев на 82 мин. не реализовал 11-метр. (выше ворот)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Состав Спартака:Дарвин, Логофет, Ольшанский, Ловчев, Абрамов, Зенков, Булгаков, Хусаинов, Пискарёв, Папаев, Редин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2. В бесковский период в 80-х: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640720" y="272880"/>
            <a:ext cx="46080" cy="84240"/>
          </a:xfrm>
          <a:prstGeom prst="rect">
            <a:avLst/>
          </a:prstGeom>
          <a:noFill/>
          <a:ln w="0">
            <a:noFill/>
          </a:ln>
        </p:spPr>
        <p:txBody>
          <a:bodyPr tIns="38520" bIns="38520" anchor="t">
            <a:normAutofit/>
          </a:bodyPr>
          <a:p>
            <a:pPr marL="547560" indent="-411120">
              <a:lnSpc>
                <a:spcPct val="80000"/>
              </a:lnSpc>
              <a:spcBef>
                <a:spcPts val="1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 ноября 1983 года. Бирмингем, Англия. 40.0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стон Вилла (обладатель Суперкубка Европы) - СПАРТАК 1-2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Мюльдер (Гол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Витхе(1),Черенков(46,89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Дасаев,Сочнов, Поздняков, Базулев, Бубнов,Е. Кузнецов, Гладилин, Морозов, Гаврилов, Черенков, Радионов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3. В романцевский период в 90-х: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0 марта 1991года Мадрид, Испания.90,200 зрителей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еал (Мадрид) - СПАРТАК 1-3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дья: Уодлл (Шотландия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Голы: Бутрагеньо(10), Радченко(20,38), Шмаров(64)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остав Спартака: Черчесов, Базулев, Кульков, Попов, Поздняков, О.Иванов, Шалимов, Шмаров, Попович (Бушманов, 89), Радченко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а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Эмблему и имя московскому Спартаку придумал отец-основатель этого общества Николай Старостин. Рассказывают, когда обсуждалось название, руководители долго не могли прийти к единому мнению. И тут взгляд Старостина случайно упал на лежавшую на столе книгу итальянца Раффаэлло Джованьоли - "Спартак", весьма популярную на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заре Советской власти. Предложение назвать клуб в честь предводителя восстания устроило всех, ибо, с одной стороны, отдавало античной героикой, а с другой — было вполне идеологически выдержанным. Вскоре Старостин сам набросал и логотип —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асно-белый ромбик с перечеркнутой буквой С. Правда, белая полоска внутри красного ромба шла тогда по другой диагонали, нежели сейчас. Более привычный нам вид эмблема обрела в 1949 го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 1998, когда футбольная команда вышла из состава общества Спартак, в эмблему был добавлен футбольный мяч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сле основания Премьер-лиги, каждый клуб, победивший в 5-ти чемпионатах имеет право над своей эмблемой разместить золотую звезду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роме того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ФК «Спартак» — единственный клуб, который во время выстраивания основных механизмов организации советского первенства по футболу в предвоенные годы (1936—1941 гг.) не опускался ниже третьего места чемпионата СССР, демонстрируя высокие волевые качества игроков и новаторство в тактической области игры.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2:00:23Z</dcterms:created>
  <dc:creator>Николай</dc:creator>
  <dc:description/>
  <dc:language>en-US</dc:language>
  <cp:lastModifiedBy>Ирина Петровна</cp:lastModifiedBy>
  <dcterms:modified xsi:type="dcterms:W3CDTF">2009-08-17T15:14:22Z</dcterms:modified>
  <cp:revision>7</cp:revision>
  <dc:subject/>
  <dc:title>Футбол</dc:title>
</cp:coreProperties>
</file>