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482-B2BE-4F39-AB28-1041F228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C7B-78A0-4F64-AA29-A7DF9180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CB1-F468-4A54-8D25-6061C86D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FC3-1B00-4446-9918-D80C505F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FD96-DC5A-4413-9F07-A08BD76A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B063-69E3-45D4-90F7-0E84A3E9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BF56-F50A-4733-98E5-88BFB8F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8F3D-75D2-4457-BB23-BF10ED72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6633-BDD4-4F86-95B2-9E7EAB5C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9F56-3256-4A8C-917F-FD9FB374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658B-4339-4577-9073-1C14578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055-E881-4EC1-9F2F-6B5892EF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D6C7-D7A9-47AE-BC6B-98690E7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C8B2-FFE0-4C21-9E6A-B36FC76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790-BAD8-4C10-BCEC-1FFE89A4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9EB6-58D1-4422-AFBB-2B516989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13EA-CEF8-4A45-8A7E-3916ACBA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736-7E18-4809-ADB1-14E9C198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5C4-0C22-4EE1-A74B-147FDB8E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CA5-1613-4379-B233-E4F694E6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D70-FE88-4880-A3CC-3655E0F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5E0-3118-4E81-A53F-71F693D9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F84-3242-4665-B306-BCC21321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481-C323-42C3-8A35-E972A191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6815-8A68-4737-BA19-67AE976016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1F57-D046-41FE-9430-D75BDDDFDE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924000" y="5660640"/>
            <a:ext cx="5072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а Пушкарёва Анаста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720" y="158760"/>
            <a:ext cx="352728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6" name="Picture 4" descr="06-18_rus-swe_SM_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93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6-18_rus-swe_SM_19"/>
          <p:cNvPicPr/>
          <p:nvPr/>
        </p:nvPicPr>
        <p:blipFill>
          <a:blip r:embed="rId2"/>
          <a:stretch/>
        </p:blipFill>
        <p:spPr>
          <a:xfrm>
            <a:off x="5305320" y="2060640"/>
            <a:ext cx="3652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339408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9" name="Picture 4" descr="06-18_rus-swe_SM_27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405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6-18_rus-swe_SM_22"/>
          <p:cNvPicPr/>
          <p:nvPr/>
        </p:nvPicPr>
        <p:blipFill>
          <a:blip r:embed="rId2"/>
          <a:stretch/>
        </p:blipFill>
        <p:spPr>
          <a:xfrm>
            <a:off x="5462640" y="907920"/>
            <a:ext cx="341784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Голланд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матч стал, несомненно, лучшим футболом в исполнении сборной России за последние 20 лет. Встреча закончилась со счетом 3:1 в пользу России. Голы забили Павлюченко, Аршавин и Торбинский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16360" y="188640"/>
            <a:ext cx="4114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4" name="Picture 4" descr="1214164674_485e73b1cbca5"/>
          <p:cNvPicPr/>
          <p:nvPr/>
        </p:nvPicPr>
        <p:blipFill>
          <a:blip r:embed="rId1"/>
          <a:stretch/>
        </p:blipFill>
        <p:spPr>
          <a:xfrm>
            <a:off x="250920" y="260280"/>
            <a:ext cx="427032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1214164736_485e74059d6e1"/>
          <p:cNvPicPr/>
          <p:nvPr/>
        </p:nvPicPr>
        <p:blipFill>
          <a:blip r:embed="rId2"/>
          <a:stretch/>
        </p:blipFill>
        <p:spPr>
          <a:xfrm>
            <a:off x="4711680" y="1052640"/>
            <a:ext cx="44323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397008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7" name="Picture 4" descr="1214164800_485e7542b1196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1214164748_485e73b1bf848"/>
          <p:cNvPicPr/>
          <p:nvPr/>
        </p:nvPicPr>
        <p:blipFill>
          <a:blip r:embed="rId2"/>
          <a:stretch/>
        </p:blipFill>
        <p:spPr>
          <a:xfrm>
            <a:off x="5327640" y="1557360"/>
            <a:ext cx="3516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000" y="158400"/>
            <a:ext cx="3898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0" name="Picture 4" descr="1214164795_485e7542b86ff"/>
          <p:cNvPicPr/>
          <p:nvPr/>
        </p:nvPicPr>
        <p:blipFill>
          <a:blip r:embed="rId1"/>
          <a:stretch/>
        </p:blipFill>
        <p:spPr>
          <a:xfrm>
            <a:off x="179280" y="189000"/>
            <a:ext cx="4278600" cy="56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214164831_485e761c93941"/>
          <p:cNvPicPr/>
          <p:nvPr/>
        </p:nvPicPr>
        <p:blipFill>
          <a:blip r:embed="rId2"/>
          <a:stretch/>
        </p:blipFill>
        <p:spPr>
          <a:xfrm>
            <a:off x="4903920" y="981000"/>
            <a:ext cx="4044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о итогам этого турнира Россия получила бронзовые медали. 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4" descr="26907779_1213119785_AP080610014542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2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7931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чу поблагодарить все футболистов сборной России за такой праздник, и пусть они так же радуют своих болельщ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06-14_gre-rus_SA_13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ная России на чемпионате Европы 200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1213609735_football_russia_grecia"/>
          <p:cNvPicPr/>
          <p:nvPr/>
        </p:nvPicPr>
        <p:blipFill>
          <a:blip r:embed="rId2"/>
          <a:stretch/>
        </p:blipFill>
        <p:spPr>
          <a:xfrm>
            <a:off x="5000760" y="1600200"/>
            <a:ext cx="333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Испан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вро 2008 наша сборная играла с Испанцами два матча. Оба матча мы проиграли. Первую встречу со счетом 1:4, вторую 0:3. Следует заметить что Испанцы стали чемпионами этого турн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1920" y="333000"/>
            <a:ext cx="422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68" name="Picture 4" descr="26907781_1213119800_AP080610014609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13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26907793_1213119825_AP080610014799"/>
          <p:cNvPicPr/>
          <p:nvPr/>
        </p:nvPicPr>
        <p:blipFill>
          <a:blip r:embed="rId2"/>
          <a:stretch/>
        </p:blipFill>
        <p:spPr>
          <a:xfrm>
            <a:off x="4356000" y="3624120"/>
            <a:ext cx="4491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640" y="333360"/>
            <a:ext cx="3959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1" name="Picture 8" descr="26907814_1213119933_AP08061001631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41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6907795_1213119838_AP080610014955"/>
          <p:cNvPicPr/>
          <p:nvPr/>
        </p:nvPicPr>
        <p:blipFill>
          <a:blip r:embed="rId2"/>
          <a:stretch/>
        </p:blipFill>
        <p:spPr>
          <a:xfrm>
            <a:off x="4716360" y="3668760"/>
            <a:ext cx="4427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- Греция 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у встречу с греками мы выиграли со счетом 1:0. Главным героем встречи стал Константин Зырянов, который пушечным ударом забил гол. Следует отметить и Семака, который дал Константину пас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06-14_gre-rus_MEL_17"/>
          <p:cNvPicPr/>
          <p:nvPr/>
        </p:nvPicPr>
        <p:blipFill>
          <a:blip r:embed="rId2"/>
          <a:stretch/>
        </p:blipFill>
        <p:spPr>
          <a:xfrm>
            <a:off x="3924360" y="1557360"/>
            <a:ext cx="5040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3280" y="158760"/>
            <a:ext cx="38163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7" name="Picture 7" descr="06-14_gre-rus_SA_17"/>
          <p:cNvPicPr/>
          <p:nvPr/>
        </p:nvPicPr>
        <p:blipFill>
          <a:blip r:embed="rId1"/>
          <a:stretch/>
        </p:blipFill>
        <p:spPr>
          <a:xfrm>
            <a:off x="5078520" y="2205000"/>
            <a:ext cx="3813120" cy="44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6-14_gre-rus_MEL_22"/>
          <p:cNvPicPr/>
          <p:nvPr/>
        </p:nvPicPr>
        <p:blipFill>
          <a:blip r:embed="rId2"/>
          <a:stretch/>
        </p:blipFill>
        <p:spPr>
          <a:xfrm>
            <a:off x="179280" y="0"/>
            <a:ext cx="4424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000" y="158760"/>
            <a:ext cx="45464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0" name="Picture 4" descr="06-14_gre-rus_SA_25"/>
          <p:cNvPicPr/>
          <p:nvPr/>
        </p:nvPicPr>
        <p:blipFill>
          <a:blip r:embed="rId1"/>
          <a:stretch/>
        </p:blipFill>
        <p:spPr>
          <a:xfrm>
            <a:off x="250920" y="189000"/>
            <a:ext cx="36957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6-14_gre-rus_SA_33"/>
          <p:cNvPicPr/>
          <p:nvPr/>
        </p:nvPicPr>
        <p:blipFill>
          <a:blip r:embed="rId2"/>
          <a:stretch/>
        </p:blipFill>
        <p:spPr>
          <a:xfrm>
            <a:off x="4067280" y="3332160"/>
            <a:ext cx="492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Швец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том матче Россия обыграла шведов со счетом 2:0. Голы забили Аршавин и Павлюченко. Также стоит выделить Игнашевича, который удачно сыграл против главного бамбордира сборной Швеции Ибрагимович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06-18_rus-swe_SM_18"/>
          <p:cNvPicPr/>
          <p:nvPr/>
        </p:nvPicPr>
        <p:blipFill>
          <a:blip r:embed="rId2"/>
          <a:stretch/>
        </p:blipFill>
        <p:spPr>
          <a:xfrm>
            <a:off x="4211640" y="1628640"/>
            <a:ext cx="46083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13:56Z</dcterms:created>
  <dc:creator>USER</dc:creator>
  <dc:description/>
  <dc:language>en-US</dc:language>
  <cp:lastModifiedBy>Ирина Петровна</cp:lastModifiedBy>
  <dcterms:modified xsi:type="dcterms:W3CDTF">2009-08-17T15:14:46Z</dcterms:modified>
  <cp:revision>4</cp:revision>
  <dc:subject/>
  <dc:title>Слайд 1</dc:title>
</cp:coreProperties>
</file>