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B6CB-FE04-4349-BD10-B5BAEB2F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20D-CE85-4F29-913D-BFC5DB93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996B-BA8D-4A2E-ADFF-D63873F2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A2E1-CF61-4422-86C3-B32AFE1C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94C6-A579-4981-BFE3-F5CA737A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DE75-0165-445F-BF30-93856B84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7EB4-D597-4DFF-89B0-66EC3751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1A66-E6A6-4578-9481-C40166B4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98B9-027E-4254-BAF0-DD2D7345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2DDF-3FC5-4D20-9C80-53AC2D86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B4B0-C33B-40DF-A22D-CEA1FA88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1310-B21A-4040-A5FF-10D8D5E7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E20F-C3DD-45B0-9362-AB0A9837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13FD-274B-4B8E-8D1C-96AA5641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18B4-C319-4FF9-B95F-9610B37C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86B1-1018-48B1-9524-5185C1BB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F713-C0AE-44F5-B586-9A659B65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D995-70A4-4536-AB88-C43C178D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4946-88E9-4027-8EBE-C5EB916D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16C-FACA-4922-B2DE-97C014FE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A03F-5A54-4380-BCD2-FA221B90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5E1F-70DD-4C61-90B5-48D54469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BE71-6899-4963-8462-A6CCA951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6BC8-34C7-4CCD-A89E-74F77F1F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5400"/>
            </a:gs>
            <a:gs pos="100000">
              <a:srgbClr val="f4be5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50000">
                  <a:srgbClr val="50732e"/>
                </a:gs>
                <a:gs pos="100000">
                  <a:srgbClr val="2a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2a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A02D-B13B-4F9B-B75B-8E1DBC5530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5400"/>
            </a:gs>
            <a:gs pos="100000">
              <a:srgbClr val="f4be5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50000">
                  <a:srgbClr val="50732e"/>
                </a:gs>
                <a:gs pos="100000">
                  <a:srgbClr val="2a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2a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6AD9-A6E7-4CA0-9B90-0DC5F7EADF0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Виды спорта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924000" y="5660640"/>
            <a:ext cx="507204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дготовила Пушкарёва Анастас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292720" y="158760"/>
            <a:ext cx="3527280" cy="125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Шв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86" name="Picture 4" descr="06-18_rus-swe_SM_14"/>
          <p:cNvPicPr/>
          <p:nvPr/>
        </p:nvPicPr>
        <p:blipFill>
          <a:blip r:embed="rId1"/>
          <a:stretch/>
        </p:blipFill>
        <p:spPr>
          <a:xfrm>
            <a:off x="179280" y="189000"/>
            <a:ext cx="4897440" cy="3938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06-18_rus-swe_SM_19"/>
          <p:cNvPicPr/>
          <p:nvPr/>
        </p:nvPicPr>
        <p:blipFill>
          <a:blip r:embed="rId2"/>
          <a:stretch/>
        </p:blipFill>
        <p:spPr>
          <a:xfrm>
            <a:off x="5305320" y="2060640"/>
            <a:ext cx="36529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3394080" cy="11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Шв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89" name="Picture 4" descr="06-18_rus-swe_SM_27"/>
          <p:cNvPicPr/>
          <p:nvPr/>
        </p:nvPicPr>
        <p:blipFill>
          <a:blip r:embed="rId1"/>
          <a:stretch/>
        </p:blipFill>
        <p:spPr>
          <a:xfrm>
            <a:off x="250920" y="260280"/>
            <a:ext cx="4897440" cy="4051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06-18_rus-swe_SM_22"/>
          <p:cNvPicPr/>
          <p:nvPr/>
        </p:nvPicPr>
        <p:blipFill>
          <a:blip r:embed="rId2"/>
          <a:stretch/>
        </p:blipFill>
        <p:spPr>
          <a:xfrm>
            <a:off x="5462640" y="907920"/>
            <a:ext cx="341784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– Голландия.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т матч стал, несомненно, лучшим футболом в исполнении сборной России за последние 20 лет. Встреча закончилась со счетом 3:1 в пользу России. Голы забили Павлюченко, Аршавин и Торбинский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716360" y="188640"/>
            <a:ext cx="41148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олланд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94" name="Picture 4" descr="1214164674_485e73b1cbca5"/>
          <p:cNvPicPr/>
          <p:nvPr/>
        </p:nvPicPr>
        <p:blipFill>
          <a:blip r:embed="rId1"/>
          <a:stretch/>
        </p:blipFill>
        <p:spPr>
          <a:xfrm>
            <a:off x="250920" y="260280"/>
            <a:ext cx="4270320" cy="5905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1214164736_485e74059d6e1"/>
          <p:cNvPicPr/>
          <p:nvPr/>
        </p:nvPicPr>
        <p:blipFill>
          <a:blip r:embed="rId2"/>
          <a:stretch/>
        </p:blipFill>
        <p:spPr>
          <a:xfrm>
            <a:off x="4711680" y="1052640"/>
            <a:ext cx="44323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4076280"/>
            <a:ext cx="3970080" cy="11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олланд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97" name="Picture 4" descr="1214164800_485e7542b1196"/>
          <p:cNvPicPr/>
          <p:nvPr/>
        </p:nvPicPr>
        <p:blipFill>
          <a:blip r:embed="rId1"/>
          <a:stretch/>
        </p:blipFill>
        <p:spPr>
          <a:xfrm>
            <a:off x="179280" y="189000"/>
            <a:ext cx="5329440" cy="3382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1214164748_485e73b1bf848"/>
          <p:cNvPicPr/>
          <p:nvPr/>
        </p:nvPicPr>
        <p:blipFill>
          <a:blip r:embed="rId2"/>
          <a:stretch/>
        </p:blipFill>
        <p:spPr>
          <a:xfrm>
            <a:off x="5327640" y="1557360"/>
            <a:ext cx="351648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788000" y="158400"/>
            <a:ext cx="38988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олланд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200" name="Picture 4" descr="1214164795_485e7542b86ff"/>
          <p:cNvPicPr/>
          <p:nvPr/>
        </p:nvPicPr>
        <p:blipFill>
          <a:blip r:embed="rId1"/>
          <a:stretch/>
        </p:blipFill>
        <p:spPr>
          <a:xfrm>
            <a:off x="179280" y="189000"/>
            <a:ext cx="4278600" cy="5616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1214164831_485e761c93941"/>
          <p:cNvPicPr/>
          <p:nvPr/>
        </p:nvPicPr>
        <p:blipFill>
          <a:blip r:embed="rId2"/>
          <a:stretch/>
        </p:blipFill>
        <p:spPr>
          <a:xfrm>
            <a:off x="4903920" y="981000"/>
            <a:ext cx="404496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f2d9"/>
                </a:solidFill>
                <a:latin typeface="Arial"/>
              </a:rPr>
              <a:t>По итогам этого турнира Россия получила бронзовые медали. </a:t>
            </a: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203" name="Picture 4" descr="26907779_1213119785_AP080610014542"/>
          <p:cNvPicPr/>
          <p:nvPr/>
        </p:nvPicPr>
        <p:blipFill>
          <a:blip r:embed="rId1"/>
          <a:stretch/>
        </p:blipFill>
        <p:spPr>
          <a:xfrm>
            <a:off x="826920" y="1484280"/>
            <a:ext cx="78487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f2d9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000" y="188640"/>
            <a:ext cx="793116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Хочу поблагодарить все футболистов сборной России за такой праздник, и пусть они так же радуют своих болельщик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4" descr="06-14_gre-rus_SA_13"/>
          <p:cNvPicPr/>
          <p:nvPr/>
        </p:nvPicPr>
        <p:blipFill>
          <a:blip r:embed="rId1"/>
          <a:stretch/>
        </p:blipFill>
        <p:spPr>
          <a:xfrm>
            <a:off x="1187280" y="1557360"/>
            <a:ext cx="72723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Футбол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орная России на чемпионате Европы 2008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4" descr="1213609735_football_russia_grecia"/>
          <p:cNvPicPr/>
          <p:nvPr/>
        </p:nvPicPr>
        <p:blipFill>
          <a:blip r:embed="rId2"/>
          <a:stretch/>
        </p:blipFill>
        <p:spPr>
          <a:xfrm>
            <a:off x="5000760" y="1600200"/>
            <a:ext cx="3333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– Испания.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Евро 2008 наша сборная играла с Испанцами два матча. Оба матча мы проиграли. Первую встречу со счетом 1:4, вторую 0:3. Следует заметить что Испанцы стали чемпионами этого турнир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41920" y="333000"/>
            <a:ext cx="4222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- Испания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68" name="Picture 4" descr="26907781_1213119800_AP080610014609"/>
          <p:cNvPicPr/>
          <p:nvPr/>
        </p:nvPicPr>
        <p:blipFill>
          <a:blip r:embed="rId1"/>
          <a:stretch/>
        </p:blipFill>
        <p:spPr>
          <a:xfrm>
            <a:off x="179280" y="189000"/>
            <a:ext cx="4392720" cy="3136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26907793_1213119825_AP080610014799"/>
          <p:cNvPicPr/>
          <p:nvPr/>
        </p:nvPicPr>
        <p:blipFill>
          <a:blip r:embed="rId2"/>
          <a:stretch/>
        </p:blipFill>
        <p:spPr>
          <a:xfrm>
            <a:off x="4356000" y="3624120"/>
            <a:ext cx="449100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3640" y="333360"/>
            <a:ext cx="39592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- Испания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71" name="Picture 8" descr="26907814_1213119933_AP080610016315"/>
          <p:cNvPicPr/>
          <p:nvPr/>
        </p:nvPicPr>
        <p:blipFill>
          <a:blip r:embed="rId1"/>
          <a:stretch/>
        </p:blipFill>
        <p:spPr>
          <a:xfrm>
            <a:off x="179280" y="189000"/>
            <a:ext cx="4537080" cy="3416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26907795_1213119838_AP080610014955"/>
          <p:cNvPicPr/>
          <p:nvPr/>
        </p:nvPicPr>
        <p:blipFill>
          <a:blip r:embed="rId2"/>
          <a:stretch/>
        </p:blipFill>
        <p:spPr>
          <a:xfrm>
            <a:off x="4716360" y="3668760"/>
            <a:ext cx="442764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- Греция  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99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Эту встречу с греками мы выиграли со счетом 1:0. Главным героем встречи стал Константин Зырянов, который пушечным ударом забил гол. Следует отметить и Семака, который дал Константину пас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4" descr="06-14_gre-rus_MEL_17"/>
          <p:cNvPicPr/>
          <p:nvPr/>
        </p:nvPicPr>
        <p:blipFill>
          <a:blip r:embed="rId2"/>
          <a:stretch/>
        </p:blipFill>
        <p:spPr>
          <a:xfrm>
            <a:off x="3924360" y="1557360"/>
            <a:ext cx="504036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3280" y="158760"/>
            <a:ext cx="3816360" cy="15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р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77" name="Picture 7" descr="06-14_gre-rus_SA_17"/>
          <p:cNvPicPr/>
          <p:nvPr/>
        </p:nvPicPr>
        <p:blipFill>
          <a:blip r:embed="rId1"/>
          <a:stretch/>
        </p:blipFill>
        <p:spPr>
          <a:xfrm>
            <a:off x="5078520" y="2205000"/>
            <a:ext cx="3813120" cy="4464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06-14_gre-rus_MEL_22"/>
          <p:cNvPicPr/>
          <p:nvPr/>
        </p:nvPicPr>
        <p:blipFill>
          <a:blip r:embed="rId2"/>
          <a:stretch/>
        </p:blipFill>
        <p:spPr>
          <a:xfrm>
            <a:off x="179280" y="0"/>
            <a:ext cx="44244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40000" y="158760"/>
            <a:ext cx="454644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р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80" name="Picture 4" descr="06-14_gre-rus_SA_25"/>
          <p:cNvPicPr/>
          <p:nvPr/>
        </p:nvPicPr>
        <p:blipFill>
          <a:blip r:embed="rId1"/>
          <a:stretch/>
        </p:blipFill>
        <p:spPr>
          <a:xfrm>
            <a:off x="250920" y="189000"/>
            <a:ext cx="3695760" cy="3816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06-14_gre-rus_SA_33"/>
          <p:cNvPicPr/>
          <p:nvPr/>
        </p:nvPicPr>
        <p:blipFill>
          <a:blip r:embed="rId2"/>
          <a:stretch/>
        </p:blipFill>
        <p:spPr>
          <a:xfrm>
            <a:off x="4067280" y="3332160"/>
            <a:ext cx="4929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– Швеция.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этом матче Россия обыграла шведов со счетом 2:0. Голы забили Аршавин и Павлюченко. Также стоит выделить Игнашевича, который удачно сыграл против главного бамбордира сборной Швеции Ибрагимовича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4" descr="06-18_rus-swe_SM_18"/>
          <p:cNvPicPr/>
          <p:nvPr/>
        </p:nvPicPr>
        <p:blipFill>
          <a:blip r:embed="rId2"/>
          <a:stretch/>
        </p:blipFill>
        <p:spPr>
          <a:xfrm>
            <a:off x="4211640" y="1628640"/>
            <a:ext cx="460836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3:13:56Z</dcterms:created>
  <dc:creator>USER</dc:creator>
  <dc:description/>
  <dc:language>en-US</dc:language>
  <cp:lastModifiedBy>Ирина Петровна</cp:lastModifiedBy>
  <dcterms:modified xsi:type="dcterms:W3CDTF">2009-08-17T15:14:46Z</dcterms:modified>
  <cp:revision>4</cp:revision>
  <dc:subject/>
  <dc:title>Слайд 1</dc:title>
</cp:coreProperties>
</file>