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05920-C17A-4D01-BC7E-8AAB23014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0F96A-4E13-4FDB-A241-71A03A1D8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4A21E-4B6E-4E9A-95A7-803D5FF72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BA259-548D-4286-9D3C-E1D917DD2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B299C-4107-4420-AF36-58F6F276A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08BE6-7351-47F3-9165-88EBDA22A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0CED4-C539-4FE9-A5E3-F886B77EA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D67F1-9528-4430-BB53-70A1AF54E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BF787-C122-4477-9865-41DBCA289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80A9A-E853-4BD9-8633-BF03C252F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B49CD-BFBD-436F-AC0D-9DECB9312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C144D-FA57-4441-9A43-DEF81A55D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32226-219E-431D-BF19-F837BA4E0FF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42" name="Picture 29" descr="Изображение 001"/>
          <p:cNvPicPr/>
          <p:nvPr/>
        </p:nvPicPr>
        <p:blipFill>
          <a:blip r:embed="rId1"/>
          <a:stretch/>
        </p:blipFill>
        <p:spPr>
          <a:xfrm>
            <a:off x="779400" y="1600200"/>
            <a:ext cx="3394080" cy="4525920"/>
          </a:xfrm>
          <a:prstGeom prst="rect">
            <a:avLst/>
          </a:prstGeom>
          <a:ln w="0">
            <a:noFill/>
          </a:ln>
        </p:spPr>
      </p:pic>
      <p:sp>
        <p:nvSpPr>
          <p:cNvPr id="4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ня зовут Косулина Валентина Михайловна, родилась в городе Йошкар-Ола 29 июля 1999 года. Я ходила в 41садик «Василинка». В 6 лет я занималась спортивной гимнастикой.  Я ученица 3 класса «а».Во втором классе я вышла за год отличница.       </a:t>
            </a:r>
            <a:endParaRPr b="0" lang="en-US" sz="2400" spc="-1" strike="noStrike">
              <a:solidFill>
                <a:srgbClr val="000000"/>
              </a:solidFill>
              <a:latin typeface="Arial"/>
            </a:endParaRPr>
          </a:p>
        </p:txBody>
      </p:sp>
      <p:sp>
        <p:nvSpPr>
          <p:cNvPr id="44" name="AutoShape 30"/>
          <p:cNvSpPr/>
          <p:nvPr/>
        </p:nvSpPr>
        <p:spPr>
          <a:xfrm>
            <a:off x="1447920" y="457200"/>
            <a:ext cx="990360" cy="914400"/>
          </a:xfrm>
          <a:prstGeom prst="smileyFace">
            <a:avLst>
              <a:gd name="adj" fmla="val 9282"/>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WordArt 32"/>
          <p:cNvSpPr txBox="1"/>
          <p:nvPr/>
        </p:nvSpPr>
        <p:spPr>
          <a:xfrm>
            <a:off x="3352680" y="380880"/>
            <a:ext cx="3114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автобиография</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28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удожественной гимнастикой занимаются только девочки. Это самый женственный вид спорта. Какое удовольствие доставляет смотреть на совершенные движения юных Афродит!</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Picture 7" descr="art"/>
          <p:cNvPicPr/>
          <p:nvPr/>
        </p:nvPicPr>
        <p:blipFill>
          <a:blip r:embed="rId1"/>
          <a:stretch/>
        </p:blipFill>
        <p:spPr>
          <a:xfrm>
            <a:off x="5486400" y="1674720"/>
            <a:ext cx="3200400" cy="4041720"/>
          </a:xfrm>
          <a:prstGeom prst="rect">
            <a:avLst/>
          </a:prstGeom>
          <a:ln w="0">
            <a:noFill/>
          </a:ln>
        </p:spPr>
      </p:pic>
      <p:sp>
        <p:nvSpPr>
          <p:cNvPr id="76" name="AutoShape 8"/>
          <p:cNvSpPr/>
          <p:nvPr/>
        </p:nvSpPr>
        <p:spPr>
          <a:xfrm>
            <a:off x="685800" y="457200"/>
            <a:ext cx="762120" cy="76212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128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Художественная  гимнастика включает упражнение без предмета и упражнение с предметом (обручем, скакалкой, мячом, булавами, лентой). Предметами девочки «художницы» должны владеть в совершенстве; иной жонглер не сможет так высоко подбрасывать мяч или обруч и так ловко их ловить. Художественная гимнастика стала олимпийским видом сравнительно недавно — в 1984 году. Среди олимпийских чемпионок немало россиянок — Марина Лобач, Александра Тимошенко, Юлия Барсукова.</a:t>
            </a:r>
            <a:endParaRPr b="0" lang="en-US" sz="1400" spc="-1" strike="noStrike">
              <a:solidFill>
                <a:srgbClr val="000000"/>
              </a:solidFill>
              <a:latin typeface="Arial"/>
            </a:endParaRPr>
          </a:p>
        </p:txBody>
      </p:sp>
      <p:pic>
        <p:nvPicPr>
          <p:cNvPr id="78" name="Picture 33" descr="oter_gymnast4"/>
          <p:cNvPicPr/>
          <p:nvPr/>
        </p:nvPicPr>
        <p:blipFill>
          <a:blip r:embed="rId1"/>
          <a:stretch/>
        </p:blipFill>
        <p:spPr>
          <a:xfrm>
            <a:off x="457200" y="2441520"/>
            <a:ext cx="4038480" cy="2841840"/>
          </a:xfrm>
          <a:prstGeom prst="rect">
            <a:avLst/>
          </a:prstGeom>
          <a:ln w="0">
            <a:noFill/>
          </a:ln>
        </p:spPr>
      </p:pic>
      <p:sp>
        <p:nvSpPr>
          <p:cNvPr id="79" name="AutoShape 34"/>
          <p:cNvSpPr/>
          <p:nvPr/>
        </p:nvSpPr>
        <p:spPr>
          <a:xfrm>
            <a:off x="990720" y="457200"/>
            <a:ext cx="761760" cy="76212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28195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удожественная гимнастика: Сесина - победительница этапа Гран-при в Берлине Россиянка Вера Сесина получила лучшую сумму баллов в многоборье на этапе Гран-при по художественной гимнастике, который проходит в Берлине. 12 октября 2008, 03:37 Художественная гимнастика: Канаева – победительница</a:t>
            </a:r>
            <a:endParaRPr b="0" lang="en-US" sz="2400" spc="-1" strike="noStrike">
              <a:solidFill>
                <a:srgbClr val="000000"/>
              </a:solidFill>
              <a:latin typeface="Arial"/>
            </a:endParaRPr>
          </a:p>
        </p:txBody>
      </p:sp>
      <p:sp>
        <p:nvSpPr>
          <p:cNvPr id="81" name="Rectangle 4"/>
          <p:cNvSpPr/>
          <p:nvPr/>
        </p:nvSpPr>
        <p:spPr>
          <a:xfrm>
            <a:off x="609480" y="2895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2437920" y="1600200"/>
            <a:ext cx="403884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удожественная гимнастика: Канаева – победительница финала Кубка мира Олимпийская чемпионка-2008 россиянка Евгения Канаева стала победительницей соревнований с булавами на проходящем в испанском Бенидорме финале Кубка мира по художественной гимнастике. 5 октября 2008, 23:23</a:t>
            </a:r>
            <a:endParaRPr b="0" lang="en-US" sz="2000" spc="-1" strike="noStrike">
              <a:solidFill>
                <a:srgbClr val="000000"/>
              </a:solidFill>
              <a:latin typeface="Arial"/>
            </a:endParaRPr>
          </a:p>
        </p:txBody>
      </p:sp>
    </p:spTree>
  </p:cSld>
  <p:transition advTm="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666520" y="1523880"/>
            <a:ext cx="403884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анаева выиграла финал Кубка мира в упражнении с обручем Олимпийская чемпионка-2008 в многоборье россиянка Евгения Канаева стала победительницей в упражнении с обручем в финале Кубка мира по художественной гимнастике, который проходит в испанском Бенидорме. 5 октября 2008, 03:09</a:t>
            </a:r>
            <a:endParaRPr b="0" lang="en-US" sz="2400" spc="-1" strike="noStrike">
              <a:solidFill>
                <a:srgbClr val="000000"/>
              </a:solidFill>
              <a:latin typeface="Arial"/>
            </a:endParaRPr>
          </a:p>
        </p:txBody>
      </p:sp>
    </p:spTree>
  </p:cSld>
  <p:transition advTm="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кин-2008: Гимнастки принесли России 22-е золото Сборная России по художественной гимнастике стала победителем Олимпиады в групповых упражнениях. 24 августа 2008, 13:20</a:t>
            </a:r>
            <a:endParaRPr b="0" lang="en-US" sz="2800" spc="-1" strike="noStrike">
              <a:solidFill>
                <a:srgbClr val="000000"/>
              </a:solidFill>
              <a:latin typeface="Arial"/>
            </a:endParaRPr>
          </a:p>
        </p:txBody>
      </p:sp>
    </p:spTree>
  </p:cSld>
  <p:transition advTm="0">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2743200" y="152388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Канаева принесла России двадцатое золото Россиянка Евгения Канаева стала олимпийской чемпионкой по художественной гимнастике в личном первенстве, более чем на 3,5 балла опередив ближайшую соперницу - Инну Жукову из Белоруссии. 23 августа 2008, 16:26</a:t>
            </a:r>
            <a:endParaRPr b="0" lang="en-US" sz="2400" spc="-1" strike="noStrike">
              <a:solidFill>
                <a:srgbClr val="000000"/>
              </a:solidFill>
              <a:latin typeface="Arial"/>
            </a:endParaRPr>
          </a:p>
        </p:txBody>
      </p:sp>
    </p:spTree>
  </p:cSld>
  <p:transition advTm="0">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2437920" y="160020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Канаева выиграла четыре золота в Иркутске Россиянка Евгения Канаева выиграла во всех четырех упражнениях на этапе Кубка мира в Иркутске.</a:t>
            </a:r>
            <a:endParaRPr b="0" lang="en-US" sz="2800" spc="-1" strike="noStrike">
              <a:solidFill>
                <a:srgbClr val="000000"/>
              </a:solidFill>
              <a:latin typeface="Arial"/>
            </a:endParaRPr>
          </a:p>
        </p:txBody>
      </p:sp>
    </p:spTree>
  </p:cSld>
  <p:transition advTm="0">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895120" y="1600200"/>
            <a:ext cx="403884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6 июля 2008, 18:33 Пекин-2008: Посевина осталась в спорте ради Олимпиады Самый опытный член сборной России по художественной гимнастике в групповых упражнениях Елена Посевина объяснила, почему не завершила карьеру после победы на афинской Олимпиаде. 26 июля 2008, 01:08</a:t>
            </a:r>
            <a:endParaRPr b="0" lang="en-US" sz="2400" spc="-1" strike="noStrike">
              <a:solidFill>
                <a:srgbClr val="000000"/>
              </a:solidFill>
              <a:latin typeface="Arial"/>
            </a:endParaRPr>
          </a:p>
        </p:txBody>
      </p:sp>
    </p:spTree>
  </p:cSld>
  <p:transition advTm="0">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Мысль об Олимпиаде греет и страшит, заявила Иваницкая Главный тренер сборной России по художественной гимнастике в командном многоборье Валентина Иваницкая с волнением готовится к предстоящей Олимпиаде, на которой все будут ждать от ее подопечных медали. 25 июля 2008, 22:04</a:t>
            </a:r>
            <a:endParaRPr b="0" lang="en-US" sz="2400" spc="-1" strike="noStrike">
              <a:solidFill>
                <a:srgbClr val="000000"/>
              </a:solidFill>
              <a:latin typeface="Arial"/>
            </a:endParaRPr>
          </a:p>
        </p:txBody>
      </p:sp>
    </p:spTree>
  </p:cSld>
  <p:transition advTm="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здел 1.</a:t>
            </a:r>
            <a:endParaRPr b="0" lang="en-US" sz="4400" spc="-1" strike="noStrike">
              <a:solidFill>
                <a:srgbClr val="000000"/>
              </a:solidFill>
              <a:latin typeface="Arial"/>
            </a:endParaRPr>
          </a:p>
        </p:txBody>
      </p:sp>
      <p:sp>
        <p:nvSpPr>
          <p:cNvPr id="47" name="WordArt 7"/>
          <p:cNvSpPr txBox="1"/>
          <p:nvPr/>
        </p:nvSpPr>
        <p:spPr>
          <a:xfrm>
            <a:off x="914400" y="3168720"/>
            <a:ext cx="7696080" cy="1631880"/>
          </a:xfrm>
          <a:prstGeom prst="rect">
            <a:avLst/>
          </a:prstGeom>
        </p:spPr>
        <p:txBody>
          <a:bodyPr wrap="none" lIns="90000" rIns="90000" tIns="46800" bIns="46800" anchor="t" anchorCtr="1">
            <a:prstTxWarp prst="textPlain">
              <a:avLst>
                <a:gd name="adj" fmla="val 505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везды   художественной  гимнастик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ransition advTm="0">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Винер сделала выбор в пользу Капрановой Чемпионка мира-2005 Ольга Капранова выступит вместе с Евгенией Канаевой в многоборье на олимпийском турнире по художественной гимнастике. 25 июля 2008, 17:38</a:t>
            </a:r>
            <a:endParaRPr b="0" lang="en-US" sz="2400" spc="-1" strike="noStrike">
              <a:solidFill>
                <a:srgbClr val="000000"/>
              </a:solidFill>
              <a:latin typeface="Arial"/>
            </a:endParaRPr>
          </a:p>
        </p:txBody>
      </p:sp>
    </p:spTree>
  </p:cSld>
  <p:transition advTm="0">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удожественная гимнастика как вид спорта для женщин формировалась в течение многих лет. Значительный вклад в научное обоснование физического воспитания девушек внес французский физиолог и педагог Жорж Демени. Он доказал целесообразность применения динамических упражнений, упражнений на растягивание и расслабление мышц, танцевальных шагов, упражнений с предметами (булавами, палками, венками и др.), способствующих приобретению гибкости, ловкости, хорошей осанки, умению двигаться плавно и грациозно. Большая заслуга в разработке теории выразительного двигательного навыка принадлежит другому, французскому педагогу — Франсуа Дельсарту. Изучая драматическое искусство, он пришел к выводу, что каждое переживание человека сопровождается определенными движениями тела, а, следовательно, путем воспроизведения движений можно создать у зрителя впечатление переживаний. Созданная Дельсартом «Грамматика художественного жеста» стала применяться в физическом воспитании, особенно при подготовке массовых гимнастических выступлений, исполняемых с музыкальным сопровождением. Идеи и принципы, разработанные Дельсартом, нашли свое воплощение в искусстве знаменитой танцовщицы Айседоры Дункан. Ее танцы, импровизации, построенные на движениях свободной пластики, во многом напоминают современную художественную гимнастику. Наряду с гимнастикой выразительных движений в конце 19 начале 20 в. широкое распространение получает ритмическая гимнастика, одним из создателей которой был профессор Женевской консерватории Жак Далькроз. Он разработал три группы упражнений: ритмические движения, упражнения для тренировки слуха и импровизированные действия, которые воспитывали у занимающихся музыкальность и слух. Вначале ритмическая гимнастика была средством воспитания музыкантов и артистов, позднее стала применяться в области физического воспитан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p:txBody>
      </p:sp>
    </p:spTree>
  </p:cSld>
  <p:transition advTm="0">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92" name="Rectangle 6"/>
          <p:cNvSpPr/>
          <p:nvPr/>
        </p:nvSpPr>
        <p:spPr>
          <a:xfrm>
            <a:off x="228600" y="1905120"/>
            <a:ext cx="86868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стемы Ж. Демени, Ф. Дельсарта, Ж. Далькро и их продолжателей оказали значительное влияние на возникновение и развитие ритмо-пластических школ «женской гимнастики» в дореволюционной России. В СССР женская художественная гимнастика сразу же получила широкое распространение. В 1923 была создана «Студия пластического движения», руководимая 3. Д. Вербовой. Программа обучения в студии включала ритмическую гимнастику и сольфеджио по Ж. Далькрозу, пластику, гимнастику, акробатику, элементы хореографии, композицию вольных упражнений, анатомию. Студия готовила преподавателей физического воспитания для средних школ и техникумов.</a:t>
            </a:r>
            <a:endParaRPr b="0" lang="en-US" sz="2000" spc="-1" strike="noStrike">
              <a:solidFill>
                <a:srgbClr val="000000"/>
              </a:solidFill>
              <a:latin typeface="Arial"/>
            </a:endParaRPr>
          </a:p>
        </p:txBody>
      </p:sp>
    </p:spTree>
  </p:cSld>
  <p:transition advTm="0">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подготовки специалистов высокой квалификации в Институте физической Культуры в Москве в 1934 была создана кафедра художественного движения и акробатики, руководимая М.Т. Окуневым. В этом же году в Ленинграде при Институте физической культуры им. Лесгафта создается первая всесоюзная школа художественного движения. Историю советской гимнастики как полноценного вида спорта можно условно поделить на два периода. Первый период (1947-1963) характеризуется формированием художественной гимнастики как средства физического воспитания женщин, созданием советской школы художественной гимнастики. Первые соревнования проводились в виде смотров-конкурсов (Таллин в 1947, Тбилиси в 1948), а в 1949 состоялось первое лично-командное первенство страны. В 1950 была опубликована спортивная классификация, которая сыграла большую роль в дальнейшем развитии художественной гимнастики. Единая программа и нормативные требования для гимнасток различных разрядов конкретизировали содержание и организацию учебной работы на местах. Программа для мастеров спорта, введенная в 1954, способствовала развитию художественной гимнастики и росту спортивно-технических достижений. С 1963 начинается второй период развития художественной гимнастики в СССР. В этом же году создается техническая комиссия по художественной гимнастике при женском техническом комитете Международной федерации гимнастики. С этого периода советские гимнастки регулярно участвуют в международных соревнованиях, включая чемпионаты мира (с 1963) и Европы (с 1978).</a:t>
            </a:r>
            <a:endParaRPr b="0" lang="en-US" sz="1600" spc="-1" strike="noStrike">
              <a:solidFill>
                <a:srgbClr val="000000"/>
              </a:solidFill>
              <a:latin typeface="Arial"/>
            </a:endParaRPr>
          </a:p>
        </p:txBody>
      </p:sp>
    </p:spTree>
  </p:cSld>
  <p:transition advTm="0">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удожественная гимнастика завоевывает все большую популярность во всем мире. Закономерным итогом этого является включение художественной гимнастики в программу Олимпийских игр в Лос-Анджелесе (1984). Программа I конкурса (1947) состояла из произвольных композиций. Судейство осуществляло жюри конкурса. На II конкурсе (1948) гимнастки выполняли обязательное упражнение без предмета с элементами акробатики и произвольное с предметом. Зачет был только командный, без определения личного первенства. Программа первого лично-командного первенства страны (1949) была более прогрессивной и состояла из четырехборья. Существенное значение для развития вида спорта имело введение Единой классификации. Для всех разрядов программа состояла из обязательного упражнения без предмета, с предметом (по жребию), упражнения с элементами акробатики, гимнастического прыжка (в младших разрядах — с мостика, в старших — с трамплина), кроме того, в I разряде и разряде мастеров спорта — произвольного упражнения без предмета и с любым предметом. Из последующих классификационных программ были исключены гимнастический прыжок во всех разрядах, упражнения с элементами акробатики у мастеров спорта и кандидатов в мастера спорта. Больший вес приобрели упражнения с предметами в произвольной интерпретации. С 1967 программа мастеров спорта максимально приблизилась к международной: были введены групповые упражнения с предметами, определены виды предметов (скакалка, мяч, обруч, лента, булавы). Одновременно с программой совершенствовались правила соревнований. Они определили виды и правила проведения соревнований, основные требования к композиции и исполнительскому мастерству гимнасток в индивидуальных и групповых упражнениях. В правилах 1955 у мастеров спорта предусматривалось 4 элемента I группы трудности, в 1967 — 6 в упражнении без предмета и 5 с предметом, в 1977 их было уже 8, 3 из которых, должны были выполняться левой рукой. Параллельно усложнялась расценочная таблица элементов и соединений, дифференцировались сбавки за возможные ошибки, уточнялась их градация.</a:t>
            </a:r>
            <a:endParaRPr b="0" lang="en-US" sz="1400" spc="-1" strike="noStrike">
              <a:solidFill>
                <a:srgbClr val="000000"/>
              </a:solidFill>
              <a:latin typeface="Arial"/>
            </a:endParaRPr>
          </a:p>
        </p:txBody>
      </p:sp>
    </p:spTree>
  </p:cSld>
  <p:transition advTm="0">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1941 в Ленинграде состоялся первый чемпионат города, где победила Ю. Шишкарева, спустя шесть лет в Таллине прошел I Всесоюзный конкурс, а в 1949 в Киеве — первый чемпионат СССР. Командное первенство выиграли москвички, абсолютной чемпионкой СССР стала Л. Денисова. С 1955 лучшие советские гимнастки стали регулярно выезжать за рубеж с показательными выступлениями. В 1960 в Софии прошла первая официальная международная встреча сборных СССР, Болгарии и Чехословакии. В ноябре 1963 была создана Федерация художественной гимнастики СССР. В том же году в Будапеште состоялся первый чемпионат мира. Титул абсолютной чемпионки завоевала москвичка Людмила Савенкова. Две золотые медали в отдельных видах многоборья на чемпионате мира 1969 в Варне, завоевала Галима Шугурова. Четыре раза она становилась абсолютной чемпионкой СССР (1970, 1972, 1973, 1978). А в 1978 была провозглашена первой абсолютной чемпионкой Европы. В 1977 появилась новая королева мировой гимнастики Ирина Дерюгина — пятикратная абсолютная чемпионка СССР, обладательница Кубка СССР (1975-1979), неоднократная чемпионка мира и Европы в отдельных упражнениях. В 1979 году на чемпионате мира в Лондоне Ирина Дерюгина стала победительницей в многоборье. А серебряным призером в многоборье и чемпионкой мира в упражнение с лентой стала Елена Томас. Она же стала абсолютной чемпионкой СССР в 1980году.  В 1982 году абсолютной чемпионкой Европы стала Даля Куткайте. Абсолютной чемпионкой СССР в 1981 году стала Ирина Девина, а в 1985-1986 гг. Галина  Белоглазова.</a:t>
            </a:r>
            <a:endParaRPr b="0" lang="en-US" sz="1600" spc="-1" strike="noStrike">
              <a:solidFill>
                <a:srgbClr val="000000"/>
              </a:solidFill>
              <a:latin typeface="Arial"/>
            </a:endParaRPr>
          </a:p>
        </p:txBody>
      </p:sp>
    </p:spTree>
  </p:cSld>
  <p:transition advTm="0">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лимпийский дебют художественной гимнастики состоялся лишь в 1984 в Лос-Анджелесе. Чемпионкой стала канадка Лори Фанг, а главные соперницы — советские и болгарские спортсменки, из-за бойкота этой Олимпиады социалистическими странами, не принимали в ней участия. Во всех последующих Играх побеждали славянки. На Олимпиаде в Сеуле (1988) чемпионкой стала Марина Лобач из Белоруссии, в Барселоне (1992) — Алаксандра Тимошенко, в Атланте (1996) — Елена Серебрянская (спортсменки из Украины). В Сиднее (2000) олимпийской чемпионкой стала Юлия Барсукова из России. Бронзу завоевала трехкратная абсолютная чемпионка Европы (1998, 1999, 2000) и абсолютная чемпионка мира (1999) — Алина Кабаева. На чемпионате мира в Мадриде (2001) Алина Кабаева также получила высшую оценку в большинстве дисциплин. На Олимпиаде 2004 года в Афинах золото завоевала Алина Кабаева, серебряная медаль у Ирины Чащиной, бронза у Анны Бессоновой (Украина) Источник: KM.RU</a:t>
            </a:r>
            <a:endParaRPr b="0" lang="en-US" sz="2000" spc="-1" strike="noStrike">
              <a:solidFill>
                <a:srgbClr val="000000"/>
              </a:solidFill>
              <a:latin typeface="Arial"/>
            </a:endParaRPr>
          </a:p>
        </p:txBody>
      </p:sp>
    </p:spTree>
  </p:cSld>
  <p:transition advTm="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0" descr="kabaeva"/>
          <p:cNvPicPr/>
          <p:nvPr/>
        </p:nvPicPr>
        <p:blipFill>
          <a:blip r:embed="rId1"/>
          <a:stretch/>
        </p:blipFill>
        <p:spPr>
          <a:xfrm>
            <a:off x="727200" y="1600200"/>
            <a:ext cx="3497040" cy="4525920"/>
          </a:xfrm>
          <a:prstGeom prst="rect">
            <a:avLst/>
          </a:prstGeom>
          <a:ln w="0">
            <a:noFill/>
          </a:ln>
        </p:spPr>
      </p:pic>
      <p:sp>
        <p:nvSpPr>
          <p:cNvPr id="49"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везда не только российской, но и мировой художественной гимнастики. Грациозность, феноменальная гибкость, отточенная техника, артистичность -вот составляющие её успеха.    </a:t>
            </a:r>
            <a:endParaRPr b="0" lang="en-US" sz="2400" spc="-1" strike="noStrike">
              <a:solidFill>
                <a:srgbClr val="000000"/>
              </a:solidFill>
              <a:latin typeface="Arial"/>
            </a:endParaRPr>
          </a:p>
        </p:txBody>
      </p:sp>
      <p:sp>
        <p:nvSpPr>
          <p:cNvPr id="50" name="AutoShape 13"/>
          <p:cNvSpPr/>
          <p:nvPr/>
        </p:nvSpPr>
        <p:spPr>
          <a:xfrm>
            <a:off x="1066680" y="304920"/>
            <a:ext cx="990720" cy="914400"/>
          </a:xfrm>
          <a:custGeom>
            <a:avLst/>
            <a:gdLst>
              <a:gd name="textAreaLeft" fmla="*/ 306000 w 990720"/>
              <a:gd name="textAreaRight" fmla="*/ 684720 w 990720"/>
              <a:gd name="textAreaTop" fmla="*/ 349200 h 914400"/>
              <a:gd name="textAreaBottom" fmla="*/ 698760 h 914400"/>
            </a:gdLst>
            <a:ahLst/>
            <a:rect l="textAreaLeft" t="textAreaTop" r="textAreaRight" b="textAreaBottom"/>
            <a:pathLst>
              <a:path w="990600" h="914400">
                <a:moveTo>
                  <a:pt x="1" y="349269"/>
                </a:moveTo>
                <a:lnTo>
                  <a:pt x="378378" y="349271"/>
                </a:lnTo>
                <a:lnTo>
                  <a:pt x="495300" y="0"/>
                </a:lnTo>
                <a:lnTo>
                  <a:pt x="612222" y="349271"/>
                </a:lnTo>
                <a:lnTo>
                  <a:pt x="990599" y="349269"/>
                </a:lnTo>
                <a:lnTo>
                  <a:pt x="684485" y="565127"/>
                </a:lnTo>
                <a:lnTo>
                  <a:pt x="801413" y="914397"/>
                </a:lnTo>
                <a:lnTo>
                  <a:pt x="495300" y="698535"/>
                </a:lnTo>
                <a:lnTo>
                  <a:pt x="189187" y="914397"/>
                </a:lnTo>
                <a:lnTo>
                  <a:pt x="306115" y="565127"/>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WordArt 14"/>
          <p:cNvSpPr txBox="1"/>
          <p:nvPr/>
        </p:nvSpPr>
        <p:spPr>
          <a:xfrm>
            <a:off x="2743200" y="76320"/>
            <a:ext cx="380988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Алина    Кабаева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AutoShape 12"/>
          <p:cNvSpPr/>
          <p:nvPr/>
        </p:nvSpPr>
        <p:spPr>
          <a:xfrm>
            <a:off x="914400" y="457200"/>
            <a:ext cx="762120" cy="838080"/>
          </a:xfrm>
          <a:custGeom>
            <a:avLst/>
            <a:gdLst>
              <a:gd name="textAreaLeft" fmla="*/ 235440 w 762120"/>
              <a:gd name="textAreaRight" fmla="*/ 526680 w 762120"/>
              <a:gd name="textAreaTop" fmla="*/ 320040 h 838080"/>
              <a:gd name="textAreaBottom" fmla="*/ 640440 h 838080"/>
            </a:gdLst>
            <a:ahLst/>
            <a:rect l="textAreaLeft" t="textAreaTop" r="textAreaRight" b="textAreaBottom"/>
            <a:pathLst>
              <a:path w="762000" h="838200">
                <a:moveTo>
                  <a:pt x="1" y="320163"/>
                </a:moveTo>
                <a:lnTo>
                  <a:pt x="291060" y="320165"/>
                </a:lnTo>
                <a:lnTo>
                  <a:pt x="381000" y="0"/>
                </a:lnTo>
                <a:lnTo>
                  <a:pt x="470940" y="320165"/>
                </a:lnTo>
                <a:lnTo>
                  <a:pt x="761999" y="320163"/>
                </a:lnTo>
                <a:lnTo>
                  <a:pt x="526527" y="518034"/>
                </a:lnTo>
                <a:lnTo>
                  <a:pt x="616471" y="838197"/>
                </a:lnTo>
                <a:lnTo>
                  <a:pt x="381000" y="640323"/>
                </a:lnTo>
                <a:lnTo>
                  <a:pt x="145529" y="838197"/>
                </a:lnTo>
                <a:lnTo>
                  <a:pt x="235473"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PlaceHolder 1"/>
          <p:cNvSpPr>
            <a:spLocks noGrp="1"/>
          </p:cNvSpPr>
          <p:nvPr>
            <p:ph/>
          </p:nvPr>
        </p:nvSpPr>
        <p:spPr>
          <a:xfrm>
            <a:off x="2743200" y="1600200"/>
            <a:ext cx="4038480" cy="4525920"/>
          </a:xfrm>
          <a:prstGeom prst="rect">
            <a:avLst/>
          </a:prstGeom>
          <a:noFill/>
          <a:ln w="0">
            <a:noFill/>
          </a:ln>
        </p:spPr>
        <p:txBody>
          <a:bodyPr anchor="t">
            <a:normAutofit/>
          </a:bodyPr>
          <a:p>
            <a:pPr marL="343080" indent="-343080">
              <a:lnSpc>
                <a:spcPct val="12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Олимпиаде в Сиднее в 2000 из-за досадной ошибки звезда художественной гимнастики Алина Кабаева лишилась золотой медали, но сумела довести упражнение до конца и стала третьим призером. А на Играх в Афинах в 2004 году Кабаева выиграла золото.</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advTm="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бсолютная чемпионка в личном многоборье на Олимпиаде в Барселоне в 1992 году. Упражнение с обручем.</a:t>
            </a:r>
            <a:endParaRPr b="0" lang="en-US" sz="2800" spc="-1" strike="noStrike">
              <a:solidFill>
                <a:srgbClr val="000000"/>
              </a:solidFill>
              <a:latin typeface="Arial"/>
            </a:endParaRPr>
          </a:p>
        </p:txBody>
      </p:sp>
      <p:pic>
        <p:nvPicPr>
          <p:cNvPr id="55" name="Picture 7" descr="timosh"/>
          <p:cNvPicPr/>
          <p:nvPr/>
        </p:nvPicPr>
        <p:blipFill>
          <a:blip r:embed="rId1"/>
          <a:stretch/>
        </p:blipFill>
        <p:spPr>
          <a:xfrm>
            <a:off x="5079960" y="1600200"/>
            <a:ext cx="3173400" cy="4525920"/>
          </a:xfrm>
          <a:prstGeom prst="rect">
            <a:avLst/>
          </a:prstGeom>
          <a:ln w="0">
            <a:noFill/>
          </a:ln>
        </p:spPr>
      </p:pic>
      <p:sp>
        <p:nvSpPr>
          <p:cNvPr id="56" name="AutoShape 10"/>
          <p:cNvSpPr/>
          <p:nvPr/>
        </p:nvSpPr>
        <p:spPr>
          <a:xfrm>
            <a:off x="304920" y="304920"/>
            <a:ext cx="838080" cy="838080"/>
          </a:xfrm>
          <a:custGeom>
            <a:avLst/>
            <a:gdLst>
              <a:gd name="textAreaLeft" fmla="*/ 258840 w 838080"/>
              <a:gd name="textAreaRight" fmla="*/ 579240 w 838080"/>
              <a:gd name="textAreaTop" fmla="*/ 320040 h 838080"/>
              <a:gd name="textAreaBottom" fmla="*/ 640440 h 838080"/>
            </a:gdLst>
            <a:ahLst/>
            <a:rect l="textAreaLeft" t="textAreaTop" r="textAreaRight" b="textAreaBottom"/>
            <a:pathLst>
              <a:path w="838200" h="838200">
                <a:moveTo>
                  <a:pt x="1" y="320163"/>
                </a:moveTo>
                <a:lnTo>
                  <a:pt x="320166" y="320165"/>
                </a:lnTo>
                <a:lnTo>
                  <a:pt x="419100" y="0"/>
                </a:lnTo>
                <a:lnTo>
                  <a:pt x="518034" y="320165"/>
                </a:lnTo>
                <a:lnTo>
                  <a:pt x="838199" y="320163"/>
                </a:lnTo>
                <a:lnTo>
                  <a:pt x="579179" y="518034"/>
                </a:lnTo>
                <a:lnTo>
                  <a:pt x="678118" y="838197"/>
                </a:lnTo>
                <a:lnTo>
                  <a:pt x="419100" y="640323"/>
                </a:lnTo>
                <a:lnTo>
                  <a:pt x="160082" y="838197"/>
                </a:lnTo>
                <a:lnTo>
                  <a:pt x="259021"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WordArt 11"/>
          <p:cNvSpPr txBox="1"/>
          <p:nvPr/>
        </p:nvSpPr>
        <p:spPr>
          <a:xfrm>
            <a:off x="1676520" y="380880"/>
            <a:ext cx="5486400" cy="809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Александра  Тимошенко</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advTm="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646160" y="1600200"/>
            <a:ext cx="4040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бсолютная чемпионка Олимпийских игр в Сиднее в 2000 году по художественной гимнастике. Упражнение с мячом.</a:t>
            </a:r>
            <a:endParaRPr b="0" lang="en-US" sz="2800" spc="-1" strike="noStrike">
              <a:solidFill>
                <a:srgbClr val="000000"/>
              </a:solidFill>
              <a:latin typeface="Arial"/>
            </a:endParaRPr>
          </a:p>
        </p:txBody>
      </p:sp>
      <p:pic>
        <p:nvPicPr>
          <p:cNvPr id="59" name="Picture 7" descr="bars"/>
          <p:cNvPicPr/>
          <p:nvPr/>
        </p:nvPicPr>
        <p:blipFill>
          <a:blip r:embed="rId1"/>
          <a:stretch/>
        </p:blipFill>
        <p:spPr>
          <a:xfrm>
            <a:off x="949320" y="1600200"/>
            <a:ext cx="3056040" cy="4525920"/>
          </a:xfrm>
          <a:prstGeom prst="rect">
            <a:avLst/>
          </a:prstGeom>
          <a:ln w="0">
            <a:noFill/>
          </a:ln>
        </p:spPr>
      </p:pic>
      <p:sp>
        <p:nvSpPr>
          <p:cNvPr id="60" name="AutoShape 10"/>
          <p:cNvSpPr/>
          <p:nvPr/>
        </p:nvSpPr>
        <p:spPr>
          <a:xfrm>
            <a:off x="457200" y="228600"/>
            <a:ext cx="990720" cy="990720"/>
          </a:xfrm>
          <a:custGeom>
            <a:avLst/>
            <a:gdLst>
              <a:gd name="textAreaLeft" fmla="*/ 306000 w 990720"/>
              <a:gd name="textAreaRight" fmla="*/ 684720 w 990720"/>
              <a:gd name="textAreaTop" fmla="*/ 378360 h 990720"/>
              <a:gd name="textAreaBottom" fmla="*/ 757080 h 990720"/>
            </a:gdLst>
            <a:ahLst/>
            <a:rect l="textAreaLeft" t="textAreaTop" r="textAreaRight" b="textAreaBottom"/>
            <a:pathLst>
              <a:path w="990600" h="990600">
                <a:moveTo>
                  <a:pt x="1" y="378374"/>
                </a:moveTo>
                <a:lnTo>
                  <a:pt x="378378" y="378377"/>
                </a:lnTo>
                <a:lnTo>
                  <a:pt x="495300" y="0"/>
                </a:lnTo>
                <a:lnTo>
                  <a:pt x="612222" y="378377"/>
                </a:lnTo>
                <a:lnTo>
                  <a:pt x="990599" y="378374"/>
                </a:lnTo>
                <a:lnTo>
                  <a:pt x="684485" y="612221"/>
                </a:lnTo>
                <a:lnTo>
                  <a:pt x="801413" y="990597"/>
                </a:lnTo>
                <a:lnTo>
                  <a:pt x="495300" y="756746"/>
                </a:lnTo>
                <a:lnTo>
                  <a:pt x="189187" y="990597"/>
                </a:lnTo>
                <a:lnTo>
                  <a:pt x="306115" y="612221"/>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WordArt 11"/>
          <p:cNvSpPr txBox="1"/>
          <p:nvPr/>
        </p:nvSpPr>
        <p:spPr>
          <a:xfrm>
            <a:off x="2514600" y="152280"/>
            <a:ext cx="434340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Юлия   Барсукова.</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2666520" y="1523880"/>
            <a:ext cx="403884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оссиянка Вера Сесина стала победительницей этапа Гран-при по художественной гимнастике, который проходил в Берлине, сразу в трех отдельных видах многоборья. 22-летняя спортсменка праздновала успех в упражнениях со скакалкой, обручем и лентой. 13 октября 2008.</a:t>
            </a:r>
            <a:endParaRPr b="0" lang="en-US" sz="2400" spc="-1" strike="noStrike">
              <a:solidFill>
                <a:srgbClr val="000000"/>
              </a:solidFill>
              <a:latin typeface="Arial"/>
            </a:endParaRPr>
          </a:p>
        </p:txBody>
      </p:sp>
      <p:sp>
        <p:nvSpPr>
          <p:cNvPr id="63" name="Rectangle 4"/>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5"/>
          <p:cNvSpPr/>
          <p:nvPr/>
        </p:nvSpPr>
        <p:spPr>
          <a:xfrm>
            <a:off x="-1752480" y="5638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6"/>
          <p:cNvSpPr/>
          <p:nvPr/>
        </p:nvSpPr>
        <p:spPr>
          <a:xfrm>
            <a:off x="-685800" y="4724280"/>
            <a:ext cx="8229600" cy="4395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1"/>
          <p:cNvSpPr/>
          <p:nvPr/>
        </p:nvSpPr>
        <p:spPr>
          <a:xfrm>
            <a:off x="609480" y="1752480"/>
            <a:ext cx="403884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13"/>
          <p:cNvSpPr/>
          <p:nvPr/>
        </p:nvSpPr>
        <p:spPr>
          <a:xfrm>
            <a:off x="914400" y="457200"/>
            <a:ext cx="838080" cy="838080"/>
          </a:xfrm>
          <a:custGeom>
            <a:avLst/>
            <a:gdLst>
              <a:gd name="textAreaLeft" fmla="*/ 258840 w 838080"/>
              <a:gd name="textAreaRight" fmla="*/ 579240 w 838080"/>
              <a:gd name="textAreaTop" fmla="*/ 320040 h 838080"/>
              <a:gd name="textAreaBottom" fmla="*/ 640440 h 838080"/>
            </a:gdLst>
            <a:ahLst/>
            <a:rect l="textAreaLeft" t="textAreaTop" r="textAreaRight" b="textAreaBottom"/>
            <a:pathLst>
              <a:path w="838200" h="838200">
                <a:moveTo>
                  <a:pt x="1" y="320163"/>
                </a:moveTo>
                <a:lnTo>
                  <a:pt x="320166" y="320165"/>
                </a:lnTo>
                <a:lnTo>
                  <a:pt x="419100" y="0"/>
                </a:lnTo>
                <a:lnTo>
                  <a:pt x="518034" y="320165"/>
                </a:lnTo>
                <a:lnTo>
                  <a:pt x="838199" y="320163"/>
                </a:lnTo>
                <a:lnTo>
                  <a:pt x="579179" y="518034"/>
                </a:lnTo>
                <a:lnTo>
                  <a:pt x="678118" y="838197"/>
                </a:lnTo>
                <a:lnTo>
                  <a:pt x="419100" y="640323"/>
                </a:lnTo>
                <a:lnTo>
                  <a:pt x="160082" y="838197"/>
                </a:lnTo>
                <a:lnTo>
                  <a:pt x="259021"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здел 2.</a:t>
            </a:r>
            <a:endParaRPr b="0" lang="en-US" sz="4400" spc="-1" strike="noStrike">
              <a:solidFill>
                <a:srgbClr val="000000"/>
              </a:solidFill>
              <a:latin typeface="Arial"/>
            </a:endParaRPr>
          </a:p>
        </p:txBody>
      </p:sp>
      <p:sp>
        <p:nvSpPr>
          <p:cNvPr id="69" name="WordArt 6"/>
          <p:cNvSpPr txBox="1"/>
          <p:nvPr/>
        </p:nvSpPr>
        <p:spPr>
          <a:xfrm>
            <a:off x="1219320" y="3733920"/>
            <a:ext cx="6553080" cy="1038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художественная  гимнастик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advTm="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6840" y="1600200"/>
            <a:ext cx="4040280" cy="452592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удожественная гимнастика — один из самых зрелищных видов спорта. Это исключительно женский вид спорт, вот почему здесь очень важны женственность, эмоциональность, пластичность. Гимнастка или, как принято говорить, «художница» должна обладать необыкновенной гибкостью, высоким прыжком, растянутостью, и, конечно, выразительностью. Эти качества формируются с самого раннего детства.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63" descr="07ta043"/>
          <p:cNvPicPr/>
          <p:nvPr/>
        </p:nvPicPr>
        <p:blipFill>
          <a:blip r:embed="rId1"/>
          <a:stretch/>
        </p:blipFill>
        <p:spPr>
          <a:xfrm>
            <a:off x="5257800" y="1523880"/>
            <a:ext cx="2833560" cy="4525920"/>
          </a:xfrm>
          <a:prstGeom prst="rect">
            <a:avLst/>
          </a:prstGeom>
          <a:ln w="0">
            <a:noFill/>
          </a:ln>
        </p:spPr>
      </p:pic>
      <p:sp>
        <p:nvSpPr>
          <p:cNvPr id="72" name="AutoShape 70"/>
          <p:cNvSpPr/>
          <p:nvPr/>
        </p:nvSpPr>
        <p:spPr>
          <a:xfrm>
            <a:off x="380880" y="228600"/>
            <a:ext cx="762120" cy="83808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WordArt 72"/>
          <p:cNvSpPr txBox="1"/>
          <p:nvPr/>
        </p:nvSpPr>
        <p:spPr>
          <a:xfrm>
            <a:off x="1523880" y="457200"/>
            <a:ext cx="62103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художественная     гимнастик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slow" advTm="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рина Петровна</cp:lastModifiedBy>
  <dcterms:modified xsi:type="dcterms:W3CDTF">2009-08-17T15:15:25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