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4C254-4533-426C-B093-CA592BCF4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5E163-0283-40E7-A7A8-8C7CFD454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9F028-208F-4638-9927-52DD2F860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C2725-F7DC-4311-9659-60184F81D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A6A66-6D13-4998-AD96-F68872BAA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733D2-4B69-4613-A820-EB2147628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7F44-1640-4BC7-81D1-EAAF2349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9A14A-899A-420F-A39D-33F4FCDB2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359D9-DD90-4B18-B19A-9BB59BB76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5C45-6F32-42C5-9DB9-38DA554ED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512E-4FCC-4108-B108-5BE072565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7B9E-68C4-454B-94E2-F71EA2F63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FCAF-D3AB-4CAD-B00A-70A6DE38418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2" name="Picture 29" descr="Изображение 001"/>
          <p:cNvPicPr/>
          <p:nvPr/>
        </p:nvPicPr>
        <p:blipFill>
          <a:blip r:embed="rId1"/>
          <a:stretch/>
        </p:blipFill>
        <p:spPr>
          <a:xfrm>
            <a:off x="779400" y="1600200"/>
            <a:ext cx="3394080" cy="4525920"/>
          </a:xfrm>
          <a:prstGeom prst="rect">
            <a:avLst/>
          </a:prstGeom>
          <a:ln w="0">
            <a:noFill/>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ня зовут Косулина Валентина Михайловна, родилась в городе Йошкар-Ола 29 июля 1999 года. Я ходила в 41садик «Василинка». В 6 лет я занималась спортивной гимнастикой.  Я ученица 3 класса «а».Во втором классе я вышла за год отличница.       </a:t>
            </a:r>
            <a:endParaRPr b="0" lang="en-US" sz="2400" spc="-1" strike="noStrike">
              <a:solidFill>
                <a:srgbClr val="000000"/>
              </a:solidFill>
              <a:latin typeface="Arial"/>
            </a:endParaRPr>
          </a:p>
        </p:txBody>
      </p:sp>
      <p:sp>
        <p:nvSpPr>
          <p:cNvPr id="44" name="AutoShape 30"/>
          <p:cNvSpPr/>
          <p:nvPr/>
        </p:nvSpPr>
        <p:spPr>
          <a:xfrm>
            <a:off x="1447920" y="457200"/>
            <a:ext cx="990360" cy="914400"/>
          </a:xfrm>
          <a:prstGeom prst="smileyFace">
            <a:avLst>
              <a:gd name="adj" fmla="val 92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WordArt 32"/>
          <p:cNvSpPr txBox="1"/>
          <p:nvPr/>
        </p:nvSpPr>
        <p:spPr>
          <a:xfrm>
            <a:off x="3352680" y="380880"/>
            <a:ext cx="3114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втобиографи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ой гимнастикой занимаются только девочки. Это самый женственный вид спорта. Какое удовольствие доставляет смотреть на совершенные движения юных Афроди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7" descr="art"/>
          <p:cNvPicPr/>
          <p:nvPr/>
        </p:nvPicPr>
        <p:blipFill>
          <a:blip r:embed="rId1"/>
          <a:stretch/>
        </p:blipFill>
        <p:spPr>
          <a:xfrm>
            <a:off x="5486400" y="1674720"/>
            <a:ext cx="3200400" cy="4041720"/>
          </a:xfrm>
          <a:prstGeom prst="rect">
            <a:avLst/>
          </a:prstGeom>
          <a:ln w="0">
            <a:noFill/>
          </a:ln>
        </p:spPr>
      </p:pic>
      <p:sp>
        <p:nvSpPr>
          <p:cNvPr id="76" name="AutoShape 8"/>
          <p:cNvSpPr/>
          <p:nvPr/>
        </p:nvSpPr>
        <p:spPr>
          <a:xfrm>
            <a:off x="685800" y="457200"/>
            <a:ext cx="76212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удожественная  гимнастика включает упражнение без предмета и упражнение с предметом (обручем, скакалкой, мячом, булавами, лентой). Предметами девочки «художницы» должны владеть в совершенстве; иной жонглер не сможет так высоко подбрасывать мяч или обруч и так ловко их ловить. Художественная гимнастика стала олимпийским видом сравнительно недавно — в 1984 году. Среди олимпийских чемпионок немало россиянок — Марина Лобач, Александра Тимошенко, Юлия Барсукова.</a:t>
            </a:r>
            <a:endParaRPr b="0" lang="en-US" sz="1400" spc="-1" strike="noStrike">
              <a:solidFill>
                <a:srgbClr val="000000"/>
              </a:solidFill>
              <a:latin typeface="Arial"/>
            </a:endParaRPr>
          </a:p>
        </p:txBody>
      </p:sp>
      <p:pic>
        <p:nvPicPr>
          <p:cNvPr id="78" name="Picture 33" descr="oter_gymnast4"/>
          <p:cNvPicPr/>
          <p:nvPr/>
        </p:nvPicPr>
        <p:blipFill>
          <a:blip r:embed="rId1"/>
          <a:stretch/>
        </p:blipFill>
        <p:spPr>
          <a:xfrm>
            <a:off x="457200" y="2441520"/>
            <a:ext cx="4038480" cy="2841840"/>
          </a:xfrm>
          <a:prstGeom prst="rect">
            <a:avLst/>
          </a:prstGeom>
          <a:ln w="0">
            <a:noFill/>
          </a:ln>
        </p:spPr>
      </p:pic>
      <p:sp>
        <p:nvSpPr>
          <p:cNvPr id="79" name="AutoShape 34"/>
          <p:cNvSpPr/>
          <p:nvPr/>
        </p:nvSpPr>
        <p:spPr>
          <a:xfrm>
            <a:off x="990720" y="457200"/>
            <a:ext cx="76176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195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удожественная гимнастика: Сесина - победительница этапа Гран-при в Берлине Россиянка Вера Сесина получила лучшую сумму баллов в многоборье на этапе Гран-при по художественной гимнастике, который проходит в Берлине. 12 октября 2008, 03:37 Художественная гимнастика: Канаева – победительница</a:t>
            </a:r>
            <a:endParaRPr b="0" lang="en-US" sz="2400" spc="-1" strike="noStrike">
              <a:solidFill>
                <a:srgbClr val="000000"/>
              </a:solidFill>
              <a:latin typeface="Arial"/>
            </a:endParaRPr>
          </a:p>
        </p:txBody>
      </p:sp>
      <p:sp>
        <p:nvSpPr>
          <p:cNvPr id="81" name="Rectangle 4"/>
          <p:cNvSpPr/>
          <p:nvPr/>
        </p:nvSpPr>
        <p:spPr>
          <a:xfrm>
            <a:off x="609480" y="2895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ая гимнастика: Канаева – победительница финала Кубка мира Олимпийская чемпионка-2008 россиянка Евгения Канаева стала победительницей соревнований с булавами на проходящем в испанском Бенидорме финале Кубка мира по художественной гимнастике. 5 октября 2008, 23:23</a:t>
            </a:r>
            <a:endParaRPr b="0" lang="en-US" sz="2000" spc="-1" strike="noStrike">
              <a:solidFill>
                <a:srgbClr val="000000"/>
              </a:solidFill>
              <a:latin typeface="Arial"/>
            </a:endParaRPr>
          </a:p>
        </p:txBody>
      </p:sp>
    </p:spTree>
  </p:cSld>
  <p:transition advTm="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наева выиграла финал Кубка мира в упражнении с обручем Олимпийская чемпионка-2008 в многоборье россиянка Евгения Канаева стала победительницей в упражнении с обручем в финале Кубка мира по художественной гимнастике, который проходит в испанском Бенидорме. 5 октября 2008, 03:09</a:t>
            </a:r>
            <a:endParaRPr b="0" lang="en-US" sz="2400" spc="-1" strike="noStrike">
              <a:solidFill>
                <a:srgbClr val="000000"/>
              </a:solidFill>
              <a:latin typeface="Arial"/>
            </a:endParaRPr>
          </a:p>
        </p:txBody>
      </p:sp>
    </p:spTree>
  </p:cSld>
  <p:transition advTm="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ин-2008: Гимнастки принесли России 22-е золото Сборная России по художественной гимнастике стала победителем Олимпиады в групповых упражнениях. 24 августа 2008, 13:20</a:t>
            </a:r>
            <a:endParaRPr b="0" lang="en-US" sz="2800" spc="-1" strike="noStrike">
              <a:solidFill>
                <a:srgbClr val="000000"/>
              </a:solidFill>
              <a:latin typeface="Arial"/>
            </a:endParaRPr>
          </a:p>
        </p:txBody>
      </p:sp>
    </p:spTree>
  </p:cSld>
  <p:transition advTm="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7432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Канаева принесла России двадцатое золото Россиянка Евгения Канаева стала олимпийской чемпионкой по художественной гимнастике в личном первенстве, более чем на 3,5 балла опередив ближайшую соперницу - Инну Жукову из Белоруссии. 23 августа 2008, 16:26</a:t>
            </a:r>
            <a:endParaRPr b="0" lang="en-US" sz="2400" spc="-1" strike="noStrike">
              <a:solidFill>
                <a:srgbClr val="000000"/>
              </a:solidFill>
              <a:latin typeface="Arial"/>
            </a:endParaRPr>
          </a:p>
        </p:txBody>
      </p:sp>
    </p:spTree>
  </p:cSld>
  <p:transition advTm="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наева выиграла четыре золота в Иркутске Россиянка Евгения Канаева выиграла во всех четырех упражнениях на этапе Кубка мира в Иркутске.</a:t>
            </a:r>
            <a:endParaRPr b="0" lang="en-US" sz="2800" spc="-1" strike="noStrike">
              <a:solidFill>
                <a:srgbClr val="000000"/>
              </a:solidFill>
              <a:latin typeface="Arial"/>
            </a:endParaRPr>
          </a:p>
        </p:txBody>
      </p:sp>
    </p:spTree>
  </p:cSld>
  <p:transition advTm="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8951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6 июля 2008, 18:33 Пекин-2008: Посевина осталась в спорте ради Олимпиады Самый опытный член сборной России по художественной гимнастике в групповых упражнениях Елена Посевина объяснила, почему не завершила карьеру после победы на афинской Олимпиаде. 26 июля 2008, 01:08</a:t>
            </a:r>
            <a:endParaRPr b="0" lang="en-US" sz="2400" spc="-1" strike="noStrike">
              <a:solidFill>
                <a:srgbClr val="000000"/>
              </a:solidFill>
              <a:latin typeface="Arial"/>
            </a:endParaRPr>
          </a:p>
        </p:txBody>
      </p:sp>
    </p:spTree>
  </p:cSld>
  <p:transition advTm="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Мысль об Олимпиаде греет и страшит, заявила Иваницкая Главный тренер сборной России по художественной гимнастике в командном многоборье Валентина Иваницкая с волнением готовится к предстоящей Олимпиаде, на которой все будут ждать от ее подопечных медали. 25 июля 2008, 22:04</a:t>
            </a:r>
            <a:endParaRPr b="0" lang="en-US" sz="2400" spc="-1" strike="noStrike">
              <a:solidFill>
                <a:srgbClr val="000000"/>
              </a:solidFill>
              <a:latin typeface="Arial"/>
            </a:endParaRPr>
          </a:p>
        </p:txBody>
      </p:sp>
    </p:spTree>
  </p:cSld>
  <p:transition advTm="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1.</a:t>
            </a:r>
            <a:endParaRPr b="0" lang="en-US" sz="4400" spc="-1" strike="noStrike">
              <a:solidFill>
                <a:srgbClr val="000000"/>
              </a:solidFill>
              <a:latin typeface="Arial"/>
            </a:endParaRPr>
          </a:p>
        </p:txBody>
      </p:sp>
      <p:sp>
        <p:nvSpPr>
          <p:cNvPr id="47" name="WordArt 7"/>
          <p:cNvSpPr txBox="1"/>
          <p:nvPr/>
        </p:nvSpPr>
        <p:spPr>
          <a:xfrm>
            <a:off x="914400" y="3168720"/>
            <a:ext cx="7696080" cy="1631880"/>
          </a:xfrm>
          <a:prstGeom prst="rect">
            <a:avLst/>
          </a:prstGeom>
        </p:spPr>
        <p:txBody>
          <a:bodyPr wrap="none" lIns="90000" rIns="90000" tIns="46800" bIns="46800" anchor="t" anchorCtr="1">
            <a:prstTxWarp prst="textPlain">
              <a:avLst>
                <a:gd name="adj" fmla="val 50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везды   художественной  гимнастик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advTm="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Винер сделала выбор в пользу Капрановой Чемпионка мира-2005 Ольга Капранова выступит вместе с Евгенией Канаевой в многоборье на олимпийском турнире по художественной гимнастике. 25 июля 2008, 17:38</a:t>
            </a:r>
            <a:endParaRPr b="0" lang="en-US" sz="2400" spc="-1" strike="noStrike">
              <a:solidFill>
                <a:srgbClr val="000000"/>
              </a:solidFill>
              <a:latin typeface="Arial"/>
            </a:endParaRPr>
          </a:p>
        </p:txBody>
      </p:sp>
    </p:spTree>
  </p:cSld>
  <p:transition advTm="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как вид спорта для женщин формировалась в течение многих лет. Значительный вклад в научное обоснование физического воспитания девушек внес французский физиолог и педагог Жорж Демени. Он доказал целесообразность применения динамических упражнений, упражнений на растягивание и расслабление мышц, танцевальных шагов, упражнений с предметами (булавами, палками, венками и др.), способствующих приобретению гибкости, ловкости, хорошей осанки, умению двигаться плавно и грациозно. Большая заслуга в разработке теории выразительного двигательного навыка принадлежит другому, французскому педагогу — Франсуа Дельсарту. Изучая драматическое искусство, он пришел к выводу, что каждое переживание человека сопровождается определенными движениями тела, а, следовательно, путем воспроизведения движений можно создать у зрителя впечатление переживаний. Созданная Дельсартом «Грамматика художественного жеста» стала применяться в физическом воспитании, особенно при подготовке массовых гимнастических выступлений, исполняемых с музыкальным сопровождением. Идеи и принципы, разработанные Дельсартом, нашли свое воплощение в искусстве знаменитой танцовщицы Айседоры Дункан. Ее танцы, импровизации, построенные на движениях свободной пластики, во многом напоминают современную художественную гимнастику. Наряду с гимнастикой выразительных движений в конце 19 начале 20 в. широкое распространение получает ритмическая гимнастика, одним из создателей которой был профессор Женевской консерватории Жак Далькроз. Он разработал три группы упражнений: ритмические движения, упражнения для тренировки слуха и импровизированные действия, которые воспитывали у занимающихся музыкальность и слух. Вначале ритмическая гимнастика была средством воспитания музыкантов и артистов, позднее стала применяться в области физического воспит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transition advTm="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92" name="Rectangle 6"/>
          <p:cNvSpPr/>
          <p:nvPr/>
        </p:nvSpPr>
        <p:spPr>
          <a:xfrm>
            <a:off x="228600" y="1905120"/>
            <a:ext cx="8686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Ж. Демени, Ф. Дельсарта, Ж. Далькро и их продолжателей оказали значительное влияние на возникновение и развитие ритмо-пластических школ «женской гимнастики» в дореволюционной России. В СССР женская художественная гимнастика сразу же получила широкое распространение. В 1923 была создана «Студия пластического движения», руководимая 3. Д. Вербовой. Программа обучения в студии включала ритмическую гимнастику и сольфеджио по Ж. Далькрозу, пластику, гимнастику, акробатику, элементы хореографии, композицию вольных упражнений, анатомию. Студия готовила преподавателей физического воспитания для средних школ и техникумов.</a:t>
            </a:r>
            <a:endParaRPr b="0" lang="en-US" sz="2000" spc="-1" strike="noStrike">
              <a:solidFill>
                <a:srgbClr val="000000"/>
              </a:solidFill>
              <a:latin typeface="Arial"/>
            </a:endParaRPr>
          </a:p>
        </p:txBody>
      </p:sp>
    </p:spTree>
  </p:cSld>
  <p:transition advTm="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дготовки специалистов высокой квалификации в Институте физической Культуры в Москве в 1934 была создана кафедра художественного движения и акробатики, руководимая М.Т. Окуневым. В этом же году в Ленинграде при Институте физической культуры им. Лесгафта создается первая всесоюзная школа художественного движения. Историю советской гимнастики как полноценного вида спорта можно условно поделить на два периода. Первый период (1947-1963) характеризуется формированием художественной гимнастики как средства физического воспитания женщин, созданием советской школы художественной гимнастики. Первые соревнования проводились в виде смотров-конкурсов (Таллин в 1947, Тбилиси в 1948), а в 1949 состоялось первое лично-командное первенство страны. В 1950 была опубликована спортивная классификация, которая сыграла большую роль в дальнейшем развитии художественной гимнастики. Единая программа и нормативные требования для гимнасток различных разрядов конкретизировали содержание и организацию учебной работы на местах. Программа для мастеров спорта, введенная в 1954, способствовала развитию художественной гимнастики и росту спортивно-технических достижений. С 1963 начинается второй период развития художественной гимнастики в СССР. В этом же году создается техническая комиссия по художественной гимнастике при женском техническом комитете Международной федерации гимнастики. С этого периода советские гимнастки регулярно участвуют в международных соревнованиях, включая чемпионаты мира (с 1963) и Европы (с 1978).</a:t>
            </a:r>
            <a:endParaRPr b="0" lang="en-US" sz="1600" spc="-1" strike="noStrike">
              <a:solidFill>
                <a:srgbClr val="000000"/>
              </a:solidFill>
              <a:latin typeface="Arial"/>
            </a:endParaRPr>
          </a:p>
        </p:txBody>
      </p:sp>
    </p:spTree>
  </p:cSld>
  <p:transition advTm="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завоевывает все большую популярность во всем мире. Закономерным итогом этого является включение художественной гимнастики в программу Олимпийских игр в Лос-Анджелесе (1984). Программа I конкурса (1947) состояла из произвольных композиций. Судейство осуществляло жюри конкурса. На II конкурсе (1948) гимнастки выполняли обязательное упражнение без предмета с элементами акробатики и произвольное с предметом. Зачет был только командный, без определения личного первенства. Программа первого лично-командного первенства страны (1949) была более прогрессивной и состояла из четырехборья. Существенное значение для развития вида спорта имело введение Единой классификации. Для всех разрядов программа состояла из обязательного упражнения без предмета, с предметом (по жребию), упражнения с элементами акробатики, гимнастического прыжка (в младших разрядах — с мостика, в старших — с трамплина), кроме того, в I разряде и разряде мастеров спорта — произвольного упражнения без предмета и с любым предметом. Из последующих классификационных программ были исключены гимнастический прыжок во всех разрядах, упражнения с элементами акробатики у мастеров спорта и кандидатов в мастера спорта. Больший вес приобрели упражнения с предметами в произвольной интерпретации. С 1967 программа мастеров спорта максимально приблизилась к международной: были введены групповые упражнения с предметами, определены виды предметов (скакалка, мяч, обруч, лента, булавы). Одновременно с программой совершенствовались правила соревнований. Они определили виды и правила проведения соревнований, основные требования к композиции и исполнительскому мастерству гимнасток в индивидуальных и групповых упражнениях. В правилах 1955 у мастеров спорта предусматривалось 4 элемента I группы трудности, в 1967 — 6 в упражнении без предмета и 5 с предметом, в 1977 их было уже 8, 3 из которых, должны были выполняться левой рукой. Параллельно усложнялась расценочная таблица элементов и соединений, дифференцировались сбавки за возможные ошибки, уточнялась их градация.</a:t>
            </a:r>
            <a:endParaRPr b="0" lang="en-US" sz="1400" spc="-1" strike="noStrike">
              <a:solidFill>
                <a:srgbClr val="000000"/>
              </a:solidFill>
              <a:latin typeface="Arial"/>
            </a:endParaRPr>
          </a:p>
        </p:txBody>
      </p:sp>
    </p:spTree>
  </p:cSld>
  <p:transition advTm="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941 в Ленинграде состоялся первый чемпионат города, где победила Ю. Шишкарева, спустя шесть лет в Таллине прошел I Всесоюзный конкурс, а в 1949 в Киеве — первый чемпионат СССР. Командное первенство выиграли москвички, абсолютной чемпионкой СССР стала Л. Денисова. С 1955 лучшие советские гимнастки стали регулярно выезжать за рубеж с показательными выступлениями. В 1960 в Софии прошла первая официальная международная встреча сборных СССР, Болгарии и Чехословакии. В ноябре 1963 была создана Федерация художественной гимнастики СССР. В том же году в Будапеште состоялся первый чемпионат мира. Титул абсолютной чемпионки завоевала москвичка Людмила Савенкова. Две золотые медали в отдельных видах многоборья на чемпионате мира 1969 в Варне, завоевала Галима Шугурова. Четыре раза она становилась абсолютной чемпионкой СССР (1970, 1972, 1973, 1978). А в 1978 была провозглашена первой абсолютной чемпионкой Европы. В 1977 появилась новая королева мировой гимнастики Ирина Дерюгина — пятикратная абсолютная чемпионка СССР, обладательница Кубка СССР (1975-1979), неоднократная чемпионка мира и Европы в отдельных упражнениях. В 1979 году на чемпионате мира в Лондоне Ирина Дерюгина стала победительницей в многоборье. А серебряным призером в многоборье и чемпионкой мира в упражнение с лентой стала Елена Томас. Она же стала абсолютной чемпионкой СССР в 1980году.  В 1982 году абсолютной чемпионкой Европы стала Даля Куткайте. Абсолютной чемпионкой СССР в 1981 году стала Ирина Девина, а в 1985-1986 гг. Галина  Белоглазова.</a:t>
            </a:r>
            <a:endParaRPr b="0" lang="en-US" sz="1600" spc="-1" strike="noStrike">
              <a:solidFill>
                <a:srgbClr val="000000"/>
              </a:solidFill>
              <a:latin typeface="Arial"/>
            </a:endParaRPr>
          </a:p>
        </p:txBody>
      </p:sp>
    </p:spTree>
  </p:cSld>
  <p:transition advTm="0">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импийский дебют художественной гимнастики состоялся лишь в 1984 в Лос-Анджелесе. Чемпионкой стала канадка Лори Фанг, а главные соперницы — советские и болгарские спортсменки, из-за бойкота этой Олимпиады социалистическими странами, не принимали в ней участия. Во всех последующих Играх побеждали славянки. На Олимпиаде в Сеуле (1988) чемпионкой стала Марина Лобач из Белоруссии, в Барселоне (1992) — Алаксандра Тимошенко, в Атланте (1996) — Елена Серебрянская (спортсменки из Украины). В Сиднее (2000) олимпийской чемпионкой стала Юлия Барсукова из России. Бронзу завоевала трехкратная абсолютная чемпионка Европы (1998, 1999, 2000) и абсолютная чемпионка мира (1999) — Алина Кабаева. На чемпионате мира в Мадриде (2001) Алина Кабаева также получила высшую оценку в большинстве дисциплин. На Олимпиаде 2004 года в Афинах золото завоевала Алина Кабаева, серебряная медаль у Ирины Чащиной, бронза у Анны Бессоновой (Украина) Источник: KM.RU</a:t>
            </a:r>
            <a:endParaRPr b="0" lang="en-US" sz="2000" spc="-1" strike="noStrike">
              <a:solidFill>
                <a:srgbClr val="000000"/>
              </a:solidFill>
              <a:latin typeface="Arial"/>
            </a:endParaRPr>
          </a:p>
        </p:txBody>
      </p:sp>
    </p:spTree>
  </p:cSld>
  <p:transition advTm="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kabaeva"/>
          <p:cNvPicPr/>
          <p:nvPr/>
        </p:nvPicPr>
        <p:blipFill>
          <a:blip r:embed="rId1"/>
          <a:stretch/>
        </p:blipFill>
        <p:spPr>
          <a:xfrm>
            <a:off x="727200" y="1600200"/>
            <a:ext cx="3497040" cy="4525920"/>
          </a:xfrm>
          <a:prstGeom prst="rect">
            <a:avLst/>
          </a:prstGeom>
          <a:ln w="0">
            <a:noFill/>
          </a:ln>
        </p:spPr>
      </p:pic>
      <p:sp>
        <p:nvSpPr>
          <p:cNvPr id="4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везда не только российской, но и мировой художественной гимнастики. Грациозность, феноменальная гибкость, отточенная техника, артистичность -вот составляющие её успеха.    </a:t>
            </a:r>
            <a:endParaRPr b="0" lang="en-US" sz="2400" spc="-1" strike="noStrike">
              <a:solidFill>
                <a:srgbClr val="000000"/>
              </a:solidFill>
              <a:latin typeface="Arial"/>
            </a:endParaRPr>
          </a:p>
        </p:txBody>
      </p:sp>
      <p:sp>
        <p:nvSpPr>
          <p:cNvPr id="50" name="AutoShape 13"/>
          <p:cNvSpPr/>
          <p:nvPr/>
        </p:nvSpPr>
        <p:spPr>
          <a:xfrm>
            <a:off x="1066680" y="304920"/>
            <a:ext cx="990720" cy="914400"/>
          </a:xfrm>
          <a:custGeom>
            <a:avLst/>
            <a:gdLst>
              <a:gd name="textAreaLeft" fmla="*/ 306000 w 990720"/>
              <a:gd name="textAreaRight" fmla="*/ 684720 w 990720"/>
              <a:gd name="textAreaTop" fmla="*/ 349200 h 914400"/>
              <a:gd name="textAreaBottom" fmla="*/ 698760 h 914400"/>
            </a:gdLst>
            <a:ahLst/>
            <a:rect l="textAreaLeft" t="textAreaTop" r="textAreaRight" b="textAreaBottom"/>
            <a:pathLst>
              <a:path w="990600" h="914400">
                <a:moveTo>
                  <a:pt x="1" y="349269"/>
                </a:moveTo>
                <a:lnTo>
                  <a:pt x="378378" y="349271"/>
                </a:lnTo>
                <a:lnTo>
                  <a:pt x="495300" y="0"/>
                </a:lnTo>
                <a:lnTo>
                  <a:pt x="612222" y="349271"/>
                </a:lnTo>
                <a:lnTo>
                  <a:pt x="990599" y="349269"/>
                </a:lnTo>
                <a:lnTo>
                  <a:pt x="684485" y="565127"/>
                </a:lnTo>
                <a:lnTo>
                  <a:pt x="801413" y="914397"/>
                </a:lnTo>
                <a:lnTo>
                  <a:pt x="495300" y="698535"/>
                </a:lnTo>
                <a:lnTo>
                  <a:pt x="189187" y="914397"/>
                </a:lnTo>
                <a:lnTo>
                  <a:pt x="306115" y="565127"/>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WordArt 14"/>
          <p:cNvSpPr txBox="1"/>
          <p:nvPr/>
        </p:nvSpPr>
        <p:spPr>
          <a:xfrm>
            <a:off x="2743200" y="76320"/>
            <a:ext cx="38098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лина    Кабаев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2"/>
          <p:cNvSpPr/>
          <p:nvPr/>
        </p:nvSpPr>
        <p:spPr>
          <a:xfrm>
            <a:off x="914400" y="457200"/>
            <a:ext cx="762120" cy="838080"/>
          </a:xfrm>
          <a:custGeom>
            <a:avLst/>
            <a:gdLst>
              <a:gd name="textAreaLeft" fmla="*/ 235440 w 762120"/>
              <a:gd name="textAreaRight" fmla="*/ 526680 w 762120"/>
              <a:gd name="textAreaTop" fmla="*/ 320040 h 838080"/>
              <a:gd name="textAreaBottom" fmla="*/ 640440 h 838080"/>
            </a:gdLst>
            <a:ahLst/>
            <a:rect l="textAreaLeft" t="textAreaTop" r="textAreaRight" b="textAreaBottom"/>
            <a:pathLst>
              <a:path w="762000" h="838200">
                <a:moveTo>
                  <a:pt x="1" y="320163"/>
                </a:moveTo>
                <a:lnTo>
                  <a:pt x="291060" y="320165"/>
                </a:lnTo>
                <a:lnTo>
                  <a:pt x="381000" y="0"/>
                </a:lnTo>
                <a:lnTo>
                  <a:pt x="470940" y="320165"/>
                </a:lnTo>
                <a:lnTo>
                  <a:pt x="761999" y="320163"/>
                </a:lnTo>
                <a:lnTo>
                  <a:pt x="526527" y="518034"/>
                </a:lnTo>
                <a:lnTo>
                  <a:pt x="616471" y="838197"/>
                </a:lnTo>
                <a:lnTo>
                  <a:pt x="381000" y="640323"/>
                </a:lnTo>
                <a:lnTo>
                  <a:pt x="145529" y="838197"/>
                </a:lnTo>
                <a:lnTo>
                  <a:pt x="235473"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p:nvPr>
        </p:nvSpPr>
        <p:spPr>
          <a:xfrm>
            <a:off x="2743200" y="1600200"/>
            <a:ext cx="4038480" cy="4525920"/>
          </a:xfrm>
          <a:prstGeom prst="rect">
            <a:avLst/>
          </a:prstGeom>
          <a:noFill/>
          <a:ln w="0">
            <a:noFill/>
          </a:ln>
        </p:spPr>
        <p:txBody>
          <a:bodyPr anchor="t">
            <a:normAutofit/>
          </a:bodyPr>
          <a:p>
            <a:pPr marL="343080" indent="-343080">
              <a:lnSpc>
                <a:spcPct val="12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лимпиаде в Сиднее в 2000 из-за досадной ошибки звезда художественной гимнастики Алина Кабаева лишилась золотой медали, но сумела довести упражнение до конца и стала третьим призером. А на Играх в Афинах в 2004 году Кабаева выиграла золото.</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в личном многоборье на Олимпиаде в Барселоне в 1992 году. Упражнение с обручем.</a:t>
            </a:r>
            <a:endParaRPr b="0" lang="en-US" sz="2800" spc="-1" strike="noStrike">
              <a:solidFill>
                <a:srgbClr val="000000"/>
              </a:solidFill>
              <a:latin typeface="Arial"/>
            </a:endParaRPr>
          </a:p>
        </p:txBody>
      </p:sp>
      <p:pic>
        <p:nvPicPr>
          <p:cNvPr id="55" name="Picture 7" descr="timosh"/>
          <p:cNvPicPr/>
          <p:nvPr/>
        </p:nvPicPr>
        <p:blipFill>
          <a:blip r:embed="rId1"/>
          <a:stretch/>
        </p:blipFill>
        <p:spPr>
          <a:xfrm>
            <a:off x="5079960" y="1600200"/>
            <a:ext cx="3173400" cy="4525920"/>
          </a:xfrm>
          <a:prstGeom prst="rect">
            <a:avLst/>
          </a:prstGeom>
          <a:ln w="0">
            <a:noFill/>
          </a:ln>
        </p:spPr>
      </p:pic>
      <p:sp>
        <p:nvSpPr>
          <p:cNvPr id="56" name="AutoShape 10"/>
          <p:cNvSpPr/>
          <p:nvPr/>
        </p:nvSpPr>
        <p:spPr>
          <a:xfrm>
            <a:off x="304920" y="30492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WordArt 11"/>
          <p:cNvSpPr txBox="1"/>
          <p:nvPr/>
        </p:nvSpPr>
        <p:spPr>
          <a:xfrm>
            <a:off x="1676520" y="380880"/>
            <a:ext cx="54864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лександра  Тимошенк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Олимпийских игр в Сиднее в 2000 году по художественной гимнастике. Упражнение с мячом.</a:t>
            </a:r>
            <a:endParaRPr b="0" lang="en-US" sz="2800" spc="-1" strike="noStrike">
              <a:solidFill>
                <a:srgbClr val="000000"/>
              </a:solidFill>
              <a:latin typeface="Arial"/>
            </a:endParaRPr>
          </a:p>
        </p:txBody>
      </p:sp>
      <p:pic>
        <p:nvPicPr>
          <p:cNvPr id="59" name="Picture 7" descr="bars"/>
          <p:cNvPicPr/>
          <p:nvPr/>
        </p:nvPicPr>
        <p:blipFill>
          <a:blip r:embed="rId1"/>
          <a:stretch/>
        </p:blipFill>
        <p:spPr>
          <a:xfrm>
            <a:off x="949320" y="1600200"/>
            <a:ext cx="3056040" cy="4525920"/>
          </a:xfrm>
          <a:prstGeom prst="rect">
            <a:avLst/>
          </a:prstGeom>
          <a:ln w="0">
            <a:noFill/>
          </a:ln>
        </p:spPr>
      </p:pic>
      <p:sp>
        <p:nvSpPr>
          <p:cNvPr id="60" name="AutoShape 10"/>
          <p:cNvSpPr/>
          <p:nvPr/>
        </p:nvSpPr>
        <p:spPr>
          <a:xfrm>
            <a:off x="457200" y="228600"/>
            <a:ext cx="990720" cy="990720"/>
          </a:xfrm>
          <a:custGeom>
            <a:avLst/>
            <a:gdLst>
              <a:gd name="textAreaLeft" fmla="*/ 306000 w 990720"/>
              <a:gd name="textAreaRight" fmla="*/ 684720 w 990720"/>
              <a:gd name="textAreaTop" fmla="*/ 378360 h 990720"/>
              <a:gd name="textAreaBottom" fmla="*/ 757080 h 990720"/>
            </a:gdLst>
            <a:ahLst/>
            <a:rect l="textAreaLeft" t="textAreaTop" r="textAreaRight" b="textAreaBottom"/>
            <a:pathLst>
              <a:path w="990600" h="990600">
                <a:moveTo>
                  <a:pt x="1" y="378374"/>
                </a:moveTo>
                <a:lnTo>
                  <a:pt x="378378" y="378377"/>
                </a:lnTo>
                <a:lnTo>
                  <a:pt x="495300" y="0"/>
                </a:lnTo>
                <a:lnTo>
                  <a:pt x="612222" y="378377"/>
                </a:lnTo>
                <a:lnTo>
                  <a:pt x="990599" y="378374"/>
                </a:lnTo>
                <a:lnTo>
                  <a:pt x="684485" y="612221"/>
                </a:lnTo>
                <a:lnTo>
                  <a:pt x="801413" y="990597"/>
                </a:lnTo>
                <a:lnTo>
                  <a:pt x="495300" y="756746"/>
                </a:lnTo>
                <a:lnTo>
                  <a:pt x="189187" y="990597"/>
                </a:lnTo>
                <a:lnTo>
                  <a:pt x="306115" y="612221"/>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WordArt 11"/>
          <p:cNvSpPr txBox="1"/>
          <p:nvPr/>
        </p:nvSpPr>
        <p:spPr>
          <a:xfrm>
            <a:off x="2514600" y="15228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Юлия   Барсуко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ссиянка Вера Сесина стала победительницей этапа Гран-при по художественной гимнастике, который проходил в Берлине, сразу в трех отдельных видах многоборья. 22-летняя спортсменка праздновала успех в упражнениях со скакалкой, обручем и лентой. 13 октября 2008.</a:t>
            </a:r>
            <a:endParaRPr b="0" lang="en-US" sz="2400" spc="-1" strike="noStrike">
              <a:solidFill>
                <a:srgbClr val="000000"/>
              </a:solidFill>
              <a:latin typeface="Arial"/>
            </a:endParaRPr>
          </a:p>
        </p:txBody>
      </p:sp>
      <p:sp>
        <p:nvSpPr>
          <p:cNvPr id="63" name="Rectangle 4"/>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1752480" y="5638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685800" y="4724280"/>
            <a:ext cx="8229600" cy="439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3"/>
          <p:cNvSpPr/>
          <p:nvPr/>
        </p:nvSpPr>
        <p:spPr>
          <a:xfrm>
            <a:off x="914400" y="45720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2.</a:t>
            </a:r>
            <a:endParaRPr b="0" lang="en-US" sz="4400" spc="-1" strike="noStrike">
              <a:solidFill>
                <a:srgbClr val="000000"/>
              </a:solidFill>
              <a:latin typeface="Arial"/>
            </a:endParaRPr>
          </a:p>
        </p:txBody>
      </p:sp>
      <p:sp>
        <p:nvSpPr>
          <p:cNvPr id="69" name="WordArt 6"/>
          <p:cNvSpPr txBox="1"/>
          <p:nvPr/>
        </p:nvSpPr>
        <p:spPr>
          <a:xfrm>
            <a:off x="1219320" y="3733920"/>
            <a:ext cx="6553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6840" y="1600200"/>
            <a:ext cx="404028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3" descr="07ta043"/>
          <p:cNvPicPr/>
          <p:nvPr/>
        </p:nvPicPr>
        <p:blipFill>
          <a:blip r:embed="rId1"/>
          <a:stretch/>
        </p:blipFill>
        <p:spPr>
          <a:xfrm>
            <a:off x="5257800" y="1523880"/>
            <a:ext cx="2833560" cy="4525920"/>
          </a:xfrm>
          <a:prstGeom prst="rect">
            <a:avLst/>
          </a:prstGeom>
          <a:ln w="0">
            <a:noFill/>
          </a:ln>
        </p:spPr>
      </p:pic>
      <p:sp>
        <p:nvSpPr>
          <p:cNvPr id="72" name="AutoShape 70"/>
          <p:cNvSpPr/>
          <p:nvPr/>
        </p:nvSpPr>
        <p:spPr>
          <a:xfrm>
            <a:off x="380880" y="228600"/>
            <a:ext cx="762120" cy="83808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WordArt 72"/>
          <p:cNvSpPr txBox="1"/>
          <p:nvPr/>
        </p:nvSpPr>
        <p:spPr>
          <a:xfrm>
            <a:off x="1523880" y="457200"/>
            <a:ext cx="6210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Петровна</cp:lastModifiedBy>
  <dcterms:modified xsi:type="dcterms:W3CDTF">2009-08-17T15:15: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