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62C-CD31-4DF0-A04D-5DDB512C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265-404E-4AB9-B933-40AACAC1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FC4-CD37-454E-A9E5-9F27D107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572-62AE-4561-9BD7-A7604724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A63-B73A-44A6-A421-8A097B89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342-77E1-435E-BC9F-BA4FFAD9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282-EE0D-4C2E-8580-0FEA3F2E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EB3-5A6C-46F6-9A4D-4DDE8BA8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F26-1E3E-44D5-8EDE-69B99D6A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4C2-B492-4627-A09F-90836FC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C06-CAD8-406B-AD1E-0EBB815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B9B-FFD3-45D0-BCCC-490D9588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979A-3097-48DC-A2AF-ADF02F8B2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752480"/>
            <a:ext cx="6410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нас дома –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интерес к фехтованию возник в начале 17 века. Считалось, что этот вид спорта воспитывает воинский дух и ловкость. Петр I сделал фехтование непременным занятием для придворных и ввел его в военных и гражданских учебных заведениях. В 1816 году в Петербурге открылась первая фехтовальная школа. Такие школы открывались и в других городах России. Но российские спортсмены начали показывать хорошие результаты только с начала 1960-х гг. Выдающихся результатов добились рапиристы Виктор Жданович и Марк Мид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505320"/>
            <a:ext cx="838080" cy="838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71800" y="2133720"/>
            <a:ext cx="2724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мандных соревнованиях олимпийскими чемпионами по фехтованию на саблях становились Григорий Кириенко, Станислав Поздняков и Сергей Шариков (1996 год), чемпионками на шпагах — Татьяна Логунова, Оксана Ермакова, Карина Азнавурян, Анна Сивкова (2004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других титулованных фехтовальщиков: Марк Ракита, Виктор Кровопусков. У женщин высоких результатов добились Галина Горохова и Елена Бе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57200"/>
            <a:ext cx="76212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8600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36"/>
                <a:gd name="adj2" fmla="val 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ехт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295280" cy="98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сабл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150984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горий Кири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886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ислав Поздн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шпаг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1524240" cy="203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15382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81280" y="4724280"/>
            <a:ext cx="2019600" cy="139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34290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ьяна Лог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267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на Ерм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352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ина Азнавур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Сив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титулованные фехтовальщ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150948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304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к Ра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 Кров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ина Горо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ена Б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bd98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истори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457200"/>
            <a:ext cx="4114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52520" cy="438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80880" y="312408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429000"/>
            <a:ext cx="4572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50532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98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662040" cy="3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533160" cy="40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1" idx="0"/>
            <a:endCxn id="51" idx="0"/>
          </p:cNvCxnSpPr>
          <p:nvPr/>
        </p:nvCxnSpPr>
        <p:spPr>
          <a:xfrm>
            <a:off x="457164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476360" cy="87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048120" y="2590920"/>
            <a:ext cx="27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то не любит фильмы и книги о храбрых и отважных мушкетерах? Все ребята хотят так же ловко владеть шпагой, как знаменитые Атос, Портос, Арамис и Д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ртаньян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ехтование – это огромный интересный мир. Открывая его, понимаешь, что он тебя полностью поглощает, с ним уже невозможно расстаться - и он остаётся с тобой навсегда.</a:t>
            </a:r>
            <a:br>
              <a:rPr sz="1600"/>
            </a:br>
            <a:br>
              <a:rPr sz="9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принято считать спортом, искусством, военной наукой, средством воспитания. Как вид спорта, он выделяется среди прочих своей эстетикой, романтизмом и богатством истории, уходящей в далёкие тысячелети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– это умение наносить уколы, посредством атак и защит в определённые моменты боя, используя свой интеллект. Фехтовальный поединок очень похож на сражение: в нем присутствуют маневрирование, разведка и маскировка, наступление и оборо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56080" y="1600200"/>
            <a:ext cx="26211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909720" cy="880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63" name=""/>
          <p:cNvSpPr txBox="1"/>
          <p:nvPr/>
        </p:nvSpPr>
        <p:spPr>
          <a:xfrm>
            <a:off x="2971800" y="2514600"/>
            <a:ext cx="2971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лубь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сству наносить удары, самому не получая их, можно научиться, занимаясь спортивным фехтованием. История фехтования уходит вглубь веков, это один из самых древних видов спорта. Упражнения с оружием были распространены в древней Индии, Японии, Китае, Древнем Египте. Фехтование как зрелищное искусство было популярно в Древней Греции и Древнем Риме. В средние века отличное владение мечом и шпагой служило гарантией сохранен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ещё немножко об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хтование как искусство владения шпагой и рапирой зародилось в Испании в 15 веке. В это время оно существовало в основном в форме дуэлей. К 19 веку фехтование сформировалось как вид спорта. Наиболее активно оно развивалось во Франции, Италии, Австро-Венгрии и Германии. Соревнования по фехтованию в современном понимании впервые были проведены в 1896 году в Будапеште. В этом же году фехтование было включено в программу Олимпийских игр. До середины 20 века лидировали фехтовальщики из Венгрии, Италии и Франции. Среди них легендарный итальянский мастер Недо Нади, многократный олимпийский чемпион, венгерские спортсмены Аладар Геревич, ставший семикратным олимпийским чемпионом, Рудольф Карпати — завоевавший пять золотых олимпийский медалей, Пал Шмитт — дважды становившийся золотым призером Олимпийских игр. Небывалого успеха добился кубинский спортсмен Рамон Фонст, который завоевал 4 золотые медали на двух Олимпиадах (1900, 19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886200"/>
            <a:ext cx="6094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27672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1981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2-20T18:0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