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1AC-E5BC-46B7-B642-D5C65838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6E7-C62C-4C22-B63E-DACD9DB4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C54-18D6-483C-B25B-19AD19F3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818-BE91-4940-85BF-7A9DE836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0FF-D8CE-460A-A141-BEF2C05C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BE2-0D38-41D4-86A7-409B58AA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751-7B71-49FC-8219-AE33B61B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3CB-E1B5-4869-879C-4EB3B099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15E3-F14A-4837-8872-A8117DBD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C4B-A822-4B28-A5D8-500B1F58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633-1019-4531-86BA-83AE287D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8F1-9247-4E4D-8B01-0E79C067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370D-7F6C-45E0-ABF0-15A45DA6E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752480"/>
            <a:ext cx="6410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нас дома –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интерес к фехтованию возник в начале 17 века. Считалось, что этот вид спорта воспитывает воинский дух и ловкость. Петр I сделал фехтование непременным занятием для придворных и ввел его в военных и гражданских учебных заведениях. В 1816 году в Петербурге открылась первая фехтовальная школа. Такие школы открывались и в других городах России. Но российские спортсмены начали показывать хорошие результаты только с начала 1960-х гг. Выдающихся результатов добились рапиристы Виктор Жданович и Марк Мид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430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п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3505320"/>
            <a:ext cx="838080" cy="8380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71800" y="2133720"/>
            <a:ext cx="27241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Фехтов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мандных соревнованиях олимпийскими чемпионами по фехтованию на саблях становились Григорий Кириенко, Станислав Поздняков и Сергей Шариков (1996 год), чемпионками на шпагах — Татьяна Логунова, Оксана Ермакова, Карина Азнавурян, Анна Сивкова (2004 г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других титулованных фехтовальщиков: Марк Ракита, Виктор Кровопусков. У женщин высоких результатов добились Галина Горохова и Елена Бе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457200"/>
            <a:ext cx="76212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аль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2286000"/>
            <a:ext cx="4038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736"/>
                <a:gd name="adj2" fmla="val 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ехтов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1295280" cy="988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на сабл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1566720" cy="21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1509840" cy="218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62520" y="3809880"/>
            <a:ext cx="1523880" cy="2133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95280" y="3809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игорий Кири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886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нислав Поздн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гей  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на шпаг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1524240" cy="203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86200" y="228600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1320" y="1295280"/>
            <a:ext cx="153828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81280" y="4724280"/>
            <a:ext cx="2019600" cy="139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47920" y="34290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ьяна Логу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2670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сана Ерм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3352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ина Азнавур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а Сив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ие титулованные фехтовальщ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1509480" cy="204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819520" y="419112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137304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рк Рак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тор Кровопу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лина Горох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ена Бе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bd98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спор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 истории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пионы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альбом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457200"/>
            <a:ext cx="41148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52520" cy="4381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80880" y="312408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429000"/>
            <a:ext cx="45720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505320"/>
            <a:ext cx="152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8098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662040" cy="39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533160" cy="407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1" idx="0"/>
            <a:endCxn id="51" idx="0"/>
          </p:cNvCxnSpPr>
          <p:nvPr/>
        </p:nvCxnSpPr>
        <p:spPr>
          <a:xfrm>
            <a:off x="4571640" y="3885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476360" cy="879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048120" y="2590920"/>
            <a:ext cx="2724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то не любит фильмы и книги о храбрых и отважных мушкетерах? Все ребята хотят так же ловко владеть шпагой, как знаменитые Атос, Портос, Арамис и Д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ртаньян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ехтование – это огромный интересный мир. Открывая его, понимаешь, что он тебя полностью поглощает, с ним уже невозможно расстаться - и он остаётся с тобой навсегда.</a:t>
            </a:r>
            <a:br>
              <a:rPr sz="1600"/>
            </a:br>
            <a:br>
              <a:rPr sz="900"/>
            </a:b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хтование принято считать спортом, искусством, военной наукой, средством воспитания. Как вид спорта, он выделяется среди прочих своей эстетикой, романтизмом и богатством истории, уходящей в далёкие тысячелетия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хтование – это умение наносить уколы, посредством атак и защит в определённые моменты боя, используя свой интеллект. Фехтовальный поединок очень похож на сражение: в нем присутствуют маневрирование, разведка и маскировка, наступление и оборо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56080" y="1600200"/>
            <a:ext cx="26211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ис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909720" cy="8809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63" name=""/>
          <p:cNvSpPr txBox="1"/>
          <p:nvPr/>
        </p:nvSpPr>
        <p:spPr>
          <a:xfrm>
            <a:off x="2971800" y="2514600"/>
            <a:ext cx="297180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глубь истор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кусству наносить удары, самому не получая их, можно научиться, занимаясь спортивным фехтованием. История фехтования уходит вглубь веков, это один из самых древних видов спорта. Упражнения с оружием были распространены в древней Индии, Японии, Китае, Древнем Египте. Фехтование как зрелищное искусство было популярно в Древней Греции и Древнем Риме. В средние века отличное владение мечом и шпагой служило гарантией сохранения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ещё немножко об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хтование как искусство владения шпагой и рапирой зародилось в Испании в 15 веке. В это время оно существовало в основном в форме дуэлей. К 19 веку фехтование сформировалось как вид спорта. Наиболее активно оно развивалось во Франции, Италии, Австро-Венгрии и Германии. Соревнования по фехтованию в современном понимании впервые были проведены в 1896 году в Будапеште. В этом же году фехтование было включено в программу Олимпийских игр. До середины 20 века лидировали фехтовальщики из Венгрии, Италии и Франции. Среди них легендарный итальянский мастер Недо Нади, многократный олимпийский чемпион, венгерские спортсмены Аладар Геревич, ставший семикратным олимпийским чемпионом, Рудольф Карпати — завоевавший пять золотых олимпийский медалей, Пал Шмитт — дважды становившийся золотым призером Олимпийских игр. Небывалого успеха добился кубинский спортсмен Рамон Фонст, который завоевал 4 золотые медали на двух Олимпиадах (1900, 19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886200"/>
            <a:ext cx="6094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327672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962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76720" y="198108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2-20T18:00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